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28365-1B02-493D-A786-8B300E6E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E054-A6C0-4E24-A247-D577A979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09F4B-7B7A-4406-BD4A-57379FA2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03A5-944B-46BA-8B2D-0C3D985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74539-5D30-4BAA-AF01-E9BC1D3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17B4A-9D81-4C8F-9748-BE0ECA3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16565-B4C9-42BD-BD18-6F7499E8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CFEC9-2FBF-433E-A053-780D1A26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54892-A437-4A01-9685-6BFF39BD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54F7A-B896-4842-82FF-9644768F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CD79F-D7DF-4BE2-A1A3-B850A508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CB71A-4D6F-4344-8AB2-675DBFF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8CBEB-5EBB-448F-8A67-EEA711A8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4D114-EEF5-4D75-AF85-ADAC0C1E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7A918-3D32-4B15-8DE5-F201CC5B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AEC7E-D8B9-43C4-8F4E-5B611D2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1F8C2-AAA7-4D63-AF89-958E82F3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F8208-4A93-4CBB-ABD3-F56CD67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29462-A4CF-4EE8-9FA2-483FF053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99B40-2D00-4192-91E5-75F69F68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E6FF1-C24B-4DBC-903D-4E7500E2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77E9C-B9A2-4ECF-9474-0D79EEFD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DC9E4-6001-431C-9DF1-C77BF820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761A5-8C56-488F-8CFC-814AD40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C0EB2-F04D-4E18-BD5D-26A13166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FB4D8-F2DE-4061-A344-B17869E4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BCB88-7561-4C09-8DA7-0E20D44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72396-A49D-4383-9787-289B074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7B121-D035-46CA-9592-5B606831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44871-C1B0-4833-BDB9-ED5B337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04A15-B9AA-4C2F-831D-0D0C09A5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C4A4A-8237-44FC-8FC8-56F65A6F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EE5BF-1E10-46BB-AD35-23F257D3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703AD-E8F5-4E8D-A8D4-F2D59952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1B8C1-5EBF-4DFF-A474-F1C46E2E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CEABA-3E86-45D5-B6D1-FF1A8D97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0356F-22C8-4296-B70C-9E5D4E0F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9F481-2196-4205-9746-BF2D7CA2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3BB92-B6B9-4C74-ABA9-5D27268B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4B5A8-40DB-4B9A-86E4-3E6ACB7C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F1F98-6F82-4178-98C5-E2EF8E18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B866D-6862-4C61-923D-EBF0090E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A70CD-EB11-48D6-842F-166C124F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61B4B-7196-4DE1-B4B1-A57EA6A3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3E219-ABD0-4FCD-AE58-C8C0E2B8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11C28-A05C-44C8-9D7B-78A4F479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9D18F-BF73-41AE-86B3-0D6775B2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8F789-5F98-417B-BA83-00DA5839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393FF-3F06-4074-A390-1BF87C0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F095A-40FD-4243-8484-1FBDEADB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9FEC1-C4F0-4D86-8E41-503A98B0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3CFFB-22A7-4D82-B99E-A1534EA8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15920-D16F-4A95-8175-91F06D31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046AF-431F-4C42-9846-96E40C2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F7180-A7D9-4F5B-A1A7-A5D9D742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BB995-A752-4DF0-8AC8-1CF7CF7F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CC9B1-A535-470F-9C97-8474610B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E4319-FE24-4BDC-82DB-268F434E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285D4-4FEF-43E7-937B-340405BA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3D3A5-6E72-4481-86CC-95A87E32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E7CCD-A5C8-4271-BE08-6AC491A3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02F22-9674-4399-9BBB-7A1F4956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94D45-955F-492D-B0FE-6203EBAB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B4690-1F06-47D5-8D47-53FFBF5C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CF104-BDC4-4A48-8753-969FA760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17004-669E-4D45-B183-55EBC51C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97C8E-C256-4FB7-AE3F-1640B621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D21F6-4F76-4742-9E96-C77CA9A5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73CB8-6283-4E88-98E7-CFD22FD5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5F096-0C59-4E37-87ED-5FD435C9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0D698-EE91-4861-95F0-4AECC268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88141-4E4E-4CE9-BC06-CAB0A906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846CB-DD84-4F63-B493-D0B9B79A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AE729-C555-47F4-A124-A0CAE4A9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4A54B-F653-4DF7-B532-922C363D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40100-72D2-4052-A24A-804FEF5E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6B732-8FE9-420F-9FF2-F42E3FC1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16087-E1B2-467F-B4BE-E51C60EA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4716D-8069-4D29-BD58-06183B5C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156E5-901E-4969-8193-971339E5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5CD13-A77E-4CF5-A946-3E7CD1D3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450D7-8030-4D8E-89EC-D77F56D9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F9D63-BC4E-425C-8544-8AB9053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EEBEE-26C9-4BFE-8BAE-5F300F5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A9397-E88B-4F7F-9874-92F1128A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A1EB6-CB4D-41A4-BED7-7D058D4F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C5E3E-E4F9-4183-A89F-80CC4F95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3869F-0FDD-41F0-ABAD-4EDEFA18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4ECD6-6FC7-4458-82E8-BD6E1647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06B4D-C05F-4387-B2D9-2389612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BACA6-BD85-41C0-BF11-890765F1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C6096-7B3A-4B9B-A5C3-C9EE3750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009C8-10AE-42EE-BCCF-D3753AFB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54B-054E-418C-9B45-372C9565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C17-ADBA-4D90-8D32-C85D4F99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A87-6A81-40F8-BF4E-B99475C6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7EE-80FD-40E2-9F02-779DFCEE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32D-DD89-4932-B757-1EA3DCF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213-14FD-486C-8862-4B1FD4AA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940-40F9-48B2-A12E-E0695D7A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483-C210-4FF3-A143-C22830C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006-8D5E-4366-89AB-7C965CE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273-BE9B-4209-9C91-18FFDE54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315-284D-414A-AD0A-3FBB82C1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F9F-C286-471B-9756-6884AB03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F08-CBDE-4E1F-BF28-1439258F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641C-611B-489E-B5EC-5D0B0076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C205-1398-4BFA-8787-0D5EE068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B4E2-DC9D-43B3-909F-108152EA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A7A2-079C-491C-A6C4-75246744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2A8C-F39B-4D0C-BCE8-BF5FE505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7FE2-42D0-49E8-A283-96EBE79A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97E8-6DA8-4F07-BAE7-34748BB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2F7D-8B04-40FD-9235-8E68DD01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FC3A-4A4C-416B-B667-1BB99C5F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57EC-B23F-4CBC-9C39-E1E780D9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F65D-9BA3-404D-8820-E721DC1F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948C-589C-47C3-A6F5-5BE14B34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063C-5D46-4141-A33F-66BAEFB2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4FC3-2AB6-4EDB-88B0-29E06FBF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EE2B-FC56-40A3-9D79-5EC11D44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BDF3-E0AD-49FE-ACF0-CABFF057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A8DD-0AA7-4CCA-98E3-2C529F5F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9C13-D7C5-4269-AED2-2210227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A064-7004-49A7-A661-B1A857AD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422E-F39C-472A-940E-B4475A4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E230-1E1C-4DA8-A017-440C936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E597-C8A7-49BF-A782-DDF5555A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13B5-72E0-4ED5-BD97-FD8B5AFA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1B70-6035-4196-9A44-20143587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B58F9-40C3-48C5-ADAE-32566A78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070C-9BB9-4203-B0B2-314382A5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A43E-7818-48C0-B5C1-7A74DFEF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593B1-AABA-447B-BCCD-A97E9F07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F813-312B-4425-B010-CBB574C2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27269-C679-47B0-AC3E-C4A28C43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961D2-0639-4DF6-A93C-EF66F39E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B4F6B-D5D1-4E17-BB2C-30784BAD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2BF3-3D3C-4692-9DEB-70497077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177C-C988-4798-ACAB-EC32F096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6DFC-9E40-4262-9777-16B8BE76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5CB21-ADBA-4112-90C7-C1FFCBC1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0002E-84E2-4BDD-955D-CB3AE8F9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F46A4-CC1B-438C-8535-B428C460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E63D3-1D92-4F93-A163-B3A968A3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B8BD-14F2-4FC4-83FD-ACBF4E5D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BC715-A62E-480B-B89F-7FABBF6D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A7BC-9D2C-42A0-A471-AD50DA93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68E7-534B-4BD7-8449-00CC3D5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DA86-6F05-4227-8D5E-128092C8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BAA9B-F21E-47FB-900E-FC26B3FD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DFAC2-6E96-4FB3-8F09-58EB4FB4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8FBB-5825-49AD-9CE4-9E056EDE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3C95-4975-44B0-A5A9-A051F7C5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5C5E6-F59E-425B-9C7A-05426604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374B3-6378-4CDF-815B-0C8EC923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D5963-4F4F-4E88-B084-0B77A830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3ACFA-8497-443B-821D-817848B9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B8EDA-AB9C-47AD-A669-35BC48CA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1F93-FFB6-4C98-B544-4BD19055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0F7A2-609E-48CB-A51A-965A4CE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601C8-4F61-43A6-8E7C-A149571D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F6343-B5A5-4891-9D8D-6E82EADF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FA46A-30F6-4295-B7E4-BD89A6D7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6B8AD-6546-468A-8DD2-377BB2C9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8BDB6-F168-41A7-B7BA-3BE74D06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F95C6-C8AF-4404-9647-0E6800D6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95FE6-7810-47A6-9D89-1A0327BC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AEFF-B9A4-4629-9CE0-AA7BEEC9DE2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EEC4-9A4D-47E1-849C-77576D55B3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8652-1DE2-4F4E-9ED5-8269ACCA8C0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A29D-9498-4C2E-A84C-4819ED2139D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A728-5DAF-4300-B544-D1296271F84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6FD0-820B-480D-9DD6-7451D10A35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179A-4077-4966-83BA-871A3E89D8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BD9D3-47EA-4510-9AD3-0C021DC9EE6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98C2-42DA-4B0A-81CD-CDCE535D481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D65-1AFB-4935-A19F-41D16788C68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9D86-5D3D-42A7-A797-BD2595EDF73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F0BE-5871-4DC7-B57A-5540B532BA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6A65-1E8E-44B7-8CA3-C501FECD50F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7839-0367-4364-A5A7-7773CC82AFE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积的变化规律及因数末尾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乘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8"/>
          <p:cNvSpPr/>
          <p:nvPr/>
        </p:nvSpPr>
        <p:spPr>
          <a:xfrm>
            <a:off x="636480" y="1268280"/>
            <a:ext cx="78472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幸福小区的长方形绿地要扩建，长不变，按要求求扩后的绿地面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宽要增加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扩建后的绿地面积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宽要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扩建后的绿地面积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5"/>
          <p:cNvSpPr/>
          <p:nvPr/>
        </p:nvSpPr>
        <p:spPr>
          <a:xfrm>
            <a:off x="1139760" y="3740040"/>
            <a:ext cx="57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÷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0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476360" y="3008160"/>
            <a:ext cx="5988240" cy="781200"/>
          </a:xfrm>
          <a:prstGeom prst="rect">
            <a:avLst/>
          </a:prstGeom>
          <a:ln w="0">
            <a:noFill/>
          </a:ln>
        </p:spPr>
      </p:pic>
      <p:sp>
        <p:nvSpPr>
          <p:cNvPr id="726" name="矩形 6"/>
          <p:cNvSpPr/>
          <p:nvPr/>
        </p:nvSpPr>
        <p:spPr>
          <a:xfrm>
            <a:off x="1139760" y="5253120"/>
            <a:ext cx="57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÷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8"/>
          <p:cNvSpPr/>
          <p:nvPr/>
        </p:nvSpPr>
        <p:spPr>
          <a:xfrm>
            <a:off x="636480" y="194004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幸运超市开展节日促销活动。酸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杯，橙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瓶；妈妈想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杯酸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瓶橙汁，要付多少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5"/>
          <p:cNvSpPr/>
          <p:nvPr/>
        </p:nvSpPr>
        <p:spPr>
          <a:xfrm>
            <a:off x="1282680" y="3213000"/>
            <a:ext cx="57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÷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8"/>
          <p:cNvSpPr/>
          <p:nvPr/>
        </p:nvSpPr>
        <p:spPr>
          <a:xfrm>
            <a:off x="684360" y="18669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一个两位数相乘，积的末尾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样的两位数有几个？分别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0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731" name="圆角矩形 7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矩形 10"/>
          <p:cNvSpPr/>
          <p:nvPr/>
        </p:nvSpPr>
        <p:spPr>
          <a:xfrm>
            <a:off x="1403280" y="3068640"/>
            <a:ext cx="4676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　分别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6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3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40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233360" y="1889280"/>
            <a:ext cx="6867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积末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个数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运用因数末尾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积末尾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关系解决大数相乘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两个因数都变化的规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825480" y="1957320"/>
            <a:ext cx="756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600×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，积的末尾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240×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，积的末尾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250×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，积的末尾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因数的末尾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积的末尾至少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1116000"/>
            <a:ext cx="2809800" cy="668520"/>
            <a:chOff x="595440" y="1116000"/>
            <a:chExt cx="2809800" cy="66852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22868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2160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11600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矩形 26"/>
          <p:cNvSpPr/>
          <p:nvPr/>
        </p:nvSpPr>
        <p:spPr>
          <a:xfrm>
            <a:off x="3132000" y="26337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20"/>
          <p:cNvSpPr/>
          <p:nvPr/>
        </p:nvSpPr>
        <p:spPr>
          <a:xfrm>
            <a:off x="6443640" y="26035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30"/>
          <p:cNvSpPr/>
          <p:nvPr/>
        </p:nvSpPr>
        <p:spPr>
          <a:xfrm>
            <a:off x="3132000" y="32097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31"/>
          <p:cNvSpPr/>
          <p:nvPr/>
        </p:nvSpPr>
        <p:spPr>
          <a:xfrm>
            <a:off x="6443640" y="31798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32"/>
          <p:cNvSpPr/>
          <p:nvPr/>
        </p:nvSpPr>
        <p:spPr>
          <a:xfrm>
            <a:off x="3203640" y="3743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33"/>
          <p:cNvSpPr/>
          <p:nvPr/>
        </p:nvSpPr>
        <p:spPr>
          <a:xfrm>
            <a:off x="6372360" y="37558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34"/>
          <p:cNvSpPr/>
          <p:nvPr/>
        </p:nvSpPr>
        <p:spPr>
          <a:xfrm>
            <a:off x="7236000" y="42894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8"/>
          <p:cNvSpPr/>
          <p:nvPr/>
        </p:nvSpPr>
        <p:spPr>
          <a:xfrm>
            <a:off x="800280" y="1474920"/>
            <a:ext cx="78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计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400…0×500…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"/>
          <p:cNvSpPr/>
          <p:nvPr/>
        </p:nvSpPr>
        <p:spPr>
          <a:xfrm>
            <a:off x="1757880" y="2668680"/>
            <a:ext cx="8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矩形 2"/>
          <p:cNvSpPr/>
          <p:nvPr/>
        </p:nvSpPr>
        <p:spPr>
          <a:xfrm>
            <a:off x="2981880" y="2668680"/>
            <a:ext cx="8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左大括号 3"/>
          <p:cNvSpPr/>
          <p:nvPr/>
        </p:nvSpPr>
        <p:spPr>
          <a:xfrm flipH="1" rot="5400000">
            <a:off x="2106360" y="2271240"/>
            <a:ext cx="88920" cy="666720"/>
          </a:xfrm>
          <a:custGeom>
            <a:avLst/>
            <a:gdLst>
              <a:gd name="textAreaLeft" fmla="*/ 56520 w 88920"/>
              <a:gd name="textAreaRight" fmla="*/ 88920 w 88920"/>
              <a:gd name="textAreaTop" fmla="*/ 2160 h 666720"/>
              <a:gd name="textAreaBottom" fmla="*/ 664560 h 6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39"/>
                </a:cubicBezTo>
                <a:lnTo>
                  <a:pt x="10800" y="10561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39"/>
                </a:cubicBezTo>
                <a:lnTo>
                  <a:pt x="10800" y="21361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左大括号 8"/>
          <p:cNvSpPr/>
          <p:nvPr/>
        </p:nvSpPr>
        <p:spPr>
          <a:xfrm flipH="1" rot="5400000">
            <a:off x="3339360" y="2271240"/>
            <a:ext cx="88920" cy="667080"/>
          </a:xfrm>
          <a:custGeom>
            <a:avLst/>
            <a:gdLst>
              <a:gd name="textAreaLeft" fmla="*/ 56520 w 88920"/>
              <a:gd name="textAreaRight" fmla="*/ 88920 w 88920"/>
              <a:gd name="textAreaTop" fmla="*/ 2160 h 667080"/>
              <a:gd name="textAreaBottom" fmla="*/ 664920 h 6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39"/>
                </a:cubicBezTo>
                <a:lnTo>
                  <a:pt x="10800" y="10561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39"/>
                </a:cubicBezTo>
                <a:lnTo>
                  <a:pt x="10800" y="21361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5" name="组合 5"/>
          <p:cNvGrpSpPr/>
          <p:nvPr/>
        </p:nvGrpSpPr>
        <p:grpSpPr>
          <a:xfrm>
            <a:off x="4147560" y="2143080"/>
            <a:ext cx="1247400" cy="924480"/>
            <a:chOff x="4147560" y="2143080"/>
            <a:chExt cx="1247400" cy="924480"/>
          </a:xfrm>
        </p:grpSpPr>
        <p:sp>
          <p:nvSpPr>
            <p:cNvPr id="686" name="矩形 22"/>
            <p:cNvSpPr/>
            <p:nvPr/>
          </p:nvSpPr>
          <p:spPr>
            <a:xfrm>
              <a:off x="4147560" y="214308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200…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矩形 4"/>
            <p:cNvSpPr/>
            <p:nvPr/>
          </p:nvSpPr>
          <p:spPr>
            <a:xfrm>
              <a:off x="4493520" y="2668680"/>
              <a:ext cx="83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个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左大括号 10"/>
            <p:cNvSpPr/>
            <p:nvPr/>
          </p:nvSpPr>
          <p:spPr>
            <a:xfrm flipH="1" rot="5400000">
              <a:off x="4838400" y="2290320"/>
              <a:ext cx="88920" cy="666720"/>
            </a:xfrm>
            <a:custGeom>
              <a:avLst/>
              <a:gdLst>
                <a:gd name="textAreaLeft" fmla="*/ 56520 w 88920"/>
                <a:gd name="textAreaRight" fmla="*/ 88920 w 88920"/>
                <a:gd name="textAreaTop" fmla="*/ 2160 h 666720"/>
                <a:gd name="textAreaBottom" fmla="*/ 664560 h 66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0"/>
                    <a:pt x="10800" y="240"/>
                  </a:cubicBezTo>
                  <a:lnTo>
                    <a:pt x="10800" y="10560"/>
                  </a:lnTo>
                  <a:cubicBezTo>
                    <a:pt x="10800" y="10680"/>
                    <a:pt x="5400" y="10800"/>
                    <a:pt x="0" y="10800"/>
                  </a:cubicBezTo>
                  <a:cubicBezTo>
                    <a:pt x="5400" y="10800"/>
                    <a:pt x="10800" y="10920"/>
                    <a:pt x="10800" y="11040"/>
                  </a:cubicBezTo>
                  <a:lnTo>
                    <a:pt x="10800" y="21360"/>
                  </a:lnTo>
                  <a:cubicBezTo>
                    <a:pt x="10800" y="2148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636480" y="1239840"/>
            <a:ext cx="784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算一算，想一想，你发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12×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×2)×(24÷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×3)×(24÷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×4)×(24÷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÷6)×(24×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发现：乘法算式中，一个因数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因数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的数，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8"/>
          <p:cNvSpPr/>
          <p:nvPr/>
        </p:nvSpPr>
        <p:spPr>
          <a:xfrm>
            <a:off x="3780000" y="234792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矩形 7"/>
          <p:cNvSpPr/>
          <p:nvPr/>
        </p:nvSpPr>
        <p:spPr>
          <a:xfrm>
            <a:off x="3492360" y="285264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3814920" y="342900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3873600" y="39924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11"/>
          <p:cNvSpPr/>
          <p:nvPr/>
        </p:nvSpPr>
        <p:spPr>
          <a:xfrm>
            <a:off x="6912000" y="5157720"/>
            <a:ext cx="10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636480" y="1239840"/>
            <a:ext cx="784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12×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×2)×(24×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×3)×(24×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÷4)×(24÷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÷6)×(24÷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发现：乘法算式中，两个因数同时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积就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因数所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4"/>
          <p:cNvSpPr/>
          <p:nvPr/>
        </p:nvSpPr>
        <p:spPr>
          <a:xfrm>
            <a:off x="3780000" y="176832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5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3835440" y="23511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3780000" y="28526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矩形 7"/>
          <p:cNvSpPr/>
          <p:nvPr/>
        </p:nvSpPr>
        <p:spPr>
          <a:xfrm>
            <a:off x="3851280" y="3429000"/>
            <a:ext cx="21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9"/>
          <p:cNvSpPr/>
          <p:nvPr/>
        </p:nvSpPr>
        <p:spPr>
          <a:xfrm>
            <a:off x="2176560" y="5084640"/>
            <a:ext cx="8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8"/>
          <p:cNvSpPr/>
          <p:nvPr/>
        </p:nvSpPr>
        <p:spPr>
          <a:xfrm>
            <a:off x="636480" y="1125360"/>
            <a:ext cx="784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数相乘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如果一个因数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因数也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不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数相乘，如果一个因数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要使积不变，另一个因数应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不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4)×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5"/>
          <p:cNvSpPr/>
          <p:nvPr/>
        </p:nvSpPr>
        <p:spPr>
          <a:xfrm>
            <a:off x="3059280" y="227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4"/>
          <p:cNvSpPr/>
          <p:nvPr/>
        </p:nvSpPr>
        <p:spPr>
          <a:xfrm>
            <a:off x="2268360" y="3935520"/>
            <a:ext cx="7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6"/>
          <p:cNvSpPr/>
          <p:nvPr/>
        </p:nvSpPr>
        <p:spPr>
          <a:xfrm>
            <a:off x="6443640" y="50148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8"/>
          <p:cNvSpPr/>
          <p:nvPr/>
        </p:nvSpPr>
        <p:spPr>
          <a:xfrm>
            <a:off x="636480" y="1457280"/>
            <a:ext cx="784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×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        里填上合适的运算符号，在        里填上合适的数，使等式成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5×2)×(24÷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5÷3)×(24      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5               )×(24      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5"/>
          <p:cNvSpPr/>
          <p:nvPr/>
        </p:nvSpPr>
        <p:spPr>
          <a:xfrm>
            <a:off x="4019400" y="2565360"/>
            <a:ext cx="10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6" descr=""/>
          <p:cNvPicPr/>
          <p:nvPr/>
        </p:nvPicPr>
        <p:blipFill>
          <a:blip r:embed="rId1"/>
          <a:stretch/>
        </p:blipFill>
        <p:spPr>
          <a:xfrm>
            <a:off x="4440240" y="1457280"/>
            <a:ext cx="544680" cy="5922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7" descr=""/>
          <p:cNvPicPr/>
          <p:nvPr/>
        </p:nvPicPr>
        <p:blipFill>
          <a:blip r:embed="rId2"/>
          <a:stretch/>
        </p:blipFill>
        <p:spPr>
          <a:xfrm>
            <a:off x="1704960" y="2060640"/>
            <a:ext cx="503280" cy="5112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7" descr=""/>
          <p:cNvPicPr/>
          <p:nvPr/>
        </p:nvPicPr>
        <p:blipFill>
          <a:blip r:embed="rId3"/>
          <a:stretch/>
        </p:blipFill>
        <p:spPr>
          <a:xfrm>
            <a:off x="4035600" y="2635200"/>
            <a:ext cx="502920" cy="511200"/>
          </a:xfrm>
          <a:prstGeom prst="rect">
            <a:avLst/>
          </a:prstGeom>
          <a:ln w="0">
            <a:noFill/>
          </a:ln>
        </p:spPr>
      </p:pic>
      <p:grpSp>
        <p:nvGrpSpPr>
          <p:cNvPr id="710" name="组合 1"/>
          <p:cNvGrpSpPr/>
          <p:nvPr/>
        </p:nvGrpSpPr>
        <p:grpSpPr>
          <a:xfrm>
            <a:off x="3079800" y="3132000"/>
            <a:ext cx="1060560" cy="592200"/>
            <a:chOff x="3079800" y="3132000"/>
            <a:chExt cx="1060560" cy="592200"/>
          </a:xfrm>
        </p:grpSpPr>
        <p:pic>
          <p:nvPicPr>
            <p:cNvPr id="711" name="Picture 7" descr=""/>
            <p:cNvPicPr/>
            <p:nvPr/>
          </p:nvPicPr>
          <p:blipFill>
            <a:blip r:embed="rId4"/>
            <a:stretch/>
          </p:blipFill>
          <p:spPr>
            <a:xfrm>
              <a:off x="3636000" y="3172320"/>
              <a:ext cx="504360" cy="5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6" descr=""/>
            <p:cNvPicPr/>
            <p:nvPr/>
          </p:nvPicPr>
          <p:blipFill>
            <a:blip r:embed="rId5"/>
            <a:stretch/>
          </p:blipFill>
          <p:spPr>
            <a:xfrm>
              <a:off x="3079800" y="3132000"/>
              <a:ext cx="54504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组合 11"/>
          <p:cNvGrpSpPr/>
          <p:nvPr/>
        </p:nvGrpSpPr>
        <p:grpSpPr>
          <a:xfrm>
            <a:off x="1784520" y="3684600"/>
            <a:ext cx="1058760" cy="590400"/>
            <a:chOff x="1784520" y="3684600"/>
            <a:chExt cx="1058760" cy="590400"/>
          </a:xfrm>
        </p:grpSpPr>
        <p:pic>
          <p:nvPicPr>
            <p:cNvPr id="714" name="Picture 7" descr=""/>
            <p:cNvPicPr/>
            <p:nvPr/>
          </p:nvPicPr>
          <p:blipFill>
            <a:blip r:embed="rId6"/>
            <a:stretch/>
          </p:blipFill>
          <p:spPr>
            <a:xfrm>
              <a:off x="2340000" y="3724560"/>
              <a:ext cx="503280" cy="51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6" descr=""/>
            <p:cNvPicPr/>
            <p:nvPr/>
          </p:nvPicPr>
          <p:blipFill>
            <a:blip r:embed="rId7"/>
            <a:stretch/>
          </p:blipFill>
          <p:spPr>
            <a:xfrm>
              <a:off x="1784520" y="3684600"/>
              <a:ext cx="543960" cy="59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组合 14"/>
          <p:cNvGrpSpPr/>
          <p:nvPr/>
        </p:nvGrpSpPr>
        <p:grpSpPr>
          <a:xfrm>
            <a:off x="3757680" y="3711600"/>
            <a:ext cx="1060560" cy="592200"/>
            <a:chOff x="3757680" y="3711600"/>
            <a:chExt cx="1060560" cy="592200"/>
          </a:xfrm>
        </p:grpSpPr>
        <p:pic>
          <p:nvPicPr>
            <p:cNvPr id="717" name="Picture 7" descr=""/>
            <p:cNvPicPr/>
            <p:nvPr/>
          </p:nvPicPr>
          <p:blipFill>
            <a:blip r:embed="rId8"/>
            <a:stretch/>
          </p:blipFill>
          <p:spPr>
            <a:xfrm>
              <a:off x="4313880" y="3751920"/>
              <a:ext cx="504360" cy="5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6" descr=""/>
            <p:cNvPicPr/>
            <p:nvPr/>
          </p:nvPicPr>
          <p:blipFill>
            <a:blip r:embed="rId9"/>
            <a:stretch/>
          </p:blipFill>
          <p:spPr>
            <a:xfrm>
              <a:off x="3757680" y="3711600"/>
              <a:ext cx="545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矩形 17"/>
          <p:cNvSpPr/>
          <p:nvPr/>
        </p:nvSpPr>
        <p:spPr>
          <a:xfrm>
            <a:off x="3083040" y="31431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矩形 18"/>
          <p:cNvSpPr/>
          <p:nvPr/>
        </p:nvSpPr>
        <p:spPr>
          <a:xfrm>
            <a:off x="1814400" y="3657600"/>
            <a:ext cx="336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最后一题答案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8"/>
          <p:cNvSpPr/>
          <p:nvPr/>
        </p:nvSpPr>
        <p:spPr>
          <a:xfrm>
            <a:off x="636480" y="1724040"/>
            <a:ext cx="74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声音在空气中每秒能传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求声音在空气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能传播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矩形 5"/>
          <p:cNvSpPr/>
          <p:nvPr/>
        </p:nvSpPr>
        <p:spPr>
          <a:xfrm>
            <a:off x="1282680" y="3213000"/>
            <a:ext cx="57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钟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秒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0×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4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31:43Z</dcterms:modified>
  <cp:revision>1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