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8B0-3804-46A4-9195-02222A4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04C-2042-49AF-A6A2-0042CFFC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C23-1B98-45A8-A655-F3E9926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DCD-377D-497E-8400-3D249DA6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20E-2F91-4016-81ED-796324D8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6C7-D8CF-4254-B02B-524BAECF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9B3-E543-4312-A668-B2F8B4B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096-1FEA-4690-835B-800469E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C8A-A3A0-4F82-8182-7B3CDA1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197-945C-47C9-BF6E-2FB319F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470-962F-4C71-80D1-8A99BCA7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A55-BD6E-4B31-9C4C-07ACD442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9F8F-E927-441A-9F7E-67B3CE777C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1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95360" y="143352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乘法的估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2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2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2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977760" y="836640"/>
            <a:ext cx="762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我会估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≈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↓　　　   　　↓　　　 　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×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     ≈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↓　　　　　   ↓　　 　 　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×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≈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↓　　　　　　↓　　　　　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×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4859280" y="152712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547640" y="2606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419640" y="26067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4859280" y="260028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9"/>
          <p:cNvSpPr/>
          <p:nvPr/>
        </p:nvSpPr>
        <p:spPr>
          <a:xfrm>
            <a:off x="4932360" y="3182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547640" y="42642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1"/>
          <p:cNvSpPr/>
          <p:nvPr/>
        </p:nvSpPr>
        <p:spPr>
          <a:xfrm>
            <a:off x="3419640" y="4264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2"/>
          <p:cNvSpPr/>
          <p:nvPr/>
        </p:nvSpPr>
        <p:spPr>
          <a:xfrm>
            <a:off x="5075280" y="4292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3"/>
          <p:cNvSpPr/>
          <p:nvPr/>
        </p:nvSpPr>
        <p:spPr>
          <a:xfrm>
            <a:off x="5003640" y="4797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4"/>
          <p:cNvSpPr/>
          <p:nvPr/>
        </p:nvSpPr>
        <p:spPr>
          <a:xfrm>
            <a:off x="1476360" y="5919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3419640" y="5877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6"/>
          <p:cNvSpPr/>
          <p:nvPr/>
        </p:nvSpPr>
        <p:spPr>
          <a:xfrm>
            <a:off x="5148360" y="59259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050840" y="1503360"/>
            <a:ext cx="762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估算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9×31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×78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×39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×63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×29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×590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6" name="矩形 9"/>
          <p:cNvSpPr/>
          <p:nvPr/>
        </p:nvSpPr>
        <p:spPr>
          <a:xfrm>
            <a:off x="2771640" y="217476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5837400" y="217476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4"/>
          <p:cNvSpPr/>
          <p:nvPr/>
        </p:nvSpPr>
        <p:spPr>
          <a:xfrm>
            <a:off x="2771640" y="270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5867280" y="270828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6"/>
          <p:cNvSpPr/>
          <p:nvPr/>
        </p:nvSpPr>
        <p:spPr>
          <a:xfrm>
            <a:off x="2933640" y="32558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7"/>
          <p:cNvSpPr/>
          <p:nvPr/>
        </p:nvSpPr>
        <p:spPr>
          <a:xfrm>
            <a:off x="5888160" y="3255840"/>
            <a:ext cx="16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6"/>
          <p:cNvSpPr/>
          <p:nvPr/>
        </p:nvSpPr>
        <p:spPr>
          <a:xfrm>
            <a:off x="979560" y="3438360"/>
            <a:ext cx="73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解决需要准备多少钱的实际问题时，应估大不估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23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TextBox 36"/>
          <p:cNvSpPr/>
          <p:nvPr/>
        </p:nvSpPr>
        <p:spPr>
          <a:xfrm>
            <a:off x="504720" y="1849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化工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份用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吨，估算一下：这个化工厂全年大约用多少吨水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666800" y="340992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6×12≈5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化工厂全年大约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吨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个新建的公园计算栽银杏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棵，一课银杏树苗的价格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830240" y="5181480"/>
            <a:ext cx="48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8×88=121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购买银杏树苗要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1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089000" y="2685960"/>
            <a:ext cx="7311960" cy="22827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体育场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看台，一个看台大约能容纳多少名观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751040" y="4824360"/>
            <a:ext cx="55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×32≈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个看台大约能容纳多少名观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Administrator\Desktop\QQ截图20171205143424.png"/>
          <p:cNvPicPr/>
          <p:nvPr/>
        </p:nvPicPr>
        <p:blipFill>
          <a:blip r:embed="rId1"/>
          <a:stretch/>
        </p:blipFill>
        <p:spPr>
          <a:xfrm>
            <a:off x="1655640" y="2397240"/>
            <a:ext cx="5772240" cy="2286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6"/>
          <p:cNvSpPr/>
          <p:nvPr/>
        </p:nvSpPr>
        <p:spPr>
          <a:xfrm>
            <a:off x="681120" y="11955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组合作，估计一版报纸大约有多少个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392560" y="3369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3813120" y="5221440"/>
            <a:ext cx="1455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案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Users\Administrator\Desktop\QQ截图20171205143724.png"/>
          <p:cNvPicPr/>
          <p:nvPr/>
        </p:nvPicPr>
        <p:blipFill>
          <a:blip r:embed="rId1"/>
          <a:stretch/>
        </p:blipFill>
        <p:spPr>
          <a:xfrm>
            <a:off x="2079720" y="2019240"/>
            <a:ext cx="4922640" cy="29750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5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0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33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37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41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45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53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位数乘两位数的笔算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58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62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"/>
          <p:cNvSpPr/>
          <p:nvPr/>
        </p:nvSpPr>
        <p:spPr>
          <a:xfrm>
            <a:off x="1371240" y="209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755720" y="2562120"/>
            <a:ext cx="479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×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×2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×6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×9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×400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×20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170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估算一下：这列火车大约有多少个座位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172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2"/>
          <p:cNvGrpSpPr/>
          <p:nvPr/>
        </p:nvGrpSpPr>
        <p:grpSpPr>
          <a:xfrm>
            <a:off x="503280" y="1143000"/>
            <a:ext cx="6838920" cy="666720"/>
            <a:chOff x="503280" y="1143000"/>
            <a:chExt cx="6838920" cy="666720"/>
          </a:xfrm>
        </p:grpSpPr>
        <p:sp>
          <p:nvSpPr>
            <p:cNvPr id="176" name="文本框 13"/>
            <p:cNvSpPr/>
            <p:nvPr/>
          </p:nvSpPr>
          <p:spPr>
            <a:xfrm>
              <a:off x="1671840" y="1190520"/>
              <a:ext cx="56703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三位数乘两位数的笔算方法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Picture 14" descr=""/>
          <p:cNvPicPr/>
          <p:nvPr/>
        </p:nvPicPr>
        <p:blipFill>
          <a:blip r:embed="rId4"/>
          <a:stretch/>
        </p:blipFill>
        <p:spPr>
          <a:xfrm>
            <a:off x="2606760" y="2754360"/>
            <a:ext cx="348300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"/>
          <p:cNvPicPr/>
          <p:nvPr/>
        </p:nvPicPr>
        <p:blipFill>
          <a:blip r:embed="rId5"/>
          <a:stretch/>
        </p:blipFill>
        <p:spPr>
          <a:xfrm>
            <a:off x="4989600" y="5005440"/>
            <a:ext cx="3654360" cy="852480"/>
          </a:xfrm>
          <a:prstGeom prst="rect">
            <a:avLst/>
          </a:prstGeom>
          <a:ln w="0">
            <a:noFill/>
          </a:ln>
        </p:spPr>
      </p:pic>
      <p:sp>
        <p:nvSpPr>
          <p:cNvPr id="180" name="矩形 15"/>
          <p:cNvSpPr/>
          <p:nvPr/>
        </p:nvSpPr>
        <p:spPr>
          <a:xfrm>
            <a:off x="2728440" y="5811840"/>
            <a:ext cx="31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16×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3894120" y="5778360"/>
            <a:ext cx="1123920" cy="460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2"/>
          <a:stretch/>
        </p:blipFill>
        <p:spPr>
          <a:xfrm>
            <a:off x="2368440" y="2058840"/>
            <a:ext cx="4388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5" name="矩形 3"/>
          <p:cNvSpPr/>
          <p:nvPr/>
        </p:nvSpPr>
        <p:spPr>
          <a:xfrm>
            <a:off x="2586240" y="5087880"/>
            <a:ext cx="289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18×12=    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3718080" y="5027760"/>
            <a:ext cx="1123920" cy="460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4"/>
          <p:cNvSpPr/>
          <p:nvPr/>
        </p:nvSpPr>
        <p:spPr>
          <a:xfrm>
            <a:off x="3891240" y="5016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4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C:\Users\Administrator\Desktop\图片1.png"/>
          <p:cNvPicPr/>
          <p:nvPr/>
        </p:nvPicPr>
        <p:blipFill>
          <a:blip r:embed="rId2"/>
          <a:stretch/>
        </p:blipFill>
        <p:spPr>
          <a:xfrm>
            <a:off x="5014800" y="1366920"/>
            <a:ext cx="2865600" cy="1017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Administrator\Desktop\QQ截图20171205110347.png"/>
          <p:cNvPicPr/>
          <p:nvPr/>
        </p:nvPicPr>
        <p:blipFill>
          <a:blip r:embed="rId3"/>
          <a:stretch/>
        </p:blipFill>
        <p:spPr>
          <a:xfrm>
            <a:off x="1206360" y="1465200"/>
            <a:ext cx="2975040" cy="8208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1"/>
          <p:cNvSpPr/>
          <p:nvPr/>
        </p:nvSpPr>
        <p:spPr>
          <a:xfrm>
            <a:off x="1598040" y="2617920"/>
            <a:ext cx="2323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18×10=118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18×12≈118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5258880" y="2617920"/>
            <a:ext cx="2323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20×10 =12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118×12≈120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个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3504600" y="4154400"/>
            <a:ext cx="90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算一算：这列火车实际有多少个座位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2087640" y="1719360"/>
            <a:ext cx="6608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明从家到学校要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步，小明家到学校大约有多少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52244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1793880" y="2835360"/>
            <a:ext cx="55371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34"/>
          <p:cNvSpPr/>
          <p:nvPr/>
        </p:nvSpPr>
        <p:spPr>
          <a:xfrm>
            <a:off x="1790640" y="1905120"/>
            <a:ext cx="572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列式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×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≈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×68≈31500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小明家到学校大约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实际计算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×68=30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12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6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906480" y="1719360"/>
            <a:ext cx="74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仔细想，认真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估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7×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可以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看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看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结果大约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实际结果要比估算结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填“大”或“小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403×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估算的结果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套校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四年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同学每人定做一套校服，大约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20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6"/>
          <p:cNvSpPr/>
          <p:nvPr/>
        </p:nvSpPr>
        <p:spPr>
          <a:xfrm>
            <a:off x="5834160" y="2390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1628640" y="29192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1"/>
          <p:cNvSpPr/>
          <p:nvPr/>
        </p:nvSpPr>
        <p:spPr>
          <a:xfrm>
            <a:off x="4140360" y="29671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2"/>
          <p:cNvSpPr/>
          <p:nvPr/>
        </p:nvSpPr>
        <p:spPr>
          <a:xfrm>
            <a:off x="154764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23"/>
          <p:cNvSpPr/>
          <p:nvPr/>
        </p:nvSpPr>
        <p:spPr>
          <a:xfrm>
            <a:off x="4427640" y="4048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334800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32:36Z</dcterms:modified>
  <cp:revision>5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