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gif" ContentType="image/gif"/>
  <Override PartName="/ppt/media/image17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B4B-39F6-4289-9498-77D5B50D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3BD-D2FD-4AD6-B430-FE273449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F39-0211-4E61-B8CB-386D3BDB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B79-0DFF-4E50-97B5-FAC251A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04E-5776-42FD-8D7E-DBA937E6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572-E690-4F77-ADF0-D2777014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120-3464-4C67-B5DA-CCC4697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F0D-023E-4DED-96C3-76167101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B4E-F1DC-474A-B2CF-D7AA9670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4B7-4A92-42F2-867F-E2603740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CAC-E688-4B96-B9CF-49EE1BC8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CB1-2DF3-4C3D-8C33-206E0251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B1F5-6DFC-40DB-B015-0CD42EE678A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1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95360" y="143352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单价、数量与总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2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28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9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0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7"/>
          <p:cNvGrpSpPr/>
          <p:nvPr/>
        </p:nvGrpSpPr>
        <p:grpSpPr>
          <a:xfrm>
            <a:off x="957240" y="1062720"/>
            <a:ext cx="5586480" cy="733680"/>
            <a:chOff x="957240" y="1062720"/>
            <a:chExt cx="5586480" cy="733680"/>
          </a:xfrm>
        </p:grpSpPr>
        <p:pic>
          <p:nvPicPr>
            <p:cNvPr id="22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736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文本框 23"/>
            <p:cNvSpPr/>
            <p:nvPr/>
          </p:nvSpPr>
          <p:spPr>
            <a:xfrm>
              <a:off x="1330920" y="1062720"/>
              <a:ext cx="5212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9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TextBox 36"/>
          <p:cNvSpPr/>
          <p:nvPr/>
        </p:nvSpPr>
        <p:spPr>
          <a:xfrm>
            <a:off x="504720" y="18493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3116160" y="49561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6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23880" y="2743200"/>
          <a:ext cx="6095880" cy="29052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125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价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价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195720" y="3127320"/>
            <a:ext cx="1209600" cy="600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3"/>
          <a:stretch/>
        </p:blipFill>
        <p:spPr>
          <a:xfrm>
            <a:off x="4843440" y="3070080"/>
            <a:ext cx="961920" cy="657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4"/>
          <a:stretch/>
        </p:blipFill>
        <p:spPr>
          <a:xfrm>
            <a:off x="6300720" y="3127320"/>
            <a:ext cx="1038240" cy="6285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4640400" y="4959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1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135840" y="4959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图片 18" descr="当堂检测.png"/>
          <p:cNvPicPr/>
          <p:nvPr/>
        </p:nvPicPr>
        <p:blipFill>
          <a:blip r:embed="rId5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城市每天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吨的生活垃圾。处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吨垃圾需要多少元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897200" y="5086440"/>
            <a:ext cx="48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160÷68=1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处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吨垃圾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390760" y="2610000"/>
            <a:ext cx="4762440" cy="23256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书店销售了多少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科学探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丛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1751040" y="4824360"/>
            <a:ext cx="55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66÷98=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套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书店销售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科学探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丛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603440" y="2235240"/>
            <a:ext cx="5875200" cy="204624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36"/>
          <p:cNvSpPr/>
          <p:nvPr/>
        </p:nvSpPr>
        <p:spPr>
          <a:xfrm>
            <a:off x="681120" y="119556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新世纪电影院原来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座位，扩建后将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座位，每排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872400" y="3369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2390760" y="3065400"/>
            <a:ext cx="442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×40=18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扩建后一共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座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6"/>
          <p:cNvSpPr/>
          <p:nvPr/>
        </p:nvSpPr>
        <p:spPr>
          <a:xfrm>
            <a:off x="642960" y="2357280"/>
            <a:ext cx="47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建后一共有多少个座位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6"/>
          <p:cNvSpPr/>
          <p:nvPr/>
        </p:nvSpPr>
        <p:spPr>
          <a:xfrm>
            <a:off x="681120" y="408132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张门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如果每场电影满座，扩建后比扩建前可以多收入门票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2536920" y="5286240"/>
            <a:ext cx="553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00-1330=47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个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70×18=846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可以多收入门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46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6114960" y="1398600"/>
            <a:ext cx="2514600" cy="16668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1042920" y="19112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甲店的钢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乙店的同样钢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店的钢笔便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2"/>
          <p:cNvSpPr/>
          <p:nvPr/>
        </p:nvSpPr>
        <p:spPr>
          <a:xfrm>
            <a:off x="1619280" y="335772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在购买数量不同时，不能根据总价来比较谁更便宜，要根据单价来比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1758960" y="2490840"/>
            <a:ext cx="6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5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1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33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37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41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45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53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价、数量、总价之间的数量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58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62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5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入口"/>
          <p:cNvPicPr/>
          <p:nvPr/>
        </p:nvPicPr>
        <p:blipFill>
          <a:blip r:embed="rId2"/>
          <a:stretch/>
        </p:blipFill>
        <p:spPr>
          <a:xfrm>
            <a:off x="895320" y="1182600"/>
            <a:ext cx="7269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4"/>
          <p:cNvGrpSpPr/>
          <p:nvPr/>
        </p:nvGrpSpPr>
        <p:grpSpPr>
          <a:xfrm>
            <a:off x="981000" y="1852560"/>
            <a:ext cx="7399440" cy="603360"/>
            <a:chOff x="981000" y="1852560"/>
            <a:chExt cx="7399440" cy="603360"/>
          </a:xfrm>
        </p:grpSpPr>
        <p:sp>
          <p:nvSpPr>
            <p:cNvPr id="169" name="矩形 1"/>
            <p:cNvSpPr/>
            <p:nvPr/>
          </p:nvSpPr>
          <p:spPr>
            <a:xfrm>
              <a:off x="1597680" y="1923480"/>
              <a:ext cx="67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读下面的发票，从中你了解到哪些信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0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171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73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74" name="组合 2"/>
          <p:cNvGrpSpPr/>
          <p:nvPr/>
        </p:nvGrpSpPr>
        <p:grpSpPr>
          <a:xfrm>
            <a:off x="503280" y="1143000"/>
            <a:ext cx="7534080" cy="666720"/>
            <a:chOff x="503280" y="1143000"/>
            <a:chExt cx="7534080" cy="666720"/>
          </a:xfrm>
        </p:grpSpPr>
        <p:sp>
          <p:nvSpPr>
            <p:cNvPr id="175" name="文本框 13"/>
            <p:cNvSpPr/>
            <p:nvPr/>
          </p:nvSpPr>
          <p:spPr>
            <a:xfrm>
              <a:off x="1671840" y="1190520"/>
              <a:ext cx="636552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单价、数量、总价之间的数量关系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13" descr=""/>
          <p:cNvPicPr/>
          <p:nvPr/>
        </p:nvPicPr>
        <p:blipFill>
          <a:blip r:embed="rId4"/>
          <a:stretch/>
        </p:blipFill>
        <p:spPr>
          <a:xfrm>
            <a:off x="1940040" y="2583000"/>
            <a:ext cx="58291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806400" y="1528920"/>
            <a:ext cx="3168720" cy="104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Users\Administrator\Desktop\2.png"/>
          <p:cNvPicPr/>
          <p:nvPr/>
        </p:nvPicPr>
        <p:blipFill>
          <a:blip r:embed="rId3"/>
          <a:stretch/>
        </p:blipFill>
        <p:spPr>
          <a:xfrm>
            <a:off x="4308480" y="1333440"/>
            <a:ext cx="4159080" cy="111600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1"/>
          <p:cNvGrpSpPr/>
          <p:nvPr/>
        </p:nvGrpSpPr>
        <p:grpSpPr>
          <a:xfrm>
            <a:off x="565200" y="2913120"/>
            <a:ext cx="7918560" cy="824760"/>
            <a:chOff x="565200" y="2913120"/>
            <a:chExt cx="7918560" cy="824760"/>
          </a:xfrm>
        </p:grpSpPr>
        <p:pic>
          <p:nvPicPr>
            <p:cNvPr id="182" name="Picture 10" descr=""/>
            <p:cNvPicPr/>
            <p:nvPr/>
          </p:nvPicPr>
          <p:blipFill>
            <a:blip r:embed="rId4"/>
            <a:stretch/>
          </p:blipFill>
          <p:spPr>
            <a:xfrm>
              <a:off x="565200" y="2913120"/>
              <a:ext cx="14414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1"/>
            <p:cNvSpPr/>
            <p:nvPr/>
          </p:nvSpPr>
          <p:spPr>
            <a:xfrm>
              <a:off x="2087640" y="3186720"/>
              <a:ext cx="6396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发票中的单价、数量、金额各表示什么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4" name="Picture 12" descr=""/>
          <p:cNvPicPr/>
          <p:nvPr/>
        </p:nvPicPr>
        <p:blipFill>
          <a:blip r:embed="rId5"/>
          <a:stretch/>
        </p:blipFill>
        <p:spPr>
          <a:xfrm>
            <a:off x="1060560" y="3965400"/>
            <a:ext cx="3859200" cy="890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"/>
          <p:cNvPicPr/>
          <p:nvPr/>
        </p:nvPicPr>
        <p:blipFill>
          <a:blip r:embed="rId6"/>
          <a:stretch/>
        </p:blipFill>
        <p:spPr>
          <a:xfrm>
            <a:off x="5284800" y="3745080"/>
            <a:ext cx="3165480" cy="947520"/>
          </a:xfrm>
          <a:prstGeom prst="rect">
            <a:avLst/>
          </a:prstGeom>
          <a:ln w="0">
            <a:noFill/>
          </a:ln>
        </p:spPr>
      </p:pic>
      <p:sp>
        <p:nvSpPr>
          <p:cNvPr id="186" name="矩形 1"/>
          <p:cNvSpPr/>
          <p:nvPr/>
        </p:nvSpPr>
        <p:spPr>
          <a:xfrm>
            <a:off x="1716120" y="4951440"/>
            <a:ext cx="5692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8×62=669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元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15×14=30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2463840" y="5638680"/>
            <a:ext cx="4346640" cy="569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单价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数量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总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"/>
          <p:cNvSpPr/>
          <p:nvPr/>
        </p:nvSpPr>
        <p:spPr>
          <a:xfrm>
            <a:off x="2049480" y="1525680"/>
            <a:ext cx="63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已知总价和数量，怎样求单价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已知总价和单价，可以求出什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484280" cy="854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3"/>
          <a:stretch/>
        </p:blipFill>
        <p:spPr>
          <a:xfrm>
            <a:off x="6222960" y="2400480"/>
            <a:ext cx="2206800" cy="920520"/>
          </a:xfrm>
          <a:prstGeom prst="rect">
            <a:avLst/>
          </a:prstGeom>
          <a:ln w="0">
            <a:noFill/>
          </a:ln>
        </p:spPr>
      </p:pic>
      <p:sp>
        <p:nvSpPr>
          <p:cNvPr id="192" name="矩形 34"/>
          <p:cNvSpPr/>
          <p:nvPr/>
        </p:nvSpPr>
        <p:spPr>
          <a:xfrm>
            <a:off x="835200" y="2681280"/>
            <a:ext cx="58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）单价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总价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数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例如：育才小学购买了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套课桌椅一共花了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69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元，一套课桌椅多少元钱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696÷62=10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4"/>
          <p:cNvSpPr/>
          <p:nvPr/>
        </p:nvSpPr>
        <p:spPr>
          <a:xfrm>
            <a:off x="789120" y="4506840"/>
            <a:ext cx="712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）总价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单价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数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例如：育才小学购买课桌椅一共花了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69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元，一套课桌椅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元，购买了多少套课桌椅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696÷108=6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套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906480" y="1719360"/>
            <a:ext cx="74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想一想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个篮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篮球共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这里每个篮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篮球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共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彩笔每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盒，共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是彩笔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盒是彩笔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一共要多少元钱是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数量关系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12"/>
          <p:cNvGrpSpPr/>
          <p:nvPr/>
        </p:nvGrpSpPr>
        <p:grpSpPr>
          <a:xfrm>
            <a:off x="1060560" y="964080"/>
            <a:ext cx="4773600" cy="733680"/>
            <a:chOff x="1060560" y="964080"/>
            <a:chExt cx="4773600" cy="733680"/>
          </a:xfrm>
        </p:grpSpPr>
        <p:pic>
          <p:nvPicPr>
            <p:cNvPr id="19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21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文本框 23"/>
            <p:cNvSpPr/>
            <p:nvPr/>
          </p:nvSpPr>
          <p:spPr>
            <a:xfrm>
              <a:off x="1311480" y="964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8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6"/>
          <p:cNvSpPr/>
          <p:nvPr/>
        </p:nvSpPr>
        <p:spPr>
          <a:xfrm>
            <a:off x="3059280" y="296712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单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21"/>
          <p:cNvSpPr/>
          <p:nvPr/>
        </p:nvSpPr>
        <p:spPr>
          <a:xfrm>
            <a:off x="6012000" y="29671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数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2411280" y="3500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总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3"/>
          <p:cNvSpPr/>
          <p:nvPr/>
        </p:nvSpPr>
        <p:spPr>
          <a:xfrm>
            <a:off x="5724360" y="4048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3419640" y="46227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单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6372360" y="4622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数量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26"/>
          <p:cNvSpPr/>
          <p:nvPr/>
        </p:nvSpPr>
        <p:spPr>
          <a:xfrm>
            <a:off x="3995640" y="51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总价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7"/>
          <p:cNvSpPr/>
          <p:nvPr/>
        </p:nvSpPr>
        <p:spPr>
          <a:xfrm>
            <a:off x="1547640" y="57038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总价＝单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数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906480" y="1197000"/>
            <a:ext cx="74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同样的练习本，一本练习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是练习本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是练习本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一本练习本多少元是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数量关系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              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学校买皮球花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每个皮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学校一共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皮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是皮球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个皮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是皮球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一共买了多少个皮球是求皮球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数量关系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6"/>
          <p:cNvSpPr/>
          <p:nvPr/>
        </p:nvSpPr>
        <p:spPr>
          <a:xfrm>
            <a:off x="6948360" y="13111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3635280" y="193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总价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6948360" y="1916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数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4932360" y="2421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单价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1638360" y="3017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单价＝总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数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2"/>
          <p:cNvSpPr/>
          <p:nvPr/>
        </p:nvSpPr>
        <p:spPr>
          <a:xfrm>
            <a:off x="2008080" y="4076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3419640" y="46227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总价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906480" y="53514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单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6948360" y="508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数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3487680" y="58132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数量＝总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单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6"/>
          <p:cNvSpPr/>
          <p:nvPr/>
        </p:nvSpPr>
        <p:spPr>
          <a:xfrm>
            <a:off x="979560" y="24922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件商品的价钱叫做单价，买了多少叫做数量，一共用的钱数叫做总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量＝总价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价＝数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量＝单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34:39Z</dcterms:modified>
  <cp:revision>5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