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F4DA6-1F18-4A46-BF3D-62EFFC89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E019A-0931-442E-9316-4C97B0C8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B15CE-C55A-4050-9B87-935EE20D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6190-5920-4A40-9306-81A3942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1894C-D9F7-4894-8E9F-F93FDAA0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0F358-F769-445E-8A48-85CDC8E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E2AF5-839D-4338-990A-94E26193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3D408-791A-4483-920A-CFCC637B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9737E-E23B-4B02-8DF9-FA13BF7C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83432-46BC-49D2-ACEF-D8D51358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13557-3610-492F-AB51-10AF99E0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CAE04-AD78-4089-A930-38685FF2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86E8C-4F3B-41B7-9181-16107791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48489-5448-4833-8AA0-B3629B2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9C5A6-BFC6-44D5-B786-BCA1F729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F5EED-236D-417A-B03E-11CC3FC6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272E-5232-44B6-9DF5-A5881BD2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B99B7-5B3A-425D-9B82-EC692AD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CF3AB-A60D-4EC5-AA34-AFC36038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60C98-BEC2-4A1B-B3C7-CDA946AD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6BB87-7E15-410E-B2DA-25C974CE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40566-55FD-4739-87D2-82805D18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86E8D-3479-491C-8B8F-4C16807D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9446E-A84D-4A7F-9D79-6FBCB9FB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87308-B883-4B2E-89C5-E0F42F63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71B44-7298-4FAB-BC9B-039E26EE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4E45F-5B48-40C7-93B4-CBA316CF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BC85E-63BE-4BAB-BD68-BE695205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FAA8C-225D-4364-900F-ED38ABE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AEB2B-7B82-40E1-A733-396C81C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A8E27-E619-4253-9E01-5216FFF8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7BAD5-7DCD-43BD-A73B-B1DF1806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DD620-2418-4367-997B-4CB11AD9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40C88-5CDE-4264-8BDC-14797351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D93F8-DFB7-4801-BEE9-31F6DC23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03D4C-576C-4347-8607-3C7FDCE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E2961-6079-4D2C-8464-611A6B67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3A1E5-CD34-45EA-BCC9-A6FA406A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38678-E146-4986-AD18-DC0920E5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53938-7BA0-4E93-BC15-8F44892C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E6EA4-B1ED-4F50-99D0-072F8F53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43F53-4AB5-4DC8-91A2-63F0AEE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C77B8-278D-417F-A8DC-A2B95289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D87E8-8356-4FE8-A0A2-50246D7E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E05C8-6C73-4F9F-B80E-E6A6813A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EEFB8-5B7D-44F3-A988-FB533EB7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34926-B2C1-45EB-BD29-96C71DE5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9A429-AEDC-4479-8A6E-7C44E21A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3EEFE-7D5F-4567-AEFC-9A3A5A10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4ABE8-7235-4DFA-85A9-9A1A9BD7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1A8DC-597C-45DD-A461-D1D297BA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CCAA6-F720-4FEF-8FAC-111F5C6E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C3028-33F2-4D6C-A246-9041F22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2EA7F-469A-4BAC-8CBD-83B5158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5AFC0-1D77-4CD7-9EF0-9150A93B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FE15A-21A6-448D-ACE1-9DF95EBA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4E437-2419-4E86-A1CF-48D635C4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8768F-101E-4CF9-B851-8C3C0591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30532-3DEA-43B1-934A-81D05663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E8D7A-AEA2-402C-A8F8-9F4FE0C3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21D3D-AD4A-47E5-8DC0-82B1CE92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5D6A7-A345-4769-9AD7-C14372A4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52C09-CC5D-498F-B66F-E0745B7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38121-D5D2-4AA4-8411-0DFF9476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8EA4B-040E-4F9A-9A69-A97B20E8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31C1B-6F0B-4239-9863-BB44609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47782-6218-4634-8D97-E81A6875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FE034-7364-4A47-95D2-1A76C3D5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6683D-B416-4650-B559-7ED9B0F4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C2DCF-9028-472D-BAAC-78419784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1F66D-E3FA-4EC9-BC3B-90796F20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05264-3159-44D9-BF40-F7F1C556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9A380-7262-4E9F-BE24-26D08529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849FF-AEC7-449D-975F-39FA76B7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C7257-2CDA-4260-8810-34A4C63E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26567-3C2C-42F4-9C8C-08036084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09083-82D3-4B9B-9731-13DBCF1E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542B3-A5F2-4E5A-A96D-1132833A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393D8-5F65-4E7C-8919-DB5C2518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F9365-ED0A-4657-9957-4CDDE545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2DA97-BF23-46DE-8780-17C82804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AE8A4-E144-46B2-90A1-3C0FC64D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8F89B-485A-4F8F-989B-DCCD2969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9386C-9DFF-4867-A1AB-D658B0D9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A3360-5C42-4A02-9B3B-73ADB439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8F4ED-A1BC-4522-BE66-304F9A56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1E8DD-AADB-47C5-AF44-0A2A5898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C9B43-ED45-4EED-8DC1-15A87D3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26A45-5264-49D2-81BC-165850F6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02EC3-EB7B-4E1C-99CA-B9422BA6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EB767-044D-4C5F-B3EA-952BA692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EE352-D234-4E8D-8B80-ECB51860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7E731-5ABA-4738-B61D-E65ED63C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5D5-E69E-4B94-947D-77411A95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965-4248-4F29-875E-91AD0A80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14C-534D-4320-9E35-99A0097B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314-843F-46BA-8AEB-8DFB070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C34-4BA6-4A29-A333-660D918C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797-2FC6-40BF-BAB8-9B1AF1A3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B53-6530-41B4-A0B7-1065ED4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A69-88C7-41E2-8BEE-349062D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C56-2492-4612-B598-EFA5818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D09-DE37-4940-ADF4-53D23193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6CF-405B-476E-8434-50B324AA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02D-D3A8-4D77-A63F-53CF0670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4138-F34D-4588-B8AE-0AE14336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B57F-B2D7-4F87-A865-BA76D03D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F7A5-CC27-4EF1-A217-758F85AA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1B2F-AC9E-48AA-9693-B0AD9B6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9C72-9134-47F0-ADC7-E17F1D42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A34D-3C1D-49D0-BFDD-3E4FFB42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4387-6728-4C14-978A-0D91006B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E2EB-89C7-447E-ADE2-E2314199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FD1B-C96F-446D-9451-FE2DDD3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4306-BB51-469E-8215-C9E2B797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A51A-2D54-42A4-A8DB-B33DD9CF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3000-CE21-429F-BB30-3730FB9A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5956-8E8F-4D13-9661-5DD5E6A0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1CFF-183E-4784-86D5-CBD31A76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56AE-573A-4076-BDA3-0C9D1188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C0F5-4774-40A6-9499-08761F55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7DED-C378-4E68-A160-F6A9F161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49AA-B15B-4A07-9347-7FADAF8E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2D7E-4AD8-4E04-A19F-02EC7E0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39C8-6F8E-47B6-A458-C3270FFD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59D7-609A-41D8-AC0D-A718D42E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EADD-E310-489D-BAFD-9B22DC68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6185-0FD6-4C06-9226-E2E178D1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2DBC-ACDB-4920-BA83-B3F413AD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F9A13-63F6-42F2-ABE7-DC9454DF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A359F-E242-4079-9EC9-D9A90878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90E4-C638-4FB2-9C54-4A7B2B28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1456-A862-49A3-9FEC-0CA16015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37FE-CB53-4E5A-92B1-BAAC164D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CC02-2351-4DDC-AF99-130E6765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E9C4-BFB1-4CEA-9E9A-E6CA0A6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DFAFA-D7EB-43C3-A7C1-B717185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692C6-D812-4B8E-B200-7EF2D4A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8826-D7E3-4353-94A3-018B35B8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3016-BCE4-4726-84CB-1E8B42C1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A293-AB9B-4B27-A925-C55F2DDD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989C-146A-4935-BAB5-0BE79075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6FB7B-4DC5-4416-A35D-D3B246CB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8579-86BB-46F4-BA98-44215A5D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C6E9-7B1D-4885-8070-EC6BB439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A9D5-A3AF-4E81-B0F6-C84B1305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6CC5-A956-42B2-984C-1D0BBC58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1E765-CF91-4F49-9746-030CC63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4255-C345-4086-B69D-D23D3799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F59A6-97C3-4FE4-AFC7-DAC96C2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2C82C-5D16-4539-B044-339D0DAF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D5448-1A7D-4C3D-B724-416A2416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B438-7ADC-4E02-A124-7B6318F7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20E7-B213-4A4F-9CFF-19BDDEA5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61B9B-8FD7-474A-90A9-FAD41061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63EF-ABF5-40CE-97B0-115F415C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F50F1-ECEE-44E9-B073-EB6FA545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86F70-9295-4EC9-B1ED-3A1598A5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505A6-4263-481B-8D4E-6CA6F8A4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FD513-1988-4765-9978-1307C93C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ABB6-63F4-4B0F-8CBD-FA4668EE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22B60-1E7B-45BF-B339-76E2623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40B4A-2F54-4EBF-B482-4D4E1299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B7CA-D5BC-4F8D-94A0-705A6FBA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CEC63-47C9-4924-B97F-F4C41393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24277-B2C3-433A-8752-832DA1E6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998B6-CE51-4837-B8EF-1605A3C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33B8-349F-4C00-88C1-23025FBB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A4F9-1579-4DC5-B8DB-DD0601B4DF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08F0-1B81-43B5-BF6E-8C9FFD5F89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2DDD-0880-4844-B8C8-0F8329CB339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5D4-E445-461A-A5A2-CBD8D648F66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DF3E-4DEF-4C00-B11C-F98A10378E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FB6E-319E-4499-96D7-242AE68B5C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A9E6-296C-42FD-B33C-6D7B3DFBDF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1ECE0-7E20-464E-B5DF-E8E765B02C1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F08D-C04D-4AC3-8FD5-E4429EBA536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CC9F-6C6D-404B-9533-BF1162CC9AC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76DD-DDE9-46B8-A6AE-11F3CF0088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05AB-17DE-4059-81B0-12660FD581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4AC8-A30D-4851-B238-BC7D4297DC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F1B2-9DF6-46EE-8894-6AC5D8CE0DA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乘法的简便运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826920" y="14256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不计算，比较下面两个乘法算式积的大小，并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里填上适当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36×42        4242×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想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×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×1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36×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想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42×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36×42        4242×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组合 1"/>
          <p:cNvGrpSpPr/>
          <p:nvPr/>
        </p:nvGrpSpPr>
        <p:grpSpPr>
          <a:xfrm>
            <a:off x="595440" y="907920"/>
            <a:ext cx="2809800" cy="668520"/>
            <a:chOff x="595440" y="907920"/>
            <a:chExt cx="2809800" cy="668520"/>
          </a:xfrm>
        </p:grpSpPr>
        <p:sp>
          <p:nvSpPr>
            <p:cNvPr id="701" name="圆角矩形 7"/>
            <p:cNvSpPr/>
            <p:nvPr/>
          </p:nvSpPr>
          <p:spPr>
            <a:xfrm>
              <a:off x="1479600" y="102060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文本框 13"/>
            <p:cNvSpPr/>
            <p:nvPr/>
          </p:nvSpPr>
          <p:spPr>
            <a:xfrm>
              <a:off x="1479600" y="100800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0792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4" name="矩形 9"/>
          <p:cNvSpPr/>
          <p:nvPr/>
        </p:nvSpPr>
        <p:spPr>
          <a:xfrm>
            <a:off x="2813040" y="256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11" descr=""/>
          <p:cNvPicPr/>
          <p:nvPr/>
        </p:nvPicPr>
        <p:blipFill>
          <a:blip r:embed="rId2"/>
          <a:stretch/>
        </p:blipFill>
        <p:spPr>
          <a:xfrm>
            <a:off x="2813040" y="2617920"/>
            <a:ext cx="534960" cy="519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1" descr=""/>
          <p:cNvPicPr/>
          <p:nvPr/>
        </p:nvPicPr>
        <p:blipFill>
          <a:blip r:embed="rId3"/>
          <a:stretch/>
        </p:blipFill>
        <p:spPr>
          <a:xfrm>
            <a:off x="3747960" y="5899320"/>
            <a:ext cx="536760" cy="519120"/>
          </a:xfrm>
          <a:prstGeom prst="rect">
            <a:avLst/>
          </a:prstGeom>
          <a:ln w="0">
            <a:noFill/>
          </a:ln>
        </p:spPr>
      </p:pic>
      <p:sp>
        <p:nvSpPr>
          <p:cNvPr id="707" name="矩形 12"/>
          <p:cNvSpPr/>
          <p:nvPr/>
        </p:nvSpPr>
        <p:spPr>
          <a:xfrm>
            <a:off x="3838680" y="3645000"/>
            <a:ext cx="73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矩形 13"/>
          <p:cNvSpPr/>
          <p:nvPr/>
        </p:nvSpPr>
        <p:spPr>
          <a:xfrm>
            <a:off x="4906800" y="364500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14"/>
          <p:cNvSpPr/>
          <p:nvPr/>
        </p:nvSpPr>
        <p:spPr>
          <a:xfrm>
            <a:off x="6130800" y="364500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15"/>
          <p:cNvSpPr/>
          <p:nvPr/>
        </p:nvSpPr>
        <p:spPr>
          <a:xfrm>
            <a:off x="3094200" y="419580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16"/>
          <p:cNvSpPr/>
          <p:nvPr/>
        </p:nvSpPr>
        <p:spPr>
          <a:xfrm>
            <a:off x="4330800" y="422100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17"/>
          <p:cNvSpPr/>
          <p:nvPr/>
        </p:nvSpPr>
        <p:spPr>
          <a:xfrm>
            <a:off x="5219640" y="42210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18"/>
          <p:cNvSpPr/>
          <p:nvPr/>
        </p:nvSpPr>
        <p:spPr>
          <a:xfrm>
            <a:off x="6516720" y="422100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19"/>
          <p:cNvSpPr/>
          <p:nvPr/>
        </p:nvSpPr>
        <p:spPr>
          <a:xfrm>
            <a:off x="7715160" y="422100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矩形 20"/>
          <p:cNvSpPr/>
          <p:nvPr/>
        </p:nvSpPr>
        <p:spPr>
          <a:xfrm>
            <a:off x="1682640" y="479736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矩形 21"/>
          <p:cNvSpPr/>
          <p:nvPr/>
        </p:nvSpPr>
        <p:spPr>
          <a:xfrm>
            <a:off x="2771640" y="479268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矩形 22"/>
          <p:cNvSpPr/>
          <p:nvPr/>
        </p:nvSpPr>
        <p:spPr>
          <a:xfrm>
            <a:off x="3825720" y="52974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矩形 23"/>
          <p:cNvSpPr/>
          <p:nvPr/>
        </p:nvSpPr>
        <p:spPr>
          <a:xfrm>
            <a:off x="4906800" y="530064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矩形 24"/>
          <p:cNvSpPr/>
          <p:nvPr/>
        </p:nvSpPr>
        <p:spPr>
          <a:xfrm>
            <a:off x="5867280" y="53006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矩形 25"/>
          <p:cNvSpPr/>
          <p:nvPr/>
        </p:nvSpPr>
        <p:spPr>
          <a:xfrm>
            <a:off x="3780000" y="587700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8"/>
          <p:cNvSpPr/>
          <p:nvPr/>
        </p:nvSpPr>
        <p:spPr>
          <a:xfrm>
            <a:off x="826920" y="14256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简便方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82018×20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72017×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矩形 24"/>
          <p:cNvSpPr/>
          <p:nvPr/>
        </p:nvSpPr>
        <p:spPr>
          <a:xfrm>
            <a:off x="1427040" y="2637000"/>
            <a:ext cx="732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18×10001×20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17×10001×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4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2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28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233360" y="2060640"/>
            <a:ext cx="6939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数的拆分规律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三位数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825480" y="1940040"/>
            <a:ext cx="75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        里填上合适的数，使下面的等式成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×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×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1085760"/>
            <a:ext cx="2809800" cy="668520"/>
            <a:chOff x="595440" y="1085760"/>
            <a:chExt cx="2809800" cy="66852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198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185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85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矩形 10"/>
          <p:cNvSpPr/>
          <p:nvPr/>
        </p:nvSpPr>
        <p:spPr>
          <a:xfrm>
            <a:off x="3430440" y="249228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4        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11" descr=""/>
          <p:cNvPicPr/>
          <p:nvPr/>
        </p:nvPicPr>
        <p:blipFill>
          <a:blip r:embed="rId2"/>
          <a:stretch/>
        </p:blipFill>
        <p:spPr>
          <a:xfrm>
            <a:off x="1725480" y="1969920"/>
            <a:ext cx="542880" cy="5796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1" descr=""/>
          <p:cNvPicPr/>
          <p:nvPr/>
        </p:nvPicPr>
        <p:blipFill>
          <a:blip r:embed="rId3"/>
          <a:stretch/>
        </p:blipFill>
        <p:spPr>
          <a:xfrm>
            <a:off x="3405240" y="2541600"/>
            <a:ext cx="541440" cy="579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1" descr=""/>
          <p:cNvPicPr/>
          <p:nvPr/>
        </p:nvPicPr>
        <p:blipFill>
          <a:blip r:embed="rId4"/>
          <a:stretch/>
        </p:blipFill>
        <p:spPr>
          <a:xfrm>
            <a:off x="4335480" y="2562120"/>
            <a:ext cx="542880" cy="5796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1" descr=""/>
          <p:cNvPicPr/>
          <p:nvPr/>
        </p:nvPicPr>
        <p:blipFill>
          <a:blip r:embed="rId5"/>
          <a:stretch/>
        </p:blipFill>
        <p:spPr>
          <a:xfrm>
            <a:off x="5219640" y="2562120"/>
            <a:ext cx="541440" cy="579600"/>
          </a:xfrm>
          <a:prstGeom prst="rect">
            <a:avLst/>
          </a:prstGeom>
          <a:ln w="0">
            <a:noFill/>
          </a:ln>
        </p:spPr>
      </p:pic>
      <p:sp>
        <p:nvSpPr>
          <p:cNvPr id="678" name="矩形 17"/>
          <p:cNvSpPr/>
          <p:nvPr/>
        </p:nvSpPr>
        <p:spPr>
          <a:xfrm>
            <a:off x="2987640" y="31417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      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8"/>
          <p:cNvSpPr/>
          <p:nvPr/>
        </p:nvSpPr>
        <p:spPr>
          <a:xfrm>
            <a:off x="825480" y="907920"/>
            <a:ext cx="7562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5×1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0×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你发现了什么规律？请直接写出下面算式的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8×1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8×1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很快写出下面算式的结果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×1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×1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17"/>
          <p:cNvSpPr/>
          <p:nvPr/>
        </p:nvSpPr>
        <p:spPr>
          <a:xfrm>
            <a:off x="1692360" y="196200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5×(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5×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5×1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53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5"/>
          <p:cNvSpPr/>
          <p:nvPr/>
        </p:nvSpPr>
        <p:spPr>
          <a:xfrm>
            <a:off x="5076720" y="1962000"/>
            <a:ext cx="38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0×(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0×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0×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02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矩形 6"/>
          <p:cNvSpPr/>
          <p:nvPr/>
        </p:nvSpPr>
        <p:spPr>
          <a:xfrm>
            <a:off x="1657440" y="4797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规律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矩形 8"/>
          <p:cNvSpPr/>
          <p:nvPr/>
        </p:nvSpPr>
        <p:spPr>
          <a:xfrm>
            <a:off x="2978280" y="42084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7847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9"/>
          <p:cNvSpPr/>
          <p:nvPr/>
        </p:nvSpPr>
        <p:spPr>
          <a:xfrm>
            <a:off x="5972040" y="41958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81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矩形 10"/>
          <p:cNvSpPr/>
          <p:nvPr/>
        </p:nvSpPr>
        <p:spPr>
          <a:xfrm>
            <a:off x="2771640" y="584352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矩形 11"/>
          <p:cNvSpPr/>
          <p:nvPr/>
        </p:nvSpPr>
        <p:spPr>
          <a:xfrm>
            <a:off x="5592600" y="5845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7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825480" y="1484280"/>
            <a:ext cx="74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服装店一周内售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女裤，每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一共卖了多少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矩形 26"/>
          <p:cNvSpPr/>
          <p:nvPr/>
        </p:nvSpPr>
        <p:spPr>
          <a:xfrm>
            <a:off x="1403280" y="27115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7×19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30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800280" y="150660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宏业小区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幢楼，每幢楼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元，每个单元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户居民。宏业小区共有多少户居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1673280" y="2924280"/>
            <a:ext cx="68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×7×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852480" y="1590840"/>
            <a:ext cx="71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是小红家、小华家和学校之间的示意图。小红和小华两人同时从家去学校，小红每分钟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小华每分钟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两人同时到校。小红家与小华家相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7"/>
          <p:cNvSpPr/>
          <p:nvPr/>
        </p:nvSpPr>
        <p:spPr>
          <a:xfrm>
            <a:off x="6026040" y="3279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5" descr=""/>
          <p:cNvPicPr/>
          <p:nvPr/>
        </p:nvPicPr>
        <p:blipFill>
          <a:blip r:embed="rId1"/>
          <a:stretch/>
        </p:blipFill>
        <p:spPr>
          <a:xfrm>
            <a:off x="2556000" y="4002120"/>
            <a:ext cx="35636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8"/>
          <p:cNvSpPr/>
          <p:nvPr/>
        </p:nvSpPr>
        <p:spPr>
          <a:xfrm>
            <a:off x="852480" y="2060640"/>
            <a:ext cx="710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育德小学的图书室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图书，如果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图书包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，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装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箱，那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箱子够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4"/>
          <p:cNvSpPr/>
          <p:nvPr/>
        </p:nvSpPr>
        <p:spPr>
          <a:xfrm>
            <a:off x="1476360" y="4076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×12×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本　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8"/>
          <p:cNvSpPr/>
          <p:nvPr/>
        </p:nvSpPr>
        <p:spPr>
          <a:xfrm>
            <a:off x="852480" y="1198440"/>
            <a:ext cx="710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丽丽给自己写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篇日记做了一个统计，发现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篇日记平均每篇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，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篇日记平均每篇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篇日记共有多少个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篇日记比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篇日记多多少个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4"/>
          <p:cNvSpPr/>
          <p:nvPr/>
        </p:nvSpPr>
        <p:spPr>
          <a:xfrm>
            <a:off x="1317600" y="3438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9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5"/>
          <p:cNvSpPr/>
          <p:nvPr/>
        </p:nvSpPr>
        <p:spPr>
          <a:xfrm>
            <a:off x="1332000" y="52308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0)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42:40Z</dcterms:modified>
  <cp:revision>2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