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250-6B32-4A0E-8466-97E70FDE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BB5-8788-43E3-88F1-9886E554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797-DBA3-4EAE-AC6A-0B0BEC9B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E7C-A1EC-4ED6-9837-79B0F1C2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C27-FB83-413C-AD32-9AED125A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F74-ADA3-4685-AB3C-1E055F2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1B0-CF09-4EDD-90D1-12E8C206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43B-999E-4E19-8919-0539992C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3D1-9270-4204-9266-052FF65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987-3369-4187-B39B-812B47C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CE0-1E6E-4237-A4F8-2B9F824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86A-FF65-4240-B072-8E32E1D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0B0-6ADD-41AA-968B-6E6986F41E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7" h="720725">
                <a:moveTo>
                  <a:pt x="0" y="0"/>
                </a:moveTo>
                <a:lnTo>
                  <a:pt x="2135520" y="0"/>
                </a:lnTo>
                <a:cubicBezTo>
                  <a:pt x="2328222" y="0"/>
                  <a:pt x="2484437" y="156215"/>
                  <a:pt x="2484437" y="348917"/>
                </a:cubicBezTo>
                <a:lnTo>
                  <a:pt x="2484437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8dd2eb"/>
          </a:solidFill>
          <a:ln w="25560">
            <a:solidFill>
              <a:srgbClr val="8dd2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50720" y="2507760"/>
            <a:ext cx="3600720" cy="19080"/>
            <a:chOff x="2250720" y="2507760"/>
            <a:chExt cx="3600720" cy="19080"/>
          </a:xfrm>
        </p:grpSpPr>
        <p:sp>
          <p:nvSpPr>
            <p:cNvPr id="43" name="Line 10"/>
            <p:cNvSpPr/>
            <p:nvPr/>
          </p:nvSpPr>
          <p:spPr>
            <a:xfrm flipV="1">
              <a:off x="2251080" y="2507760"/>
              <a:ext cx="3600360" cy="1908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10800000">
              <a:off x="2250720" y="2507400"/>
              <a:ext cx="36003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9"/>
          <p:cNvSpPr/>
          <p:nvPr/>
        </p:nvSpPr>
        <p:spPr>
          <a:xfrm>
            <a:off x="1253880" y="1901880"/>
            <a:ext cx="3901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三位数乘两位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>
            <a:off x="297324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数量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-71280" y="57312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已知路程和行驶的时间，可以求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428760" y="12160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：已知甲地到乙地的距离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8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，一列客车从甲地开往乙地一共用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小时。这列客车平均每小时行驶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643120" y="307332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速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路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714760" y="3787920"/>
            <a:ext cx="40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86÷7=9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928800" y="44308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这列客车平均每小时行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8"/>
          <p:cNvGrpSpPr/>
          <p:nvPr/>
        </p:nvGrpSpPr>
        <p:grpSpPr>
          <a:xfrm>
            <a:off x="519120" y="4703760"/>
            <a:ext cx="8331120" cy="1758960"/>
            <a:chOff x="519120" y="4703760"/>
            <a:chExt cx="8331120" cy="1758960"/>
          </a:xfrm>
        </p:grpSpPr>
        <p:pic>
          <p:nvPicPr>
            <p:cNvPr id="122" name="图片 6" descr="小兔子6.png"/>
            <p:cNvPicPr/>
            <p:nvPr/>
          </p:nvPicPr>
          <p:blipFill>
            <a:blip r:embed="rId1"/>
            <a:stretch/>
          </p:blipFill>
          <p:spPr>
            <a:xfrm>
              <a:off x="7579800" y="4703760"/>
              <a:ext cx="127044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云形标注 7"/>
            <p:cNvSpPr/>
            <p:nvPr/>
          </p:nvSpPr>
          <p:spPr>
            <a:xfrm>
              <a:off x="519120" y="5128560"/>
              <a:ext cx="7000560" cy="1033920"/>
            </a:xfrm>
            <a:prstGeom prst="cloudCallout">
              <a:avLst>
                <a:gd name="adj1" fmla="val 49120"/>
                <a:gd name="adj2" fmla="val 35032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你知道吗？速度有一种特殊的表达方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85840" y="10033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快速客车平均每小时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记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读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4"/>
          <p:cNvGrpSpPr/>
          <p:nvPr/>
        </p:nvGrpSpPr>
        <p:grpSpPr>
          <a:xfrm>
            <a:off x="214200" y="3481560"/>
            <a:ext cx="5772240" cy="2309760"/>
            <a:chOff x="214200" y="3481560"/>
            <a:chExt cx="5772240" cy="2309760"/>
          </a:xfrm>
        </p:grpSpPr>
        <p:pic>
          <p:nvPicPr>
            <p:cNvPr id="126" name="图片 2" descr="小男孩4.png"/>
            <p:cNvPicPr/>
            <p:nvPr/>
          </p:nvPicPr>
          <p:blipFill>
            <a:blip r:embed="rId1"/>
            <a:stretch/>
          </p:blipFill>
          <p:spPr>
            <a:xfrm>
              <a:off x="214200" y="4147920"/>
              <a:ext cx="1307160" cy="16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云形标注 3"/>
            <p:cNvSpPr/>
            <p:nvPr/>
          </p:nvSpPr>
          <p:spPr>
            <a:xfrm>
              <a:off x="1414440" y="3481560"/>
              <a:ext cx="4572000" cy="1715040"/>
            </a:xfrm>
            <a:prstGeom prst="cloudCallout">
              <a:avLst>
                <a:gd name="adj1" fmla="val -30555"/>
                <a:gd name="adj2" fmla="val 65999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我每分钟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米，怎样表示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7"/>
          <p:cNvGrpSpPr/>
          <p:nvPr/>
        </p:nvGrpSpPr>
        <p:grpSpPr>
          <a:xfrm>
            <a:off x="5072040" y="1932120"/>
            <a:ext cx="4000680" cy="3833640"/>
            <a:chOff x="5072040" y="1932120"/>
            <a:chExt cx="4000680" cy="3833640"/>
          </a:xfrm>
        </p:grpSpPr>
        <p:pic>
          <p:nvPicPr>
            <p:cNvPr id="129" name="图片 5" descr="小女孩3.png"/>
            <p:cNvPicPr/>
            <p:nvPr/>
          </p:nvPicPr>
          <p:blipFill>
            <a:blip r:embed="rId2"/>
            <a:stretch/>
          </p:blipFill>
          <p:spPr>
            <a:xfrm>
              <a:off x="7520040" y="3860640"/>
              <a:ext cx="1552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云形标注 6"/>
            <p:cNvSpPr/>
            <p:nvPr/>
          </p:nvSpPr>
          <p:spPr>
            <a:xfrm>
              <a:off x="5072040" y="1932120"/>
              <a:ext cx="3643560" cy="1857240"/>
            </a:xfrm>
            <a:prstGeom prst="cloudCallout">
              <a:avLst>
                <a:gd name="adj1" fmla="val 18425"/>
                <a:gd name="adj2" fmla="val 77907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每分钟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米，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表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4400" y="1644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千克花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花生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2214720" y="3002040"/>
            <a:ext cx="48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×120=9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43040" y="45021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花生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71680" y="1143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说明什么是单价、数量和总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42960" y="22860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买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乒乓球，每个乒乓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，一共花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42960" y="3809880"/>
            <a:ext cx="81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中：“每个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”是单价，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乒乓球”是数量，“一共花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”是总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501480" y="501480"/>
            <a:ext cx="78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下面的发票，从中你了解哪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" descr="QQ截图20150202191957.png"/>
          <p:cNvPicPr/>
          <p:nvPr/>
        </p:nvPicPr>
        <p:blipFill>
          <a:blip r:embed="rId1"/>
          <a:stretch/>
        </p:blipFill>
        <p:spPr>
          <a:xfrm>
            <a:off x="2001960" y="1085760"/>
            <a:ext cx="5013360" cy="298620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5"/>
          <p:cNvGrpSpPr/>
          <p:nvPr/>
        </p:nvGrpSpPr>
        <p:grpSpPr>
          <a:xfrm>
            <a:off x="214200" y="4000680"/>
            <a:ext cx="4714920" cy="2500200"/>
            <a:chOff x="214200" y="4000680"/>
            <a:chExt cx="4714920" cy="2500200"/>
          </a:xfrm>
        </p:grpSpPr>
        <p:pic>
          <p:nvPicPr>
            <p:cNvPr id="54" name="图片 3" descr="小男孩4.png"/>
            <p:cNvPicPr/>
            <p:nvPr/>
          </p:nvPicPr>
          <p:blipFill>
            <a:blip r:embed="rId2"/>
            <a:stretch/>
          </p:blipFill>
          <p:spPr>
            <a:xfrm>
              <a:off x="214200" y="4858200"/>
              <a:ext cx="127188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云形标注 4"/>
            <p:cNvSpPr/>
            <p:nvPr/>
          </p:nvSpPr>
          <p:spPr>
            <a:xfrm>
              <a:off x="1465200" y="4000680"/>
              <a:ext cx="3463920" cy="2142720"/>
            </a:xfrm>
            <a:prstGeom prst="cloudCallout">
              <a:avLst>
                <a:gd name="adj1" fmla="val -51458"/>
                <a:gd name="adj2" fmla="val 21157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育才小学买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套课桌椅，每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8"/>
          <p:cNvGrpSpPr/>
          <p:nvPr/>
        </p:nvGrpSpPr>
        <p:grpSpPr>
          <a:xfrm>
            <a:off x="5214960" y="3916440"/>
            <a:ext cx="3929040" cy="2655720"/>
            <a:chOff x="5214960" y="3916440"/>
            <a:chExt cx="3929040" cy="2655720"/>
          </a:xfrm>
        </p:grpSpPr>
        <p:pic>
          <p:nvPicPr>
            <p:cNvPr id="57" name="图片 6" descr="小女孩3.png"/>
            <p:cNvPicPr/>
            <p:nvPr/>
          </p:nvPicPr>
          <p:blipFill>
            <a:blip r:embed="rId3"/>
            <a:stretch/>
          </p:blipFill>
          <p:spPr>
            <a:xfrm>
              <a:off x="7804800" y="4929480"/>
              <a:ext cx="133920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云形标注 7"/>
            <p:cNvSpPr/>
            <p:nvPr/>
          </p:nvSpPr>
          <p:spPr>
            <a:xfrm>
              <a:off x="5214960" y="3916440"/>
              <a:ext cx="2714760" cy="2298960"/>
            </a:xfrm>
            <a:prstGeom prst="cloudCallout">
              <a:avLst>
                <a:gd name="adj1" fmla="val 44398"/>
                <a:gd name="adj2" fmla="val 26643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还买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书柜，每个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643040" y="57312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发票中的单价、数量、金额各表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矩形 2" descr=""/>
          <p:cNvPicPr/>
          <p:nvPr/>
        </p:nvPicPr>
        <p:blipFill>
          <a:blip r:embed="rId1"/>
          <a:stretch/>
        </p:blipFill>
        <p:spPr>
          <a:xfrm>
            <a:off x="142920" y="571680"/>
            <a:ext cx="1717560" cy="64764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5"/>
          <p:cNvGrpSpPr/>
          <p:nvPr/>
        </p:nvGrpSpPr>
        <p:grpSpPr>
          <a:xfrm>
            <a:off x="71280" y="1359000"/>
            <a:ext cx="5214960" cy="3619440"/>
            <a:chOff x="71280" y="1359000"/>
            <a:chExt cx="5214960" cy="3619440"/>
          </a:xfrm>
        </p:grpSpPr>
        <p:pic>
          <p:nvPicPr>
            <p:cNvPr id="62" name="图片 3" descr="小男孩2.png"/>
            <p:cNvPicPr/>
            <p:nvPr/>
          </p:nvPicPr>
          <p:blipFill>
            <a:blip r:embed="rId2"/>
            <a:stretch/>
          </p:blipFill>
          <p:spPr>
            <a:xfrm>
              <a:off x="71280" y="3073320"/>
              <a:ext cx="1457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云形标注 4"/>
            <p:cNvSpPr/>
            <p:nvPr/>
          </p:nvSpPr>
          <p:spPr>
            <a:xfrm>
              <a:off x="1428480" y="1359000"/>
              <a:ext cx="3857760" cy="2714760"/>
            </a:xfrm>
            <a:prstGeom prst="cloudCallout">
              <a:avLst>
                <a:gd name="adj1" fmla="val -47949"/>
                <a:gd name="adj2" fmla="val 36060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每件的价格叫做单价，数量是买的件数，金额是一共花了多少元钱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8"/>
          <p:cNvGrpSpPr/>
          <p:nvPr/>
        </p:nvGrpSpPr>
        <p:grpSpPr>
          <a:xfrm>
            <a:off x="5429160" y="1287360"/>
            <a:ext cx="3500640" cy="3786120"/>
            <a:chOff x="5429160" y="1287360"/>
            <a:chExt cx="3500640" cy="3786120"/>
          </a:xfrm>
        </p:grpSpPr>
        <p:pic>
          <p:nvPicPr>
            <p:cNvPr id="65" name="图片 6" descr="小青蛙2.png"/>
            <p:cNvPicPr/>
            <p:nvPr/>
          </p:nvPicPr>
          <p:blipFill>
            <a:blip r:embed="rId3"/>
            <a:stretch/>
          </p:blipFill>
          <p:spPr>
            <a:xfrm>
              <a:off x="7215120" y="335916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云形标注 7"/>
            <p:cNvSpPr/>
            <p:nvPr/>
          </p:nvSpPr>
          <p:spPr>
            <a:xfrm>
              <a:off x="5429160" y="1287360"/>
              <a:ext cx="3143520" cy="1643040"/>
            </a:xfrm>
            <a:prstGeom prst="cloudCallout">
              <a:avLst>
                <a:gd name="adj1" fmla="val 11638"/>
                <a:gd name="adj2" fmla="val 88125"/>
              </a:avLst>
            </a:prstGeom>
            <a:solidFill>
              <a:srgbClr val="fac09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发票中的金额也叫做总价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9"/>
          <p:cNvSpPr/>
          <p:nvPr/>
        </p:nvSpPr>
        <p:spPr>
          <a:xfrm>
            <a:off x="3000240" y="41450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8×62=669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3000240" y="47750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5×14=30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1"/>
          <p:cNvSpPr/>
          <p:nvPr/>
        </p:nvSpPr>
        <p:spPr>
          <a:xfrm>
            <a:off x="2928960" y="5572080"/>
            <a:ext cx="3786120" cy="7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单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数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总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矩形 1" descr=""/>
          <p:cNvPicPr/>
          <p:nvPr/>
        </p:nvPicPr>
        <p:blipFill>
          <a:blip r:embed="rId1"/>
          <a:stretch/>
        </p:blipFill>
        <p:spPr>
          <a:xfrm>
            <a:off x="382680" y="571680"/>
            <a:ext cx="1717560" cy="647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16000" y="128736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已知总价和数量，怎样求单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5"/>
          <p:cNvGrpSpPr/>
          <p:nvPr/>
        </p:nvGrpSpPr>
        <p:grpSpPr>
          <a:xfrm>
            <a:off x="4857840" y="2216160"/>
            <a:ext cx="3965400" cy="2643120"/>
            <a:chOff x="4857840" y="2216160"/>
            <a:chExt cx="3965400" cy="2643120"/>
          </a:xfrm>
        </p:grpSpPr>
        <p:pic>
          <p:nvPicPr>
            <p:cNvPr id="73" name="图片 3" descr="小兔子4.png"/>
            <p:cNvPicPr/>
            <p:nvPr/>
          </p:nvPicPr>
          <p:blipFill>
            <a:blip r:embed="rId2"/>
            <a:stretch/>
          </p:blipFill>
          <p:spPr>
            <a:xfrm>
              <a:off x="7358040" y="2787480"/>
              <a:ext cx="14652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云形标注 4"/>
            <p:cNvSpPr/>
            <p:nvPr/>
          </p:nvSpPr>
          <p:spPr>
            <a:xfrm>
              <a:off x="4857840" y="2216160"/>
              <a:ext cx="3929040" cy="714240"/>
            </a:xfrm>
            <a:prstGeom prst="cloudCallout">
              <a:avLst>
                <a:gd name="adj1" fmla="val 11638"/>
                <a:gd name="adj2" fmla="val 88125"/>
              </a:avLst>
            </a:prstGeom>
            <a:solidFill>
              <a:srgbClr val="fac09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举出例子说明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6"/>
          <p:cNvSpPr/>
          <p:nvPr/>
        </p:nvSpPr>
        <p:spPr>
          <a:xfrm>
            <a:off x="573120" y="193032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：校运动会快到了，学校新买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足球，一共花去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每个足球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228680" y="42703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单价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总价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430280" y="49309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÷5=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1430280" y="571644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每个足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16000" y="93204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已知总价和单价，可以求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644400" y="16462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：校运动会快到了，学校买足球一共花去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，已知每个足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元。学校一共买了多少个足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430280" y="35751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数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总价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单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01920" y="450360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÷24=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87320" y="52894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大学校一共买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足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14200" y="430200"/>
            <a:ext cx="88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面的铁路示意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8"/>
          <p:cNvGrpSpPr/>
          <p:nvPr/>
        </p:nvGrpSpPr>
        <p:grpSpPr>
          <a:xfrm>
            <a:off x="285840" y="990720"/>
            <a:ext cx="8858160" cy="5108400"/>
            <a:chOff x="285840" y="990720"/>
            <a:chExt cx="8858160" cy="5108400"/>
          </a:xfrm>
        </p:grpSpPr>
        <p:pic>
          <p:nvPicPr>
            <p:cNvPr id="86" name="图片 2" descr="QQ截图20150202200141.png"/>
            <p:cNvPicPr/>
            <p:nvPr/>
          </p:nvPicPr>
          <p:blipFill>
            <a:blip r:embed="rId1"/>
            <a:stretch/>
          </p:blipFill>
          <p:spPr>
            <a:xfrm>
              <a:off x="285840" y="990720"/>
              <a:ext cx="4572000" cy="342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云形标注 3"/>
            <p:cNvSpPr/>
            <p:nvPr/>
          </p:nvSpPr>
          <p:spPr>
            <a:xfrm>
              <a:off x="2929320" y="1154880"/>
              <a:ext cx="4721040" cy="1214280"/>
            </a:xfrm>
            <a:prstGeom prst="cloudCallout">
              <a:avLst>
                <a:gd name="adj1" fmla="val 47296"/>
                <a:gd name="adj2" fmla="val 51467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济南到青岛的铁路长度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9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云形标注 4"/>
            <p:cNvSpPr/>
            <p:nvPr/>
          </p:nvSpPr>
          <p:spPr>
            <a:xfrm>
              <a:off x="2428920" y="3490920"/>
              <a:ext cx="6072120" cy="999720"/>
            </a:xfrm>
            <a:prstGeom prst="cloudCallout">
              <a:avLst>
                <a:gd name="adj1" fmla="val 36060"/>
                <a:gd name="adj2" fmla="val 77250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青岛在北京的东南方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图片 5" descr="小男孩1.png"/>
            <p:cNvPicPr/>
            <p:nvPr/>
          </p:nvPicPr>
          <p:blipFill>
            <a:blip r:embed="rId2"/>
            <a:stretch/>
          </p:blipFill>
          <p:spPr>
            <a:xfrm>
              <a:off x="7500960" y="1632600"/>
              <a:ext cx="13240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6" descr="小女孩4.png"/>
            <p:cNvPicPr/>
            <p:nvPr/>
          </p:nvPicPr>
          <p:blipFill>
            <a:blip r:embed="rId3"/>
            <a:stretch/>
          </p:blipFill>
          <p:spPr>
            <a:xfrm>
              <a:off x="7686720" y="4346640"/>
              <a:ext cx="145728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组合 11"/>
          <p:cNvGrpSpPr/>
          <p:nvPr/>
        </p:nvGrpSpPr>
        <p:grpSpPr>
          <a:xfrm>
            <a:off x="285840" y="4572000"/>
            <a:ext cx="7358040" cy="1843200"/>
            <a:chOff x="285840" y="4572000"/>
            <a:chExt cx="7358040" cy="1843200"/>
          </a:xfrm>
        </p:grpSpPr>
        <p:pic>
          <p:nvPicPr>
            <p:cNvPr id="92" name="图片 9" descr="小老鼠6.png"/>
            <p:cNvPicPr/>
            <p:nvPr/>
          </p:nvPicPr>
          <p:blipFill>
            <a:blip r:embed="rId4"/>
            <a:stretch/>
          </p:blipFill>
          <p:spPr>
            <a:xfrm>
              <a:off x="285840" y="4572000"/>
              <a:ext cx="152928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云形标注 10"/>
            <p:cNvSpPr/>
            <p:nvPr/>
          </p:nvSpPr>
          <p:spPr>
            <a:xfrm>
              <a:off x="1928520" y="4644000"/>
              <a:ext cx="5715360" cy="1428840"/>
            </a:xfrm>
            <a:prstGeom prst="cloudCallout">
              <a:avLst>
                <a:gd name="adj1" fmla="val -56231"/>
                <a:gd name="adj2" fmla="val -15652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估计一下，郑州和青岛哪个城市到北京的铁路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285840" y="50148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答下面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717480" y="1073160"/>
            <a:ext cx="78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列快速客车从北京发车，平均每小时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行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2652840" y="2001960"/>
            <a:ext cx="4348080" cy="581400"/>
            <a:chOff x="2652840" y="2001960"/>
            <a:chExt cx="4348080" cy="581400"/>
          </a:xfrm>
        </p:grpSpPr>
        <p:sp>
          <p:nvSpPr>
            <p:cNvPr id="97" name="TextBox 3"/>
            <p:cNvSpPr/>
            <p:nvPr/>
          </p:nvSpPr>
          <p:spPr>
            <a:xfrm>
              <a:off x="2652840" y="2001960"/>
              <a:ext cx="434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8×5=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千米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"/>
            <p:cNvSpPr/>
            <p:nvPr/>
          </p:nvSpPr>
          <p:spPr>
            <a:xfrm>
              <a:off x="4152240" y="2001960"/>
              <a:ext cx="1071360" cy="571320"/>
            </a:xfrm>
            <a:prstGeom prst="rect">
              <a:avLst/>
            </a:prstGeom>
            <a:noFill/>
            <a:ln w="25560">
              <a:solidFill>
                <a:srgbClr val="558e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6"/>
          <p:cNvSpPr/>
          <p:nvPr/>
        </p:nvSpPr>
        <p:spPr>
          <a:xfrm>
            <a:off x="758880" y="271620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列普通客车从北京出发，平均每小时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行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"/>
          <p:cNvGrpSpPr/>
          <p:nvPr/>
        </p:nvGrpSpPr>
        <p:grpSpPr>
          <a:xfrm>
            <a:off x="2878200" y="3643200"/>
            <a:ext cx="4348080" cy="581400"/>
            <a:chOff x="2878200" y="3643200"/>
            <a:chExt cx="4348080" cy="581400"/>
          </a:xfrm>
        </p:grpSpPr>
        <p:sp>
          <p:nvSpPr>
            <p:cNvPr id="101" name="TextBox 8"/>
            <p:cNvSpPr/>
            <p:nvPr/>
          </p:nvSpPr>
          <p:spPr>
            <a:xfrm>
              <a:off x="2878200" y="3643200"/>
              <a:ext cx="434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8×7=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千米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9"/>
            <p:cNvSpPr/>
            <p:nvPr/>
          </p:nvSpPr>
          <p:spPr>
            <a:xfrm>
              <a:off x="4143960" y="3643200"/>
              <a:ext cx="1071360" cy="571680"/>
            </a:xfrm>
            <a:prstGeom prst="rect">
              <a:avLst/>
            </a:prstGeom>
            <a:noFill/>
            <a:ln w="25560">
              <a:solidFill>
                <a:srgbClr val="558e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10"/>
          <p:cNvSpPr/>
          <p:nvPr/>
        </p:nvSpPr>
        <p:spPr>
          <a:xfrm>
            <a:off x="358920" y="435924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上面的问题中，火车每小时行的千米数，称为速度，一共行驶的千米数，称为路程。速度、时间和路程有下面的数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2716200" y="5715000"/>
            <a:ext cx="3643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速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路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4214880" y="20019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214880" y="3643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矩形 1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1886040" cy="708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6000" y="128736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已知路程和速度，怎样求行驶的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5"/>
          <p:cNvGrpSpPr/>
          <p:nvPr/>
        </p:nvGrpSpPr>
        <p:grpSpPr>
          <a:xfrm>
            <a:off x="5464080" y="2347920"/>
            <a:ext cx="3529080" cy="3040200"/>
            <a:chOff x="5464080" y="2347920"/>
            <a:chExt cx="3529080" cy="3040200"/>
          </a:xfrm>
        </p:grpSpPr>
        <p:pic>
          <p:nvPicPr>
            <p:cNvPr id="110" name="图片 3" descr="小青蛙2.png"/>
            <p:cNvPicPr/>
            <p:nvPr/>
          </p:nvPicPr>
          <p:blipFill>
            <a:blip r:embed="rId2"/>
            <a:stretch/>
          </p:blipFill>
          <p:spPr>
            <a:xfrm>
              <a:off x="7182720" y="3578040"/>
              <a:ext cx="1810440" cy="18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云形标注 4"/>
            <p:cNvSpPr/>
            <p:nvPr/>
          </p:nvSpPr>
          <p:spPr>
            <a:xfrm>
              <a:off x="5464080" y="2347920"/>
              <a:ext cx="2918160" cy="1205280"/>
            </a:xfrm>
            <a:prstGeom prst="cloudCallout">
              <a:avLst>
                <a:gd name="adj1" fmla="val 22865"/>
                <a:gd name="adj2" fmla="val 75074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举出例子说明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6"/>
          <p:cNvSpPr/>
          <p:nvPr/>
        </p:nvSpPr>
        <p:spPr>
          <a:xfrm>
            <a:off x="428760" y="2001960"/>
            <a:ext cx="492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：已知甲地到乙地的距离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8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，一列客车以平均每小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的速度从甲地开往乙地。行驶几个小时能到达乙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341440" y="458136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速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路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344680" y="514836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86÷98=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小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14240" y="574200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行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小时能到达乙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1T06:37:34Z</dcterms:created>
  <dc:creator>User</dc:creator>
  <dc:description/>
  <dc:language>en-US</dc:language>
  <cp:lastModifiedBy>Microsoft</cp:lastModifiedBy>
  <dcterms:modified xsi:type="dcterms:W3CDTF">2017-03-22T11:12:54Z</dcterms:modified>
  <cp:revision>3</cp:revision>
  <dc:subject/>
  <dc:title>幻灯片 1</dc:title>
</cp:coreProperties>
</file>