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1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glass.wav" ContentType="audio/x-wav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A84-B0D6-4DF0-B42C-DF4F933C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B10-185F-44A5-B38E-9140F1D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865-8B16-4791-9DFB-58ADF8D5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F78-9945-4EFC-9631-8F186F02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094-F581-4EBD-9080-7C6485C8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324-A405-4CB8-8D81-AD19F0D5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6DC-11D0-464D-9FCA-AB086E01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C3C-123F-4724-A82F-BABB1E42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BCE-D429-4300-A353-046DCB13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841-4B3A-46BE-947A-187F3D5D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CA9-336E-4276-920B-E5948AC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1EB-0FB3-48B3-BC11-CD78EA12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CD23-BB45-4AAE-B17F-AD589CAC57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956160" y="1901880"/>
            <a:ext cx="3634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多边形的认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4606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平 行 四 边 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217520" y="635040"/>
            <a:ext cx="6553440" cy="3343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552600" y="4094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门可以伸缩，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351320" y="4221000"/>
            <a:ext cx="4586400" cy="2135520"/>
          </a:xfrm>
          <a:prstGeom prst="cloudCallout">
            <a:avLst>
              <a:gd name="adj1" fmla="val -46574"/>
              <a:gd name="adj2" fmla="val 22328"/>
            </a:avLst>
          </a:prstGeom>
          <a:solidFill>
            <a:srgbClr val="ffff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为门上的那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四边形可以拉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变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1771560"/>
            <a:ext cx="8820000" cy="28749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1042920" y="4363920"/>
            <a:ext cx="1368360" cy="1383840"/>
            <a:chOff x="1042920" y="4363920"/>
            <a:chExt cx="1368360" cy="1383840"/>
          </a:xfrm>
        </p:grpSpPr>
        <p:sp>
          <p:nvSpPr>
            <p:cNvPr id="122" name="Line 4"/>
            <p:cNvSpPr/>
            <p:nvPr/>
          </p:nvSpPr>
          <p:spPr>
            <a:xfrm flipV="1">
              <a:off x="1690560" y="4363920"/>
              <a:ext cx="0" cy="8632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1042920" y="5227200"/>
              <a:ext cx="1368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拉不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3564000" y="4290480"/>
            <a:ext cx="1728720" cy="1384560"/>
            <a:chOff x="3564000" y="4290480"/>
            <a:chExt cx="1728720" cy="1384560"/>
          </a:xfrm>
        </p:grpSpPr>
        <p:sp>
          <p:nvSpPr>
            <p:cNvPr id="125" name="Line 7"/>
            <p:cNvSpPr/>
            <p:nvPr/>
          </p:nvSpPr>
          <p:spPr>
            <a:xfrm flipV="1">
              <a:off x="4427640" y="4290480"/>
              <a:ext cx="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3564000" y="5154480"/>
              <a:ext cx="172872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可以拉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7236000" y="4219200"/>
            <a:ext cx="1368360" cy="1384560"/>
            <a:chOff x="7236000" y="4219200"/>
            <a:chExt cx="1368360" cy="1384560"/>
          </a:xfrm>
        </p:grpSpPr>
        <p:sp>
          <p:nvSpPr>
            <p:cNvPr id="128" name="Line 10"/>
            <p:cNvSpPr/>
            <p:nvPr/>
          </p:nvSpPr>
          <p:spPr>
            <a:xfrm flipV="1">
              <a:off x="7954920" y="4219200"/>
              <a:ext cx="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236000" y="5083200"/>
              <a:ext cx="1368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拉不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2"/>
          <p:cNvSpPr/>
          <p:nvPr/>
        </p:nvSpPr>
        <p:spPr>
          <a:xfrm>
            <a:off x="2484360" y="1793880"/>
            <a:ext cx="98100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平行四边形很容易拉动，不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52360" y="1341360"/>
            <a:ext cx="57636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三角形拉不动，很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5715000" y="1650960"/>
            <a:ext cx="936720" cy="2653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在平行四边形中钉根木条会怎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6983280" y="549360"/>
            <a:ext cx="2160720" cy="1224000"/>
          </a:xfrm>
          <a:prstGeom prst="cloudCallout">
            <a:avLst>
              <a:gd name="adj1" fmla="val 37"/>
              <a:gd name="adj2" fmla="val 5242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351a"/>
                </a:solidFill>
                <a:latin typeface="宋体"/>
              </a:rPr>
              <a:t>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857240" y="1071720"/>
            <a:ext cx="44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动动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下面的方法剪一个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611280" y="2438280"/>
            <a:ext cx="7902360" cy="154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1280" y="4179960"/>
            <a:ext cx="790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808360" y="692280"/>
            <a:ext cx="60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mage011"/>
          <p:cNvPicPr/>
          <p:nvPr/>
        </p:nvPicPr>
        <p:blipFill>
          <a:blip r:embed="rId1"/>
          <a:srcRect l="49204" t="9561" r="0" b="0"/>
          <a:stretch/>
        </p:blipFill>
        <p:spPr>
          <a:xfrm>
            <a:off x="2050920" y="3227400"/>
            <a:ext cx="4248360" cy="1974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258920" y="1989000"/>
            <a:ext cx="72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数一数下图中有（ ）个平行四边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未标题-1"/>
          <p:cNvPicPr/>
          <p:nvPr/>
        </p:nvPicPr>
        <p:blipFill>
          <a:blip r:embed="rId1"/>
          <a:stretch/>
        </p:blipFill>
        <p:spPr>
          <a:xfrm>
            <a:off x="2290680" y="266688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4067280" y="836640"/>
            <a:ext cx="1296720" cy="1297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274920" y="2925720"/>
            <a:ext cx="1368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6156360" y="2852640"/>
            <a:ext cx="158436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755640" y="981000"/>
            <a:ext cx="1943280" cy="863640"/>
          </a:xfrm>
          <a:prstGeom prst="parallelogram">
            <a:avLst>
              <a:gd name="adj" fmla="val 562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122560" y="5086440"/>
            <a:ext cx="172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6012000" y="1125360"/>
            <a:ext cx="216036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5364000" y="4941720"/>
            <a:ext cx="1656000" cy="1224000"/>
          </a:xfrm>
          <a:prstGeom prst="hexagon">
            <a:avLst>
              <a:gd name="adj" fmla="val 3382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826920" y="2852640"/>
            <a:ext cx="1511640" cy="13683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755640" y="981000"/>
            <a:ext cx="1943280" cy="863640"/>
          </a:xfrm>
          <a:prstGeom prst="parallelogram">
            <a:avLst>
              <a:gd name="adj" fmla="val 56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6012000" y="1125360"/>
            <a:ext cx="2160360" cy="100836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3274920" y="2925720"/>
            <a:ext cx="1368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6156360" y="2852640"/>
            <a:ext cx="158436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2122560" y="5086440"/>
            <a:ext cx="172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463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2700360" y="2708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长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700360" y="4365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正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00720" y="24782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有四条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572000" y="299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对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500720" y="3789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有四条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716360" y="443700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四条边都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79292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6553080" y="2479680"/>
            <a:ext cx="20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有四个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6730920" y="2924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都是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6732720" y="46386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都是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6516720" y="391968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有四个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214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长方形对边相等。      （    ）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四边相等的四边形一定是正方形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               （    ）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正方形是特殊的长方形。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716960" y="33066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84280" y="18892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717680" y="38606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14200" y="50148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找出下面物体中的平行四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2" descr="QQ截图20150203155931.png"/>
          <p:cNvPicPr/>
          <p:nvPr/>
        </p:nvPicPr>
        <p:blipFill>
          <a:blip r:embed="rId1"/>
          <a:stretch/>
        </p:blipFill>
        <p:spPr>
          <a:xfrm>
            <a:off x="571680" y="1000080"/>
            <a:ext cx="3132000" cy="21430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QQ截图20150203155959.png"/>
          <p:cNvPicPr/>
          <p:nvPr/>
        </p:nvPicPr>
        <p:blipFill>
          <a:blip r:embed="rId2"/>
          <a:stretch/>
        </p:blipFill>
        <p:spPr>
          <a:xfrm>
            <a:off x="6784920" y="3071880"/>
            <a:ext cx="2359080" cy="2071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QQ截图20150203155939.png"/>
          <p:cNvPicPr/>
          <p:nvPr/>
        </p:nvPicPr>
        <p:blipFill>
          <a:blip r:embed="rId3"/>
          <a:stretch/>
        </p:blipFill>
        <p:spPr>
          <a:xfrm>
            <a:off x="4643280" y="1143000"/>
            <a:ext cx="36417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79" name="组合 8"/>
          <p:cNvGrpSpPr/>
          <p:nvPr/>
        </p:nvGrpSpPr>
        <p:grpSpPr>
          <a:xfrm>
            <a:off x="214200" y="3357720"/>
            <a:ext cx="5929560" cy="2286000"/>
            <a:chOff x="214200" y="3357720"/>
            <a:chExt cx="5929560" cy="2286000"/>
          </a:xfrm>
        </p:grpSpPr>
        <p:pic>
          <p:nvPicPr>
            <p:cNvPr id="80" name="图片 6" descr="小兔子1.png"/>
            <p:cNvPicPr/>
            <p:nvPr/>
          </p:nvPicPr>
          <p:blipFill>
            <a:blip r:embed="rId4"/>
            <a:stretch/>
          </p:blipFill>
          <p:spPr>
            <a:xfrm>
              <a:off x="214200" y="3500280"/>
              <a:ext cx="14241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云形标注 7"/>
            <p:cNvSpPr/>
            <p:nvPr/>
          </p:nvSpPr>
          <p:spPr>
            <a:xfrm>
              <a:off x="1571400" y="3357720"/>
              <a:ext cx="4572360" cy="1357200"/>
            </a:xfrm>
            <a:prstGeom prst="cloudCallout">
              <a:avLst>
                <a:gd name="adj1" fmla="val -54101"/>
                <a:gd name="adj2" fmla="val 31185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这些物体有什么共同特点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0"/>
          <p:cNvSpPr/>
          <p:nvPr/>
        </p:nvSpPr>
        <p:spPr>
          <a:xfrm>
            <a:off x="1214280" y="30481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伸缩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715000" y="27147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扩缩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7286760" y="507204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升降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4"/>
          <p:cNvGrpSpPr/>
          <p:nvPr/>
        </p:nvGrpSpPr>
        <p:grpSpPr>
          <a:xfrm>
            <a:off x="1357200" y="4786200"/>
            <a:ext cx="6000840" cy="1785960"/>
            <a:chOff x="1357200" y="4786200"/>
            <a:chExt cx="6000840" cy="1785960"/>
          </a:xfrm>
        </p:grpSpPr>
        <p:pic>
          <p:nvPicPr>
            <p:cNvPr id="86" name="图片 9" descr="小男孩2.png"/>
            <p:cNvPicPr/>
            <p:nvPr/>
          </p:nvPicPr>
          <p:blipFill>
            <a:blip r:embed="rId5"/>
            <a:stretch/>
          </p:blipFill>
          <p:spPr>
            <a:xfrm>
              <a:off x="1357200" y="4857480"/>
              <a:ext cx="13114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云形标注 13"/>
            <p:cNvSpPr/>
            <p:nvPr/>
          </p:nvSpPr>
          <p:spPr>
            <a:xfrm>
              <a:off x="2786040" y="4786200"/>
              <a:ext cx="4572000" cy="1357560"/>
            </a:xfrm>
            <a:prstGeom prst="cloudCallout">
              <a:avLst>
                <a:gd name="adj1" fmla="val -54101"/>
                <a:gd name="adj2" fmla="val 31185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这些物体都是可以变形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3"/>
          <p:cNvGrpSpPr/>
          <p:nvPr/>
        </p:nvGrpSpPr>
        <p:grpSpPr>
          <a:xfrm>
            <a:off x="1692360" y="1268280"/>
            <a:ext cx="6643440" cy="1857600"/>
            <a:chOff x="1692360" y="1268280"/>
            <a:chExt cx="6643440" cy="1857600"/>
          </a:xfrm>
        </p:grpSpPr>
        <p:pic>
          <p:nvPicPr>
            <p:cNvPr id="89" name="图片 1" descr="小青蛙2.png"/>
            <p:cNvPicPr/>
            <p:nvPr/>
          </p:nvPicPr>
          <p:blipFill>
            <a:blip r:embed="rId1"/>
            <a:stretch/>
          </p:blipFill>
          <p:spPr>
            <a:xfrm>
              <a:off x="6549840" y="1339560"/>
              <a:ext cx="1785960" cy="17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云形标注 2"/>
            <p:cNvSpPr/>
            <p:nvPr/>
          </p:nvSpPr>
          <p:spPr>
            <a:xfrm>
              <a:off x="1692360" y="1268280"/>
              <a:ext cx="4572000" cy="1214640"/>
            </a:xfrm>
            <a:prstGeom prst="cloudCallout">
              <a:avLst>
                <a:gd name="adj1" fmla="val 60736"/>
                <a:gd name="adj2" fmla="val 23898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平行四边形具有不稳定性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214200" y="64440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组合作，总结正方形、长方形和平行四边形的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57120" y="2016000"/>
          <a:ext cx="8429760" cy="2787840"/>
        </p:xfrm>
        <a:graphic>
          <a:graphicData uri="http://schemas.openxmlformats.org/drawingml/2006/table">
            <a:tbl>
              <a:tblPr/>
              <a:tblGrid>
                <a:gridCol w="928800"/>
                <a:gridCol w="2643120"/>
                <a:gridCol w="2295720"/>
                <a:gridCol w="2562120"/>
              </a:tblGrid>
              <a:tr h="898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行四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1357200" y="2976480"/>
            <a:ext cx="25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四条边都相等，且对边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071960" y="29764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对边平行且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6500880" y="290520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对边平行且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285920" y="41194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四个角均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3857760" y="41194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四个角均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6500880" y="39052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两组对角分别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14200" y="521640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议一议：正方形、长方形和平行四边形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8"/>
          <p:cNvGrpSpPr/>
          <p:nvPr/>
        </p:nvGrpSpPr>
        <p:grpSpPr>
          <a:xfrm>
            <a:off x="1857240" y="1146240"/>
            <a:ext cx="5857920" cy="2286000"/>
            <a:chOff x="1857240" y="1146240"/>
            <a:chExt cx="5857920" cy="2286000"/>
          </a:xfrm>
        </p:grpSpPr>
        <p:grpSp>
          <p:nvGrpSpPr>
            <p:cNvPr id="101" name="组合 4"/>
            <p:cNvGrpSpPr/>
            <p:nvPr/>
          </p:nvGrpSpPr>
          <p:grpSpPr>
            <a:xfrm>
              <a:off x="1857240" y="1146240"/>
              <a:ext cx="5857920" cy="2286000"/>
              <a:chOff x="1857240" y="1146240"/>
              <a:chExt cx="5857920" cy="2286000"/>
            </a:xfrm>
          </p:grpSpPr>
          <p:sp>
            <p:nvSpPr>
              <p:cNvPr id="102" name="椭圆 3"/>
              <p:cNvSpPr/>
              <p:nvPr/>
            </p:nvSpPr>
            <p:spPr>
              <a:xfrm>
                <a:off x="1857240" y="1146240"/>
                <a:ext cx="5857920" cy="228600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2"/>
              <p:cNvSpPr/>
              <p:nvPr/>
            </p:nvSpPr>
            <p:spPr>
              <a:xfrm>
                <a:off x="3286080" y="1860480"/>
                <a:ext cx="4214880" cy="1143000"/>
              </a:xfrm>
              <a:prstGeom prst="ellipse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椭圆 1"/>
              <p:cNvSpPr/>
              <p:nvPr/>
            </p:nvSpPr>
            <p:spPr>
              <a:xfrm>
                <a:off x="5000400" y="2146320"/>
                <a:ext cx="1857240" cy="5713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5"/>
            <p:cNvSpPr/>
            <p:nvPr/>
          </p:nvSpPr>
          <p:spPr>
            <a:xfrm>
              <a:off x="5286240" y="2146320"/>
              <a:ext cx="13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正方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6"/>
            <p:cNvSpPr/>
            <p:nvPr/>
          </p:nvSpPr>
          <p:spPr>
            <a:xfrm>
              <a:off x="3714480" y="2146320"/>
              <a:ext cx="13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长方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7"/>
            <p:cNvSpPr/>
            <p:nvPr/>
          </p:nvSpPr>
          <p:spPr>
            <a:xfrm>
              <a:off x="2785680" y="1360440"/>
              <a:ext cx="24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平行四边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"/>
          <p:cNvGrpSpPr/>
          <p:nvPr/>
        </p:nvGrpSpPr>
        <p:grpSpPr>
          <a:xfrm>
            <a:off x="1320840" y="3718080"/>
            <a:ext cx="7251840" cy="2076120"/>
            <a:chOff x="1320840" y="3718080"/>
            <a:chExt cx="7251840" cy="2076120"/>
          </a:xfrm>
        </p:grpSpPr>
        <p:pic>
          <p:nvPicPr>
            <p:cNvPr id="109" name="图片 9" descr="小兔子6.png"/>
            <p:cNvPicPr/>
            <p:nvPr/>
          </p:nvPicPr>
          <p:blipFill>
            <a:blip r:embed="rId1"/>
            <a:stretch/>
          </p:blipFill>
          <p:spPr>
            <a:xfrm>
              <a:off x="7072560" y="3718080"/>
              <a:ext cx="1500120" cy="20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云形标注 10"/>
            <p:cNvSpPr/>
            <p:nvPr/>
          </p:nvSpPr>
          <p:spPr>
            <a:xfrm>
              <a:off x="1320840" y="4218120"/>
              <a:ext cx="5499360" cy="1428480"/>
            </a:xfrm>
            <a:prstGeom prst="cloudCallout">
              <a:avLst>
                <a:gd name="adj1" fmla="val 56018"/>
                <a:gd name="adj2" fmla="val -29444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正方形和长方形都是特殊的平行四边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74200" y="618840"/>
            <a:ext cx="86360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．四边形是由四条线段围成的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．正方形和平行四边形的四条边都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３．平行四边形容易变形。         （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４．三角形容易变形 。                 （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５．平行四边形的四个角不一定是直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 rot="840000">
            <a:off x="7454520" y="1746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519320" y="30592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 rot="1080000">
            <a:off x="7449480" y="373644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570080" y="43815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 rot="720000">
            <a:off x="7549920" y="571140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9T08:31:0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