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FE7B-ECE1-4764-A613-79BA459B7F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B81-358B-4770-A842-F79FEADCC1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1912-D8E6-4B6F-AD35-CAFE31E5A9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7BF5-AE94-4965-BE42-5AB0CD4CD0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D675-6EB0-4444-84C9-172609C3A6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B5F-2DA8-4B7E-8550-D9BF6235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FDE-49A1-411A-8077-89FEC76A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279-A4C1-45AD-8C85-2402B8F3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117-AFFF-47F9-B3B5-765A9E15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237-7668-4197-AEB1-5F984243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58B-6916-4952-97A1-864E6B6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B783-7B84-4573-814E-775E977C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0FDC-D939-4BFC-91BB-8D6D507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DD72-2646-4985-960C-6E14ACB9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1ED-1721-4904-BA64-48B6CD8D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C3AD-1531-4D4D-BAD3-C1986C3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FD9-ABCC-4F9B-AA0C-54AFE76E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7C5-7E6C-497D-8980-DD66A39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E04D-56A1-4E40-B525-898D1FB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651-6CC3-4CEE-9A2D-6020F7D7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E45-1375-4126-9862-89F21F5F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720-0801-4FC1-97C6-DA75D7E7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6C6-6F68-4412-B17A-8068929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561-BF5D-442C-87A4-781CA41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DAA-2693-4AC7-B22A-34ADE6B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F91-D0A4-43E4-A3C2-D1C405FC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7E7-251C-4616-A743-4CC2C41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69B-AFE6-4FFB-A297-85E64C9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730-B433-4182-87EC-14F6FFE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CAC7-D7BC-4B22-9A3E-6099C9F19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135-CF5A-473D-B117-D519191F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956160" y="1901880"/>
            <a:ext cx="3634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多边形的认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757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组 合 图 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371600" y="2270160"/>
            <a:ext cx="4724280" cy="232560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>
            <a:off x="5715000" y="28036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400800" y="23464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5638680" y="409896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324480" y="36417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4572000" y="43275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76720" y="5089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四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29528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个图形是个长方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590920" y="42512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905120" y="508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9"/>
          <p:cNvGrpSpPr/>
          <p:nvPr/>
        </p:nvGrpSpPr>
        <p:grpSpPr>
          <a:xfrm>
            <a:off x="1447920" y="2270160"/>
            <a:ext cx="3504960" cy="2301840"/>
            <a:chOff x="1447920" y="2270160"/>
            <a:chExt cx="3504960" cy="2301840"/>
          </a:xfrm>
        </p:grpSpPr>
        <p:grpSp>
          <p:nvGrpSpPr>
            <p:cNvPr id="174" name="Group 15"/>
            <p:cNvGrpSpPr/>
            <p:nvPr/>
          </p:nvGrpSpPr>
          <p:grpSpPr>
            <a:xfrm>
              <a:off x="1447920" y="2270160"/>
              <a:ext cx="3504960" cy="2301840"/>
              <a:chOff x="1447920" y="2270160"/>
              <a:chExt cx="3504960" cy="2301840"/>
            </a:xfrm>
          </p:grpSpPr>
          <p:sp>
            <p:nvSpPr>
              <p:cNvPr id="175" name="Line 12"/>
              <p:cNvSpPr/>
              <p:nvPr/>
            </p:nvSpPr>
            <p:spPr>
              <a:xfrm flipH="1">
                <a:off x="1447920" y="4556160"/>
                <a:ext cx="2286000" cy="15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3733920" y="2270160"/>
                <a:ext cx="1218960" cy="1143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 flipH="1">
                <a:off x="3733920" y="3337200"/>
                <a:ext cx="121896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14"/>
            <p:cNvSpPr/>
            <p:nvPr/>
          </p:nvSpPr>
          <p:spPr>
            <a:xfrm flipH="1">
              <a:off x="1447920" y="2286000"/>
              <a:ext cx="228600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1920" y="264276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学们还能拼出哪些有趣的图形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未标题-1"/>
          <p:cNvPicPr/>
          <p:nvPr/>
        </p:nvPicPr>
        <p:blipFill>
          <a:blip r:embed="rId1"/>
          <a:stretch/>
        </p:blipFill>
        <p:spPr>
          <a:xfrm>
            <a:off x="2290680" y="266688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4932360" y="4645080"/>
          <a:ext cx="30970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645080"/>
                    <a:ext cx="30970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3"/>
          <p:cNvGraphicFramePr/>
          <p:nvPr/>
        </p:nvGraphicFramePr>
        <p:xfrm>
          <a:off x="826920" y="1905120"/>
          <a:ext cx="215136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905120"/>
                    <a:ext cx="215136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4"/>
          <p:cNvGraphicFramePr/>
          <p:nvPr/>
        </p:nvGraphicFramePr>
        <p:xfrm>
          <a:off x="6372360" y="1895400"/>
          <a:ext cx="2087280" cy="23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1895400"/>
                    <a:ext cx="208728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654120" y="4325760"/>
          <a:ext cx="3657600" cy="197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120" y="4325760"/>
                    <a:ext cx="365760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6" descr="热带鱼1"/>
          <p:cNvPicPr/>
          <p:nvPr/>
        </p:nvPicPr>
        <p:blipFill>
          <a:blip r:embed="rId9"/>
          <a:stretch/>
        </p:blipFill>
        <p:spPr>
          <a:xfrm>
            <a:off x="4008600" y="1969920"/>
            <a:ext cx="1633320" cy="250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6"/>
          <p:cNvGraphicFramePr/>
          <p:nvPr/>
        </p:nvGraphicFramePr>
        <p:xfrm>
          <a:off x="179280" y="587520"/>
          <a:ext cx="1095480" cy="11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9280" y="587520"/>
                    <a:ext cx="109548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8"/>
          <p:cNvSpPr/>
          <p:nvPr/>
        </p:nvSpPr>
        <p:spPr>
          <a:xfrm>
            <a:off x="1692360" y="57456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生活中的组合图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2195640" y="836640"/>
          <a:ext cx="44542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836640"/>
                    <a:ext cx="44542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2268360" y="692280"/>
          <a:ext cx="4511880" cy="540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692280"/>
                    <a:ext cx="45118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2268360" y="1341360"/>
          <a:ext cx="4608720" cy="408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1341360"/>
                    <a:ext cx="460872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5"/>
          <p:cNvGraphicFramePr/>
          <p:nvPr/>
        </p:nvGraphicFramePr>
        <p:xfrm>
          <a:off x="1908000" y="765000"/>
          <a:ext cx="4857840" cy="504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765000"/>
                    <a:ext cx="485784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023920" y="492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下面的国旗中找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t01e3acef7c20a47f9c.png"/>
          <p:cNvPicPr/>
          <p:nvPr/>
        </p:nvPicPr>
        <p:blipFill>
          <a:blip r:embed="rId1"/>
          <a:stretch/>
        </p:blipFill>
        <p:spPr>
          <a:xfrm>
            <a:off x="5143680" y="4214880"/>
            <a:ext cx="328896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t01e088fdfb2a045264.png"/>
          <p:cNvPicPr/>
          <p:nvPr/>
        </p:nvPicPr>
        <p:blipFill>
          <a:blip r:embed="rId2"/>
          <a:stretch/>
        </p:blipFill>
        <p:spPr>
          <a:xfrm>
            <a:off x="500040" y="3929040"/>
            <a:ext cx="2928960" cy="20494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t01f4e965c70c3d523f.png"/>
          <p:cNvPicPr/>
          <p:nvPr/>
        </p:nvPicPr>
        <p:blipFill>
          <a:blip r:embed="rId3"/>
          <a:stretch/>
        </p:blipFill>
        <p:spPr>
          <a:xfrm>
            <a:off x="500040" y="1428840"/>
            <a:ext cx="2870280" cy="2044440"/>
          </a:xfrm>
          <a:prstGeom prst="rect">
            <a:avLst/>
          </a:prstGeom>
          <a:ln w="0">
            <a:noFill/>
          </a:ln>
        </p:spPr>
      </p:pic>
      <p:sp>
        <p:nvSpPr>
          <p:cNvPr id="118" name="矩形 11"/>
          <p:cNvSpPr/>
          <p:nvPr/>
        </p:nvSpPr>
        <p:spPr>
          <a:xfrm>
            <a:off x="571680" y="1357200"/>
            <a:ext cx="278604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928800" y="32148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俄罗斯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33577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捷克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143000" y="60721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巴西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5929200" y="6000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科威特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3"/>
          <p:cNvGrpSpPr/>
          <p:nvPr/>
        </p:nvGrpSpPr>
        <p:grpSpPr>
          <a:xfrm>
            <a:off x="5000760" y="1231920"/>
            <a:ext cx="3286080" cy="2054160"/>
            <a:chOff x="5000760" y="1231920"/>
            <a:chExt cx="3286080" cy="2054160"/>
          </a:xfrm>
        </p:grpSpPr>
        <p:pic>
          <p:nvPicPr>
            <p:cNvPr id="124" name="图片 2" descr="t016d72ba036b3eff34.png"/>
            <p:cNvPicPr/>
            <p:nvPr/>
          </p:nvPicPr>
          <p:blipFill>
            <a:blip r:embed="rId4"/>
            <a:stretch/>
          </p:blipFill>
          <p:spPr>
            <a:xfrm>
              <a:off x="5000760" y="1231920"/>
              <a:ext cx="328608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直接连接符 17"/>
            <p:cNvSpPr/>
            <p:nvPr/>
          </p:nvSpPr>
          <p:spPr>
            <a:xfrm>
              <a:off x="5214960" y="1285560"/>
              <a:ext cx="285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20"/>
            <p:cNvSpPr/>
            <p:nvPr/>
          </p:nvSpPr>
          <p:spPr>
            <a:xfrm flipH="1">
              <a:off x="8071200" y="1285560"/>
              <a:ext cx="2880" cy="10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3"/>
          <p:cNvGrpSpPr/>
          <p:nvPr/>
        </p:nvGrpSpPr>
        <p:grpSpPr>
          <a:xfrm>
            <a:off x="642960" y="633240"/>
            <a:ext cx="7858080" cy="1705320"/>
            <a:chOff x="642960" y="633240"/>
            <a:chExt cx="7858080" cy="1705320"/>
          </a:xfrm>
        </p:grpSpPr>
        <p:pic>
          <p:nvPicPr>
            <p:cNvPr id="128" name="图片 1" descr="小兔子11.png"/>
            <p:cNvPicPr/>
            <p:nvPr/>
          </p:nvPicPr>
          <p:blipFill>
            <a:blip r:embed="rId1"/>
            <a:stretch/>
          </p:blipFill>
          <p:spPr>
            <a:xfrm>
              <a:off x="642960" y="633240"/>
              <a:ext cx="1266840" cy="17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云形标注 2"/>
            <p:cNvSpPr/>
            <p:nvPr/>
          </p:nvSpPr>
          <p:spPr>
            <a:xfrm>
              <a:off x="2357280" y="704520"/>
              <a:ext cx="6143760" cy="1000440"/>
            </a:xfrm>
            <a:prstGeom prst="cloudCallout">
              <a:avLst>
                <a:gd name="adj1" fmla="val -55819"/>
                <a:gd name="adj2" fmla="val 18921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上面的国旗图案都是由简单图形组合成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图片 5" descr="t012e6084b77ea0156b.png"/>
          <p:cNvPicPr/>
          <p:nvPr/>
        </p:nvPicPr>
        <p:blipFill>
          <a:blip r:embed="rId2"/>
          <a:stretch/>
        </p:blipFill>
        <p:spPr>
          <a:xfrm>
            <a:off x="500040" y="2500200"/>
            <a:ext cx="307188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7"/>
          <p:cNvGrpSpPr/>
          <p:nvPr/>
        </p:nvGrpSpPr>
        <p:grpSpPr>
          <a:xfrm>
            <a:off x="3571920" y="1928880"/>
            <a:ext cx="5410080" cy="3119400"/>
            <a:chOff x="3571920" y="1928880"/>
            <a:chExt cx="5410080" cy="3119400"/>
          </a:xfrm>
        </p:grpSpPr>
        <p:pic>
          <p:nvPicPr>
            <p:cNvPr id="132" name="图片 4" descr="小女孩3.png"/>
            <p:cNvPicPr/>
            <p:nvPr/>
          </p:nvPicPr>
          <p:blipFill>
            <a:blip r:embed="rId3"/>
            <a:stretch/>
          </p:blipFill>
          <p:spPr>
            <a:xfrm>
              <a:off x="7429320" y="3142800"/>
              <a:ext cx="1552680" cy="19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云形标注 6"/>
            <p:cNvSpPr/>
            <p:nvPr/>
          </p:nvSpPr>
          <p:spPr>
            <a:xfrm>
              <a:off x="3571920" y="1928880"/>
              <a:ext cx="4857840" cy="1785960"/>
            </a:xfrm>
            <a:prstGeom prst="cloudCallout">
              <a:avLst>
                <a:gd name="adj1" fmla="val 29490"/>
                <a:gd name="adj2" fmla="val 65171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们的队旗也可以看作是由简单图形组合成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3"/>
          <p:cNvSpPr/>
          <p:nvPr/>
        </p:nvSpPr>
        <p:spPr>
          <a:xfrm>
            <a:off x="285840" y="508788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071800" y="514368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少先队队旗可以看作是由哪些简单图形组合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3"/>
          <p:cNvGrpSpPr/>
          <p:nvPr/>
        </p:nvGrpSpPr>
        <p:grpSpPr>
          <a:xfrm>
            <a:off x="214200" y="285840"/>
            <a:ext cx="4857840" cy="2930400"/>
            <a:chOff x="214200" y="285840"/>
            <a:chExt cx="4857840" cy="2930400"/>
          </a:xfrm>
        </p:grpSpPr>
        <p:pic>
          <p:nvPicPr>
            <p:cNvPr id="137" name="图片 1" descr="小女孩2.png"/>
            <p:cNvPicPr/>
            <p:nvPr/>
          </p:nvPicPr>
          <p:blipFill>
            <a:blip r:embed="rId1"/>
            <a:stretch/>
          </p:blipFill>
          <p:spPr>
            <a:xfrm>
              <a:off x="214200" y="1571400"/>
              <a:ext cx="135720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云形标注 2"/>
            <p:cNvSpPr/>
            <p:nvPr/>
          </p:nvSpPr>
          <p:spPr>
            <a:xfrm>
              <a:off x="642600" y="285840"/>
              <a:ext cx="4429440" cy="1571400"/>
            </a:xfrm>
            <a:prstGeom prst="cloudCallout">
              <a:avLst>
                <a:gd name="adj1" fmla="val -25763"/>
                <a:gd name="adj2" fmla="val 72601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把它看成是由两个梯形组合成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图片 4" descr="t012e6084b77ea0156b.png"/>
          <p:cNvPicPr/>
          <p:nvPr/>
        </p:nvPicPr>
        <p:blipFill>
          <a:blip r:embed="rId2"/>
          <a:stretch/>
        </p:blipFill>
        <p:spPr>
          <a:xfrm>
            <a:off x="1428840" y="2643120"/>
            <a:ext cx="3071880" cy="204804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6"/>
          <p:cNvSpPr/>
          <p:nvPr/>
        </p:nvSpPr>
        <p:spPr>
          <a:xfrm>
            <a:off x="1428840" y="3666240"/>
            <a:ext cx="2357280" cy="4788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2"/>
          <p:cNvGrpSpPr/>
          <p:nvPr/>
        </p:nvGrpSpPr>
        <p:grpSpPr>
          <a:xfrm>
            <a:off x="5072040" y="285840"/>
            <a:ext cx="3786120" cy="3012840"/>
            <a:chOff x="5072040" y="285840"/>
            <a:chExt cx="3786120" cy="3012840"/>
          </a:xfrm>
        </p:grpSpPr>
        <p:pic>
          <p:nvPicPr>
            <p:cNvPr id="142" name="图片 10" descr="小男孩1.png"/>
            <p:cNvPicPr/>
            <p:nvPr/>
          </p:nvPicPr>
          <p:blipFill>
            <a:blip r:embed="rId3"/>
            <a:stretch/>
          </p:blipFill>
          <p:spPr>
            <a:xfrm>
              <a:off x="7643880" y="1785960"/>
              <a:ext cx="11430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云形标注 11"/>
            <p:cNvSpPr/>
            <p:nvPr/>
          </p:nvSpPr>
          <p:spPr>
            <a:xfrm>
              <a:off x="5072040" y="285840"/>
              <a:ext cx="3786120" cy="1571400"/>
            </a:xfrm>
            <a:prstGeom prst="cloudCallout">
              <a:avLst>
                <a:gd name="adj1" fmla="val 15134"/>
                <a:gd name="adj2" fmla="val 79171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把它分成了一个梯形和一个三角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图片 13" descr="t012e6084b77ea0156b.png"/>
          <p:cNvPicPr/>
          <p:nvPr/>
        </p:nvPicPr>
        <p:blipFill>
          <a:blip r:embed="rId4"/>
          <a:stretch/>
        </p:blipFill>
        <p:spPr>
          <a:xfrm>
            <a:off x="4714920" y="2643120"/>
            <a:ext cx="3071880" cy="2048040"/>
          </a:xfrm>
          <a:prstGeom prst="rect">
            <a:avLst/>
          </a:prstGeom>
          <a:ln w="0">
            <a:noFill/>
          </a:ln>
        </p:spPr>
      </p:pic>
      <p:sp>
        <p:nvSpPr>
          <p:cNvPr id="145" name="直接连接符 16"/>
          <p:cNvSpPr/>
          <p:nvPr/>
        </p:nvSpPr>
        <p:spPr>
          <a:xfrm flipH="1" flipV="1">
            <a:off x="6286320" y="2642760"/>
            <a:ext cx="7506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9"/>
          <p:cNvGrpSpPr/>
          <p:nvPr/>
        </p:nvGrpSpPr>
        <p:grpSpPr>
          <a:xfrm>
            <a:off x="1714680" y="4643280"/>
            <a:ext cx="7159320" cy="1752840"/>
            <a:chOff x="1714680" y="4643280"/>
            <a:chExt cx="7159320" cy="1752840"/>
          </a:xfrm>
        </p:grpSpPr>
        <p:pic>
          <p:nvPicPr>
            <p:cNvPr id="147" name="图片 17" descr="小老鼠9.png"/>
            <p:cNvPicPr/>
            <p:nvPr/>
          </p:nvPicPr>
          <p:blipFill>
            <a:blip r:embed="rId5"/>
            <a:stretch/>
          </p:blipFill>
          <p:spPr>
            <a:xfrm>
              <a:off x="7214760" y="4643280"/>
              <a:ext cx="165924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云形标注 18"/>
            <p:cNvSpPr/>
            <p:nvPr/>
          </p:nvSpPr>
          <p:spPr>
            <a:xfrm>
              <a:off x="1714680" y="5000400"/>
              <a:ext cx="5286240" cy="857520"/>
            </a:xfrm>
            <a:prstGeom prst="cloudCallout">
              <a:avLst>
                <a:gd name="adj1" fmla="val 52240"/>
                <a:gd name="adj2" fmla="val 37879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你还有其他的方法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4343400" cy="3071520"/>
          </a:xfrm>
          <a:prstGeom prst="rect">
            <a:avLst/>
          </a:prstGeom>
          <a:ln w="0">
            <a:noFill/>
          </a:ln>
        </p:spPr>
      </p:pic>
      <p:sp>
        <p:nvSpPr>
          <p:cNvPr id="150" name="Line 5"/>
          <p:cNvSpPr/>
          <p:nvPr/>
        </p:nvSpPr>
        <p:spPr>
          <a:xfrm>
            <a:off x="1066680" y="3505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715000" y="23623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梯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267080" y="19051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15000" y="33368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长方形和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729320" y="2057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顶是三角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3048120" y="243828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800600" y="3581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窗户是正方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514600" y="396252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800600" y="46483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墙是长方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048120" y="50292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31305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3962520" y="2514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图形由三角形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1:1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