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1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6DA-3D36-490D-A9FC-62774ADB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788-592E-4642-8B8F-D8B4406E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8FF-83BE-4B20-BC7C-07156CC3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A30-5D9F-4109-9D45-664EC1FD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EBD-8574-4728-8FAF-B472F4FC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FBC-7D21-4364-B777-4BCCF31E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4A2-CA29-4D04-BC6C-DE5C3FF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60D-1978-428A-85D5-FDA54B6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29D-AC3A-482A-8650-3EDDACA5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3CB-C7CD-4A3C-83BE-DC20ABC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CEE-4C76-47E1-85ED-2CAE7403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46B-A6BB-460D-89CA-D3891BAE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59DB-3C52-4E49-A548-6E8B6A839E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7" h="720725">
                <a:moveTo>
                  <a:pt x="0" y="0"/>
                </a:moveTo>
                <a:lnTo>
                  <a:pt x="2135520" y="0"/>
                </a:lnTo>
                <a:cubicBezTo>
                  <a:pt x="2328222" y="0"/>
                  <a:pt x="2484437" y="156215"/>
                  <a:pt x="2484437" y="348917"/>
                </a:cubicBezTo>
                <a:lnTo>
                  <a:pt x="2484437" y="720725"/>
                </a:lnTo>
                <a:lnTo>
                  <a:pt x="0" y="720725"/>
                </a:lnTo>
                <a:close/>
              </a:path>
            </a:pathLst>
          </a:custGeom>
          <a:solidFill>
            <a:srgbClr val="8dd2eb"/>
          </a:solidFill>
          <a:ln w="25560">
            <a:solidFill>
              <a:srgbClr val="8dd2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50720" y="2507760"/>
            <a:ext cx="3600720" cy="19080"/>
            <a:chOff x="2250720" y="2507760"/>
            <a:chExt cx="3600720" cy="19080"/>
          </a:xfrm>
        </p:grpSpPr>
        <p:sp>
          <p:nvSpPr>
            <p:cNvPr id="43" name="Line 10"/>
            <p:cNvSpPr/>
            <p:nvPr/>
          </p:nvSpPr>
          <p:spPr>
            <a:xfrm flipV="1">
              <a:off x="2251080" y="2507760"/>
              <a:ext cx="3600360" cy="19080"/>
            </a:xfrm>
            <a:prstGeom prst="line">
              <a:avLst/>
            </a:prstGeom>
            <a:ln w="57240">
              <a:solidFill>
                <a:srgbClr val="8dd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 rot="10800000">
              <a:off x="2250720" y="2507400"/>
              <a:ext cx="360036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9"/>
          <p:cNvSpPr/>
          <p:nvPr/>
        </p:nvSpPr>
        <p:spPr>
          <a:xfrm>
            <a:off x="956880" y="1901880"/>
            <a:ext cx="3634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多边形的认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5"/>
          <p:cNvSpPr/>
          <p:nvPr/>
        </p:nvSpPr>
        <p:spPr>
          <a:xfrm>
            <a:off x="246060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平 行 四 边 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217520" y="635040"/>
            <a:ext cx="655344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552600" y="4094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门可以伸缩，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351320" y="4221000"/>
            <a:ext cx="4586400" cy="2135520"/>
          </a:xfrm>
          <a:prstGeom prst="cloudCallout">
            <a:avLst>
              <a:gd name="adj1" fmla="val -46574"/>
              <a:gd name="adj2" fmla="val 223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为门上的那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四边形可以拉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变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24000" y="1771560"/>
            <a:ext cx="8820000" cy="287496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1042920" y="4363920"/>
            <a:ext cx="1368360" cy="1383840"/>
            <a:chOff x="1042920" y="4363920"/>
            <a:chExt cx="1368360" cy="1383840"/>
          </a:xfrm>
        </p:grpSpPr>
        <p:grpSp>
          <p:nvGrpSpPr>
            <p:cNvPr id="124" name=""/>
            <p:cNvGrpSpPr/>
            <p:nvPr/>
          </p:nvGrpSpPr>
          <p:grpSpPr>
            <a:xfrm>
              <a:off x="1690200" y="4363920"/>
              <a:ext cx="360" cy="863280"/>
              <a:chOff x="1690200" y="4363920"/>
              <a:chExt cx="360" cy="863280"/>
            </a:xfrm>
          </p:grpSpPr>
          <p:sp>
            <p:nvSpPr>
              <p:cNvPr id="125" name="Line 4"/>
              <p:cNvSpPr/>
              <p:nvPr/>
            </p:nvSpPr>
            <p:spPr>
              <a:xfrm flipV="1">
                <a:off x="1690560" y="4363920"/>
                <a:ext cx="0" cy="86328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 rot="10800000">
                <a:off x="1690200" y="4363920"/>
                <a:ext cx="360" cy="86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5"/>
            <p:cNvSpPr/>
            <p:nvPr/>
          </p:nvSpPr>
          <p:spPr>
            <a:xfrm>
              <a:off x="1042920" y="5227200"/>
              <a:ext cx="1368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拉不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3564000" y="4290480"/>
            <a:ext cx="1728720" cy="1384560"/>
            <a:chOff x="3564000" y="4290480"/>
            <a:chExt cx="1728720" cy="1384560"/>
          </a:xfrm>
        </p:grpSpPr>
        <p:grpSp>
          <p:nvGrpSpPr>
            <p:cNvPr id="129" name=""/>
            <p:cNvGrpSpPr/>
            <p:nvPr/>
          </p:nvGrpSpPr>
          <p:grpSpPr>
            <a:xfrm>
              <a:off x="4427280" y="4290480"/>
              <a:ext cx="360" cy="863640"/>
              <a:chOff x="4427280" y="4290480"/>
              <a:chExt cx="360" cy="863640"/>
            </a:xfrm>
          </p:grpSpPr>
          <p:sp>
            <p:nvSpPr>
              <p:cNvPr id="130" name="Line 7"/>
              <p:cNvSpPr/>
              <p:nvPr/>
            </p:nvSpPr>
            <p:spPr>
              <a:xfrm flipV="1">
                <a:off x="4427640" y="4290480"/>
                <a:ext cx="0" cy="86364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 rot="10800000">
                <a:off x="4427280" y="4290480"/>
                <a:ext cx="36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8"/>
            <p:cNvSpPr/>
            <p:nvPr/>
          </p:nvSpPr>
          <p:spPr>
            <a:xfrm>
              <a:off x="3564000" y="5154480"/>
              <a:ext cx="172872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可以拉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9"/>
          <p:cNvGrpSpPr/>
          <p:nvPr/>
        </p:nvGrpSpPr>
        <p:grpSpPr>
          <a:xfrm>
            <a:off x="7236000" y="4219200"/>
            <a:ext cx="1368360" cy="1384560"/>
            <a:chOff x="7236000" y="4219200"/>
            <a:chExt cx="1368360" cy="1384560"/>
          </a:xfrm>
        </p:grpSpPr>
        <p:grpSp>
          <p:nvGrpSpPr>
            <p:cNvPr id="134" name=""/>
            <p:cNvGrpSpPr/>
            <p:nvPr/>
          </p:nvGrpSpPr>
          <p:grpSpPr>
            <a:xfrm>
              <a:off x="7954560" y="4219200"/>
              <a:ext cx="360" cy="863640"/>
              <a:chOff x="7954560" y="4219200"/>
              <a:chExt cx="360" cy="863640"/>
            </a:xfrm>
          </p:grpSpPr>
          <p:sp>
            <p:nvSpPr>
              <p:cNvPr id="135" name="Line 10"/>
              <p:cNvSpPr/>
              <p:nvPr/>
            </p:nvSpPr>
            <p:spPr>
              <a:xfrm flipV="1">
                <a:off x="7954920" y="4219200"/>
                <a:ext cx="0" cy="86364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 rot="10800000">
                <a:off x="7954560" y="4219200"/>
                <a:ext cx="36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1"/>
            <p:cNvSpPr/>
            <p:nvPr/>
          </p:nvSpPr>
          <p:spPr>
            <a:xfrm>
              <a:off x="7236000" y="5083200"/>
              <a:ext cx="1368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拉不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2"/>
          <p:cNvSpPr/>
          <p:nvPr/>
        </p:nvSpPr>
        <p:spPr>
          <a:xfrm>
            <a:off x="2484360" y="1793880"/>
            <a:ext cx="98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平行四边形很容易拉动，不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52360" y="134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三角形拉不动，很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5715000" y="1650960"/>
            <a:ext cx="93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在平行四边形中钉根木条会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6983280" y="549360"/>
            <a:ext cx="2160720" cy="1224000"/>
          </a:xfrm>
          <a:prstGeom prst="cloudCallout">
            <a:avLst>
              <a:gd name="adj1" fmla="val 37"/>
              <a:gd name="adj2" fmla="val 524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351a"/>
                </a:solidFill>
                <a:latin typeface="宋体"/>
              </a:rPr>
              <a:t>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857240" y="1071720"/>
            <a:ext cx="44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动动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下面的方法剪一个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11280" y="2438280"/>
            <a:ext cx="7902360" cy="154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611280" y="4179960"/>
            <a:ext cx="790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808360" y="692280"/>
            <a:ext cx="60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image011"/>
          <p:cNvPicPr/>
          <p:nvPr/>
        </p:nvPicPr>
        <p:blipFill>
          <a:blip r:embed="rId1"/>
          <a:srcRect l="49204" t="9561" r="0" b="0"/>
          <a:stretch/>
        </p:blipFill>
        <p:spPr>
          <a:xfrm>
            <a:off x="2050920" y="3227400"/>
            <a:ext cx="4248360" cy="1974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258920" y="1989000"/>
            <a:ext cx="72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数一数下图中有（ ）个平行四边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未标题-1"/>
          <p:cNvPicPr/>
          <p:nvPr/>
        </p:nvPicPr>
        <p:blipFill>
          <a:blip r:embed="rId1"/>
          <a:stretch/>
        </p:blipFill>
        <p:spPr>
          <a:xfrm>
            <a:off x="2290680" y="266688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4067280" y="836640"/>
            <a:ext cx="1296720" cy="12970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274920" y="2925720"/>
            <a:ext cx="136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156360" y="2852640"/>
            <a:ext cx="158436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55640" y="981000"/>
            <a:ext cx="1943280" cy="863640"/>
          </a:xfrm>
          <a:prstGeom prst="parallelogram">
            <a:avLst>
              <a:gd name="adj" fmla="val 562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22560" y="5086440"/>
            <a:ext cx="172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6012000" y="1125360"/>
            <a:ext cx="2160360" cy="100836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5364000" y="4941720"/>
            <a:ext cx="1656000" cy="1224000"/>
          </a:xfrm>
          <a:prstGeom prst="hexagon">
            <a:avLst>
              <a:gd name="adj" fmla="val 33824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826920" y="2852640"/>
            <a:ext cx="1511640" cy="1368360"/>
          </a:xfrm>
          <a:prstGeom prst="pentag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755640" y="981000"/>
            <a:ext cx="1943280" cy="863640"/>
          </a:xfrm>
          <a:prstGeom prst="parallelogram">
            <a:avLst>
              <a:gd name="adj" fmla="val 562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6012000" y="1125360"/>
            <a:ext cx="2160360" cy="100836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3274920" y="2925720"/>
            <a:ext cx="136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6156360" y="2852640"/>
            <a:ext cx="158436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2122560" y="5086440"/>
            <a:ext cx="172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4638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700360" y="270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长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00360" y="4365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正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00720" y="24782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四条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7200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对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500720" y="3789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四条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716360" y="443700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四条边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79292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553080" y="2479680"/>
            <a:ext cx="20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四个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730920" y="2924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都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6732720" y="46386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都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516720" y="391968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四个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214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长方形对边相等。      （    ）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四边相等的四边形一定是正方形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           （    ）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正方形是特殊的长方形。（   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716960" y="33066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784280" y="18892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717680" y="38606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14200" y="50148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找出下面物体中的平行四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2" descr="QQ截图20150203155931.png"/>
          <p:cNvPicPr/>
          <p:nvPr/>
        </p:nvPicPr>
        <p:blipFill>
          <a:blip r:embed="rId1"/>
          <a:stretch/>
        </p:blipFill>
        <p:spPr>
          <a:xfrm>
            <a:off x="571680" y="1000080"/>
            <a:ext cx="313200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QQ截图20150203155959.png"/>
          <p:cNvPicPr/>
          <p:nvPr/>
        </p:nvPicPr>
        <p:blipFill>
          <a:blip r:embed="rId2"/>
          <a:stretch/>
        </p:blipFill>
        <p:spPr>
          <a:xfrm>
            <a:off x="6784920" y="3071880"/>
            <a:ext cx="235908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" descr="QQ截图20150203155939.png"/>
          <p:cNvPicPr/>
          <p:nvPr/>
        </p:nvPicPr>
        <p:blipFill>
          <a:blip r:embed="rId3"/>
          <a:stretch/>
        </p:blipFill>
        <p:spPr>
          <a:xfrm>
            <a:off x="4643280" y="1143000"/>
            <a:ext cx="36417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8"/>
          <p:cNvGrpSpPr/>
          <p:nvPr/>
        </p:nvGrpSpPr>
        <p:grpSpPr>
          <a:xfrm>
            <a:off x="214200" y="3357720"/>
            <a:ext cx="5929560" cy="2286000"/>
            <a:chOff x="214200" y="3357720"/>
            <a:chExt cx="5929560" cy="2286000"/>
          </a:xfrm>
        </p:grpSpPr>
        <p:pic>
          <p:nvPicPr>
            <p:cNvPr id="82" name="图片 6" descr="小兔子1.png"/>
            <p:cNvPicPr/>
            <p:nvPr/>
          </p:nvPicPr>
          <p:blipFill>
            <a:blip r:embed="rId4"/>
            <a:stretch/>
          </p:blipFill>
          <p:spPr>
            <a:xfrm>
              <a:off x="214200" y="3500280"/>
              <a:ext cx="14241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云形标注 7"/>
            <p:cNvSpPr/>
            <p:nvPr/>
          </p:nvSpPr>
          <p:spPr>
            <a:xfrm>
              <a:off x="1571400" y="3357720"/>
              <a:ext cx="4572360" cy="1357200"/>
            </a:xfrm>
            <a:prstGeom prst="cloudCallout">
              <a:avLst>
                <a:gd name="adj1" fmla="val -54101"/>
                <a:gd name="adj2" fmla="val 31185"/>
              </a:avLst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这些物体有什么共同特点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0"/>
          <p:cNvSpPr/>
          <p:nvPr/>
        </p:nvSpPr>
        <p:spPr>
          <a:xfrm>
            <a:off x="1214280" y="3048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伸缩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715000" y="27147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扩缩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7286760" y="50720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升降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4"/>
          <p:cNvGrpSpPr/>
          <p:nvPr/>
        </p:nvGrpSpPr>
        <p:grpSpPr>
          <a:xfrm>
            <a:off x="1357200" y="4786200"/>
            <a:ext cx="6000840" cy="1785960"/>
            <a:chOff x="1357200" y="4786200"/>
            <a:chExt cx="6000840" cy="1785960"/>
          </a:xfrm>
        </p:grpSpPr>
        <p:pic>
          <p:nvPicPr>
            <p:cNvPr id="88" name="图片 9" descr="小男孩2.png"/>
            <p:cNvPicPr/>
            <p:nvPr/>
          </p:nvPicPr>
          <p:blipFill>
            <a:blip r:embed="rId5"/>
            <a:stretch/>
          </p:blipFill>
          <p:spPr>
            <a:xfrm>
              <a:off x="1357200" y="4857480"/>
              <a:ext cx="13114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云形标注 13"/>
            <p:cNvSpPr/>
            <p:nvPr/>
          </p:nvSpPr>
          <p:spPr>
            <a:xfrm>
              <a:off x="2786040" y="4786200"/>
              <a:ext cx="4572000" cy="1357560"/>
            </a:xfrm>
            <a:prstGeom prst="cloudCallout">
              <a:avLst>
                <a:gd name="adj1" fmla="val -54101"/>
                <a:gd name="adj2" fmla="val 31185"/>
              </a:avLst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这些物体都是可以变形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"/>
          <p:cNvGrpSpPr/>
          <p:nvPr/>
        </p:nvGrpSpPr>
        <p:grpSpPr>
          <a:xfrm>
            <a:off x="1692360" y="1268280"/>
            <a:ext cx="6643440" cy="1857600"/>
            <a:chOff x="1692360" y="1268280"/>
            <a:chExt cx="6643440" cy="1857600"/>
          </a:xfrm>
        </p:grpSpPr>
        <p:pic>
          <p:nvPicPr>
            <p:cNvPr id="91" name="图片 1" descr="小青蛙2.png"/>
            <p:cNvPicPr/>
            <p:nvPr/>
          </p:nvPicPr>
          <p:blipFill>
            <a:blip r:embed="rId1"/>
            <a:stretch/>
          </p:blipFill>
          <p:spPr>
            <a:xfrm>
              <a:off x="6549840" y="1339560"/>
              <a:ext cx="1785960" cy="17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云形标注 2"/>
            <p:cNvSpPr/>
            <p:nvPr/>
          </p:nvSpPr>
          <p:spPr>
            <a:xfrm>
              <a:off x="1692360" y="1268280"/>
              <a:ext cx="4572000" cy="1214640"/>
            </a:xfrm>
            <a:prstGeom prst="cloudCallout">
              <a:avLst>
                <a:gd name="adj1" fmla="val 60736"/>
                <a:gd name="adj2" fmla="val 23898"/>
              </a:avLst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平行四边形具有不稳定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214200" y="64440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组合作，总结正方形、长方形和平行四边形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57120" y="2016000"/>
          <a:ext cx="8429760" cy="2787480"/>
        </p:xfrm>
        <a:graphic>
          <a:graphicData uri="http://schemas.openxmlformats.org/drawingml/2006/table">
            <a:tbl>
              <a:tblPr/>
              <a:tblGrid>
                <a:gridCol w="928800"/>
                <a:gridCol w="2643120"/>
                <a:gridCol w="2295360"/>
                <a:gridCol w="2562480"/>
              </a:tblGrid>
              <a:tr h="898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正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长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平行四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Box 3"/>
          <p:cNvSpPr/>
          <p:nvPr/>
        </p:nvSpPr>
        <p:spPr>
          <a:xfrm>
            <a:off x="1357200" y="2976480"/>
            <a:ext cx="25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条边都相等，且对边平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071960" y="29764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对边平行且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500880" y="290520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对边平行且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1194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个角均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857760" y="41194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个角均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500880" y="39052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两组对角分别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14200" y="521640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议一议：正方形、长方形和平行四边形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8"/>
          <p:cNvGrpSpPr/>
          <p:nvPr/>
        </p:nvGrpSpPr>
        <p:grpSpPr>
          <a:xfrm>
            <a:off x="1857240" y="1146240"/>
            <a:ext cx="5857920" cy="2286000"/>
            <a:chOff x="1857240" y="1146240"/>
            <a:chExt cx="5857920" cy="2286000"/>
          </a:xfrm>
        </p:grpSpPr>
        <p:grpSp>
          <p:nvGrpSpPr>
            <p:cNvPr id="103" name="组合 4"/>
            <p:cNvGrpSpPr/>
            <p:nvPr/>
          </p:nvGrpSpPr>
          <p:grpSpPr>
            <a:xfrm>
              <a:off x="1857240" y="1146240"/>
              <a:ext cx="5857920" cy="2286000"/>
              <a:chOff x="1857240" y="1146240"/>
              <a:chExt cx="5857920" cy="2286000"/>
            </a:xfrm>
          </p:grpSpPr>
          <p:sp>
            <p:nvSpPr>
              <p:cNvPr id="104" name="椭圆 3"/>
              <p:cNvSpPr/>
              <p:nvPr/>
            </p:nvSpPr>
            <p:spPr>
              <a:xfrm>
                <a:off x="1857240" y="1146240"/>
                <a:ext cx="5857920" cy="228600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2"/>
              <p:cNvSpPr/>
              <p:nvPr/>
            </p:nvSpPr>
            <p:spPr>
              <a:xfrm>
                <a:off x="3286080" y="1860480"/>
                <a:ext cx="4214880" cy="1143000"/>
              </a:xfrm>
              <a:prstGeom prst="ellipse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椭圆 1"/>
              <p:cNvSpPr/>
              <p:nvPr/>
            </p:nvSpPr>
            <p:spPr>
              <a:xfrm>
                <a:off x="5000400" y="2146320"/>
                <a:ext cx="1857240" cy="5713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Box 5"/>
            <p:cNvSpPr/>
            <p:nvPr/>
          </p:nvSpPr>
          <p:spPr>
            <a:xfrm>
              <a:off x="5286240" y="2146320"/>
              <a:ext cx="13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方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6"/>
            <p:cNvSpPr/>
            <p:nvPr/>
          </p:nvSpPr>
          <p:spPr>
            <a:xfrm>
              <a:off x="3714480" y="2146320"/>
              <a:ext cx="13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长方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7"/>
            <p:cNvSpPr/>
            <p:nvPr/>
          </p:nvSpPr>
          <p:spPr>
            <a:xfrm>
              <a:off x="2785680" y="1360440"/>
              <a:ext cx="24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行四边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1"/>
          <p:cNvGrpSpPr/>
          <p:nvPr/>
        </p:nvGrpSpPr>
        <p:grpSpPr>
          <a:xfrm>
            <a:off x="1320840" y="3718080"/>
            <a:ext cx="7251840" cy="2076120"/>
            <a:chOff x="1320840" y="3718080"/>
            <a:chExt cx="7251840" cy="2076120"/>
          </a:xfrm>
        </p:grpSpPr>
        <p:pic>
          <p:nvPicPr>
            <p:cNvPr id="111" name="图片 9" descr="小兔子6.png"/>
            <p:cNvPicPr/>
            <p:nvPr/>
          </p:nvPicPr>
          <p:blipFill>
            <a:blip r:embed="rId1"/>
            <a:stretch/>
          </p:blipFill>
          <p:spPr>
            <a:xfrm>
              <a:off x="7072560" y="3718080"/>
              <a:ext cx="1500120" cy="20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云形标注 10"/>
            <p:cNvSpPr/>
            <p:nvPr/>
          </p:nvSpPr>
          <p:spPr>
            <a:xfrm>
              <a:off x="1320840" y="4218120"/>
              <a:ext cx="5499720" cy="1428480"/>
            </a:xfrm>
            <a:prstGeom prst="cloudCallout">
              <a:avLst>
                <a:gd name="adj1" fmla="val 56018"/>
                <a:gd name="adj2" fmla="val -29444"/>
              </a:avLst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正方形和长方形都是特殊的平行四边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74200" y="618840"/>
            <a:ext cx="8636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判断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１．四边形是由四条线段围成的图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２．正方形和平行四边形的四条边都相等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３．平行四边形容易变形。         （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４．三角形容易变形 。                 （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５．平行四边形的四个角不一定是直角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 rot="840000">
            <a:off x="7454520" y="1746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519320" y="30592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 rot="1080000">
            <a:off x="7449480" y="373644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7570080" y="43815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 rot="720000">
            <a:off x="7549920" y="571140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1T06:37:34Z</dcterms:created>
  <dc:creator>User</dc:creator>
  <dc:description/>
  <dc:language>en-US</dc:language>
  <cp:lastModifiedBy>Microsoft</cp:lastModifiedBy>
  <dcterms:modified xsi:type="dcterms:W3CDTF">2017-03-22T11:12:58Z</dcterms:modified>
  <cp:revision>3</cp:revision>
  <dc:subject/>
  <dc:title>幻灯片 1</dc:title>
</cp:coreProperties>
</file>