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png" ContentType="image/png"/>
  <Override PartName="/ppt/media/image8.png" ContentType="image/png"/>
  <Override PartName="/ppt/media/image24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6213-A3B3-478E-8E4E-D3FC583462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51F9-845C-4BCC-B45E-CC1017B8B1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C75B-60DD-49A3-BA6A-6BA1ABBFE6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0916-FD5E-4EE2-8A20-34E3DB3499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041D-7017-49E1-A502-81E8987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21AA0-3B2E-4F0F-9050-ADE57D31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81729-7AE3-4416-A7BB-388138E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939BD-D937-4C7E-A4E1-930D197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9C95-2C8B-4224-AA8A-62C5F57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EA9C-4D31-4316-A535-0BDA1F7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1AB5-54B4-40B7-AE0F-FEEB5D33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0BEF-3179-4AAF-A95C-8BE2D302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ED9CB-8ED9-4702-B9D0-FC29F8B6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FA145-B883-42FF-9DB1-F12943D9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DD0A2-3F6F-4077-9839-B2BD70CC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7506-2FCA-44C3-9C3D-4E1B1757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5CE5E-1E32-4F46-BAED-F940AE71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5530F-9D74-4558-862D-242A6BB5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91F07-266B-4038-8534-082B34BA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DED6F-F306-486C-8164-586EBE9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E608F-FE0C-4382-B35A-FF23BB88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660C8-E5F1-4587-BEBC-1C6AB25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8E2C5-D4DD-49A6-9C7A-1A33B88E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A93B3-B7CF-43A5-9359-AD7081E3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3794B-9BF0-4533-95BD-3AA421FE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28D86-32A0-4C3D-A260-B739011D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D5B97-38BD-4D4D-B560-2C208C8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3C2B-3A35-4A28-991E-190A3CAD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D211D-EBCB-47EB-BCF1-DF7C0DD0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C9F3C-91F6-489B-99A8-87B35F55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7C53E-DE91-4BDA-B4CA-F706E27F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1281D-6124-4727-B225-C9C02378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13D0D-4ABA-4460-959D-629D7E4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7AB5C-F207-4289-87CA-59F4226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A23-57D8-4093-A624-C64731C9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73746-062D-4051-8250-5AFA9686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3C082-BFB0-4A81-AAD1-8FB7C72E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B3FBD-61ED-4BEB-B5A2-AA2DF8C4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AE4-29D2-456D-81FF-C0F2BA81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8A4-C858-445A-B9A8-B69590A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A1C-7D8A-4C5A-8E62-12FE5823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870-FF76-4107-AD93-092C2238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DF5-6B73-4869-A486-C8C415B2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499-8004-4D64-9570-D1C2B1E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CDB-BCF3-494C-8946-0FAF4C4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123-93AB-4B37-8EAA-B2C51C5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4D6-2BEC-4F06-98CA-AF913BB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E01-07E5-448C-BA05-BD047FAA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C19-0051-4E64-9BDE-9B03FCC6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6EE9-A55B-4CE1-B0BC-1F350B69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9E8D-7AE7-404A-B607-ECFA119D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1A45-8F5F-4626-889F-DFCEA42F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4D11-C676-489D-B815-940157C9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C0D7-B415-4E68-9D9C-1095A2D2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12F-D434-4D32-B8E8-4536ABFC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B077-19C8-42C6-9612-4035ED0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790D-8460-4CAA-BFC9-48CD597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9A74-3E90-4641-A52B-8983C64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A2DB-9A4F-4EF7-823B-FD068DB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CDD6-2FC0-45C3-9071-5AD6B671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9426-39A8-46F1-818A-A32DCB1C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7CDD-4025-4787-9B76-3B785C1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75FA-CF11-4388-99FF-4A207242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93A9-6504-42E1-889D-F7E78BE8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07BC-F0DB-494B-BA78-7D4451AE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22F4-6A49-4C62-8395-7367835B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5428-E626-4D3F-9ED8-292D5E0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6A8D-A303-48BD-9C0B-94D2AD51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509D-296B-4C0B-95FC-7E53AF2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F0DA-B92F-4AF3-A0C5-00E80473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65B0-141D-453F-BFFC-EA643835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CFA7-F5A3-48C7-B712-3BC907E3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FD19-EFA8-459E-9BA5-DB53955C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8FF3-88D7-498B-A955-2C046714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A41B-7FFF-4D43-909E-5674ADF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16EF-6A8E-4362-92C1-5C54E11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9541C-12EB-4A3D-BFEE-7E6C5B3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F886-B9C7-4CE6-89D4-D6F48158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649C-AC89-47E7-98BC-14F40DA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6CFE-673B-4E64-9F62-2AC9A74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FB3E-41F8-4209-AE64-140B0B6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9FC0-CBAE-454A-8932-8D05E2F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928D-7D5F-4EC9-8A76-88FC0521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A0BD-9969-49ED-BE2F-AE67C782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FC7C-49EF-407B-B467-84855183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130E-D0C3-4F2B-80DD-5536AD93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4622-629C-4EA2-AB58-3A948D33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908D-5C0C-4C55-BB44-3D7D9D53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F2BD-BF1E-4C91-94FF-D72A7713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A67E-8741-44D4-8579-C115601F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8356D-C7C7-4A87-BFFF-FE64D2C4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4680-8B81-4C05-9FA4-A48536B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F4CC-E255-4840-92F8-4F5BF316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F629-F1F2-4920-A73B-24FBC92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14192-CA76-47C3-B454-08EB906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60A6-AE06-4E85-950D-6349BCCC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164C-2EFC-49CC-9F34-2112E19B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9CC3E-2C9E-4296-9B9A-D4C12A75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B6C2-82E8-42C9-9B75-CFB44428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C689-D681-482D-AE4D-A806566F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D49F-D59C-483D-BD32-D70A0C8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E8CB9-EEAD-4B4D-B5E6-9B760B62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31A09-D0AB-4FF8-A98E-7B239337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4142-0C47-4CAD-8118-8D02DBD3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C3C4-DE0A-4ABA-BB50-D8515F11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04EB-26AE-4270-B08E-809F236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ECE5-1A1F-44C1-99CE-8F0EED5C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60B06-778B-4778-8433-F2681D54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0B7A-1924-4CFD-B080-D1F21F4B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A491-7C4D-458F-93D2-29BCC3CD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F695-0367-4795-BA11-DA68931F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0975F-7E02-4E7B-8381-5E1ACD35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AB0E4-7E17-4AB2-B2B2-7EF93C23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B6079-53AB-4E18-B5AC-E871C7D3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3DFB5-109F-4ACC-B4F7-DEC91382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334A-C5E2-4AAD-8BC3-BCB9965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050B-54E6-4BCD-9173-03BFC115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4FB07-A63F-42F3-86A1-095DEDE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FD960-0CB4-4F03-98D1-0C1A59B9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EF24A-DEE5-4854-ABC5-682601F9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DCD8D-1B65-4B9E-A26D-9160B2CF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D335-09BE-49EF-833D-43F9BEB5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E03BC-474F-49A4-A22F-283B780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FB3BC-8040-4452-B793-17C6529B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20A-98D7-4A28-9A95-7397A3A2E60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792A-25F2-4C45-B467-BB0BC399D9C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4FAD-5F42-47A8-B68D-7E0276F63E5C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F608-5C2D-4BA6-BDBC-6E69D7DD09C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979C-6CAB-4D01-B749-9FE6ED0B36C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A869-F1AE-4FF7-83DB-3121A3EB3F5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C8EF-14CF-45A1-AB94-AF97616449C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7623-D59D-4BE6-BEBE-EE2DE2B550E4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DBD-6CCE-4899-BA08-A31A60086F6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0DE7-1057-4937-9E0B-FDE54F8A7FE0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D6&#312;+qq%B1%ED%C7%E9&amp;in=5190&amp;cl=2&amp;cm=1&amp;sc=0&amp;lm=-1&amp;pn=19&amp;rn=1&amp;di=1071799436&amp;ln=647&amp;fr=ala0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1"/>
          <p:cNvSpPr/>
          <p:nvPr/>
        </p:nvSpPr>
        <p:spPr>
          <a:xfrm>
            <a:off x="2556000" y="115560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用字母表示数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线连接符 21"/>
          <p:cNvSpPr/>
          <p:nvPr/>
        </p:nvSpPr>
        <p:spPr>
          <a:xfrm>
            <a:off x="2700360" y="1989000"/>
            <a:ext cx="5111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1"/>
          <p:cNvSpPr/>
          <p:nvPr/>
        </p:nvSpPr>
        <p:spPr>
          <a:xfrm>
            <a:off x="3564000" y="314172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.1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用含有字母的式子表示数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876320" cy="27147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250920" y="138276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用含有字母的式子表示出人在月球上能举起的质量吗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组合 4"/>
          <p:cNvGrpSpPr/>
          <p:nvPr/>
        </p:nvGrpSpPr>
        <p:grpSpPr>
          <a:xfrm>
            <a:off x="108000" y="2955960"/>
            <a:ext cx="2235240" cy="3065400"/>
            <a:chOff x="108000" y="2955960"/>
            <a:chExt cx="2235240" cy="3065400"/>
          </a:xfrm>
        </p:grpSpPr>
        <p:pic>
          <p:nvPicPr>
            <p:cNvPr id="573" name="Picture 10" descr=""/>
            <p:cNvPicPr/>
            <p:nvPr/>
          </p:nvPicPr>
          <p:blipFill>
            <a:blip r:embed="rId2"/>
            <a:stretch/>
          </p:blipFill>
          <p:spPr>
            <a:xfrm>
              <a:off x="108000" y="3315960"/>
              <a:ext cx="1857600" cy="27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11" descr=""/>
            <p:cNvPicPr/>
            <p:nvPr/>
          </p:nvPicPr>
          <p:blipFill>
            <a:blip r:embed="rId3"/>
            <a:stretch/>
          </p:blipFill>
          <p:spPr>
            <a:xfrm>
              <a:off x="1476360" y="2955960"/>
              <a:ext cx="8668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AutoShape 24"/>
          <p:cNvSpPr/>
          <p:nvPr/>
        </p:nvSpPr>
        <p:spPr>
          <a:xfrm>
            <a:off x="1979640" y="2924280"/>
            <a:ext cx="5905440" cy="1512720"/>
          </a:xfrm>
          <a:prstGeom prst="wedgeRoundRectCallout">
            <a:avLst>
              <a:gd name="adj1" fmla="val -56166"/>
              <a:gd name="adj2" fmla="val 485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在地球上能举起物体的质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人在月球上能举起物体的质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1835280" y="3429000"/>
            <a:ext cx="3600360" cy="1512720"/>
          </a:xfrm>
          <a:prstGeom prst="wedgeRoundRectCallout">
            <a:avLst>
              <a:gd name="adj1" fmla="val -59305"/>
              <a:gd name="adj2" fmla="val -593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人在地球上能举起物体的质量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4"/>
          <a:stretch/>
        </p:blipFill>
        <p:spPr>
          <a:xfrm>
            <a:off x="8794800" y="3357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78" name="AutoShape 24"/>
          <p:cNvSpPr/>
          <p:nvPr/>
        </p:nvSpPr>
        <p:spPr>
          <a:xfrm>
            <a:off x="3276720" y="1844640"/>
            <a:ext cx="3598920" cy="1513080"/>
          </a:xfrm>
          <a:prstGeom prst="wedgeRoundRectCallout">
            <a:avLst>
              <a:gd name="adj1" fmla="val 74583"/>
              <a:gd name="adj2" fmla="val 6498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人在月球上能举起的质量就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2700360" y="4941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写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14"/>
          <p:cNvSpPr/>
          <p:nvPr/>
        </p:nvSpPr>
        <p:spPr>
          <a:xfrm>
            <a:off x="1547640" y="5589720"/>
            <a:ext cx="6193080" cy="72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省略乘号时，一般把数写在字母前面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1" name="组合 15"/>
          <p:cNvGrpSpPr/>
          <p:nvPr/>
        </p:nvGrpSpPr>
        <p:grpSpPr>
          <a:xfrm>
            <a:off x="498600" y="765000"/>
            <a:ext cx="2071440" cy="660240"/>
            <a:chOff x="498600" y="765000"/>
            <a:chExt cx="2071440" cy="660240"/>
          </a:xfrm>
        </p:grpSpPr>
        <p:sp>
          <p:nvSpPr>
            <p:cNvPr id="582" name="直线连接符 21"/>
            <p:cNvSpPr/>
            <p:nvPr/>
          </p:nvSpPr>
          <p:spPr>
            <a:xfrm flipV="1">
              <a:off x="498600" y="141912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同侧圆角矩形 17"/>
            <p:cNvSpPr/>
            <p:nvPr/>
          </p:nvSpPr>
          <p:spPr>
            <a:xfrm>
              <a:off x="498600" y="765000"/>
              <a:ext cx="2000160" cy="516240"/>
            </a:xfrm>
            <a:custGeom>
              <a:avLst/>
              <a:gdLst>
                <a:gd name="textAreaLeft" fmla="*/ 25200 w 2000160"/>
                <a:gd name="textAreaRight" fmla="*/ 1974960 w 200016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7036">
                  <a:moveTo>
                    <a:pt x="86174" y="0"/>
                  </a:moveTo>
                  <a:lnTo>
                    <a:pt x="1914090" y="0"/>
                  </a:lnTo>
                  <a:lnTo>
                    <a:pt x="1914090" y="0"/>
                  </a:lnTo>
                  <a:arcTo wR="86174" hR="86174" stAng="-5400000" swAng="5400000"/>
                  <a:lnTo>
                    <a:pt x="2000264" y="517036"/>
                  </a:lnTo>
                  <a:lnTo>
                    <a:pt x="0" y="517036"/>
                  </a:lnTo>
                  <a:lnTo>
                    <a:pt x="0" y="86174"/>
                  </a:lnTo>
                  <a:lnTo>
                    <a:pt x="0" y="86174"/>
                  </a:lnTo>
                  <a:arcTo wR="86174" hR="86174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4" name="同侧圆角矩形 18"/>
          <p:cNvSpPr/>
          <p:nvPr/>
        </p:nvSpPr>
        <p:spPr>
          <a:xfrm>
            <a:off x="47628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835280" y="692280"/>
          <a:ext cx="5400720" cy="374940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在地球上能举起物体的质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在月球上能举起物体的质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Text Box 4"/>
          <p:cNvSpPr/>
          <p:nvPr/>
        </p:nvSpPr>
        <p:spPr>
          <a:xfrm>
            <a:off x="2773440" y="18874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932360" y="18874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771640" y="254628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4932360" y="254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2771640" y="319392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4932360" y="319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tretch/>
        </p:blipFill>
        <p:spPr>
          <a:xfrm>
            <a:off x="826920" y="4869000"/>
            <a:ext cx="1562400" cy="14112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24"/>
          <p:cNvSpPr/>
          <p:nvPr/>
        </p:nvSpPr>
        <p:spPr>
          <a:xfrm>
            <a:off x="3059280" y="4508640"/>
            <a:ext cx="5473440" cy="1800000"/>
          </a:xfrm>
          <a:prstGeom prst="wedgeRoundRectCallout">
            <a:avLst>
              <a:gd name="adj1" fmla="val -62185"/>
              <a:gd name="adj2" fmla="val -137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式子中的字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人在地球上能举起物体的质量，它应该是一个大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又小于人所能举起的极限质量的任何数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771640" y="386064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4932360" y="38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x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3"/>
          <p:cNvGrpSpPr/>
          <p:nvPr/>
        </p:nvGrpSpPr>
        <p:grpSpPr>
          <a:xfrm>
            <a:off x="1908000" y="1268280"/>
            <a:ext cx="2860920" cy="3049560"/>
            <a:chOff x="1908000" y="1268280"/>
            <a:chExt cx="2860920" cy="3049560"/>
          </a:xfrm>
        </p:grpSpPr>
        <p:pic>
          <p:nvPicPr>
            <p:cNvPr id="597" name="Picture 2" descr=""/>
            <p:cNvPicPr/>
            <p:nvPr/>
          </p:nvPicPr>
          <p:blipFill>
            <a:blip r:embed="rId1"/>
            <a:stretch/>
          </p:blipFill>
          <p:spPr>
            <a:xfrm>
              <a:off x="2124000" y="1268280"/>
              <a:ext cx="2592360" cy="30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3" descr=""/>
            <p:cNvPicPr/>
            <p:nvPr/>
          </p:nvPicPr>
          <p:blipFill>
            <a:blip r:embed="rId2"/>
            <a:stretch/>
          </p:blipFill>
          <p:spPr>
            <a:xfrm>
              <a:off x="4140360" y="2420640"/>
              <a:ext cx="6285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3" descr=""/>
            <p:cNvPicPr/>
            <p:nvPr/>
          </p:nvPicPr>
          <p:blipFill>
            <a:blip r:embed="rId3"/>
            <a:stretch/>
          </p:blipFill>
          <p:spPr>
            <a:xfrm>
              <a:off x="1908000" y="1916280"/>
              <a:ext cx="62856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AutoShape 24"/>
          <p:cNvSpPr/>
          <p:nvPr/>
        </p:nvSpPr>
        <p:spPr>
          <a:xfrm>
            <a:off x="108000" y="1700280"/>
            <a:ext cx="2303280" cy="1152360"/>
          </a:xfrm>
          <a:prstGeom prst="wedgeRoundRectCallout">
            <a:avLst>
              <a:gd name="adj1" fmla="val 65101"/>
              <a:gd name="adj2" fmla="val -921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地球上我只能举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k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8"/>
          <p:cNvGrpSpPr/>
          <p:nvPr/>
        </p:nvGrpSpPr>
        <p:grpSpPr>
          <a:xfrm>
            <a:off x="5076720" y="1268280"/>
            <a:ext cx="3959280" cy="2952720"/>
            <a:chOff x="5076720" y="1268280"/>
            <a:chExt cx="3959280" cy="2952720"/>
          </a:xfrm>
        </p:grpSpPr>
        <p:pic>
          <p:nvPicPr>
            <p:cNvPr id="602" name="Picture 3" descr=""/>
            <p:cNvPicPr/>
            <p:nvPr/>
          </p:nvPicPr>
          <p:blipFill>
            <a:blip r:embed="rId4"/>
            <a:stretch/>
          </p:blipFill>
          <p:spPr>
            <a:xfrm>
              <a:off x="5076720" y="2109600"/>
              <a:ext cx="158364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AutoShape 24"/>
            <p:cNvSpPr/>
            <p:nvPr/>
          </p:nvSpPr>
          <p:spPr>
            <a:xfrm>
              <a:off x="6660360" y="1268280"/>
              <a:ext cx="2375640" cy="1296360"/>
            </a:xfrm>
            <a:prstGeom prst="wedgeRoundRectCallout">
              <a:avLst>
                <a:gd name="adj1" fmla="val -61138"/>
                <a:gd name="adj2" fmla="val 35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在月球上你真是个大力士。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Text Box 4"/>
          <p:cNvSpPr/>
          <p:nvPr/>
        </p:nvSpPr>
        <p:spPr>
          <a:xfrm>
            <a:off x="250920" y="692280"/>
            <a:ext cx="86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月球上，人能举起物体的质量是地球上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08000" y="42926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中小朋友在月球上能举起的质量是多少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627280" y="51595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x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276720" y="515772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×15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5148360" y="5157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179280" y="5805360"/>
            <a:ext cx="93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图中小朋友在月球上能举起的质量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k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2"/>
          <p:cNvSpPr/>
          <p:nvPr/>
        </p:nvSpPr>
        <p:spPr>
          <a:xfrm>
            <a:off x="1258920" y="3068640"/>
            <a:ext cx="6408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含有字母的式子表示出成年男子的标准体重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用它算出你爸爸的标准体重应是多少吗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4088880" y="5218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着用今天学习的知识，解决这个问题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2184120" y="580536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你的想法。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860480" y="153684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年男子的标准体重通常用下面的式子表示：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285640" y="2322360"/>
            <a:ext cx="2224440" cy="459720"/>
          </a:xfrm>
          <a:prstGeom prst="rect">
            <a:avLst/>
          </a:prstGeom>
          <a:solidFill>
            <a:srgbClr val="ff99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体重＝身高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16" descr="女天使"/>
          <p:cNvPicPr/>
          <p:nvPr/>
        </p:nvPicPr>
        <p:blipFill>
          <a:blip r:embed="rId1"/>
          <a:stretch/>
        </p:blipFill>
        <p:spPr>
          <a:xfrm>
            <a:off x="7446960" y="191448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27"/>
          <p:cNvSpPr/>
          <p:nvPr/>
        </p:nvSpPr>
        <p:spPr>
          <a:xfrm>
            <a:off x="5214960" y="2006640"/>
            <a:ext cx="2200320" cy="934920"/>
          </a:xfrm>
          <a:prstGeom prst="wedgeRoundRectCallout">
            <a:avLst>
              <a:gd name="adj1" fmla="val 58439"/>
              <a:gd name="adj2" fmla="val 440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高用厘米数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重用千克数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1384200" y="4019400"/>
            <a:ext cx="520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同侧圆角矩形 9"/>
          <p:cNvSpPr/>
          <p:nvPr/>
        </p:nvSpPr>
        <p:spPr>
          <a:xfrm>
            <a:off x="384120" y="9032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线连接符 21"/>
          <p:cNvSpPr/>
          <p:nvPr/>
        </p:nvSpPr>
        <p:spPr>
          <a:xfrm flipV="1">
            <a:off x="384120" y="1546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5"/>
          <p:cNvSpPr/>
          <p:nvPr/>
        </p:nvSpPr>
        <p:spPr>
          <a:xfrm>
            <a:off x="3837960" y="415440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用今天学习的知识，解决这个问题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1818000" y="499428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你的想法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611280" y="1557360"/>
            <a:ext cx="7777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青少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）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平均身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平均身高增长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我国青少年平均身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3995640" y="2546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3"/>
          <p:cNvSpPr/>
          <p:nvPr/>
        </p:nvSpPr>
        <p:spPr>
          <a:xfrm>
            <a:off x="3765600" y="479736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用今天学习的知识，解决这个问题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634760" y="549756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你的想法。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6" descr="数学 五上_页面_058"/>
          <p:cNvPicPr/>
          <p:nvPr/>
        </p:nvPicPr>
        <p:blipFill>
          <a:blip r:embed="rId1"/>
          <a:srcRect l="12095" t="34013" r="81882" b="59986"/>
          <a:stretch/>
        </p:blipFill>
        <p:spPr>
          <a:xfrm>
            <a:off x="755640" y="1771560"/>
            <a:ext cx="420840" cy="71136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0"/>
          <p:cNvSpPr/>
          <p:nvPr/>
        </p:nvSpPr>
        <p:spPr>
          <a:xfrm>
            <a:off x="755640" y="1844640"/>
            <a:ext cx="4316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179280" y="1700280"/>
            <a:ext cx="1943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22200" y="1197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3" descr="74"/>
          <p:cNvPicPr/>
          <p:nvPr/>
        </p:nvPicPr>
        <p:blipFill>
          <a:blip r:embed="rId2"/>
          <a:stretch/>
        </p:blipFill>
        <p:spPr>
          <a:xfrm>
            <a:off x="2338560" y="1413000"/>
            <a:ext cx="3282840" cy="143964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14"/>
          <p:cNvSpPr/>
          <p:nvPr/>
        </p:nvSpPr>
        <p:spPr>
          <a:xfrm>
            <a:off x="2236320" y="2924280"/>
            <a:ext cx="53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剪下的长方形纸条的长度计算面积，并完成下表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15" descr="75"/>
          <p:cNvPicPr/>
          <p:nvPr/>
        </p:nvPicPr>
        <p:blipFill>
          <a:blip r:embed="rId3"/>
          <a:stretch/>
        </p:blipFill>
        <p:spPr>
          <a:xfrm>
            <a:off x="512640" y="3502080"/>
            <a:ext cx="72979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6"/>
          <p:cNvSpPr/>
          <p:nvPr/>
        </p:nvSpPr>
        <p:spPr>
          <a:xfrm>
            <a:off x="2411280" y="4005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3189240" y="400536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3995640" y="400536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6.8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5076720" y="400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6012000" y="400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21"/>
          <p:cNvSpPr/>
          <p:nvPr/>
        </p:nvSpPr>
        <p:spPr>
          <a:xfrm>
            <a:off x="6875640" y="4005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7"/>
          <p:cNvSpPr/>
          <p:nvPr/>
        </p:nvSpPr>
        <p:spPr>
          <a:xfrm>
            <a:off x="4197240" y="371628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用今天学习的知识，解决这个问题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2082600" y="448956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你的想法。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12" descr="数学 五上_页面_058"/>
          <p:cNvPicPr/>
          <p:nvPr/>
        </p:nvPicPr>
        <p:blipFill>
          <a:blip r:embed="rId1"/>
          <a:srcRect l="12095" t="34013" r="81882" b="59986"/>
          <a:stretch/>
        </p:blipFill>
        <p:spPr>
          <a:xfrm>
            <a:off x="1476360" y="1916280"/>
            <a:ext cx="420840" cy="7110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7"/>
          <p:cNvSpPr/>
          <p:nvPr/>
        </p:nvSpPr>
        <p:spPr>
          <a:xfrm>
            <a:off x="1476360" y="1989000"/>
            <a:ext cx="4316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1042920" y="1557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16" descr="76"/>
          <p:cNvPicPr/>
          <p:nvPr/>
        </p:nvPicPr>
        <p:blipFill>
          <a:blip r:embed="rId2"/>
          <a:stretch/>
        </p:blipFill>
        <p:spPr>
          <a:xfrm>
            <a:off x="2050920" y="1413000"/>
            <a:ext cx="3976920" cy="215712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7"/>
          <p:cNvSpPr/>
          <p:nvPr/>
        </p:nvSpPr>
        <p:spPr>
          <a:xfrm>
            <a:off x="3708360" y="30495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5"/>
          <p:cNvSpPr/>
          <p:nvPr/>
        </p:nvSpPr>
        <p:spPr>
          <a:xfrm>
            <a:off x="4125960" y="5373720"/>
            <a:ext cx="15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用今天学习的知识，解决这个问题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2105640" y="602136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你的想法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0" descr="数学 五上_页面_058"/>
          <p:cNvPicPr/>
          <p:nvPr/>
        </p:nvPicPr>
        <p:blipFill>
          <a:blip r:embed="rId1"/>
          <a:srcRect l="12095" t="64089" r="80660" b="29890"/>
          <a:stretch/>
        </p:blipFill>
        <p:spPr>
          <a:xfrm>
            <a:off x="1116000" y="1484280"/>
            <a:ext cx="433440" cy="5414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5"/>
          <p:cNvSpPr/>
          <p:nvPr/>
        </p:nvSpPr>
        <p:spPr>
          <a:xfrm>
            <a:off x="1116000" y="1557360"/>
            <a:ext cx="86364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826920" y="1413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16" descr="77"/>
          <p:cNvPicPr/>
          <p:nvPr/>
        </p:nvPicPr>
        <p:blipFill>
          <a:blip r:embed="rId2"/>
          <a:stretch/>
        </p:blipFill>
        <p:spPr>
          <a:xfrm>
            <a:off x="1692360" y="1197000"/>
            <a:ext cx="5715000" cy="21589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17"/>
          <p:cNvSpPr/>
          <p:nvPr/>
        </p:nvSpPr>
        <p:spPr>
          <a:xfrm>
            <a:off x="1403280" y="3417840"/>
            <a:ext cx="64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鸟的骨骼约是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人的骨骼约是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一个人重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骨骼约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8"/>
          <p:cNvSpPr/>
          <p:nvPr/>
        </p:nvSpPr>
        <p:spPr>
          <a:xfrm>
            <a:off x="3780000" y="44179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18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25"/>
          <p:cNvSpPr/>
          <p:nvPr/>
        </p:nvSpPr>
        <p:spPr>
          <a:xfrm>
            <a:off x="468360" y="342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字母与字母之间的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加号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能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圆点代替，也不能省略不写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6"/>
          <p:cNvSpPr/>
          <p:nvPr/>
        </p:nvSpPr>
        <p:spPr>
          <a:xfrm>
            <a:off x="3533760" y="2013120"/>
            <a:ext cx="10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用字母表示简明易记，便于应用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28"/>
          <p:cNvSpPr/>
          <p:nvPr/>
        </p:nvSpPr>
        <p:spPr>
          <a:xfrm>
            <a:off x="431640" y="27241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号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·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或省略不写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29" descr="u=4126671121,2988719327&amp;fm=0&amp;gp=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5084640"/>
            <a:ext cx="1407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474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77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1908000" y="226044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初步了解用含有字母的式子表示数量意义，掌握用含有字母的式子表示数量的方法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3170160" y="3860640"/>
            <a:ext cx="40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培养学生抽象思维能力和概括能力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05"/>
          <p:cNvPicPr/>
          <p:nvPr/>
        </p:nvPicPr>
        <p:blipFill>
          <a:blip r:embed="rId1"/>
          <a:stretch/>
        </p:blipFill>
        <p:spPr>
          <a:xfrm>
            <a:off x="6172200" y="2187720"/>
            <a:ext cx="2971800" cy="1269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05"/>
          <p:cNvPicPr/>
          <p:nvPr/>
        </p:nvPicPr>
        <p:blipFill>
          <a:blip r:embed="rId2"/>
          <a:stretch/>
        </p:blipFill>
        <p:spPr>
          <a:xfrm>
            <a:off x="6172200" y="3406680"/>
            <a:ext cx="2971800" cy="1270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05"/>
          <p:cNvPicPr/>
          <p:nvPr/>
        </p:nvPicPr>
        <p:blipFill>
          <a:blip r:embed="rId3"/>
          <a:stretch/>
        </p:blipFill>
        <p:spPr>
          <a:xfrm>
            <a:off x="6172200" y="4702320"/>
            <a:ext cx="2971800" cy="126972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5"/>
          <p:cNvSpPr/>
          <p:nvPr/>
        </p:nvSpPr>
        <p:spPr>
          <a:xfrm>
            <a:off x="457200" y="1730520"/>
            <a:ext cx="83818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张嘴，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只眼睛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条腿，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声扑通跳下水；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3520" y="3618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张嘴，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只眼睛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条腿，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声扑通跳下水；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372960" y="4975200"/>
            <a:ext cx="80866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张嘴，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只眼睛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条腿，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声扑通跳下水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990720" y="1654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川在唱一首永远也唱不完的儿歌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同侧圆角矩形 8"/>
          <p:cNvSpPr/>
          <p:nvPr/>
        </p:nvSpPr>
        <p:spPr>
          <a:xfrm>
            <a:off x="43020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直线连接符 21"/>
          <p:cNvSpPr/>
          <p:nvPr/>
        </p:nvSpPr>
        <p:spPr>
          <a:xfrm flipV="1">
            <a:off x="430200" y="1492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2" descr="72"/>
          <p:cNvPicPr/>
          <p:nvPr/>
        </p:nvPicPr>
        <p:blipFill>
          <a:blip r:embed="rId1"/>
          <a:stretch/>
        </p:blipFill>
        <p:spPr>
          <a:xfrm>
            <a:off x="2484360" y="2492280"/>
            <a:ext cx="1836720" cy="24494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6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1471680" cy="196380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24"/>
          <p:cNvSpPr/>
          <p:nvPr/>
        </p:nvSpPr>
        <p:spPr>
          <a:xfrm>
            <a:off x="3924360" y="1989000"/>
            <a:ext cx="2951280" cy="790560"/>
          </a:xfrm>
          <a:prstGeom prst="wedgeRoundRectCallout">
            <a:avLst>
              <a:gd name="adj1" fmla="val -56226"/>
              <a:gd name="adj2" fmla="val 4387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比小红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椭圆形标注 15"/>
          <p:cNvSpPr/>
          <p:nvPr/>
        </p:nvSpPr>
        <p:spPr>
          <a:xfrm>
            <a:off x="324000" y="1413000"/>
            <a:ext cx="3024000" cy="115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时，爸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211640" y="3036960"/>
          <a:ext cx="4608360" cy="3200400"/>
        </p:xfrm>
        <a:graphic>
          <a:graphicData uri="http://schemas.openxmlformats.org/drawingml/2006/table">
            <a:tbl>
              <a:tblPr/>
              <a:tblGrid>
                <a:gridCol w="2305080"/>
                <a:gridCol w="2303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红的年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爸爸的年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Text Box 4"/>
          <p:cNvSpPr/>
          <p:nvPr/>
        </p:nvSpPr>
        <p:spPr>
          <a:xfrm>
            <a:off x="5146560" y="38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875640" y="3860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椭圆形标注 21"/>
          <p:cNvSpPr/>
          <p:nvPr/>
        </p:nvSpPr>
        <p:spPr>
          <a:xfrm>
            <a:off x="324000" y="1413000"/>
            <a:ext cx="3024000" cy="115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时，爸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146560" y="443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687564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椭圆形标注 24"/>
          <p:cNvSpPr/>
          <p:nvPr/>
        </p:nvSpPr>
        <p:spPr>
          <a:xfrm>
            <a:off x="324000" y="1413000"/>
            <a:ext cx="3024000" cy="115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时，爸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14656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6875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形标注 27"/>
          <p:cNvSpPr/>
          <p:nvPr/>
        </p:nvSpPr>
        <p:spPr>
          <a:xfrm>
            <a:off x="324000" y="1413000"/>
            <a:ext cx="3024000" cy="115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会算吗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930920" y="558972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7307280" y="558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同侧圆角矩形 18"/>
          <p:cNvSpPr/>
          <p:nvPr/>
        </p:nvSpPr>
        <p:spPr>
          <a:xfrm>
            <a:off x="382680" y="896760"/>
            <a:ext cx="200160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直线连接符 21"/>
          <p:cNvSpPr/>
          <p:nvPr/>
        </p:nvSpPr>
        <p:spPr>
          <a:xfrm flipV="1">
            <a:off x="382680" y="155232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859280" y="995400"/>
            <a:ext cx="3981600" cy="1857240"/>
          </a:xfrm>
          <a:prstGeom prst="rect">
            <a:avLst/>
          </a:prstGeom>
          <a:ln w="0">
            <a:noFill/>
          </a:ln>
        </p:spPr>
      </p:pic>
      <p:grpSp>
        <p:nvGrpSpPr>
          <p:cNvPr id="509" name="组合 6"/>
          <p:cNvGrpSpPr/>
          <p:nvPr/>
        </p:nvGrpSpPr>
        <p:grpSpPr>
          <a:xfrm>
            <a:off x="179280" y="1989000"/>
            <a:ext cx="6193080" cy="2952720"/>
            <a:chOff x="179280" y="1989000"/>
            <a:chExt cx="6193080" cy="2952720"/>
          </a:xfrm>
        </p:grpSpPr>
        <p:pic>
          <p:nvPicPr>
            <p:cNvPr id="510" name="Picture 3" descr=""/>
            <p:cNvPicPr/>
            <p:nvPr/>
          </p:nvPicPr>
          <p:blipFill>
            <a:blip r:embed="rId2"/>
            <a:stretch/>
          </p:blipFill>
          <p:spPr>
            <a:xfrm>
              <a:off x="4788000" y="2830320"/>
              <a:ext cx="158436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AutoShape 24"/>
            <p:cNvSpPr/>
            <p:nvPr/>
          </p:nvSpPr>
          <p:spPr>
            <a:xfrm>
              <a:off x="179280" y="1989000"/>
              <a:ext cx="4104720" cy="1584360"/>
            </a:xfrm>
            <a:prstGeom prst="wedgeRoundRectCallout">
              <a:avLst>
                <a:gd name="adj1" fmla="val 61578"/>
                <a:gd name="adj2" fmla="val 40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这些式子，每个只能某一年爸爸的年龄。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Text Box 4"/>
          <p:cNvSpPr/>
          <p:nvPr/>
        </p:nvSpPr>
        <p:spPr>
          <a:xfrm>
            <a:off x="324000" y="4724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用一个式子简明地表示出任何一年爸爸的年龄吗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6"/>
          <p:cNvGrpSpPr/>
          <p:nvPr/>
        </p:nvGrpSpPr>
        <p:grpSpPr>
          <a:xfrm>
            <a:off x="468360" y="865080"/>
            <a:ext cx="2071800" cy="661680"/>
            <a:chOff x="468360" y="865080"/>
            <a:chExt cx="2071800" cy="661680"/>
          </a:xfrm>
        </p:grpSpPr>
        <p:sp>
          <p:nvSpPr>
            <p:cNvPr id="514" name="直线连接符 21"/>
            <p:cNvSpPr/>
            <p:nvPr/>
          </p:nvSpPr>
          <p:spPr>
            <a:xfrm flipV="1">
              <a:off x="468360" y="15206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同侧圆角矩形 9"/>
            <p:cNvSpPr/>
            <p:nvPr/>
          </p:nvSpPr>
          <p:spPr>
            <a:xfrm>
              <a:off x="468360" y="86508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同侧圆角矩形 10"/>
          <p:cNvSpPr/>
          <p:nvPr/>
        </p:nvSpPr>
        <p:spPr>
          <a:xfrm>
            <a:off x="444600" y="852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250920" y="1484280"/>
            <a:ext cx="86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用一个式子简明地表示出任何一年爸爸的年龄吗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"/>
          <p:cNvGrpSpPr/>
          <p:nvPr/>
        </p:nvGrpSpPr>
        <p:grpSpPr>
          <a:xfrm>
            <a:off x="755640" y="2739960"/>
            <a:ext cx="2235240" cy="3065400"/>
            <a:chOff x="755640" y="2739960"/>
            <a:chExt cx="2235240" cy="3065400"/>
          </a:xfrm>
        </p:grpSpPr>
        <p:pic>
          <p:nvPicPr>
            <p:cNvPr id="519" name="Picture 10" descr=""/>
            <p:cNvPicPr/>
            <p:nvPr/>
          </p:nvPicPr>
          <p:blipFill>
            <a:blip r:embed="rId1"/>
            <a:stretch/>
          </p:blipFill>
          <p:spPr>
            <a:xfrm>
              <a:off x="755640" y="3099960"/>
              <a:ext cx="1857600" cy="27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11" descr=""/>
            <p:cNvPicPr/>
            <p:nvPr/>
          </p:nvPicPr>
          <p:blipFill>
            <a:blip r:embed="rId2"/>
            <a:stretch/>
          </p:blipFill>
          <p:spPr>
            <a:xfrm>
              <a:off x="2124000" y="2739960"/>
              <a:ext cx="8668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AutoShape 24"/>
          <p:cNvSpPr/>
          <p:nvPr/>
        </p:nvSpPr>
        <p:spPr>
          <a:xfrm>
            <a:off x="2627280" y="2276640"/>
            <a:ext cx="3529080" cy="1511280"/>
          </a:xfrm>
          <a:prstGeom prst="wedgeRoundRectCallout">
            <a:avLst>
              <a:gd name="adj1" fmla="val -60703"/>
              <a:gd name="adj2" fmla="val 371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能用关系式表示爸爸的年龄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4"/>
          <p:cNvSpPr/>
          <p:nvPr/>
        </p:nvSpPr>
        <p:spPr>
          <a:xfrm>
            <a:off x="2484360" y="2925720"/>
            <a:ext cx="5472360" cy="790560"/>
          </a:xfrm>
          <a:prstGeom prst="wedgeRoundRectCallout">
            <a:avLst>
              <a:gd name="adj1" fmla="val -56166"/>
              <a:gd name="adj2" fmla="val 485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红的年龄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＝爸爸的年龄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900000" y="4896000"/>
            <a:ext cx="1560600" cy="1412640"/>
          </a:xfrm>
          <a:prstGeom prst="rect">
            <a:avLst/>
          </a:prstGeom>
          <a:ln w="0">
            <a:noFill/>
          </a:ln>
        </p:spPr>
      </p:pic>
      <p:grpSp>
        <p:nvGrpSpPr>
          <p:cNvPr id="524" name="组合 9"/>
          <p:cNvGrpSpPr/>
          <p:nvPr/>
        </p:nvGrpSpPr>
        <p:grpSpPr>
          <a:xfrm>
            <a:off x="468360" y="2708280"/>
            <a:ext cx="2232000" cy="2411280"/>
            <a:chOff x="468360" y="2708280"/>
            <a:chExt cx="2232000" cy="2411280"/>
          </a:xfrm>
        </p:grpSpPr>
        <p:pic>
          <p:nvPicPr>
            <p:cNvPr id="525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2852280"/>
              <a:ext cx="2190600" cy="22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3" descr=""/>
            <p:cNvPicPr/>
            <p:nvPr/>
          </p:nvPicPr>
          <p:blipFill>
            <a:blip r:embed="rId3"/>
            <a:stretch/>
          </p:blipFill>
          <p:spPr>
            <a:xfrm>
              <a:off x="1980360" y="2708280"/>
              <a:ext cx="72000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7" name="Text Box 4"/>
          <p:cNvSpPr/>
          <p:nvPr/>
        </p:nvSpPr>
        <p:spPr>
          <a:xfrm>
            <a:off x="250920" y="1484280"/>
            <a:ext cx="86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用一个式子简明地表示出任何一年爸爸的年龄吗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AutoShape 24"/>
          <p:cNvSpPr/>
          <p:nvPr/>
        </p:nvSpPr>
        <p:spPr>
          <a:xfrm>
            <a:off x="2843280" y="2276640"/>
            <a:ext cx="3529080" cy="1511280"/>
          </a:xfrm>
          <a:prstGeom prst="wedgeRoundRectCallout">
            <a:avLst>
              <a:gd name="adj1" fmla="val -60703"/>
              <a:gd name="adj2" fmla="val 371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用含有字母的式子表示爸爸的年龄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AutoShape 24"/>
          <p:cNvSpPr/>
          <p:nvPr/>
        </p:nvSpPr>
        <p:spPr>
          <a:xfrm>
            <a:off x="2771640" y="2060640"/>
            <a:ext cx="5796000" cy="2160360"/>
          </a:xfrm>
          <a:prstGeom prst="wedgeRoundRectCallout">
            <a:avLst>
              <a:gd name="adj1" fmla="val -62402"/>
              <a:gd name="adj2" fmla="val 240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红的年龄在不同的年份是不同的，可以用字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。这里的字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是任意一个符合实际意义的数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AutoShape 24"/>
          <p:cNvSpPr/>
          <p:nvPr/>
        </p:nvSpPr>
        <p:spPr>
          <a:xfrm>
            <a:off x="2771640" y="2421000"/>
            <a:ext cx="5185080" cy="1512720"/>
          </a:xfrm>
          <a:prstGeom prst="wedgeRoundRectCallout">
            <a:avLst>
              <a:gd name="adj1" fmla="val -62402"/>
              <a:gd name="adj2" fmla="val 2997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小红的年龄用字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时，爸爸的年龄就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AutoShape 24"/>
          <p:cNvSpPr/>
          <p:nvPr/>
        </p:nvSpPr>
        <p:spPr>
          <a:xfrm>
            <a:off x="3059280" y="4581360"/>
            <a:ext cx="5184720" cy="1511640"/>
          </a:xfrm>
          <a:prstGeom prst="wedgeRoundRectCallout">
            <a:avLst>
              <a:gd name="adj1" fmla="val -62402"/>
              <a:gd name="adj2" fmla="val 2997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能怎样表示呢？你喜欢哪一种表示方法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755640" y="876240"/>
          <a:ext cx="4608360" cy="3200400"/>
        </p:xfrm>
        <a:graphic>
          <a:graphicData uri="http://schemas.openxmlformats.org/drawingml/2006/table">
            <a:tbl>
              <a:tblPr/>
              <a:tblGrid>
                <a:gridCol w="2303640"/>
                <a:gridCol w="2304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红的年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爸爸的年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4"/>
          <p:cNvSpPr/>
          <p:nvPr/>
        </p:nvSpPr>
        <p:spPr>
          <a:xfrm>
            <a:off x="1692360" y="1598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3419640" y="15987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692360" y="2247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419640" y="2247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692360" y="2822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3419640" y="28224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692360" y="35434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780000" y="35434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826920" y="4581360"/>
            <a:ext cx="1562400" cy="141300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24"/>
          <p:cNvSpPr/>
          <p:nvPr/>
        </p:nvSpPr>
        <p:spPr>
          <a:xfrm>
            <a:off x="3059280" y="4221000"/>
            <a:ext cx="5184720" cy="2087640"/>
          </a:xfrm>
          <a:prstGeom prst="wedgeRoundRectCallout">
            <a:avLst>
              <a:gd name="adj1" fmla="val -62185"/>
              <a:gd name="adj2" fmla="val -137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是一个具体的数，它可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2,3,4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小红的年龄，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无限大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3059280" y="4581360"/>
            <a:ext cx="5616360" cy="863640"/>
          </a:xfrm>
          <a:prstGeom prst="wedgeRoundRectCallout">
            <a:avLst>
              <a:gd name="adj1" fmla="val -62402"/>
              <a:gd name="adj2" fmla="val 2997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爸爸的年龄是多少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1619280" y="3543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276720" y="35434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050920" y="55198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276720" y="551664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5148360" y="551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187280" y="6238800"/>
            <a:ext cx="71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当小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时，爸爸的年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组合 6"/>
          <p:cNvGrpSpPr/>
          <p:nvPr/>
        </p:nvGrpSpPr>
        <p:grpSpPr>
          <a:xfrm>
            <a:off x="324000" y="1700280"/>
            <a:ext cx="2860560" cy="3049560"/>
            <a:chOff x="324000" y="1700280"/>
            <a:chExt cx="2860560" cy="3049560"/>
          </a:xfrm>
        </p:grpSpPr>
        <p:pic>
          <p:nvPicPr>
            <p:cNvPr id="551" name="Picture 2" descr=""/>
            <p:cNvPicPr/>
            <p:nvPr/>
          </p:nvPicPr>
          <p:blipFill>
            <a:blip r:embed="rId1"/>
            <a:stretch/>
          </p:blipFill>
          <p:spPr>
            <a:xfrm>
              <a:off x="540000" y="1700280"/>
              <a:ext cx="2592000" cy="30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3" descr=""/>
            <p:cNvPicPr/>
            <p:nvPr/>
          </p:nvPicPr>
          <p:blipFill>
            <a:blip r:embed="rId2"/>
            <a:stretch/>
          </p:blipFill>
          <p:spPr>
            <a:xfrm>
              <a:off x="2556000" y="2852640"/>
              <a:ext cx="6285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3" descr=""/>
            <p:cNvPicPr/>
            <p:nvPr/>
          </p:nvPicPr>
          <p:blipFill>
            <a:blip r:embed="rId3"/>
            <a:stretch/>
          </p:blipFill>
          <p:spPr>
            <a:xfrm>
              <a:off x="324000" y="2348280"/>
              <a:ext cx="62856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Text Box 4"/>
          <p:cNvSpPr/>
          <p:nvPr/>
        </p:nvSpPr>
        <p:spPr>
          <a:xfrm>
            <a:off x="324000" y="470700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月球上，人能举起物体的质量是地球上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AutoShape 24"/>
          <p:cNvSpPr/>
          <p:nvPr/>
        </p:nvSpPr>
        <p:spPr>
          <a:xfrm>
            <a:off x="3132000" y="1197000"/>
            <a:ext cx="4680000" cy="1511280"/>
          </a:xfrm>
          <a:prstGeom prst="wedgeRoundRectCallout">
            <a:avLst>
              <a:gd name="adj1" fmla="val -63129"/>
              <a:gd name="adj2" fmla="val 28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在地球上举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我在月球上能举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203640" y="2997360"/>
          <a:ext cx="5400720" cy="374940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在地球上能举起物体的质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在月球上能举起物体的质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Text Box 4"/>
          <p:cNvSpPr/>
          <p:nvPr/>
        </p:nvSpPr>
        <p:spPr>
          <a:xfrm>
            <a:off x="4284720" y="419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443640" y="41911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4"/>
          <p:cNvSpPr/>
          <p:nvPr/>
        </p:nvSpPr>
        <p:spPr>
          <a:xfrm>
            <a:off x="3132000" y="1197000"/>
            <a:ext cx="4680000" cy="1511280"/>
          </a:xfrm>
          <a:prstGeom prst="wedgeRoundRectCallout">
            <a:avLst>
              <a:gd name="adj1" fmla="val -63129"/>
              <a:gd name="adj2" fmla="val 28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在地球上举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我在月球上能举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4284720" y="4849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6443640" y="4849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4"/>
          <p:cNvSpPr/>
          <p:nvPr/>
        </p:nvSpPr>
        <p:spPr>
          <a:xfrm>
            <a:off x="3132000" y="1197000"/>
            <a:ext cx="4680000" cy="1511280"/>
          </a:xfrm>
          <a:prstGeom prst="wedgeRoundRectCallout">
            <a:avLst>
              <a:gd name="adj1" fmla="val -63129"/>
              <a:gd name="adj2" fmla="val 28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在地球上举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我在月球上能举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4284720" y="54975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443640" y="54975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4"/>
          <p:cNvSpPr/>
          <p:nvPr/>
        </p:nvSpPr>
        <p:spPr>
          <a:xfrm>
            <a:off x="2916360" y="1628640"/>
            <a:ext cx="2160360" cy="936720"/>
          </a:xfrm>
          <a:prstGeom prst="wedgeRoundRectCallout">
            <a:avLst>
              <a:gd name="adj1" fmla="val -63129"/>
              <a:gd name="adj2" fmla="val 28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会算吗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4067280" y="60642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6948360" y="60642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同侧圆角矩形 21"/>
          <p:cNvSpPr/>
          <p:nvPr/>
        </p:nvSpPr>
        <p:spPr>
          <a:xfrm>
            <a:off x="433440" y="9381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直线连接符 21"/>
          <p:cNvSpPr/>
          <p:nvPr/>
        </p:nvSpPr>
        <p:spPr>
          <a:xfrm flipV="1">
            <a:off x="433440" y="15951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8:54:48Z</dcterms:created>
  <dc:creator/>
  <dc:description/>
  <dc:language>en-US</dc:language>
  <cp:lastModifiedBy>User</cp:lastModifiedBy>
  <dcterms:modified xsi:type="dcterms:W3CDTF">2016-04-16T00:13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