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type.wav" ContentType="audio/x-wav"/>
  <Override PartName="/ppt/media/chimes.wav" ContentType="audio/x-wav"/>
  <Override PartName="/ppt/media/camera.wav" ContentType="audio/x-wav"/>
  <Override PartName="/ppt/media/image9.gif" ContentType="image/gif"/>
  <Override PartName="/ppt/media/WRONG1.WAV" ContentType="audio/x-wav"/>
  <Override PartName="/ppt/media/image8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6.wmf" ContentType="image/x-wmf"/>
  <Override PartName="/ppt/media/image7.png" ContentType="image/png"/>
  <Override PartName="/ppt/media/click.wav" ContentType="audio/x-wav"/>
  <Override PartName="/ppt/media/Button18.wav" ContentType="audio/x-wav"/>
  <Override PartName="/ppt/media/image5.png" ContentType="image/png"/>
  <Override PartName="/ppt/media/laser.wav" ContentType="audio/x-wav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7C54-FF67-4FFF-9046-DBC40B34FC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E5A5-3494-414D-9C6B-BD9CE80133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F868F-B850-48E1-ABE5-CD71C8CE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D4B09-BB43-4C63-8254-731309D9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62BA3-E5E8-416B-88E4-7822CF2F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82B92-B8A1-4144-A116-BF1A9946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C419C-864F-4B0F-8F28-5580B521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99656-0D22-4E0B-9582-C1376B80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16BFE-DB43-4617-9D08-348FC163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90FBD-550A-4332-9909-78CD5A1F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3E971-4FBF-4A13-9724-01D681C1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6CC3B-5A9A-43C2-93A4-80191C8B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4D84E-9F64-4993-94BB-9C317084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01AF0-5F74-4291-B88C-2548C65C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5C4C6-A89D-4F0A-B8D0-C9271D7A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C5F4E-40B6-4034-8544-198B4E37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B5E67-17A5-498F-97DE-A6449627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A05FD-FD98-4EE3-95FE-155B61F1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28044-2A8E-444E-AC7E-3EF80A4E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B3AA1-65A7-4A4B-8B82-396837CD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FAFF2-D6D1-4440-8BC9-AB42AC11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1F2B4-195B-4231-9187-6E74FD06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D9616-01FB-413C-9399-9A5F70C7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2699A-4CCE-4463-A94C-70F2D757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FBD8E-2F14-46AC-B7D2-5111D7C3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08AF1-484C-4509-9AE7-E0EB3312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4E1DF-6CCD-4FF9-95E4-FF847D92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5B9AE-7D62-444E-AB5E-1C8CEE5B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866AC-532F-4735-B66A-60E49E20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5E26A-9678-4705-B15C-17630C8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96AB2-ABB1-4BFF-A326-E5DD5C2C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C58B1-0168-436F-A047-DBCF62D8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0E1-14D1-4F06-8334-345D2C9B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17356-5649-4B80-B49A-DF823B3A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404FC-D950-4D06-B2F5-88CC8401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850D9-386E-4B02-A0EB-51B35AAA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6F76D-C229-4F6C-A89D-590A6755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764A8-15D5-4801-8B9C-AED71021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6A0F4-F166-4C22-B247-EF832AD2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E472F-8648-48F1-8A32-DF8784DB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967E2-BBD5-417D-A1BB-CC1867BB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7E808-3178-403C-85C6-91C0C588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8BB74-469E-49B6-B821-17D93101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01B-F1D5-4C36-B782-CF43A123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01CC0-57D7-45E8-B228-D8CB1A47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30941-605D-4AA9-AE81-5AA1D142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F658F-AC93-474C-8404-D695DCEC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05945-52D0-4053-A2D8-1CF0AFC4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5D37D-BC43-41E6-A82B-CA5EB077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60C2B-4647-46F8-90B9-0838BF89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BA9E5-9DC9-41E6-BF8D-8FA79E9D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C80D9-9A50-40CE-9B8C-3D1094C8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993B8-7825-441E-BFD9-2462E658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3DDB9-1987-48FA-9380-9C172B2C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BD2-FA36-466E-89FB-B803E108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CD1E8-0BD8-4B4D-9DA0-9520E049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C455D-AF34-46F1-9094-1C75A7E1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3BD17-FC66-470F-B950-3B26B7F4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849E9-0420-45FB-81D6-DB137EF5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04B7E-2259-41FE-9A75-ACDD776F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A79C7-4593-49A2-A409-8B41D46E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C118C-3932-434C-A0B4-64305640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663-568B-40D1-9693-11401DC9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649-2557-4572-B5C9-7A5EBE4F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B16-C777-462C-8485-44A21ADD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427-9C38-44A4-BE86-33A1B749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1A0-C4B6-4635-8510-3E7D965D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692-A093-4697-83C2-37C8A7DA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021-73E0-45FF-9E33-9CB5C47D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FBA-E696-4437-8215-BB780236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D82-BFFE-4A6B-9237-2B52200B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89D7-8E70-4D50-8ECD-C51C584B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1889-82FE-484D-BCE3-AD5A2032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F204-A8C2-4B02-A4C6-D0827CED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87FB-FC45-4979-8D65-F62AE07B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9B85-1E3D-4126-8FCF-DFA7F786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02AC-A1C7-4C62-BB8E-400A3BC9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6C65-A664-4602-812F-D5405F18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D746-D27F-4778-A541-ED0DAE17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E6AE-0569-4432-BC17-4DD446BB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E184-170D-45A4-9300-85FEC55F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75DC-9920-4CC4-A16E-73F26C75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05B0-F324-4706-969B-1CA39F28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E3EC-1D74-497A-962A-E72B7740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BDEDD-7C25-4E45-B43B-79959614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A9A4-7361-4999-B1DC-EAE369EF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9812-6AAB-4C61-AF12-68594581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08900-447A-4904-8B50-2FE29085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ED92-9841-4F9A-81CC-4B9E5979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CF605-BB2A-4B64-A32C-F6EE4444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971C-5318-4FE4-A3A8-B32277B0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D27B-01C5-4EB6-906E-6B15FF77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A6B5D-7980-426E-A86E-E20D1252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3787-E568-4FC5-B4D5-276DB967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184C-144A-4989-9BBC-3AFD8CEC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DF7B3-67CB-4E0F-977F-B65357DA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1434-C4E0-4958-B006-5D1E26BC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93B1-4EB1-4233-8D93-C2C5D898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7091D-A008-4B5C-A1DE-D4E167E7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CFE6F-B7B6-4FB1-AC5D-E6A42F07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E1374-12F9-4E6D-A0E4-822308BF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8295-EA62-4420-BB3C-704F7C76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135A-4832-4E86-AB02-54B83597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AC89-44FD-4AD6-A54E-D384CEEB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F9BBB-7562-4B0D-A470-CC47EF26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631A5-B3D6-4AA3-B9EB-1D138E97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672AB-2A1A-4571-9ACB-BBB04A93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28E8C-0C7E-455F-832E-5542A0E6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2E6A4-18C9-44E7-8C26-7867B1EF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EC0A2-8048-4CDE-8192-4160D192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CC6C8-72DD-4247-8A82-5344D1B8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9DEE2-558E-459C-97DD-CD84C199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7403B-530D-460B-9ED9-DCDD79E5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49C97-60E9-490F-BE22-BB3D6E1C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41E5B-A2B8-4A4D-B04B-9777EA79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2FF3E-AB72-4915-99D4-90430AFE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07CB0-2B69-4C58-ACE0-5A0371B2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96F7-0713-4B73-B47C-5C6C2045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3A188-F584-4C67-AA2D-0F6C81E9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C5093-4823-469E-B413-71832BC0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36063-1F84-4692-8074-89A2A147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25890-B233-44BB-850B-CD9D0F37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48DFE-BD6B-469B-ADD4-3D32B444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90A7C-577F-4357-9FDC-8FBDAEA5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4A5A5-2FA6-44C6-85AD-349D315E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EF1CB-6ED7-428E-8516-6A444DA3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E83F3-5B7C-49EE-B2EF-2EF8FFE9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E1582-CA4E-4D94-89CE-B698CD0B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36B85-30E5-4FC0-BE52-3B366A0C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BEAAD-87E8-452E-89F7-25F41F54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8F4BA-9555-4008-ABE2-02118AEE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5CA47-E7DB-4CE4-B8F2-03E7355A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AFB07-2F75-4463-AC45-BE1B004E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98B93-2D89-4AE9-92B8-9A6155A5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8C5BB-E5CD-4D96-960D-3BCCAFBE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98F08-825D-480A-889D-C13A9C02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B464F-6DC9-4137-A6CB-25F13DF1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9DA99-DB93-4961-889B-BFF3893B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F5760-35D0-4AE7-B7CA-7FF6B514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99A9E-85BB-4D41-A01D-F711AF5D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04DA7-14CF-4164-813D-6E5D2FA5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F5042-E79F-41C9-8DFC-2EFCDDE7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E6EE0-532C-4BFD-A52E-A91E42C3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6D0EB-D863-4944-81FA-F7142A50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9395A-475F-45AB-8391-3D2D6129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4BA10-C388-42B4-9907-AC99EC55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8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5072-AA34-4734-915C-BA96D1BA18DF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2E0A-FA38-4130-8B68-436AEC0013C1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D0D3-2BDB-4308-80EA-0B7FAE862986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0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B3B4-059F-4D3C-ADA4-E99002D3FB67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691E-5D45-4811-B5D9-03921578F82A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405F-93C6-4DE6-A2CC-73D78A991216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707B-3F74-4AAF-814B-A5BFF6AF1C7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7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DF04-11A0-4507-B5FC-17129B6A770B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13A3-AC8D-4B95-B034-74C4639B9F00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3DBF-DD7F-45E6-BE3A-5D558B0EB82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22D3-6CAF-4A5B-820A-959539E0DFBD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B0BA-A177-4E52-B27F-4C0D90F59BEA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WRONG1.WAV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D6&#312;+qq%B1%ED%C7%E9&amp;in=5190&amp;cl=2&amp;cm=1&amp;sc=0&amp;lm=-1&amp;pn=19&amp;rn=1&amp;di=1071799436&amp;ln=647&amp;fr=ala0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Button18.wav"/><Relationship Id="rId3" Type="http://schemas.openxmlformats.org/officeDocument/2006/relationships/audio" Target="../media/Button18.wav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Button18.wav"/><Relationship Id="rId3" Type="http://schemas.openxmlformats.org/officeDocument/2006/relationships/audio" Target="../media/Button18.wav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1"/>
          <p:cNvSpPr/>
          <p:nvPr/>
        </p:nvSpPr>
        <p:spPr>
          <a:xfrm>
            <a:off x="2556000" y="115560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2</a:t>
            </a: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用字母表示数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直线连接符 21"/>
          <p:cNvSpPr/>
          <p:nvPr/>
        </p:nvSpPr>
        <p:spPr>
          <a:xfrm>
            <a:off x="2700360" y="1989000"/>
            <a:ext cx="51116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"/>
          <p:cNvSpPr/>
          <p:nvPr/>
        </p:nvSpPr>
        <p:spPr>
          <a:xfrm>
            <a:off x="3419640" y="314172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2.3 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用字母表示加法运算定律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4038480" cy="18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用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表示边长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用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表示面积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用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表示周长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5292720" y="1165320"/>
          <a:ext cx="3024360" cy="314784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31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651" name="Text Box 9"/>
          <p:cNvSpPr/>
          <p:nvPr/>
        </p:nvSpPr>
        <p:spPr>
          <a:xfrm>
            <a:off x="6661440" y="43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486144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11"/>
          <p:cNvSpPr/>
          <p:nvPr/>
        </p:nvSpPr>
        <p:spPr>
          <a:xfrm>
            <a:off x="179280" y="479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作：</a:t>
            </a: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平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示</a:t>
            </a: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乘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12"/>
          <p:cNvSpPr/>
          <p:nvPr/>
        </p:nvSpPr>
        <p:spPr>
          <a:xfrm>
            <a:off x="4711320" y="479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省略乘号时，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一般把数写在字母的前面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13"/>
          <p:cNvSpPr/>
          <p:nvPr/>
        </p:nvSpPr>
        <p:spPr>
          <a:xfrm>
            <a:off x="539640" y="2708280"/>
            <a:ext cx="158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=a×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=a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=a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14"/>
          <p:cNvSpPr/>
          <p:nvPr/>
        </p:nvSpPr>
        <p:spPr>
          <a:xfrm flipV="1">
            <a:off x="1258920" y="4149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Line 15"/>
          <p:cNvSpPr/>
          <p:nvPr/>
        </p:nvSpPr>
        <p:spPr>
          <a:xfrm flipV="1">
            <a:off x="3708360" y="414972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16"/>
          <p:cNvSpPr/>
          <p:nvPr/>
        </p:nvSpPr>
        <p:spPr>
          <a:xfrm>
            <a:off x="3002760" y="2637000"/>
            <a:ext cx="14014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=a×4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a</a:t>
            </a:r>
            <a:r>
              <a:rPr b="1" lang="en-US" sz="6000" spc="-1" strike="noStrike" baseline="10000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=4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练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用字母表示出长方形的面积和周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4284720" y="2060640"/>
          <a:ext cx="3668760" cy="1900080"/>
        </p:xfrm>
        <a:graphic>
          <a:graphicData uri="http://schemas.openxmlformats.org/drawingml/2006/table">
            <a:tbl>
              <a:tblPr/>
              <a:tblGrid>
                <a:gridCol w="3668760"/>
              </a:tblGrid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662" name="Text Box 10"/>
          <p:cNvSpPr/>
          <p:nvPr/>
        </p:nvSpPr>
        <p:spPr>
          <a:xfrm>
            <a:off x="6086880" y="40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11"/>
          <p:cNvSpPr/>
          <p:nvPr/>
        </p:nvSpPr>
        <p:spPr>
          <a:xfrm>
            <a:off x="8029440" y="270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Group 12"/>
          <p:cNvGrpSpPr/>
          <p:nvPr/>
        </p:nvGrpSpPr>
        <p:grpSpPr>
          <a:xfrm>
            <a:off x="1403280" y="2565360"/>
            <a:ext cx="1656000" cy="720720"/>
            <a:chOff x="1403280" y="2565360"/>
            <a:chExt cx="1656000" cy="720720"/>
          </a:xfrm>
        </p:grpSpPr>
        <p:sp>
          <p:nvSpPr>
            <p:cNvPr id="665" name="Line 13"/>
            <p:cNvSpPr/>
            <p:nvPr/>
          </p:nvSpPr>
          <p:spPr>
            <a:xfrm>
              <a:off x="1403280" y="3286080"/>
              <a:ext cx="165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Line 14"/>
            <p:cNvSpPr/>
            <p:nvPr/>
          </p:nvSpPr>
          <p:spPr>
            <a:xfrm>
              <a:off x="1403280" y="2565360"/>
              <a:ext cx="165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Text Box 15"/>
          <p:cNvSpPr/>
          <p:nvPr/>
        </p:nvSpPr>
        <p:spPr>
          <a:xfrm>
            <a:off x="138420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1384200" y="205272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×b=ab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1332000" y="262908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+b)×2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Rectangle 18"/>
          <p:cNvGrpSpPr/>
          <p:nvPr/>
        </p:nvGrpSpPr>
        <p:grpSpPr>
          <a:xfrm>
            <a:off x="950760" y="963720"/>
            <a:ext cx="7461360" cy="689040"/>
            <a:chOff x="950760" y="963720"/>
            <a:chExt cx="7461360" cy="689040"/>
          </a:xfrm>
        </p:grpSpPr>
        <p:pic>
          <p:nvPicPr>
            <p:cNvPr id="671" name="Rectangle 18" descr=""/>
            <p:cNvPicPr/>
            <p:nvPr/>
          </p:nvPicPr>
          <p:blipFill>
            <a:blip r:embed="rId1"/>
            <a:stretch/>
          </p:blipFill>
          <p:spPr>
            <a:xfrm>
              <a:off x="950760" y="963720"/>
              <a:ext cx="74613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971640" y="981000"/>
              <a:ext cx="7416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77,80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272880" y="3673440"/>
            <a:ext cx="8763120" cy="2136960"/>
            <a:chOff x="272880" y="3673440"/>
            <a:chExt cx="8763120" cy="2136960"/>
          </a:xfrm>
        </p:grpSpPr>
        <p:sp>
          <p:nvSpPr>
            <p:cNvPr id="674" name="Text Box 3"/>
            <p:cNvSpPr/>
            <p:nvPr/>
          </p:nvSpPr>
          <p:spPr>
            <a:xfrm>
              <a:off x="272880" y="3673440"/>
              <a:ext cx="876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102+b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+98=b+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102+98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Text Box 4"/>
            <p:cNvSpPr/>
            <p:nvPr/>
          </p:nvSpPr>
          <p:spPr>
            <a:xfrm>
              <a:off x="1949400" y="4802040"/>
              <a:ext cx="5410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（                    ）</a:t>
              </a:r>
              <a:endParaRPr b="1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6" name="Text Box 6"/>
          <p:cNvSpPr/>
          <p:nvPr/>
        </p:nvSpPr>
        <p:spPr>
          <a:xfrm>
            <a:off x="446040" y="628560"/>
            <a:ext cx="85899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思考：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列等式应用了什么定律？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加法交换律与结合律有怎样的联系？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Picture 12" descr="q2"/>
          <p:cNvPicPr/>
          <p:nvPr/>
        </p:nvPicPr>
        <p:blipFill>
          <a:blip r:embed="rId1"/>
          <a:stretch/>
        </p:blipFill>
        <p:spPr>
          <a:xfrm>
            <a:off x="4049640" y="4657680"/>
            <a:ext cx="13143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RO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25"/>
          <p:cNvSpPr/>
          <p:nvPr/>
        </p:nvSpPr>
        <p:spPr>
          <a:xfrm>
            <a:off x="1238400" y="2421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这节课的学习，你学到了什么？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Picture 29" descr="u=4126671121,2988719327&amp;fm=0&amp;gp=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5084640"/>
            <a:ext cx="14079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58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561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1908000" y="233028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加法交换律、加法结合律，会用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字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学过的计算公式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8"/>
          <p:cNvSpPr/>
          <p:nvPr/>
        </p:nvSpPr>
        <p:spPr>
          <a:xfrm>
            <a:off x="1925640" y="3411360"/>
            <a:ext cx="62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经历用字母表示数的过程，积累数学活动经验，进一步培养学生的抽象概括能力和符号意识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374760" y="1498680"/>
            <a:ext cx="71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计算，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○里填上适当的符号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从列举的算式中发现了什么共同点？它们有什么规律？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2133720" y="423396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0404"/>
                </a:solidFill>
                <a:latin typeface="Wingdings"/>
                <a:ea typeface="Wingdings"/>
              </a:rPr>
              <a:t></a:t>
            </a:r>
            <a:r>
              <a:rPr b="1" lang="zh-CN" sz="3200" spc="-1" strike="noStrike">
                <a:solidFill>
                  <a:srgbClr val="d80404"/>
                </a:solidFill>
                <a:latin typeface="楷体_GB2312"/>
                <a:ea typeface="楷体_GB2312"/>
              </a:rPr>
              <a:t>每组算式中有两个加数，且两个加数分别相同，只是交换了位置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2133720" y="5530680"/>
            <a:ext cx="55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0404"/>
                </a:solidFill>
                <a:latin typeface="Wingdings"/>
                <a:ea typeface="Wingdings"/>
              </a:rPr>
              <a:t></a:t>
            </a:r>
            <a:r>
              <a:rPr b="1" lang="zh-CN" sz="3200" spc="-1" strike="noStrike">
                <a:solidFill>
                  <a:srgbClr val="d80404"/>
                </a:solidFill>
                <a:latin typeface="楷体_GB2312"/>
                <a:ea typeface="楷体_GB2312"/>
              </a:rPr>
              <a:t>每个等式中左右两边的加数的和相等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u=1076977942,3935112324&amp;fm=0&amp;gp=0"/>
          <p:cNvPicPr/>
          <p:nvPr/>
        </p:nvPicPr>
        <p:blipFill>
          <a:blip r:embed="rId1"/>
          <a:stretch/>
        </p:blipFill>
        <p:spPr>
          <a:xfrm>
            <a:off x="46080" y="3949560"/>
            <a:ext cx="2087640" cy="155268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6"/>
          <p:cNvSpPr/>
          <p:nvPr/>
        </p:nvSpPr>
        <p:spPr>
          <a:xfrm>
            <a:off x="2627280" y="30430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0575"/>
                </a:solidFill>
                <a:latin typeface="Arial"/>
              </a:rPr>
              <a:t>78+301</a:t>
            </a:r>
            <a:r>
              <a:rPr b="1" lang="zh-CN" sz="3600" spc="-1" strike="noStrike">
                <a:solidFill>
                  <a:srgbClr val="740575"/>
                </a:solidFill>
                <a:latin typeface="Arial"/>
              </a:rPr>
              <a:t>  ○  </a:t>
            </a:r>
            <a:r>
              <a:rPr b="1" lang="en-US" sz="3600" spc="-1" strike="noStrike">
                <a:solidFill>
                  <a:srgbClr val="740575"/>
                </a:solidFill>
                <a:latin typeface="Arial"/>
              </a:rPr>
              <a:t>301+78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0575"/>
                </a:solidFill>
                <a:latin typeface="Arial"/>
              </a:rPr>
              <a:t>219+86  </a:t>
            </a:r>
            <a:r>
              <a:rPr b="1" lang="zh-CN" sz="3600" spc="-1" strike="noStrike">
                <a:solidFill>
                  <a:srgbClr val="740575"/>
                </a:solidFill>
                <a:latin typeface="Arial"/>
              </a:rPr>
              <a:t>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40575"/>
                </a:solidFill>
                <a:latin typeface="Arial"/>
              </a:rPr>
              <a:t>86+219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8" descr="u=4040765753,1020073403&amp;fm=0&amp;gp=0"/>
          <p:cNvPicPr/>
          <p:nvPr/>
        </p:nvPicPr>
        <p:blipFill>
          <a:blip r:embed="rId2"/>
          <a:stretch/>
        </p:blipFill>
        <p:spPr>
          <a:xfrm>
            <a:off x="7574040" y="1498680"/>
            <a:ext cx="1569960" cy="1368360"/>
          </a:xfrm>
          <a:prstGeom prst="rect">
            <a:avLst/>
          </a:prstGeom>
          <a:ln w="0">
            <a:noFill/>
          </a:ln>
        </p:spPr>
      </p:pic>
      <p:sp>
        <p:nvSpPr>
          <p:cNvPr id="571" name="同侧圆角矩形 7"/>
          <p:cNvSpPr/>
          <p:nvPr/>
        </p:nvSpPr>
        <p:spPr>
          <a:xfrm>
            <a:off x="399960" y="803160"/>
            <a:ext cx="20019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直线连接符 21"/>
          <p:cNvSpPr/>
          <p:nvPr/>
        </p:nvSpPr>
        <p:spPr>
          <a:xfrm flipV="1">
            <a:off x="399960" y="145872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5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152280" y="2178000"/>
            <a:ext cx="7086240" cy="1554120"/>
            <a:chOff x="152280" y="2178000"/>
            <a:chExt cx="7086240" cy="1554120"/>
          </a:xfrm>
        </p:grpSpPr>
        <p:sp>
          <p:nvSpPr>
            <p:cNvPr id="574" name="Text Box 3"/>
            <p:cNvSpPr/>
            <p:nvPr/>
          </p:nvSpPr>
          <p:spPr>
            <a:xfrm>
              <a:off x="152280" y="2908080"/>
              <a:ext cx="7027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Text Box 4"/>
            <p:cNvSpPr/>
            <p:nvPr/>
          </p:nvSpPr>
          <p:spPr>
            <a:xfrm>
              <a:off x="5901840" y="2178000"/>
              <a:ext cx="133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6" name="Text Box 5"/>
          <p:cNvSpPr/>
          <p:nvPr/>
        </p:nvSpPr>
        <p:spPr>
          <a:xfrm>
            <a:off x="533520" y="408312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叫做加法交换律。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343080" y="257796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数相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交换加数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位置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不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8" name="Group 7"/>
          <p:cNvGrpSpPr/>
          <p:nvPr/>
        </p:nvGrpSpPr>
        <p:grpSpPr>
          <a:xfrm>
            <a:off x="228600" y="5226120"/>
            <a:ext cx="8610480" cy="1371600"/>
            <a:chOff x="228600" y="5226120"/>
            <a:chExt cx="8610480" cy="1371600"/>
          </a:xfrm>
        </p:grpSpPr>
        <p:sp>
          <p:nvSpPr>
            <p:cNvPr id="579" name="Rectangle 8"/>
            <p:cNvSpPr/>
            <p:nvPr/>
          </p:nvSpPr>
          <p:spPr>
            <a:xfrm>
              <a:off x="228600" y="5226120"/>
              <a:ext cx="8458200" cy="137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Text Box 9"/>
            <p:cNvSpPr/>
            <p:nvPr/>
          </p:nvSpPr>
          <p:spPr>
            <a:xfrm>
              <a:off x="457200" y="5302440"/>
              <a:ext cx="8381880" cy="1008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 + </a:t>
              </a: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b = b </a:t>
              </a: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 a </a:t>
              </a:r>
              <a:endParaRPr b="1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1" name="Text Box 10"/>
          <p:cNvSpPr/>
          <p:nvPr/>
        </p:nvSpPr>
        <p:spPr>
          <a:xfrm>
            <a:off x="1127160" y="3036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11"/>
              <p:cNvSpPr txBox="1"/>
              <p:nvPr/>
            </p:nvSpPr>
            <p:spPr>
              <a:xfrm>
                <a:off x="411480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3" name="Text Box 13"/>
          <p:cNvSpPr/>
          <p:nvPr/>
        </p:nvSpPr>
        <p:spPr>
          <a:xfrm>
            <a:off x="2627280" y="112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3276720" y="105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16" descr="小人"/>
          <p:cNvPicPr/>
          <p:nvPr/>
        </p:nvPicPr>
        <p:blipFill>
          <a:blip r:embed="rId1"/>
          <a:stretch/>
        </p:blipFill>
        <p:spPr>
          <a:xfrm>
            <a:off x="5667480" y="822240"/>
            <a:ext cx="3024000" cy="22464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7"/>
          <p:cNvSpPr/>
          <p:nvPr/>
        </p:nvSpPr>
        <p:spPr>
          <a:xfrm>
            <a:off x="1494000" y="1509840"/>
            <a:ext cx="40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40575"/>
                </a:solidFill>
                <a:latin typeface="Arial"/>
                <a:ea typeface="楷体_GB2312"/>
              </a:rPr>
              <a:t>谁可以用一句话来总结加法交换律？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15"/>
          <p:cNvGrpSpPr/>
          <p:nvPr/>
        </p:nvGrpSpPr>
        <p:grpSpPr>
          <a:xfrm>
            <a:off x="457200" y="822240"/>
            <a:ext cx="2071800" cy="661680"/>
            <a:chOff x="457200" y="822240"/>
            <a:chExt cx="2071800" cy="661680"/>
          </a:xfrm>
        </p:grpSpPr>
        <p:sp>
          <p:nvSpPr>
            <p:cNvPr id="588" name="直线连接符 21"/>
            <p:cNvSpPr/>
            <p:nvPr/>
          </p:nvSpPr>
          <p:spPr>
            <a:xfrm flipV="1">
              <a:off x="457200" y="147780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同侧圆角矩形 17"/>
            <p:cNvSpPr/>
            <p:nvPr/>
          </p:nvSpPr>
          <p:spPr>
            <a:xfrm>
              <a:off x="457200" y="82224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同侧圆角矩形 18"/>
          <p:cNvSpPr/>
          <p:nvPr/>
        </p:nvSpPr>
        <p:spPr>
          <a:xfrm>
            <a:off x="434880" y="811080"/>
            <a:ext cx="200052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4920" y="2135160"/>
            <a:ext cx="884232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69+172)+28○69+(172+2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403280" y="2852640"/>
            <a:ext cx="662616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5+(145+207)○(155+145)+2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0" y="306864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465120" y="762120"/>
            <a:ext cx="841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两组算式，思考：在○里应填什么符号，我们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下面的算式中能发现什么共同点与不同点？它们有什么规律？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1044720" y="3860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0404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d80404"/>
                </a:solidFill>
                <a:latin typeface="Arial"/>
              </a:rPr>
              <a:t>）每组算式有三个加数，三个加数分别相同，只是计算时计算顺序不同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1116000" y="5157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0404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d80404"/>
                </a:solidFill>
                <a:latin typeface="Arial"/>
              </a:rPr>
              <a:t>）每个等式中左右两边的加数的和相等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030320" y="593640"/>
            <a:ext cx="46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533520" y="441972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叫做加法结合律。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533520" y="182880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个数相加，先把前两个数相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同第三个数相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或者先把后两个数相加，再同第一个数相加，和不变。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3" name="Group 8"/>
          <p:cNvGrpSpPr/>
          <p:nvPr/>
        </p:nvGrpSpPr>
        <p:grpSpPr>
          <a:xfrm>
            <a:off x="324000" y="5302080"/>
            <a:ext cx="8610480" cy="1295640"/>
            <a:chOff x="324000" y="5302080"/>
            <a:chExt cx="8610480" cy="1295640"/>
          </a:xfrm>
        </p:grpSpPr>
        <p:sp>
          <p:nvSpPr>
            <p:cNvPr id="604" name="Rectangle 9"/>
            <p:cNvSpPr/>
            <p:nvPr/>
          </p:nvSpPr>
          <p:spPr>
            <a:xfrm>
              <a:off x="324000" y="5302080"/>
              <a:ext cx="8458200" cy="1295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552600" y="5374080"/>
              <a:ext cx="8381880" cy="1008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(a </a:t>
              </a: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 b)</a:t>
              </a: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 +</a:t>
              </a: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c= a</a:t>
              </a: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 +</a:t>
              </a: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(b </a:t>
              </a: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 c) </a:t>
              </a:r>
              <a:endParaRPr b="1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Text Box 12"/>
          <p:cNvSpPr/>
          <p:nvPr/>
        </p:nvSpPr>
        <p:spPr>
          <a:xfrm>
            <a:off x="5387400" y="342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13" descr="小人"/>
          <p:cNvPicPr/>
          <p:nvPr/>
        </p:nvPicPr>
        <p:blipFill>
          <a:blip r:embed="rId1"/>
          <a:stretch/>
        </p:blipFill>
        <p:spPr>
          <a:xfrm>
            <a:off x="5667480" y="122400"/>
            <a:ext cx="3024000" cy="182700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4"/>
          <p:cNvSpPr/>
          <p:nvPr/>
        </p:nvSpPr>
        <p:spPr>
          <a:xfrm>
            <a:off x="896760" y="695160"/>
            <a:ext cx="45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40575"/>
                </a:solidFill>
                <a:latin typeface="Arial"/>
              </a:rPr>
              <a:t>谁可以用一句话来总结加法结合律？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179280" y="3789360"/>
            <a:ext cx="842328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d80404"/>
                </a:solidFill>
                <a:latin typeface="楷体_GB2312"/>
                <a:ea typeface="楷体_GB2312"/>
              </a:rPr>
              <a:t>三个数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相加，先把</a:t>
            </a:r>
            <a:r>
              <a:rPr b="1" lang="zh-CN" sz="3200" spc="-1" strike="noStrike">
                <a:solidFill>
                  <a:srgbClr val="d80404"/>
                </a:solidFill>
                <a:latin typeface="楷体_GB2312"/>
                <a:ea typeface="楷体_GB2312"/>
              </a:rPr>
              <a:t>前两个数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相加，再同第三个数相加；或者先把</a:t>
            </a:r>
            <a:r>
              <a:rPr b="1" lang="zh-CN" sz="3200" spc="-1" strike="noStrike">
                <a:solidFill>
                  <a:srgbClr val="d80404"/>
                </a:solidFill>
                <a:latin typeface="楷体_GB2312"/>
                <a:ea typeface="楷体_GB2312"/>
              </a:rPr>
              <a:t>后两个数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相加，再同第一个数相加，</a:t>
            </a:r>
            <a:r>
              <a:rPr b="1" lang="zh-CN" sz="3200" spc="-1" strike="noStrike" u="sng">
                <a:solidFill>
                  <a:srgbClr val="d80404"/>
                </a:solidFill>
                <a:uFillTx/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不变，这叫做</a:t>
            </a:r>
            <a:r>
              <a:rPr b="1" lang="zh-CN" sz="3200" spc="-1" strike="noStrike" u="sng">
                <a:solidFill>
                  <a:srgbClr val="d80404"/>
                </a:solidFill>
                <a:uFillTx/>
                <a:latin typeface="楷体_GB2312"/>
                <a:ea typeface="楷体_GB2312"/>
              </a:rPr>
              <a:t>加法结合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母表示：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+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c=a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+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468360" y="119700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两个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相加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交换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加数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位置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不变，这叫做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加法交换律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字母表示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a+b=b+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468360" y="627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加法交换律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395280" y="3068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加法结合律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1833480" y="1341360"/>
            <a:ext cx="532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你能在   里填上合适的数吗？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它们分别运用了什么运算定律？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2252520" y="1616040"/>
            <a:ext cx="685800" cy="4572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607680" y="2873520"/>
            <a:ext cx="309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96+35=35+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3673440" y="3006720"/>
            <a:ext cx="898560" cy="5256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623520" y="3772080"/>
            <a:ext cx="4839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04+57=       +204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111480" y="3921120"/>
            <a:ext cx="898560" cy="53352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608040" y="4664160"/>
            <a:ext cx="4444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(45+36)+64=45+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4824360" y="4686480"/>
            <a:ext cx="371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7567560" y="4702320"/>
            <a:ext cx="371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11"/>
          <p:cNvSpPr/>
          <p:nvPr/>
        </p:nvSpPr>
        <p:spPr>
          <a:xfrm>
            <a:off x="5219640" y="4851360"/>
            <a:ext cx="898560" cy="53352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Rectangle 12"/>
          <p:cNvSpPr/>
          <p:nvPr/>
        </p:nvSpPr>
        <p:spPr>
          <a:xfrm>
            <a:off x="6629400" y="4835520"/>
            <a:ext cx="914400" cy="53352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6113160" y="4702320"/>
            <a:ext cx="514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06600" y="5584680"/>
            <a:ext cx="4111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560+(140+70)=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4497480" y="5584680"/>
            <a:ext cx="371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6840720" y="5600880"/>
            <a:ext cx="371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7315200" y="5769000"/>
            <a:ext cx="914400" cy="53352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18"/>
          <p:cNvSpPr/>
          <p:nvPr/>
        </p:nvSpPr>
        <p:spPr>
          <a:xfrm>
            <a:off x="6053040" y="5735520"/>
            <a:ext cx="838440" cy="5493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19"/>
          <p:cNvSpPr/>
          <p:nvPr/>
        </p:nvSpPr>
        <p:spPr>
          <a:xfrm>
            <a:off x="5583240" y="5616720"/>
            <a:ext cx="514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20"/>
          <p:cNvSpPr/>
          <p:nvPr/>
        </p:nvSpPr>
        <p:spPr>
          <a:xfrm>
            <a:off x="4654800" y="5616720"/>
            <a:ext cx="1136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560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21"/>
          <p:cNvSpPr/>
          <p:nvPr/>
        </p:nvSpPr>
        <p:spPr>
          <a:xfrm>
            <a:off x="6935760" y="5616720"/>
            <a:ext cx="514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 Box 22"/>
          <p:cNvSpPr/>
          <p:nvPr/>
        </p:nvSpPr>
        <p:spPr>
          <a:xfrm>
            <a:off x="3705120" y="2873520"/>
            <a:ext cx="943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Arial"/>
              </a:rPr>
              <a:t>96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23"/>
          <p:cNvSpPr/>
          <p:nvPr/>
        </p:nvSpPr>
        <p:spPr>
          <a:xfrm>
            <a:off x="3171960" y="3807000"/>
            <a:ext cx="942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Arial"/>
              </a:rPr>
              <a:t>57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24"/>
          <p:cNvSpPr/>
          <p:nvPr/>
        </p:nvSpPr>
        <p:spPr>
          <a:xfrm>
            <a:off x="1835280" y="333360"/>
            <a:ext cx="547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25"/>
          <p:cNvSpPr/>
          <p:nvPr/>
        </p:nvSpPr>
        <p:spPr>
          <a:xfrm>
            <a:off x="5203800" y="4708440"/>
            <a:ext cx="942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 Box 26"/>
          <p:cNvSpPr/>
          <p:nvPr/>
        </p:nvSpPr>
        <p:spPr>
          <a:xfrm>
            <a:off x="6653160" y="4697280"/>
            <a:ext cx="943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Arial"/>
              </a:rPr>
              <a:t>64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27"/>
          <p:cNvSpPr/>
          <p:nvPr/>
        </p:nvSpPr>
        <p:spPr>
          <a:xfrm>
            <a:off x="5940360" y="5600880"/>
            <a:ext cx="129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Arial"/>
              </a:rPr>
              <a:t>140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 Box 28"/>
          <p:cNvSpPr/>
          <p:nvPr/>
        </p:nvSpPr>
        <p:spPr>
          <a:xfrm>
            <a:off x="7380360" y="5638680"/>
            <a:ext cx="942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1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同侧圆角矩形 28"/>
          <p:cNvSpPr/>
          <p:nvPr/>
        </p:nvSpPr>
        <p:spPr>
          <a:xfrm>
            <a:off x="498600" y="8240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线连接符 21"/>
          <p:cNvSpPr/>
          <p:nvPr/>
        </p:nvSpPr>
        <p:spPr>
          <a:xfrm flipV="1">
            <a:off x="498600" y="146664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767880"/>
            <a:ext cx="8435880" cy="12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想一想：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正方形的面积和周长怎么用语言表达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033200" y="2216160"/>
            <a:ext cx="598644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面积等于边长乘以边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周长等于边长乘以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2573280" y="3517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边长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3918600" y="506484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边长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674720" y="3946680"/>
          <a:ext cx="2239920" cy="2313000"/>
        </p:xfrm>
        <a:graphic>
          <a:graphicData uri="http://schemas.openxmlformats.org/drawingml/2006/table">
            <a:tbl>
              <a:tblPr/>
              <a:tblGrid>
                <a:gridCol w="2239920"/>
              </a:tblGrid>
              <a:tr h="23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647" name="同侧圆角矩形 6"/>
          <p:cNvSpPr/>
          <p:nvPr/>
        </p:nvSpPr>
        <p:spPr>
          <a:xfrm>
            <a:off x="469800" y="765000"/>
            <a:ext cx="200052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直线连接符 21"/>
          <p:cNvSpPr/>
          <p:nvPr/>
        </p:nvSpPr>
        <p:spPr>
          <a:xfrm flipV="1">
            <a:off x="469800" y="1406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08:54:49Z</dcterms:created>
  <dc:creator/>
  <dc:description/>
  <dc:language>en-US</dc:language>
  <cp:lastModifiedBy>User</cp:lastModifiedBy>
  <dcterms:modified xsi:type="dcterms:W3CDTF">2016-04-16T00:13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