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58480" y="880560"/>
            <a:ext cx="5040360" cy="38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93280" y="5132520"/>
            <a:ext cx="6372360" cy="46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1480" y="0"/>
            <a:ext cx="32781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1480" y="10156680"/>
            <a:ext cx="32781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A3C5-6109-42CC-AF29-FFE0753591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11320" y="880920"/>
            <a:ext cx="5135400" cy="3853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93280" y="5132520"/>
            <a:ext cx="6372360" cy="46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用相应内容替换文本框中的“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X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例如：“人教版小学数学二年级上册教学课件”，“第三单元”，“第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课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E4A-C672-4560-B189-4B2056FB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411-2BC0-47D4-A342-46E6F6E6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39F-C982-40C7-B276-45409569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089-F19A-4EEF-A5CD-8D6E2BE6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B90-4EE5-4278-9E30-22402CCE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E7E-7CFF-4C0F-A461-3391574D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B93-063F-4D79-9418-0924DDEE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E97-C432-449C-B3FE-52EE5B4C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A01-0F60-4C21-9FFB-3553AFAD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19C-91B5-4315-9E68-1754357C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CF0-33C3-41BE-90F5-35EDDA89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672-FBAF-45D0-AE15-23E17DC0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6B6D-82E7-434A-A62D-B3E389F450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9200" y="320760"/>
            <a:ext cx="7751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04444"/>
                </a:solidFill>
                <a:latin typeface="Arial"/>
              </a:rPr>
              <a:t>青岛版小学数学四年级下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60760" y="3117600"/>
            <a:ext cx="380376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504444"/>
                </a:solidFill>
                <a:latin typeface="楷体"/>
                <a:ea typeface="楷体"/>
              </a:rPr>
              <a:t>第</a:t>
            </a:r>
            <a:r>
              <a:rPr b="0" lang="en-US" sz="7200" spc="-1" strike="noStrike">
                <a:solidFill>
                  <a:srgbClr val="504444"/>
                </a:solidFill>
                <a:latin typeface="楷体"/>
                <a:ea typeface="楷体"/>
              </a:rPr>
              <a:t>5</a:t>
            </a:r>
            <a:r>
              <a:rPr b="0" lang="zh-CN" sz="7200" spc="-1" strike="noStrike">
                <a:solidFill>
                  <a:srgbClr val="504444"/>
                </a:solidFill>
                <a:latin typeface="楷体"/>
                <a:ea typeface="楷体"/>
              </a:rPr>
              <a:t>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460760" y="1746360"/>
            <a:ext cx="38037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04444"/>
                </a:solidFill>
                <a:latin typeface="楷体"/>
                <a:ea typeface="楷体"/>
              </a:rPr>
              <a:t>第二单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2"/>
          <p:cNvSpPr/>
          <p:nvPr/>
        </p:nvSpPr>
        <p:spPr>
          <a:xfrm>
            <a:off x="8058240" y="4764240"/>
            <a:ext cx="617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214200" y="548496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052640"/>
            <a:ext cx="62197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甲乙两桶油共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千克，两桶油的质量比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两桶油各重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84360" y="2276640"/>
            <a:ext cx="360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93800" y="2872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a1fe"/>
                </a:solidFill>
                <a:latin typeface="Arial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C:\Users\Administrator\Desktop\比的应用图片：课堂练习2.jpg"/>
          <p:cNvPicPr/>
          <p:nvPr/>
        </p:nvPicPr>
        <p:blipFill>
          <a:blip r:embed="rId3"/>
          <a:stretch/>
        </p:blipFill>
        <p:spPr>
          <a:xfrm>
            <a:off x="2568600" y="2643120"/>
            <a:ext cx="33624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93800" y="2872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a1fe"/>
                </a:solidFill>
                <a:latin typeface="Arial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1784520" y="820800"/>
            <a:ext cx="484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足球表面由黑色五边形皮块和白色六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块组成，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块，黑白皮块之比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: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白皮块各有多少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5" descr="C:\Users\Administrator\Desktop\比的应用图片：足球.jpg"/>
          <p:cNvPicPr/>
          <p:nvPr/>
        </p:nvPicPr>
        <p:blipFill>
          <a:blip r:embed="rId1"/>
          <a:stretch/>
        </p:blipFill>
        <p:spPr>
          <a:xfrm>
            <a:off x="3095640" y="3048120"/>
            <a:ext cx="288144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793800" y="2872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a1fe"/>
                </a:solidFill>
                <a:latin typeface="Arial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506520" y="94788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甲乙丙三人合资办厂，一年后获得纯利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他们按照投资额应各分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C:\Users\Administrator\Desktop\比的应用图片：课堂练习4.jpg"/>
          <p:cNvPicPr/>
          <p:nvPr/>
        </p:nvPicPr>
        <p:blipFill>
          <a:blip r:embed="rId1"/>
          <a:stretch/>
        </p:blipFill>
        <p:spPr>
          <a:xfrm>
            <a:off x="2786040" y="2354400"/>
            <a:ext cx="388620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0" y="936720"/>
            <a:ext cx="8796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牛郎星运行速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织女星和牛郎星运行速度比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:13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织女星的运行速度比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93800" y="2872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a1fe"/>
                </a:solidFill>
                <a:latin typeface="Arial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6" descr="C:\Users\Administrator\Desktop\比的应用图片：织女星和牵牛星.jpg"/>
          <p:cNvPicPr/>
          <p:nvPr/>
        </p:nvPicPr>
        <p:blipFill>
          <a:blip r:embed="rId1"/>
          <a:stretch/>
        </p:blipFill>
        <p:spPr>
          <a:xfrm>
            <a:off x="2308320" y="2833560"/>
            <a:ext cx="3973320" cy="29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793800" y="2872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a1fe"/>
                </a:solidFill>
                <a:latin typeface="Arial"/>
              </a:rPr>
              <a:t>作业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C:\Users\Administrator\Desktop\18_看图王.jpg"/>
          <p:cNvPicPr/>
          <p:nvPr/>
        </p:nvPicPr>
        <p:blipFill>
          <a:blip r:embed="rId1"/>
          <a:stretch/>
        </p:blipFill>
        <p:spPr>
          <a:xfrm>
            <a:off x="441360" y="1185840"/>
            <a:ext cx="7597800" cy="41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793800" y="2872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a1fe"/>
                </a:solidFill>
                <a:latin typeface="Arial"/>
              </a:rPr>
              <a:t>板书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0"/>
          <p:cNvSpPr/>
          <p:nvPr/>
        </p:nvSpPr>
        <p:spPr>
          <a:xfrm>
            <a:off x="2839680" y="97776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比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929600" y="2193840"/>
            <a:ext cx="5248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决“按比分配应用题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①根据比先求出总份数。②求出每份是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出各部分的量。④答题并检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①根据比先求出总份数。②求出各部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占总数的几分之几。③运用分数乘法列式计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出各部分的量。④答题并检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13920" y="274320"/>
            <a:ext cx="882972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结束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574560" y="9968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一段路，已经修的米数与剩下的米数的比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 ∶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92200" y="194328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把已修的米数看作（     ）份，剩下的就有（     ）份。这段路共有（       ）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008000" y="30448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经修的是剩（     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008000" y="368136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剩下的是已修（    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008000" y="435600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经修的占这段路（    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008000" y="49928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剩下的占这段路的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859280" y="1943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438200" y="23702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904000" y="24620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3730680" y="2889360"/>
                <a:ext cx="476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4"/>
              <p:cNvSpPr txBox="1"/>
              <p:nvPr/>
            </p:nvSpPr>
            <p:spPr>
              <a:xfrm>
                <a:off x="3906720" y="3564000"/>
                <a:ext cx="5558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6"/>
              <p:cNvSpPr txBox="1"/>
              <p:nvPr/>
            </p:nvSpPr>
            <p:spPr>
              <a:xfrm>
                <a:off x="4535640" y="4957920"/>
                <a:ext cx="4316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8"/>
              <p:cNvSpPr txBox="1"/>
              <p:nvPr/>
            </p:nvSpPr>
            <p:spPr>
              <a:xfrm>
                <a:off x="4608360" y="4200480"/>
                <a:ext cx="5032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Text Box 5"/>
          <p:cNvSpPr/>
          <p:nvPr/>
        </p:nvSpPr>
        <p:spPr>
          <a:xfrm>
            <a:off x="793800" y="2872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a1fe"/>
                </a:solidFill>
                <a:latin typeface="Arial"/>
              </a:rPr>
              <a:t>导入新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6"/>
          <p:cNvSpPr/>
          <p:nvPr/>
        </p:nvSpPr>
        <p:spPr>
          <a:xfrm>
            <a:off x="4788000" y="1484280"/>
            <a:ext cx="302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130840" y="2246400"/>
            <a:ext cx="476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学兴趣小组男生和女生的人数比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从这组比中，你能推断出什么信息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50920" y="4394160"/>
            <a:ext cx="8713800" cy="520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日常生活和工业生产中，常常需要把 一个数按照一定的比来进行分配，这种方法通常叫按比例分配。这也是比在日常中的应用的一个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793800" y="2872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a1fe"/>
                </a:solidFill>
                <a:latin typeface="Arial"/>
              </a:rPr>
              <a:t>导入新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0"/>
          <p:cNvSpPr/>
          <p:nvPr/>
        </p:nvSpPr>
        <p:spPr>
          <a:xfrm>
            <a:off x="684360" y="5514840"/>
            <a:ext cx="6726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图中，你知道了哪些数学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684360" y="4910040"/>
            <a:ext cx="7165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这些信息，你能提出什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793800" y="2872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a1fe"/>
                </a:solidFill>
                <a:latin typeface="Arial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7" descr="比的应用图片：情境图"/>
          <p:cNvPicPr/>
          <p:nvPr/>
        </p:nvPicPr>
        <p:blipFill>
          <a:blip r:embed="rId1"/>
          <a:stretch/>
        </p:blipFill>
        <p:spPr>
          <a:xfrm>
            <a:off x="900000" y="1195560"/>
            <a:ext cx="6510600" cy="37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31840" y="1758960"/>
            <a:ext cx="866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强强每天吃的主食和副食各有多少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>
            <a:hlinkClick r:id="rId1" action="ppaction://hlinksldjump"/>
          </p:cNvPr>
          <p:cNvSpPr/>
          <p:nvPr/>
        </p:nvSpPr>
        <p:spPr>
          <a:xfrm>
            <a:off x="395280" y="5445000"/>
            <a:ext cx="720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231840" y="286704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素食、荤食和其它食物各有多少克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93800" y="2872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a1fe"/>
                </a:solidFill>
                <a:latin typeface="Arial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231840" y="100008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提出的问题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231840" y="4149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强强的饮食结构合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5">
            <a:hlinkClick r:id="rId1" action="ppaction://hlinksldjump"/>
          </p:cNvPr>
          <p:cNvSpPr/>
          <p:nvPr/>
        </p:nvSpPr>
        <p:spPr>
          <a:xfrm>
            <a:off x="395280" y="5445000"/>
            <a:ext cx="720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93800" y="2872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a1fe"/>
                </a:solidFill>
                <a:latin typeface="Arial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16_2345看图王"/>
          <p:cNvPicPr/>
          <p:nvPr/>
        </p:nvPicPr>
        <p:blipFill>
          <a:blip r:embed="rId2"/>
          <a:stretch/>
        </p:blipFill>
        <p:spPr>
          <a:xfrm>
            <a:off x="173160" y="1146240"/>
            <a:ext cx="8450280" cy="45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793800" y="2872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a1fe"/>
                </a:solidFill>
                <a:latin typeface="宋体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8" descr="17_2345看图王"/>
          <p:cNvPicPr/>
          <p:nvPr/>
        </p:nvPicPr>
        <p:blipFill>
          <a:blip r:embed="rId1"/>
          <a:stretch/>
        </p:blipFill>
        <p:spPr>
          <a:xfrm>
            <a:off x="793800" y="1376280"/>
            <a:ext cx="6950160" cy="43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93800" y="1387440"/>
            <a:ext cx="7315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解答按比例分配应用题的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）求出总份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）把比转化成分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）求一个数的几分之几是多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）检验答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934920" y="315432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93800" y="2872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a1fe"/>
                </a:solidFill>
                <a:latin typeface="Arial"/>
              </a:rPr>
              <a:t>结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490920" y="2708280"/>
            <a:ext cx="201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140360" y="836640"/>
            <a:ext cx="129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39640" y="1413000"/>
            <a:ext cx="820908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工程队的工人和技术人员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工人和技术人员的比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: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工人和技术人员各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93800" y="2872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a1fe"/>
                </a:solidFill>
                <a:latin typeface="Arial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C:\Users\Administrator\Desktop\比的应用图片：课堂练习1.jpg"/>
          <p:cNvPicPr/>
          <p:nvPr/>
        </p:nvPicPr>
        <p:blipFill>
          <a:blip r:embed="rId1"/>
          <a:stretch/>
        </p:blipFill>
        <p:spPr>
          <a:xfrm>
            <a:off x="1270080" y="2841480"/>
            <a:ext cx="64720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dcterms:modified xsi:type="dcterms:W3CDTF">2017-12-25T13:33:31Z</dcterms:modified>
  <cp:revision>2</cp:revision>
  <dc:subject/>
  <dc:title>青岛版小学数学四年级下册</dc:title>
</cp:coreProperties>
</file>