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AA6F8-3C81-4959-8931-6939A625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99BA9-CE4F-42F5-8DCA-7285E72D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85630-40C5-4D5C-A09B-5AEAA952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D376A-FCE9-491C-B54B-235CCC53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DCD6A-58E3-4C80-BBA7-C8BC25B7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D4131-9FB3-41BF-88E2-89DF6309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4502D-D9B1-442F-91AC-F33DB766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67206-00B7-447A-BBC0-B8B38F4D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5E390-617F-4D47-8F31-1CFCB988E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D5EF3-34A3-4CA5-A9DB-E5F40AA2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DCDAE-9B64-4230-8D19-ACD2A5BB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388BC-85FF-47B5-A849-3E4536B0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34B6A-18D8-4741-A167-2411ABED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584F7-A7BC-4468-B8B3-3C20AFDC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F9468-7BD6-49CB-B2CF-BCF66613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45C41-74DE-49EF-9970-D384F19D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4D901F-3F10-4732-AA46-C3B8F64C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61435-D0F4-440B-B5BF-CAFFBF98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98A5C-EFCB-4714-B44C-8FE8033A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4663A-CF9E-4942-AB35-FA0F835F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0DC7A-35CA-4ED3-BBEA-D82676782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96A9E-0F33-4AB0-8B30-4A53F946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2267E-B4ED-4B5B-BB53-DB5908ED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BB7D3-85E5-43C1-B04E-8833A107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477EB1-DDB7-474F-AF58-6ADAD54C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11209-E65B-4D16-B378-389DE79E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2088D-33F4-4F9E-8978-3465BC4A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3753B-5F4F-40C0-8311-D38C7A25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E0FBF-9163-43E9-9FF6-86F59BB6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55539-80DC-41D5-808C-046C60BD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1444-B889-4C39-A81A-97457D1C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E833D-C55D-4B8A-BEDC-61A14EF4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6FEAA-C17E-4105-863F-FB143D0F3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1A35D-BE68-4E31-B11F-FD232493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3D827-993A-4A8A-9929-43F69C8E8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2940B-2D93-4EB3-AB89-2B660D4B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34EE0-06DB-48C0-B783-4337087B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09DC4-22F7-44E2-A889-C4B2D3DD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D11C7-B375-4247-A415-9DBB5D34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6140F-6A5A-4CD2-83CA-297414B6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48401-6574-484B-86BD-343AA338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FBB7-DB65-427E-880C-9B7F859B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8BB52-B5DB-4D6A-BDB1-29C28584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AD4E5-857D-4166-86B1-099722B8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54CC6-7348-4211-A16C-6D8387D9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6EC48-AE2B-4EF0-AFF9-BD54554EA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F0ABA-FF15-49FB-9EDD-76E19004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3DA9E1-88F5-4726-BD68-FD420C33A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B7BBDF-199D-4B1C-943F-0532C7F9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8E74A-970C-4C40-899C-A6F1C637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A2AFF5-08A4-4DF5-9810-E030F5B5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3D75D2-9E79-42A0-A8C2-07B976B2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5F17-64DD-443F-9AA6-938E5A96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BF8BE-3D18-4DEC-8D0F-E8DC32F8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FA586-2714-4140-ADD3-66ED8481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642206-57EE-480D-8E6F-96E41CA6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BF2145-ED1B-4763-961E-6FD74F24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BA48E5-726B-4BA9-A07F-9AAF3F83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35BBD-077F-4C2D-B7EA-2649AF5F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CFE1D-2463-4D68-B824-75143D440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49C1E2-214A-4EAE-B555-AB1DF8F56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D0F8DE-340F-4175-B52D-1AA279C9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EF566B-CF33-42A7-AAB3-36B3CA2B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8B69-C7AC-4610-9DEC-6AEC3C11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552D65-03C0-4D7E-8DDD-ADEF2CFA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45DC54-319C-4C19-9A28-A52BD3F3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BC07F5-077A-4EA8-B8EE-4799EC61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C2D2EB-41AA-4E36-9BBA-DD8F820E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A9CE0D-89B9-4CC0-A6CC-A2CDCE43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365D5C-B588-4D6B-B178-C7540B35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9AF3DA-5311-4FAA-9493-F41300CE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D46888-56AE-4370-99E7-B39F2E6E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40C98F-1890-4AA0-879B-758584880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6FAACA-F0B2-4823-BA08-BE28BFE8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D83D-4421-4DE4-8186-BFC24BCD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73518B-E973-48EE-ABA7-98E2C5B5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E169E1-58A9-48D7-93FB-3C7BD6A5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BB87D1-4C4A-4953-9062-3635943C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2148D7-C22A-40B8-A56E-DD7284E4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3A8697-DBC9-4BE2-AE34-86268A96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397A82-0CB2-4888-BBBC-7AEC8CCA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18DDAB-DFD8-42E7-997C-F37C606F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8DBC79-3FD7-4561-B711-0C7E759A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F47D93-CF08-4575-9B82-420ADBD8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5CCA44-58A2-4FB9-A863-659326CF0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AEBA-4D2C-446F-ADE1-25001321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296012-3CE1-43C1-A2E1-3E7D444B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1BC71F-A618-4752-BFC6-F7CEE2BB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35404D-7B11-47E8-A73F-3B9A3320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4B6659-A639-4447-A42C-90DEA3AE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F478E9-8061-41F2-861C-FC2B8B6F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497CDD-F56D-43B7-8B9A-0BEBD3BF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30A404-51FA-4407-A844-8FAF5635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AC0399-462B-4DD6-97BD-642B75B8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8B389E-DA77-4A2F-B687-0034ED80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6AEEFA-2C5B-4A84-B29D-241E8B05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4C2B-8C6B-4007-8F34-F6411CAC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5335BA-94F3-4456-A7BD-17D0D54C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73415E-14EA-4C1B-BD36-AAAA2C9E2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319BFD-CFC9-464A-B203-1FCF3E1A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1E9E26-76BD-4550-82A8-D939990D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F655D5-F63E-41DC-9A72-51BEF028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9C02FB-B2CA-4F13-BACD-3F523850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D41F2A-D2FF-4E63-9B52-31DBD85A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D22B69-A553-4329-8EC1-B7CBDBBD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99BA8B-A559-4985-9067-664A1D10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7953A8-FFBB-408C-A038-75EEC712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89E9-0709-4AA5-A594-4D1A263A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C94E6A-B079-40C0-B6E5-F61A29AF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94C902-DE0F-42B1-912A-6AE57DBE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38DA39-320E-4EC2-84A2-1787B8D7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1E6859-5B4B-430A-B2C1-8EAC616C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C25AD4-1B05-42D0-AF2C-39B6FEC8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8D45A5-4EBE-407C-9DEC-9C0EA343E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0627AB-0E97-4C73-88FD-56018CD0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885FC6-A29A-467D-A599-5D39CC9C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AEDA64-2A4E-4B7F-B6FA-553A6E86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9E5A1E-0F0A-4FE5-8586-067A883B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DD0A-0807-4A97-9974-CDFC421D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954D3E-0FEE-4377-81D9-68CC0E2D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D3A202-42DA-4550-A03A-0D12FB7A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7B8D62-28CF-4A7D-BCA1-C574B407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D7EEF0-6D82-450F-841F-302540BF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8022EA-3C49-42DD-BCCF-2B62DD80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BF8A33-3713-49CD-9CA4-2FBB5BCC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461F18-B3C4-4AF4-9A6A-FCF5EB6A6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2FCD5A-096B-4495-8708-5F93B7DBB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438199-FEC9-4431-A882-DAE4A564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B27906-1767-4DF7-BB42-5235043C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1554-69CB-4AF5-A764-B2A8565F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D6C084-ADFB-4185-B4EF-9B52B583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85B002-4193-4D54-B3A8-43E0A7D7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3579D0-F057-4D83-8A2E-112FACE4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176322-38F0-44EE-9C16-FD8F044B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F953FD-B4FA-4B3F-8F13-8218AF64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49CC59-F6F2-479B-8BE6-D558F30C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0A72F3-511E-4D16-999D-ED99D96E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8DF691-A955-4171-9FEB-FA57317F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E41175-34DA-47CA-A5AC-32166420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927C8B-6BA6-4279-ACCF-59E2ABA5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FA18-3A22-4A4D-BDF4-15A2ABE4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815CF2-65C2-4E53-B20F-BC97769A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8DA51F-EB4D-4676-9270-239DA76B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33CAFD-E63B-4C69-AC8A-9A95CA57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A424FF-1B29-4C25-89E1-AB99B248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1BD95D-E99C-40A9-A044-A7015E6E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B95F47-FB0E-409F-A62C-766CDC21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282019-D545-49BA-BB6C-12193CCB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934C19-9D03-47A5-88C2-EDF42F44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339349-FE92-4B83-9FE9-58C9C57A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77168A-8289-4429-8706-B10A6873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2F91-8C6F-4B1F-BEA8-BDEDD282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3D62B9-D809-4421-9BD7-5B9CC3A0E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7B4EC8-49F0-4727-AAAB-296C9F3D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1F292F-4C90-4504-AA9E-B1722A42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022836-6E81-4BF6-9842-448247AE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9A51A5-7557-46B5-AF2B-7316E0CA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63C14D-20BF-469A-A4AD-89FC2070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B5AADD-8A11-4F5D-A7C0-AA3D229E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33F649-494B-414F-A615-0ACF65B2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F520D6-5F87-471A-A454-C1F32975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562E0A-58A4-46E8-A2A7-929A3A93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BF27-9ACC-4ED6-AEFC-EF895259E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46A5FC-6ED2-4494-9B86-E05EF5B2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18FE08-C1A8-4F6A-B543-E881C5BD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263EDD-CBD9-40BB-BEA5-0D4E0865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9E7AB0-0388-43D5-9747-01916FA2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FF8D34-46A7-4CDF-9E4E-0C8D9813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0D90C8-A632-4326-B25F-2DA0F9F3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438DC0-45F3-45C0-A9CF-F376395B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B20EEC-BB94-495E-B4D1-933FCDF2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92CA54-2633-4F9F-AA46-FE9C2387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B7BDE3-E208-49E2-B2EF-0417C2A8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A315-41A4-460C-821B-DA8387F3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183223-8955-43B4-82D4-4B792DD8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5E1113-D29B-4113-BF9E-6670580B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865848-DD6D-41B2-B8B9-D547F381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DB179C-D933-48AE-87BA-4AC8590E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6DD438-840E-4970-8DC5-963DC6BC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7583F9-E174-4E4C-9FDD-23220422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087DC1-D2AE-466E-8D12-FCD795A1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8E331B-B693-4D74-802B-FDEB26EC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4226F5-A828-4380-87EC-5FADC125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06E181-54CF-40D5-BDD4-0D9A5985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4D63-B9AA-415B-B17A-AA32FFB7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5880E1-4981-40D9-A1D7-65FE9CDE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AC36EF-37C3-4881-ABEC-E0227A35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53C0CB-0F53-4B7F-934C-EDA08530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0B9ABB-169B-44E3-AA4A-03F74044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70E8D3-A693-4575-9F1C-229B79BF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C2B11D-4FA0-49CA-AA6E-393CFB37E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B2937D-2FD7-4181-86D3-69EAC610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0BC5E0-A9AC-4914-9045-D3AEDC7A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F81E96-8656-4265-838E-B72C5D15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5C583F-2BE7-42FB-8AD7-F7BEB34C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F25D-192E-4EBD-BC67-34DA78DB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96BA50-E192-449D-ADDD-F42351F9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7820E5-2074-48C2-8877-8003F4EF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603690-4E56-42DD-95F6-5E5E9914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DF824D-3031-4188-8C94-8F398833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07CF29-52A4-445E-957B-FEC07740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8D4B91-03F1-41A0-BD83-3E37C623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7BB0B6-6D9A-4409-8C2D-EFC73283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0B0039-C599-4AFF-9057-3EB5ACBA1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376B9E-E5AA-4CCC-8341-6278D47D0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EC0A-ABA0-492B-A136-E31FACBD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5FA8-1BE7-43F4-B578-9066BFB2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A77B-1684-4F9C-AD11-5EF22216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81DB-C6DE-46B0-854C-9F18E0DC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875E-1218-422A-9BFA-BD81FC20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70BA-A469-45F0-BEE8-0FA94E3E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1E84-58FF-4933-8754-A470B8A5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1036-088B-4BB6-B78B-E5812173C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AFEBB-463F-4BCD-A164-5AA01600C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C6DEA-4D01-47A1-9919-A54002AE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4FE95-4F2D-4FE5-A4FF-C873DE73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C8741-5C84-4825-8ABD-9E4D5216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3420C-1C0A-4441-90F4-049CF089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F6C27-D39D-4FE6-8430-A9D9DE31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F627A-DD21-4A34-A30E-50979B83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B88D0-E33F-4069-B59B-432AE81F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90202-D00E-4E2E-BDE4-B9F8D3CB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A6789-71AA-413D-A659-7700447B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4F015-C0C1-4F94-A48B-1E6FDE8FE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7E295-B966-4A86-9B17-A50732E4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68688-E031-41B9-8BA7-AEE68BCB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20D01-8055-4334-BE6F-FACC1C42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B089D-76E6-466A-95A4-94239024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58498-EF6F-4FB8-9A9C-F571F0A6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B0FBB-78D8-4631-BB17-390993F2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C03D9-3754-4CF7-A72E-A674DACC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9BD55-ED93-4045-A63A-FC35E505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64C69-6D60-4EF4-B9B1-4C260AA4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B1D44-A4DF-44CD-88F1-9F754A71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ACC24-B035-4A24-A122-2F887834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64D26-E1AB-4F81-A4A7-D6EBA43F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A8974-3229-47F8-982F-6CF43519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033E9-8BA6-4997-922F-6447FA9FC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8E0E5-C7C6-45B0-AA11-4BCAE3E7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DA8A3-52A5-460F-8A09-1C2755C7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235B8-8F49-45FF-BCB6-1DC4FDAC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9621C-1B0A-4C9D-81E1-A864B56E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29E27-86C6-4320-AF11-4D41CD4F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BB5C9-7F4C-4A2C-9E51-71934C52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24ED7-F744-478C-A6F6-643193EA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AB93F-C52E-40C1-971D-1BD146C5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94EF8-EAD4-48A5-80F1-E8CD435F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18947-DEA8-428B-AA43-9413AECA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CF8DF-512D-40BB-AC67-4EC0C96F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0DF8E-28BA-44D2-8E38-9355F7CC5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CAF9A-D235-430B-BC6E-C90AFF7A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1851A-80C7-4E8F-B4EF-1B3DBA3C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76986-FD42-4DD8-BB19-FD70A81E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C6DAE-70FB-4135-BB1D-4C4361C1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B429A-B2D4-484A-A5BB-1848941E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65D67-2A2D-433E-9A67-09E2BD10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B9181-6859-40F0-9166-4C3F7C10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C6D7D-625D-433D-8C16-DA9C7DF5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6F873-7F71-4C4A-82A9-714EF7B4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7B4CB-6E64-4150-AE5E-F2720028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79428-7FF4-4DD2-89C2-29D65964A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5E656-9CEF-41ED-9E80-EB8438196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E7B2D-81F4-40CC-8C0F-DFC7E918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68501-F71D-4C08-8A20-94505F64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13C46-C53C-4521-A2C9-8CBF30E9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3B3AA-C72E-4580-93CD-771107F5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6DDDB-6825-4D5C-8313-872E584B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4BA85-8EAC-4B08-9638-3B25BB03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94686-8D09-4B55-BC2D-26788B25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0634A-E7D8-48D8-AFA5-9C9E7D86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2B2F5-298E-4A50-88FA-28098618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65789-2A36-4C56-B443-33CA426A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6B9A2-B26B-4BE8-93F8-71316714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45C65-C1C3-4A48-82FE-1D0770FE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605BC-5C77-4ECE-B33D-875B5BDE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39A08-B126-4309-A939-C233CC5F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E58B-A078-419B-B395-15F54575F83E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6717-B1A2-4AED-B63B-747DBE847B5B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8232-8BFE-4C83-B8F1-DF9E1ACE26AD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0608-1F9D-4549-84F5-4D344F0597E7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AB31-0CB8-4767-8191-AF281DE95E9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0FB1-353A-48B1-AE39-F5BA9993D77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1A58-199D-4A21-BB5D-E159A2B94EC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AEDA-D4A4-4FF3-B77D-82C75B9172E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F7A9-CE39-4883-9D59-8372FE3C186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CDAD-9762-4B89-BDD3-80891BA4173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3E7E-DFE2-4914-9440-3CC974E5766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A9E1-1C67-4AB4-BF65-7C4D697CAA8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581B-5581-4B6C-9267-74C8A785F52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2CAB-37F8-47BF-8BF0-A5E112107E0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AF4C-DE79-4873-A2DB-54BD5C0EF83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5065-30C6-46CA-89F3-E975D8076AD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74EB-FACF-42D2-96AB-0190D9A90FAD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B7AE-C211-41A2-BA75-0476DE93A58C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FE34-1FA2-439A-BB03-E40CE7D9712E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0126-8BAD-4C8E-A116-7B9AF0E89204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A1EE-B43E-497E-99B6-FED84D823C4A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1A8A-B792-4625-850E-D1C9AE0361B3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60D4-8F80-413B-9EFD-1430CCA4A644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标题 1"/>
          <p:cNvSpPr/>
          <p:nvPr/>
        </p:nvSpPr>
        <p:spPr>
          <a:xfrm>
            <a:off x="1332000" y="1989000"/>
            <a:ext cx="6953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乘法分配律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82" name="组合 1"/>
          <p:cNvGrpSpPr/>
          <p:nvPr/>
        </p:nvGrpSpPr>
        <p:grpSpPr>
          <a:xfrm>
            <a:off x="539640" y="4022640"/>
            <a:ext cx="2160720" cy="399960"/>
            <a:chOff x="539640" y="4022640"/>
            <a:chExt cx="2160720" cy="399960"/>
          </a:xfrm>
        </p:grpSpPr>
        <p:sp>
          <p:nvSpPr>
            <p:cNvPr id="983" name="矩形 41"/>
            <p:cNvSpPr/>
            <p:nvPr/>
          </p:nvSpPr>
          <p:spPr>
            <a:xfrm>
              <a:off x="971280" y="405108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4" name="Picture 5" descr="C:\Documents and Settings\pub\Desktop\未命名文件夹 4\按钮\按钮3.jpg"/>
            <p:cNvPicPr/>
            <p:nvPr/>
          </p:nvPicPr>
          <p:blipFill>
            <a:blip r:embed="rId1"/>
            <a:stretch/>
          </p:blipFill>
          <p:spPr>
            <a:xfrm>
              <a:off x="539640" y="406548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Text Box 12"/>
            <p:cNvSpPr/>
            <p:nvPr/>
          </p:nvSpPr>
          <p:spPr>
            <a:xfrm>
              <a:off x="973080" y="402264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提升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986" name="组合 2"/>
          <p:cNvGrpSpPr/>
          <p:nvPr/>
        </p:nvGrpSpPr>
        <p:grpSpPr>
          <a:xfrm>
            <a:off x="1332000" y="4599000"/>
            <a:ext cx="2340000" cy="399960"/>
            <a:chOff x="1332000" y="4599000"/>
            <a:chExt cx="2340000" cy="399960"/>
          </a:xfrm>
        </p:grpSpPr>
        <p:sp>
          <p:nvSpPr>
            <p:cNvPr id="987" name="矩形 42"/>
            <p:cNvSpPr/>
            <p:nvPr/>
          </p:nvSpPr>
          <p:spPr>
            <a:xfrm>
              <a:off x="1763640" y="462744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8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1332000" y="464184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Text Box 12"/>
            <p:cNvSpPr/>
            <p:nvPr/>
          </p:nvSpPr>
          <p:spPr>
            <a:xfrm>
              <a:off x="1765080" y="4599000"/>
              <a:ext cx="190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拓展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990" name="TextBox 4"/>
          <p:cNvSpPr/>
          <p:nvPr/>
        </p:nvSpPr>
        <p:spPr>
          <a:xfrm>
            <a:off x="4386240" y="1574640"/>
            <a:ext cx="457848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3 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快乐农场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——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运算律</a:t>
            </a: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1" name="TextBox 20"/>
          <p:cNvSpPr/>
          <p:nvPr/>
        </p:nvSpPr>
        <p:spPr>
          <a:xfrm>
            <a:off x="6310080" y="121428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QD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四年级下册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2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矩形 10"/>
          <p:cNvSpPr/>
          <p:nvPr/>
        </p:nvSpPr>
        <p:spPr>
          <a:xfrm>
            <a:off x="954000" y="1413000"/>
            <a:ext cx="721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每袋面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克，甲车装载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袋，乙车装载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2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袋，丙车装载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5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袋，三车共装载了多少千克面粉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6" name="矩形 4"/>
          <p:cNvSpPr/>
          <p:nvPr/>
        </p:nvSpPr>
        <p:spPr>
          <a:xfrm>
            <a:off x="1584360" y="3213000"/>
            <a:ext cx="70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5×31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5×22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5×253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5×(31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2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53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5×80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000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千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答：三车共装载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00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千克面粉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矩形 10"/>
          <p:cNvSpPr/>
          <p:nvPr/>
        </p:nvSpPr>
        <p:spPr>
          <a:xfrm>
            <a:off x="954000" y="1413000"/>
            <a:ext cx="721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商店运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箱苹果汁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箱草莓汁，每箱饮料进价都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。如果这些饮料以每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的价格售出，该商店可盈利多少元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8" name="矩形 4"/>
          <p:cNvSpPr/>
          <p:nvPr/>
        </p:nvSpPr>
        <p:spPr>
          <a:xfrm>
            <a:off x="1042920" y="3522600"/>
            <a:ext cx="70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(3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7)×(4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46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5×9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45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答：该商店可盈利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4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元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矩形 10"/>
          <p:cNvSpPr/>
          <p:nvPr/>
        </p:nvSpPr>
        <p:spPr>
          <a:xfrm>
            <a:off x="954000" y="141300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乌龟和兔子从同一地点出发，背向而行，在环形跑道上跑步，经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钟相遇。这条跑道长多少米？相遇时兔子比乌龟多跑了多少米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0" name="矩形 4"/>
          <p:cNvSpPr/>
          <p:nvPr/>
        </p:nvSpPr>
        <p:spPr>
          <a:xfrm>
            <a:off x="1042920" y="4761000"/>
            <a:ext cx="70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(4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5)×2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25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(4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5)×2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00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答：这条跑道长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2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米，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相遇时兔子比乌龟多跑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0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米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41" name="Picture 2" descr=""/>
          <p:cNvPicPr/>
          <p:nvPr/>
        </p:nvPicPr>
        <p:blipFill>
          <a:blip r:embed="rId1"/>
          <a:stretch/>
        </p:blipFill>
        <p:spPr>
          <a:xfrm>
            <a:off x="2700360" y="3105000"/>
            <a:ext cx="3605040" cy="154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2" name="组合 14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43" name="圆角矩形 15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44" name="组合 1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45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拓展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46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7" name="矩形 19"/>
          <p:cNvSpPr/>
          <p:nvPr/>
        </p:nvSpPr>
        <p:spPr>
          <a:xfrm>
            <a:off x="954000" y="1484280"/>
            <a:ext cx="721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、开动脑筋你能行！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5×25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6×2424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8" name="矩形 16"/>
          <p:cNvSpPr/>
          <p:nvPr/>
        </p:nvSpPr>
        <p:spPr>
          <a:xfrm>
            <a:off x="1225440" y="2457360"/>
            <a:ext cx="6083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35×25×10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36×24×101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(35×2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36×24)×101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(36×2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36×2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5)×101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[36×(2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4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5]×101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(3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5)×101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1×101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111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2"/>
          <p:cNvSpPr/>
          <p:nvPr/>
        </p:nvSpPr>
        <p:spPr>
          <a:xfrm>
            <a:off x="1182600" y="1700280"/>
            <a:ext cx="731376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3160" indent="-8031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稍复杂的简便运算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803160" indent="-8031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乘法分配律的拓展应用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803160" indent="-8031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解决实际问题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4" name="组 45"/>
          <p:cNvGrpSpPr/>
          <p:nvPr/>
        </p:nvGrpSpPr>
        <p:grpSpPr>
          <a:xfrm>
            <a:off x="776160" y="334800"/>
            <a:ext cx="3119400" cy="796320"/>
            <a:chOff x="776160" y="334800"/>
            <a:chExt cx="3119400" cy="796320"/>
          </a:xfrm>
        </p:grpSpPr>
        <p:sp>
          <p:nvSpPr>
            <p:cNvPr id="995" name="AutoShape 2"/>
            <p:cNvSpPr/>
            <p:nvPr/>
          </p:nvSpPr>
          <p:spPr>
            <a:xfrm>
              <a:off x="1414080" y="695160"/>
              <a:ext cx="2189160" cy="40968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6" name="AutoShape 11"/>
            <p:cNvSpPr/>
            <p:nvPr/>
          </p:nvSpPr>
          <p:spPr>
            <a:xfrm>
              <a:off x="776160" y="334800"/>
              <a:ext cx="844560" cy="7210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7" name="文本框 48"/>
            <p:cNvSpPr/>
            <p:nvPr/>
          </p:nvSpPr>
          <p:spPr>
            <a:xfrm>
              <a:off x="1463400" y="671400"/>
              <a:ext cx="243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矩形 10"/>
          <p:cNvSpPr/>
          <p:nvPr/>
        </p:nvSpPr>
        <p:spPr>
          <a:xfrm>
            <a:off x="954000" y="126828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、简算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9×19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9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1×25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8×102                            127×6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2×6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2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9" name="组合 11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00" name="圆角矩形 19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01" name="组合 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02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提升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03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4" name="矩形 22"/>
          <p:cNvSpPr/>
          <p:nvPr/>
        </p:nvSpPr>
        <p:spPr>
          <a:xfrm>
            <a:off x="1179360" y="2241720"/>
            <a:ext cx="584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99×(19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)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99×200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9800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5" name="矩形 12"/>
          <p:cNvSpPr/>
          <p:nvPr/>
        </p:nvSpPr>
        <p:spPr>
          <a:xfrm>
            <a:off x="4348080" y="2241720"/>
            <a:ext cx="584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0×2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5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5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25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6" name="矩形 13"/>
          <p:cNvSpPr/>
          <p:nvPr/>
        </p:nvSpPr>
        <p:spPr>
          <a:xfrm>
            <a:off x="1187280" y="4444920"/>
            <a:ext cx="584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78×1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78×2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78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56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7956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7" name="矩形 14"/>
          <p:cNvSpPr/>
          <p:nvPr/>
        </p:nvSpPr>
        <p:spPr>
          <a:xfrm>
            <a:off x="4419720" y="4444920"/>
            <a:ext cx="584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12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7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)×62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0×62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240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矩形 10"/>
          <p:cNvSpPr/>
          <p:nvPr/>
        </p:nvSpPr>
        <p:spPr>
          <a:xfrm>
            <a:off x="954000" y="134136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4×7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4×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×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1×68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9" name="矩形 6"/>
          <p:cNvSpPr/>
          <p:nvPr/>
        </p:nvSpPr>
        <p:spPr>
          <a:xfrm>
            <a:off x="1042920" y="1808280"/>
            <a:ext cx="584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4×(7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)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4×100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400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0" name="矩形 3"/>
          <p:cNvSpPr/>
          <p:nvPr/>
        </p:nvSpPr>
        <p:spPr>
          <a:xfrm>
            <a:off x="5211720" y="1816200"/>
            <a:ext cx="584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0×6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8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36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8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3668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矩形 10"/>
          <p:cNvSpPr/>
          <p:nvPr/>
        </p:nvSpPr>
        <p:spPr>
          <a:xfrm>
            <a:off x="954000" y="1268280"/>
            <a:ext cx="757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七、在       里填上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gt;”“&lt;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“＝”，并回答问题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5×(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)       25×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5×8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8×10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8×2       98×(10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3×(1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)       17×4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3×7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发现了什么规律？把这种规律用字母表示出来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2" name="椭圆 1"/>
          <p:cNvSpPr/>
          <p:nvPr/>
        </p:nvSpPr>
        <p:spPr>
          <a:xfrm>
            <a:off x="2016000" y="1376280"/>
            <a:ext cx="432000" cy="432000"/>
          </a:xfrm>
          <a:prstGeom prst="ellips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3" name="椭圆 5"/>
          <p:cNvSpPr/>
          <p:nvPr/>
        </p:nvSpPr>
        <p:spPr>
          <a:xfrm>
            <a:off x="3332160" y="1932120"/>
            <a:ext cx="431640" cy="433080"/>
          </a:xfrm>
          <a:prstGeom prst="ellips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4" name="椭圆 6"/>
          <p:cNvSpPr/>
          <p:nvPr/>
        </p:nvSpPr>
        <p:spPr>
          <a:xfrm>
            <a:off x="3871800" y="2492280"/>
            <a:ext cx="432000" cy="432000"/>
          </a:xfrm>
          <a:prstGeom prst="ellips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5" name="椭圆 7"/>
          <p:cNvSpPr/>
          <p:nvPr/>
        </p:nvSpPr>
        <p:spPr>
          <a:xfrm>
            <a:off x="3311640" y="3052800"/>
            <a:ext cx="431640" cy="431640"/>
          </a:xfrm>
          <a:prstGeom prst="ellips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6" name="矩形 8"/>
          <p:cNvSpPr/>
          <p:nvPr/>
        </p:nvSpPr>
        <p:spPr>
          <a:xfrm>
            <a:off x="2814480" y="1820880"/>
            <a:ext cx="15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7" name="矩形 9"/>
          <p:cNvSpPr/>
          <p:nvPr/>
        </p:nvSpPr>
        <p:spPr>
          <a:xfrm>
            <a:off x="3332160" y="2384280"/>
            <a:ext cx="15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8" name="矩形 10"/>
          <p:cNvSpPr/>
          <p:nvPr/>
        </p:nvSpPr>
        <p:spPr>
          <a:xfrm>
            <a:off x="2771640" y="2924280"/>
            <a:ext cx="15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9" name="矩形 11"/>
          <p:cNvSpPr/>
          <p:nvPr/>
        </p:nvSpPr>
        <p:spPr>
          <a:xfrm>
            <a:off x="1655640" y="4184640"/>
            <a:ext cx="60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两个数的差乘一个数，可以先把它们分别乘这个数，再把它们的积相减。用字母表示为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(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b)•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a•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b•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矩形 10"/>
          <p:cNvSpPr/>
          <p:nvPr/>
        </p:nvSpPr>
        <p:spPr>
          <a:xfrm>
            <a:off x="954000" y="126828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八、怎样简便就怎样计算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×(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9×6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3×19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3×20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3               87×98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1" name="矩形 13"/>
          <p:cNvSpPr/>
          <p:nvPr/>
        </p:nvSpPr>
        <p:spPr>
          <a:xfrm>
            <a:off x="1150920" y="2220840"/>
            <a:ext cx="70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2×4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2×5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48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60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420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2" name="矩形 3"/>
          <p:cNvSpPr/>
          <p:nvPr/>
        </p:nvSpPr>
        <p:spPr>
          <a:xfrm>
            <a:off x="3959280" y="2225520"/>
            <a:ext cx="70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63×(2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9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63×1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63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3" name="矩形 4"/>
          <p:cNvSpPr/>
          <p:nvPr/>
        </p:nvSpPr>
        <p:spPr>
          <a:xfrm>
            <a:off x="1150920" y="4411800"/>
            <a:ext cx="70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3×(20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)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3×200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4600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4" name="矩形 5"/>
          <p:cNvSpPr/>
          <p:nvPr/>
        </p:nvSpPr>
        <p:spPr>
          <a:xfrm>
            <a:off x="3922560" y="4400640"/>
            <a:ext cx="702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87×(1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87×1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87×2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87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74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8526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矩形 10"/>
          <p:cNvSpPr/>
          <p:nvPr/>
        </p:nvSpPr>
        <p:spPr>
          <a:xfrm>
            <a:off x="954000" y="1413000"/>
            <a:ext cx="721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18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7×3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6×3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7 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18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18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18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18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6÷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46÷6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6" name="矩形 13"/>
          <p:cNvSpPr/>
          <p:nvPr/>
        </p:nvSpPr>
        <p:spPr>
          <a:xfrm>
            <a:off x="1150920" y="1881360"/>
            <a:ext cx="70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37×(3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6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)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37×100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3700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7" name="矩形 6"/>
          <p:cNvSpPr/>
          <p:nvPr/>
        </p:nvSpPr>
        <p:spPr>
          <a:xfrm>
            <a:off x="1150920" y="4121280"/>
            <a:ext cx="70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(30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46)÷6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60÷6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矩形 10"/>
          <p:cNvSpPr/>
          <p:nvPr/>
        </p:nvSpPr>
        <p:spPr>
          <a:xfrm>
            <a:off x="954000" y="1413000"/>
            <a:ext cx="721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九、解决问题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29" name="Picture 2" descr=""/>
          <p:cNvPicPr/>
          <p:nvPr/>
        </p:nvPicPr>
        <p:blipFill>
          <a:blip r:embed="rId1"/>
          <a:stretch/>
        </p:blipFill>
        <p:spPr>
          <a:xfrm>
            <a:off x="1609560" y="2184480"/>
            <a:ext cx="4222800" cy="25048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2"/>
          <a:stretch/>
        </p:blipFill>
        <p:spPr>
          <a:xfrm>
            <a:off x="1519200" y="4718160"/>
            <a:ext cx="4673520" cy="119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矩形 10"/>
          <p:cNvSpPr/>
          <p:nvPr/>
        </p:nvSpPr>
        <p:spPr>
          <a:xfrm>
            <a:off x="954000" y="357336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2" name="矩形 4"/>
          <p:cNvSpPr/>
          <p:nvPr/>
        </p:nvSpPr>
        <p:spPr>
          <a:xfrm>
            <a:off x="1582560" y="1197000"/>
            <a:ext cx="702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(5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42)×25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00×25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50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答：王老师一共要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5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元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33" name="Picture 2" descr=""/>
          <p:cNvPicPr/>
          <p:nvPr/>
        </p:nvPicPr>
        <p:blipFill>
          <a:blip r:embed="rId1"/>
          <a:stretch/>
        </p:blipFill>
        <p:spPr>
          <a:xfrm>
            <a:off x="1639800" y="3573360"/>
            <a:ext cx="4372200" cy="1028880"/>
          </a:xfrm>
          <a:prstGeom prst="rect">
            <a:avLst/>
          </a:prstGeom>
          <a:ln w="0">
            <a:noFill/>
          </a:ln>
        </p:spPr>
      </p:pic>
      <p:sp>
        <p:nvSpPr>
          <p:cNvPr id="1034" name="矩形 6"/>
          <p:cNvSpPr/>
          <p:nvPr/>
        </p:nvSpPr>
        <p:spPr>
          <a:xfrm>
            <a:off x="1584360" y="4437000"/>
            <a:ext cx="70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(5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42)×25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6×25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40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答：王老师买故事书比买科幻书多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4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元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8T08:32:11Z</dcterms:created>
  <dc:creator>Administrator</dc:creator>
  <dc:description/>
  <dc:language>en-US</dc:language>
  <cp:lastModifiedBy>相忘于江湖</cp:lastModifiedBy>
  <dcterms:modified xsi:type="dcterms:W3CDTF">2018-01-07T14:23:31Z</dcterms:modified>
  <cp:revision>16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