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3072A-597F-4D0B-886E-6422FDD7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CB235-2CE8-4605-B08D-C4C36416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02380-A4B1-4C0F-A6C1-5D9843CB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4D7D2-838C-4324-B023-0540DD9C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C022E-1FDF-4B32-B43A-21C1C5D1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A435A-1779-4090-8B02-6E38BA93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3D305-156D-476C-B09F-4352D432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2DA81-1072-4C61-92FB-D16833C6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8A478-AF0C-466B-80FE-A6CD8F30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6EA2C-7BAB-4C30-A7A0-83D4A583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366AA-10B3-46A3-AA16-6FEC549F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11D14-1BC0-4FAB-B125-A4CAAE57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ADE3D-74DA-41EB-8606-5D9DBE99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1BD79-8C62-4419-B82F-F9C0C55A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D34C2-EC6B-46AE-BE8C-A151F05A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3B1CF-B120-43FA-857C-16054019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65BA2-A643-465E-BA27-2949F3A3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E9D5C-724F-464D-AE9F-5A01065D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BE51D-4B34-4E6A-B009-F56D1EC9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BB51F-7315-428E-BBE9-5C27BFC4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12E26-D904-4674-992C-76E390E1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98F9D-175D-4F3C-847C-11471BFC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9894F-C9AF-418A-9063-A47E8367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71AB5-61CD-430A-BD1E-2644A001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744B3-D17B-4E57-8132-D6E046B5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3F73C-EBA1-415F-93DB-BA8A2C89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252F2-0B69-4611-93D4-8B6206D2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60DE9-0739-4BD7-B762-12DFE22B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BE712-B856-447B-B24D-B0D5D99D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24B85-E0C1-4E6B-95B4-D0D4DAAB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23A-BFC5-4F43-847D-D8B2A3F8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3FBDE-A9E2-40AD-8CB6-4B1A7901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49B82-D9F8-4777-B806-C834B4B5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0FA6A-F197-4B46-B243-911CE366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284A2-EBCF-49AA-9D63-CF00DB37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3FE49-8E0D-48AC-89F7-D7EEF1C8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C38F9-A399-4EBE-A7BA-EC38E808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505D8-35F6-40C6-A4DD-A5FAD05D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1BA76-769F-49BA-BA4D-5591DEF8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812A6-A87D-44BA-898E-6085365E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7BF44-BEDF-4A2F-88F2-5E10DC25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1D9-0B98-4B55-9A7E-B74D5A73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57ECF-ADEE-499A-9CE0-F42B9C63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2874F-BD9B-4CC4-A9C1-ECC99C8D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83948-39DA-44E0-A9DC-60A77EB7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BF958-BB81-4A2C-A25E-6909B28E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B9607-B72B-4B4C-91AB-A9071CBA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C4B75-C74E-499D-8CE9-240B7F0A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76B81-9710-4E9A-B4F9-D6DABB50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09562-C1B9-4DA8-8661-670C51D4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C897F-DF42-450E-83F2-D0220FE5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D6CFC-3319-4036-B913-0EA93A7A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442-35B6-4EFE-905A-47301DDC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FFE7F-9D37-485C-8DE1-8FED2AA1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32C27-5F13-4B5F-A77A-9B2B4951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32C20-C800-4542-AAAB-62DAA61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8E595-17E0-4F65-B4AB-754363D0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2C78A-99D3-4BF1-8E7D-EEDE1C84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E8C1C-AFED-4236-AECB-70D2D7EE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7CBE2-B40D-410A-94EE-2DDF7740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C69A0-5002-4069-A9BB-CFCDA741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E4D44-0AE9-4524-8269-3B864C38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32816-119B-485F-84FB-0F7946D5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84E-F937-46A2-AB96-A6CB9CA8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7035F-89E0-4CFC-A682-7762D450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79237-B7B9-4F07-85B8-30282267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3442C-B9F0-4040-B02D-1F21BF39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69E08-AE5C-4F3E-918D-9F386CA2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9F6AB-AB2A-4317-BBB1-F3B1B071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0E0E5-1599-4BEF-98B5-B91F82B9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55A86-4919-4460-8C85-F1ED00CD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83A38-C1F1-4D32-8D02-1488F4D4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0F92C-638D-487F-8EC6-D08FF04D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DD529-C4C5-43A3-99A7-B85F3517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FF7-89BD-4213-9229-B4CA5399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5E6BB-A76D-4625-A773-DA980FFB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9ACF6-C1D0-4101-9D4D-CE7C7C87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AF222-A17A-4037-B203-10F27AE6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B1BCD-BDA9-423D-85EE-C4C0555E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63841-1050-4886-9960-2AF7BB16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00B14-2D81-466B-A84E-C78DD0AB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AA7DB-7CD5-4413-8942-B590E831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BDE39-633B-466D-A1E9-748B2A17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794C3-4E48-4B83-B750-29AA3E06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D9D20-1F1B-4E46-969D-21221171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438-4DCD-4225-AC0B-871030C6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22D1C-6AF0-4F94-BAD2-F8994712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356AF-6D84-4858-9ACA-B96FB2BC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DA58E-452F-4192-BFB6-B10C2EF6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84F03-3E3C-400F-863C-2FBE7746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94AD3-F4D3-4436-8B2B-6F831682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F46F1-ECC8-4485-8711-46D58C09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ED837-C8F6-4E07-8CE9-B0BF6436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9D41B-A288-4228-B3AB-374931E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9B5F8E-935F-4F4D-ACC0-2D65D0E0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11FD34-D2BF-4A50-9E3C-ECF80CAE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262-5F47-4C03-8FB6-46CD4FDC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E767A-6F44-46A6-95D7-5061EF79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D0033-AB61-475C-9029-19AB5A77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303C2-DD4D-4EA8-9237-E2A006F0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860CE-137E-4698-B2B3-DCDD4C94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5B0E8-3CED-4E0D-9603-F4058A05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CC645-7CEA-458F-B371-ED4F0EE8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04305-CB3A-41A1-BDD6-55C14B18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F3062-53BF-4E9F-9EA8-3D081DCC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4A279-774F-41B4-BDF9-B5A514D4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95E00-A713-4E4E-AB49-5E9F194E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0D3-D4CD-4101-A6A8-7E881658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CA08A-342D-431A-B770-90C9FB32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92EA28-B18F-4747-84C0-1E188870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4A530-C7CE-4802-9B12-B02D2D57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C0A43-89AB-47D6-AC6F-2D6B9F7E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97E48-B0A9-48B6-BD69-4CD0064B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C9854-B5F7-4FE1-A484-17DF6A65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7A204-4745-4802-96FE-F9AB818D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DD1089-475B-4DEB-8996-52C26F83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B6973-394B-477E-8DB2-EF015EC7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D16F0-7007-408D-8C62-E5401303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D84-3273-4E08-A545-2F4E5C3D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7C53F-D9D1-4AF4-94C4-4C5FE6B3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B7C70-420B-42A1-A45C-6443640A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E03E93-2BDF-4989-840F-C0EFB9C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3580CE-30D9-4520-AD63-3704F7F1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D542B-6E2A-4882-99D1-E5DA03F1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20ABC1-8625-435B-AB7D-1192C054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8C5F6-79A7-4BF5-B534-D58F20AE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98ED83-721B-419A-B6B5-237CDD35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39518-6648-4511-A039-69D79A51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730FD-305D-4D45-8192-C7A1DC0D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753-6002-4F1D-820A-7375F2A2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4756B-12B8-4A73-97BA-FC9AEE5C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F27FA-25E2-4E0C-9CC9-386D4DA1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56B95-D040-45A9-A770-C45A5422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09748-E6B0-416E-BF69-54FAF58D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047539-CDD6-494B-BE7E-BB5AF757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01079D-ED63-46B4-AE71-AB130506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0C306-AD5E-4D78-8562-76409F60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295E9-F90A-4AF0-BB1C-DB048FBE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35B91C-4F6D-4CEB-934E-91E71F40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7FC1E-0151-4BA0-ABF1-E2A316A1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DB2-3467-48CF-8BB6-42873A44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D94C7-25D8-4B2F-B0EC-2DCA0008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BFBB60-8BF1-412F-BC6C-CA11380C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50B82-83EC-4BE6-ADE9-CB04681B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EBB1AA-6F5E-410F-80CE-202569F7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468EBD-D07B-4A19-9228-D18DC92F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C59D46-876A-4AE1-B00A-FD82441B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64FAC4-C310-4842-AB8A-C0D70040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3B0F0-D154-4198-8147-C41B9FA5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61CAE5-1FC3-4678-AAAF-1E6C2FB1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294E77-B19C-4172-8306-0CDE9807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708-E21D-40EF-AC58-6D70E7FB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8CB5C4-4FDD-4E5A-AEA1-61B9FB40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48A0F2-59F4-44E4-BF6F-1BBC5694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4FE966-22CC-415C-924F-E9A3E21F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667938-1DE0-4AFD-8DBA-50E127C3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EBFCAE-00D2-43DB-B799-937A82A4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B46D1-BE20-42CA-B72C-6E086380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49C0D-E6D8-48EA-98B6-6D8E0B7B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2C3F04-CCFC-434E-8201-8336F369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2F2E7C-3814-450E-A17F-6BAB06EA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DE0F72-4DEF-4094-A946-B52D8D06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FBF0-1384-423C-B73C-E9061FEE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B517A5-36A6-4212-938B-9BA60998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6FC90-8096-462D-85FE-B9F8B23F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F7073-3457-417F-A942-ADCB8FDC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18EEA8-1192-49F2-80A3-23A64141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33A45-D3F6-43FB-A14E-DDCD88BC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A9D42C-4443-4B63-B12B-DCE4B0F9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79B36A-E7B0-44FF-90F6-9526C5D0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8955D9-CDE3-4839-90BC-D0EA292A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5D168-4931-420F-A9AB-7BA32E8C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C4E572-E945-4996-A562-8C688F8F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34FA-0C2A-48CC-A8F9-ACBBA75C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00F8EF-81E6-412E-A701-16C119FE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4CB5DD-95EE-443B-9721-3A928477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FD13B9-BE6A-41F2-8B2F-B20F28BC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00EE9F-2DFD-44B8-B567-79C98350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369911-DD8B-405B-8B56-3EFFD488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1959B5-F258-4523-A12A-7B7EDFFC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A2E1B0-DAE1-4A1C-9E98-DB703F11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C3A461-D7E5-4DE2-940E-9F4F54C2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A2ED8C-B01C-4FD5-83AC-2FED3B6B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B98B37-DC41-4FE0-9A32-27008B7A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15E2-D9C3-4E52-AAC7-8BEB65E6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06BFB9-907C-4FB1-93B6-D8E40F82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EDD2C8-DC99-4928-9B80-79204702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26C495-9E84-4B43-9604-67BDB0B0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E8FCF5-D008-4EEB-AC58-472091A9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CC09B3-2B30-423D-B02B-2F98E3F8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0736C5-2B7A-4006-90FD-76EEC99C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FF7EC9-25A6-4F2D-BF60-D8AA5889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DB6ECF-EE38-4DB0-B585-AA165005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168BA0-0F15-4375-AD26-28087190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ABFE33-22C9-430D-B0E8-E01F8812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5CA5-8C87-4D2B-B0D3-9A51D73B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1686F1-4AE9-46E2-A358-7E9E6D5F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8E1C12-4901-4DCF-AAD5-75ECCBD8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3C82DB-E31F-401D-8C3E-AD87616B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2F300A-8B99-456D-B259-644FD61E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7E20C0-7A48-4F14-A50E-5FBB04AE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9132E1-7DE1-49F3-B87C-D4B56AF9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161EF8-A7B5-4D04-A150-54A1AFF6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2065BD-DB67-4777-9928-3AD5F3CD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3829EA-893A-4F10-A20E-BD9E4A16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F3AC-DEF6-4F2D-8E1F-5D749625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636E-6D9C-4D0F-89C7-A22AE770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4357-F335-4C30-8535-0DF01CD5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02BC-28A8-452F-8379-4AC53DE4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3B17-B1DC-4062-A517-903420AE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89B7-1248-415D-869F-274E2AED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EF4D-4C1F-4E3E-AAD5-FD9CA664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921B-7C0D-4823-BF9E-9DCFED09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BD46-C879-4C35-BFD5-5F9E4D49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0615-F832-449D-AF72-3605E504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359F-5CC0-4E46-AC18-FFB3D0ED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A36C-C78C-489B-99DA-3A6A9E01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1FDA-CDA9-438E-955A-62F890C8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3153F-57B4-463D-A5B5-E2E504BA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D19B-F387-4DA7-B5BE-15C8118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83E5-A1FF-4007-BA34-313930E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87FF-53E6-46E3-8B30-332190BC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6BF1-3D44-4315-B83B-A9326216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EB2B-CE48-42D2-B0F4-5763F455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4E2C-4E27-46FB-8867-36495DF2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CD60-9800-4251-80C5-913777BC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02C46-7AD3-4B7C-A6F3-AB411F97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D759C-DE1A-4C88-9C3A-D8249C74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76AA-BE64-415F-86C7-59487871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80C6-695E-4520-A479-5706699A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CD2A-6C7F-48BF-B004-A54985A7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425B-1240-48EF-A097-3F5F7EEF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65BB8-0F83-42ED-A1D7-1BBD56B5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38B95-ADE6-4F12-A36D-784E259A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93F01-EA89-4C92-A441-B6D2F204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F22A0-73D7-4A23-B5B4-1BBD140B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BFCF2-22F1-4D47-9468-AA8A82B4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36AEA-4352-460A-A2CF-3CB6A314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EC90C-89B8-4CB7-856D-A27EB55D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86E5F-6F8E-43D5-B27F-B8E20D42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1FC16-725B-454C-B470-FBD7D66C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B957E-3139-4A0C-BDF7-444CBE4B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14DB-FC31-4CA9-86ED-E1B31768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7B243-51F5-4122-8675-DD4E99D7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D0163-7EF0-4BAC-9184-5E84A02C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4D393-5B5E-4C9B-80EF-44F585D3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74B83-DA63-4312-9E54-B5730A7B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54423-5895-4D22-95EC-F15170EB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A309C-D823-4F7F-A3E2-1631BA82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23FD0-1F9D-457A-95A9-F45C0DC5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7BD5D-5DD8-4C65-BC64-7390B632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D5E7E-CCC7-4193-BA6A-52AD4A9B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4AB32-DA3D-41FB-B7E2-2C227426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6EA70-68D5-4999-81A9-CAEAF170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1A325-456B-4AE4-A404-A1B98670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E47A-C39A-4D99-BD1B-BEBBDE49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DA28D-EC30-4DF8-9FEE-F925C74E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7E666-0EFD-40FD-91C7-3A385343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3120E-F1E7-4A05-8EA2-EE4BAEDB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14DF3-8FD2-4338-BF57-F9B286DC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85827-5F18-4832-93A6-D6CA2C8A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A688B-1CCD-4E60-BBDE-EC7604FC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52A65-C708-47B3-8C6E-14AAD45B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37714-02BB-4E69-96C1-2E0C75F0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D950E-D9E3-41EE-A378-9A7DDD1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39371-16DD-4CE4-AC00-9A19558B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7A620-6A6C-469F-9D0D-9FD20984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68A20-56CD-4AC8-9DD0-71B612FB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D5413-1819-4F70-A2C7-64D381CF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12D98-6EA9-444A-912F-CB106A0D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838DC-C89D-4A86-981C-EAE8A4A4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D4F5C-836F-4410-8E95-E3BD42A2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69FA2-B7B0-413A-8A9C-97750D31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27229-A598-439A-A361-6AE99DEB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42632-C275-417A-852A-6652EFB6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BAAF2-209E-498A-90B3-CAA9F9F9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C4C8-4A3A-4829-A366-A73FBA217FF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5C8D-3FEB-44EE-86EA-9DB35261AE7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568C-E76F-4983-8718-1FBD66B7F9B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E073-97B7-4FC6-ABA0-E76BBC24075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D836-ED56-446A-B779-3A6B83CBEC7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0EE4-6083-403C-A9D8-750EF960A8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F3EB-F295-4E71-9D21-E493B7F8E01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8CCC-7CE6-45A3-A62D-DF092B72238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EEF8-CDF1-4254-9D6F-8F6CA5FF00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F73-D9A0-476B-9362-3BD90137F9C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22D2-3764-4F6E-9B8E-3E6E2146D1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CB83-8A59-451D-920F-C808227322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CB51-91B0-465A-BD28-48F2B50219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D698-45BB-491F-8EDD-0F51AAFFE56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4AA0-DB48-4637-8618-A399550CCA2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E09F-C9C2-43ED-A571-9C8AA88EDF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84B6-6414-4989-AEDF-6391AA796D9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E438-9EEA-4384-9EBE-D20DFA0CFF5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CC80-5763-4FF5-9F35-1BEACC4B2F1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10C6-D1E3-4CF3-8FA5-EEB12E00803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3E7B-9A9B-47AB-81CF-EBB85F6A908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F102-E4F8-4D27-A17F-90C649DF8D0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ACB0-8618-4196-81ED-95480D3D9B2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332000" y="1989000"/>
            <a:ext cx="6953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除法的运算性质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4"/>
          <p:cNvSpPr/>
          <p:nvPr/>
        </p:nvSpPr>
        <p:spPr>
          <a:xfrm>
            <a:off x="4386240" y="1574640"/>
            <a:ext cx="45784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3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快乐农场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运算律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700280"/>
            <a:ext cx="731376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运用运算性质进行稍复杂的除法简算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54000" y="126828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怎样简便怎样算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80÷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0÷3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60×25÷90              75×4÷75×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矩形 22"/>
          <p:cNvSpPr/>
          <p:nvPr/>
        </p:nvSpPr>
        <p:spPr>
          <a:xfrm>
            <a:off x="1179360" y="2241720"/>
            <a:ext cx="584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80÷7÷5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÷5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5" name="矩形 9"/>
          <p:cNvSpPr/>
          <p:nvPr/>
        </p:nvSpPr>
        <p:spPr>
          <a:xfrm>
            <a:off x="3916440" y="2241720"/>
            <a:ext cx="584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0÷8÷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÷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矩形 10"/>
          <p:cNvSpPr/>
          <p:nvPr/>
        </p:nvSpPr>
        <p:spPr>
          <a:xfrm>
            <a:off x="1187280" y="4444920"/>
            <a:ext cx="584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60÷90×25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×25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矩形 11"/>
          <p:cNvSpPr/>
          <p:nvPr/>
        </p:nvSpPr>
        <p:spPr>
          <a:xfrm>
            <a:off x="3903840" y="4441680"/>
            <a:ext cx="584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5÷75×4×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×4×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矩形 10"/>
          <p:cNvSpPr/>
          <p:nvPr/>
        </p:nvSpPr>
        <p:spPr>
          <a:xfrm>
            <a:off x="954000" y="13413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800000÷125÷32÷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矩形 6"/>
          <p:cNvSpPr/>
          <p:nvPr/>
        </p:nvSpPr>
        <p:spPr>
          <a:xfrm>
            <a:off x="1042920" y="1808280"/>
            <a:ext cx="584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800000÷(125×32×25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800000÷[(125×8)×(4×25)]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800000÷1000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矩形 10"/>
          <p:cNvSpPr/>
          <p:nvPr/>
        </p:nvSpPr>
        <p:spPr>
          <a:xfrm>
            <a:off x="954000" y="1268280"/>
            <a:ext cx="721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龙海幼儿园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芭比娃娃，平均分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班，每个班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小朋友。平均每个小朋友分得几个芭比娃娃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两种方法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1" name="矩形 4"/>
          <p:cNvSpPr/>
          <p:nvPr/>
        </p:nvSpPr>
        <p:spPr>
          <a:xfrm>
            <a:off x="1052640" y="3681360"/>
            <a:ext cx="70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方法一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00÷3÷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方法二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00÷(3×50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平均每个小朋友分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个芭比娃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10"/>
          <p:cNvSpPr/>
          <p:nvPr/>
        </p:nvSpPr>
        <p:spPr>
          <a:xfrm>
            <a:off x="954000" y="1268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张叔叔一天要包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支钢笔，把这些钢笔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箱，每箱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盒，平均每盒装多少支钢笔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3" name="矩形 13"/>
          <p:cNvSpPr/>
          <p:nvPr/>
        </p:nvSpPr>
        <p:spPr>
          <a:xfrm>
            <a:off x="1052640" y="2816280"/>
            <a:ext cx="70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60÷8÷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60÷(10×8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平均每盒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支钢笔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15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16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17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18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9" name="矩形 19"/>
          <p:cNvSpPr/>
          <p:nvPr/>
        </p:nvSpPr>
        <p:spPr>
          <a:xfrm>
            <a:off x="954000" y="1484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你能快速计算出下面算式的结果吗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5×2014×2013÷2015÷201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0" name="矩形 16"/>
          <p:cNvSpPr/>
          <p:nvPr/>
        </p:nvSpPr>
        <p:spPr>
          <a:xfrm>
            <a:off x="1150920" y="2573280"/>
            <a:ext cx="60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2015÷2015)×(2014÷2014)×201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×1×201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01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>Administrator</dc:creator>
  <dc:description/>
  <dc:language>en-US</dc:language>
  <cp:lastModifiedBy>相忘于江湖</cp:lastModifiedBy>
  <dcterms:modified xsi:type="dcterms:W3CDTF">2018-01-07T14:28:10Z</dcterms:modified>
  <cp:revision>1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