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F1FFF-EC2C-47BE-B8EF-56F4623A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527F4-C73A-45DE-AB20-FAE47E9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49CA-CF74-4BAC-BD88-D9C85D3A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3A1AE-D436-45C1-A29C-13BF7E28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F0957-403E-4D37-9E31-CA64E49B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0393-781F-49A0-8811-738FFB24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3846D-FF2B-40AA-9F48-A32E54B9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B4CD1-EB82-44DA-BA67-2DDC6E2B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C9771-A0C8-4059-BFE9-64F43F62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25327-2C0E-4C27-BE50-D63A431D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970A0-B8C8-46F6-85E2-601A2FC1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5FF7-1896-45C7-9A58-F81D8E592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62074-674F-4F6E-9E0F-F6B56AA8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79C2C-981C-41EC-88DF-35A124BF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CEDFF-F156-425B-A8DB-2C62FBD1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CA8E7-787C-447D-A169-6913BAA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B9895-8C29-41C9-8010-1515C347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DFA42-7AC5-4457-BBBC-FEC8A9F1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5420E-DA7D-4860-9EA6-8ECCCDF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09B9D-2B57-4A9F-B2BE-B78F0816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8999D-7763-420D-B972-3FE1CBC05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E32E3-A0F5-42E0-8DF1-EC30F212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8A11A-1146-4B8A-ADB5-CCCF5FE9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E28B8-157F-4F81-B794-A31447C9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17E22-1925-4343-BE21-554151D1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30DD6-9903-42FE-9196-4B28A038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4E1BF-CC07-4CDC-A366-113BC829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DF5CA-861C-4BA1-BD08-7775852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23C49-83DE-42A7-ABE7-9B59615D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A1D9A-8917-4712-B9D2-BAA005AC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944-5C48-4EE7-BE91-4C7C1765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C2D7F-43FC-421E-A660-4CB81D1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D44F3-BF09-46D9-B4C9-4E59B7AD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75A06-C61E-4484-9225-763702F0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E5422-19F6-4BA9-815D-D177908C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F2A6E-18A6-4975-BA61-12D00C56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65C54-1866-4B13-9E50-0C687106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C9B80-2067-44ED-9B7C-D98BE268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C1AB-6544-4982-8E9F-BA6D8EFF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91B76-0B8E-4A3B-BE57-62593C92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CA1AA-CF04-499B-BA54-9B555DAF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D31-ED7C-44F7-8DC8-E7F6C532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29536-3BB8-46CD-84D8-CEAA184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087E1-4FB9-4D63-9916-235C1BBB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B72FCC-8170-4C7C-AE5F-855C6703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EFFB0-88AE-4472-A0F0-0F6025B8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EEE2A-14BF-4F72-B2F9-8BEBB888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988FB-9CD5-40D6-A3A8-3444EF5E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94790-B239-446C-9E9E-BC0583C0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E07FC-15EA-46D0-A9D8-E8918198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7D452-A7EA-477C-BD07-7686E7D3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8BAB4-7586-40E0-9461-711F7E3E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317-9744-4FEB-87B6-D8C4063F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C258C-CAE2-4204-B1F5-D8E20F09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9C71F1-B782-49BD-83E2-762D3686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14ACD-A16A-44AE-A380-BF54393E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3EE85-1D80-43BF-AFEC-5D6F916B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0F5E9-39B9-48D5-9ADE-8FD3BBF0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28D91-D567-4C38-B9F6-E6A01077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1FFBC-7051-43B1-8FFD-CE00554C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C1BA0-07F6-40D7-8C41-47C96132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BDB3C-B5D9-4CAD-8288-17A26B70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25E7E-F565-4E99-A8FC-52B3D904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E3C-065D-4078-A769-6370802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FADF9-6A32-4E76-9FC7-0F3F85EA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919F3E-ED5A-47B4-958D-F160F790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F273C-5BBE-4EDF-93BE-92B6D66A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636C1-519A-4CA8-8846-8D02D9E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347DD-8CCF-41BC-8941-D41B825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32E36-684A-4B4E-8B91-F298710A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DE250B-7036-486D-9232-FCA75A83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A8716-07CE-42E0-A6D5-BEB6DC1DD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59C19-E4D3-4711-B852-76A89039E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F02B5-0C7F-4E12-99D8-ECEC3404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A901-B283-4E2B-B355-A10EFE8F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B3B25-BC49-4022-B38D-615757AC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753C6-9023-42E5-A8F8-C8B4E602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5B991-C1D7-4889-82A7-5D01CAEC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A8728-826D-4846-8FE4-8474B2AC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4D284D-0A82-4E28-B203-BDDF222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64F20-7C61-4B34-80D6-D6D4C6B9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5CA17-BCE0-4254-A824-FB43068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4E579-221C-450F-B810-C20F445C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6797B-FA72-43BD-A486-42F00AC8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17956-371D-482F-8FBC-B26F6CE9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83C-3085-479E-9DF1-A081FEC5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291ED4-E36D-4682-827D-6B4E19A9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B0188-E0AD-46C3-B95C-D2F535C5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B4E7D-C25A-4D29-8C73-23A075AC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0AA6C-021F-4AC9-BB46-199BC12B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6081A-1D92-4DDE-84D4-8DB31441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3B820-D85F-48DB-BCA0-93EA1CD0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6B5AC-DAF4-487B-9B66-D029439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2D4A2F-212F-4180-9533-F4811933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E30C57-65D3-47E9-8526-5745542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0C5FE-E60C-46D8-AF59-175D60B4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B07-ACC8-4AEA-8F6B-FBA3ED8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0FFD2-2C31-41DB-AFA7-78DB2A4B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76BD5-8F8A-4C3E-8339-0968F057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896DB1-4715-4DBA-8109-7CA82A63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E6B8D-B36E-490B-ACA4-FAE82C3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3EEF4-F713-49DE-8987-270723FC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CD419-0DFD-44CC-9D2A-E80A4B8B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3C82AE-EAA6-46C0-B450-E6090981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0DC23-74EC-463E-9647-1B33CE46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65751-CBD7-4BB5-A36F-40EB1715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B1295-619D-41AE-BDD8-5C52C5A6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A8AC-2EC6-44D2-9760-6511B1CE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799693-A26C-4563-9965-8CA2793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3CE38C-4267-405C-8254-E4260F4B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26909-3FD9-43C5-AF63-7B0504A9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7164E0-0CF3-4099-9FC1-EDE0212E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F80562-345A-453C-93A1-CB46135A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DDEBE-510E-41F5-9695-6B72ED59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80975-D6E3-4FF0-85DB-1FFBEA1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63FD8-9394-4293-AE34-6DD19DCE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0C747B-B2D7-43AF-BC1D-1004D25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E80BD0-7263-4968-B9D1-9E89755F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7B8-15B4-4BC5-BED1-6F4DD2F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F01693-9DBA-45C6-9B4E-C1C97BCE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25C9CB-0CEF-4154-AED4-8148844F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80548-9BAF-46B8-A988-9E0A9D9D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7C1079-BC7F-48ED-8AFF-1B21772B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CD84A-BE3B-4993-82F0-5C2CB678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65EBB9-31B9-4E68-8F3C-F946F895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4EEB2-00E7-49F1-9133-5C4F1B78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73F483-DED6-4DB4-83F5-DEF539A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9A6C8-8F28-4D92-8E9A-FBBF8AFC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CA6F9-F9D8-427A-8FC5-EEBFEC96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E386-9548-4D9F-BDE0-6007FEA1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F1566-E5FA-477D-B713-EFC04925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9114D9-BC61-4F66-B4E0-5AA6B8E0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902015-4B92-43B7-8F57-A556B76A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43499-99FF-466B-A89C-8AFE260F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F1AE4-6305-4209-912C-8A9BB33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0B0313-185E-4970-BFEE-DC8E07FA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3D9C01-7B01-4418-91D8-645291DF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BEF011-C77F-4D4D-B3F5-B6116173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A20E8-453A-46FC-BE9B-E4FD85FC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F30E7-4758-47CB-B4D6-59B4BB44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B74-BD2E-402E-97E5-4145EF2A5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E858A9-8008-4133-B3AD-64860CDE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2C29B9-A131-474F-A584-5D63D333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8DF9C5-9A70-46A3-8CBF-46EA6241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63532-A1E6-4CE7-95E1-4B6268B6E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4608F9-EA42-4E3F-8A40-EDCD5459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1662F-1E20-4918-AFA2-875F9D93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A1DE8-814F-47B4-98AD-8C3764B9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9A0DD-87A3-4583-9A97-4C56B78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8D886-E66A-4028-B1B3-6D284E72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5EEEE-E1A2-4786-A652-15DA6365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147-0A5B-4C7A-AD74-E0B4030B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9279D-C9C6-4C82-BC26-F682F573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FD1F2D-375E-4D14-AFC2-3C7DD23F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23801-BE0E-45D5-B3C5-166C2E3F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FCE110-E053-43B4-908A-CEEB0EAA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FA5AD-37E4-48E9-B339-0468B5DB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8C14DF-21FD-409C-9E94-DE0C3D3D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54815F-2E7C-48D5-A7F7-1586D14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9AA81A-AD44-40AE-89D7-9CAE43E0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607FF-B42E-46D2-9BF1-0E459786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13343-D9B3-43D3-84D7-23218D0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1CCF-CBB6-4089-99A4-A3981E81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019D58-3465-4CB6-8520-B39B9B46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D062B9-3B55-4B32-AC81-4FFEC490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A65006-1423-4363-B5E1-3238E1D0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FE790-48C4-4395-881C-DF15AFCF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28213-9F4B-4553-BB97-A1161675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6A2BAC-097E-4DC0-A074-DF608121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2E980E-E488-43A5-AD67-B481B35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E7F146-2A93-4583-9256-5181C9F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6DB0E6-90DA-4F6C-8301-B70CD59D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EB0DDB-BB18-493E-A6DF-60A01A9C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17DB-8207-48C9-93AF-962CDC1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2EDAD2-61B2-4641-AA52-7AED38A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67555-A08A-4A74-9768-C3C8DF7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74189D-DEDB-4E3A-81E5-C2C8563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5C37A0-7AEA-4FF7-9474-4B234218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718B3E-A5A4-4F8E-BCBA-D9EE8AAD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89B3CD-3139-4CCC-A8E2-E398D1F3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A25F98-689B-4D2F-8C01-A619774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922830-373F-45D4-BEBD-96EE38B7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359F86-C603-4734-85C4-07E8AFFC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ACB0C7-34B0-45A6-B5D0-12A5EC5B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6E97-F33F-480D-841E-10A64E6A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DE3EF-E614-4188-8C77-BE14FF12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3FAA49-30FF-4354-A299-6660E2A3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148790-AEA8-400E-815F-BAE6D65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7E2EEA-0452-4995-9858-40C98C62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1B1322-E627-42C2-9C86-A42DE1FA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C6F99-4D42-4384-921F-D99C315A7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BC0FA1-18B0-4E13-91B3-44AA67CC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66C20-505E-4B02-B2C3-3DF27658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F78608-4F1D-4210-ADC9-63F68B57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930BFA-88C1-4847-8F90-3851997A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908E-BAC8-4E70-90EC-AF31A5C6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268F88-C196-423E-BF63-E5072823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D3FABA-2A38-4C73-965F-B27DBEDF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EFBEF5-24D8-4BA1-A8AF-D4A9049A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B602BB-F897-4427-BB4C-64C8BBC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ABEF7E-6CD8-41B9-86ED-49348A4F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1056E6-D3F7-41A9-ABD5-8C3A1ACB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E73FB0-8803-478B-938C-F2DED249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0542C6-61F0-4D64-AFA1-8F7A086A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73E48F-90E2-4E74-A7C1-4F1F79B0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DA4780-5986-4E85-97E1-BDE33CA3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5DA9-F20F-4046-9687-206EE7EA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2038A7-FA29-41A1-BE28-7800E69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3F4D4F-0362-4341-8BAC-E5444A3A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43B439-DAD7-4B22-A10D-F5F2E10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EED27A-15E5-4EFB-B066-C505228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8776B9-639E-4389-ACD4-A4ABCE2D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AC432A-4E81-4238-8A8B-E7DD9C8D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C1A3BC-D360-4BF4-A4D7-3A00C04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2A4033-1E4C-4642-940A-5980B3C6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8E651-D99D-4E76-8EC8-7B6CFE04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7F39D8-F6FB-49BA-9C7A-0D40A7C4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39C9-A6B0-4FB9-A5E3-2D4CE92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156A83-C91C-488F-B2D0-92C04417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6D4F5B-8DF5-4C33-8E80-470D5BF9C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527E2F-59B8-4470-8C68-3566433E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06D66B-55FB-44F0-AFE2-57034B5F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B97F5F-C4C4-4211-9494-E8AA7BC5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6F9B11-A690-49B5-BD1C-78F821D9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8F1494-013B-4981-8916-8CE19D1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BBE23-09E9-4B55-97A5-645D890C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7B9829-1382-4ADF-8273-61C5CE0B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C7978E-9EFB-435C-A4EF-531B39D5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CB0C-03DF-4063-91DA-FF017717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9BF331-F766-43BE-B024-3031943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96C063-3737-4740-A280-5139883A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B2C81D-09F2-4635-BEF2-1588E479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8FE617-EF83-4690-84A7-EC6E4733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EA5CDC-B4C0-4DE5-9072-1F6ED7DE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DDFDD8-F146-42D0-BE82-8985B674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F325F3-1639-4F57-BD80-DB882CFC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2C1ED8-8B38-4570-AB48-A0DB6B8E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7FFAE4-1CC2-407C-A5BA-0A5EEBE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76EC42-BBBD-445E-8623-B3B65BC2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6D25-1F03-45BC-AE28-7AE56608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50717D-44B7-4828-BFCB-3080242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F9BF94-2881-4CF6-A938-12EFB94D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A7B82F-DDEA-47F3-B721-B51BBEB0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6BF499-A0D9-4BAC-B656-305E5357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A834C7-8E8E-48AA-A389-078A1A05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3F935D-9B8B-4FF2-908E-2DC499EF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B17B3C-8979-42C1-BB46-AFD030FC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7C5AB2-B653-4634-9B18-8F4D31E6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01AE255-2479-4D93-A289-A715500A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C5445B-D68F-4E02-8F35-335CC064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6B37-BE6F-4547-B582-0E54AC8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EE5F33-8004-4D9A-BA1B-64CC0B9C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DE85A5-152B-411E-AA1A-A4627A16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82C0FE-51B7-4D94-A1C7-48CBCBA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570F38-7259-4063-A711-7C760471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F40D95-CF22-45E1-B42B-B1663D90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05ADD8-A797-41AF-8595-80AC8B96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A3F6A3-4A6E-4FA6-9B78-AB4558D3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1CA241-7CC1-4265-A1DD-73222003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D6A7E2-5E02-46CD-9720-34BF6517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A36372-F8C9-4F63-911F-7F5CBC57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7A47-6EE2-4EEC-BA3C-9642051B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2755C9-A7FA-4EA8-A742-6E41C6EB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F9F09B-BD25-4933-890C-2DE9557A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F3F8C8-44F0-4664-8EB3-7BD71769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64E967-DEC3-468B-809A-EAD63B5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EDEDAE-3CEE-4249-985C-9CF79112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27E967-D7E5-401D-84D2-9832C099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E26137-B3CB-4B97-B61E-3F3E5E2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BC41BE-53E7-473B-8E42-5ECB7B20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D579AC6-C709-4AD8-BFEF-9AA62703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99A4-32B0-450C-A664-8E9CE57D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5BE1-F540-445C-B178-779A9844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EF40-1BC2-4FCC-8FBE-70627B8C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6B6C-5D87-483D-B6DE-FF5066DD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168F9-7997-4510-99D8-68FAE8E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BBF6-CA91-4753-A497-713287D4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59A1-38CD-4903-AF5C-E198F648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DFEA-8BFE-49DE-A226-26845B0F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05362-45CB-449A-9A31-716691DC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7D94-F362-4195-B9B9-D42F323B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D22F-656D-4DF4-A017-2F53FE9A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DBCF-5A03-472F-B2CB-DA76DCC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9AE1-630E-4B67-8AB8-9AC68EC4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80F67-0BBB-4168-B34E-192C10E7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51FB2-ECCD-403D-902D-9A51B88D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5B7E4-C1B4-484E-8C66-58872DE6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046C6-7C70-4626-9DCD-E731894D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EB37-AB86-4853-82BB-05FA98A1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EBF3A-A91F-4378-B918-384F898C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DC7E-1F2D-4563-8F72-13138483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FEBE-6FC4-48D8-B64C-1FFE8D97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47AF-60D3-4E8C-92AA-6CC5F82E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73C51-6876-4D13-B0F5-ADF32C92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D9B1A-35F1-47B2-B1B2-7BC1D5CA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5F54-9B93-4764-9CDB-3B544B11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0E4DC-09C7-48E2-81F4-462D0BF1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5C25-ED8B-490C-AAC5-A8B6C440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A6ECC-83E1-4B58-BB77-32E3F53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5386C-1FD1-4BCC-8074-9FD1664E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6DF1D-F8F1-4B22-95D1-27D398D4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847D2-D13C-4F72-9F01-10D2F2AA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EE1E6-D1D8-48FC-8F51-27420071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2A1F3-0441-4C24-86E1-9F5FD126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2E96A-FD0A-4609-8B7A-4A08D296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7064B-99C3-44A8-8518-2025FC6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AFD5-C4B5-421A-8349-DC37F9A7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FAE3-046E-4A13-984D-43FC4CC4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783F-B5BC-4FAD-8FB5-C51E6A1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F75DA-E00D-4BFC-9777-6D3AE093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6C38-634D-4FFC-B193-F27282AD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59B3-3147-4508-85C9-89AE8879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1B15D-08B5-4369-8650-E224157B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28478-4F73-40DF-9A9B-E6F18E3A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89929-3C8E-4FA9-BD83-0F2F5859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97713-230D-44E3-BA3A-93ED1FE2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A9632-D02D-4E41-B0B2-5C763BDC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CB407-D760-4252-A905-96C2B003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F2A08-E744-44F7-81F2-CC7FA166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F404A-F0FE-4807-9358-A9369254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B5F3-9DF5-48ED-B931-C9E10DE3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9622E-B91A-4AE6-AB21-57B94287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818F-122D-4701-87A2-49130EF7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394BF-BAD2-441F-9544-06E303AB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05174-9D30-4C73-BFE2-171BAE21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7539EF-7850-48B5-8C9F-4EF68799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6E828-F39B-490C-A001-35C0FAA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1AEEE-13E6-4E0B-BA39-E4C343F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2C2BE-880D-4769-B360-7959E7AC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89654-7F8A-452A-9035-293C8DB3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979FB-0B5F-474E-9203-012DAF6C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1E89-DDF8-44D3-9B50-DE673BE5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F5B59-9167-40D3-8523-EBA62962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3D182-D101-4292-80D0-BFB274F6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81AFE-93E0-47B4-880E-99566DFB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7EE8B-5698-4868-9F5A-108AF0D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B86A-3CD2-47F8-B809-7E671177CDB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E4CE-CF96-45D1-AD06-0171AB6598E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3664-91F3-4510-99E1-9F49394CD42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585F-D765-42CB-B2D5-4B884895AB7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E707-BC84-47C3-B0E4-7933EBE3FDA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14D0-3BD7-4BF3-88A4-06CEBD5528C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E399-CB88-4FB4-A2E9-89480BF379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2458-4442-45BB-B4CA-B1EDC05EFBA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28B6-1037-4263-B85F-77BD057A563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EBAB-E82C-4047-B981-CCC78F5882D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99BE-7725-4AD5-9BFC-4A4EC8A9A91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211-2AAB-4848-A05F-8B78DED88D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DB7E-3FEE-4134-93B0-26F563DB3A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78D8-F382-4C36-B881-D1993248D7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3310-DCC7-4BC9-8AE4-0395932CC47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D05E-A5E1-4361-BB1D-C0CAB6FC8E6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EF10-E196-41CB-8A3B-73C2957DF8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5567-E802-49C4-9465-BF04059A58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317D-25FB-4FC5-AF9F-8D08C89ACC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64CB-2228-4019-81C7-4DA3B945A9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8AB7-FB3E-4D29-A3D3-D594FA873FD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F234-8AE0-4FCC-BF34-5DA94F0638A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A215-94E5-496E-B347-7D8EA22D020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D2D4-BE68-44B9-BB65-A87C16FF757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A050-46D2-46B7-8320-E4EF88871A5D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CF2-F060-4364-8579-3589207EA279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F8E-92A2-4F48-B291-FB29B5C34EA7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4CF2-949E-4777-BF2D-19138FB0E6DB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标题 1"/>
          <p:cNvSpPr/>
          <p:nvPr/>
        </p:nvSpPr>
        <p:spPr>
          <a:xfrm>
            <a:off x="1332000" y="1989000"/>
            <a:ext cx="69530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加减运算律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19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119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19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119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119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119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200" name="TextBox 4"/>
          <p:cNvSpPr/>
          <p:nvPr/>
        </p:nvSpPr>
        <p:spPr>
          <a:xfrm>
            <a:off x="4386240" y="1574640"/>
            <a:ext cx="45784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3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快乐农场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运算律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四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02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2"/>
          <p:cNvSpPr/>
          <p:nvPr/>
        </p:nvSpPr>
        <p:spPr>
          <a:xfrm>
            <a:off x="1182600" y="1916280"/>
            <a:ext cx="655344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运用加法运算律进行稍复杂的简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运用加法运算律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0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120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0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20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矩形 10"/>
          <p:cNvSpPr/>
          <p:nvPr/>
        </p:nvSpPr>
        <p:spPr>
          <a:xfrm>
            <a:off x="954000" y="126828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、用简便方法计算下列各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7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8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4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0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21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21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21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21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4" name="矩形 16"/>
          <p:cNvSpPr/>
          <p:nvPr/>
        </p:nvSpPr>
        <p:spPr>
          <a:xfrm>
            <a:off x="1271520" y="2276640"/>
            <a:ext cx="402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3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2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2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5" name="矩形 9"/>
          <p:cNvSpPr/>
          <p:nvPr/>
        </p:nvSpPr>
        <p:spPr>
          <a:xfrm>
            <a:off x="5526000" y="2276640"/>
            <a:ext cx="314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2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7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19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6" name="矩形 10"/>
          <p:cNvSpPr/>
          <p:nvPr/>
        </p:nvSpPr>
        <p:spPr>
          <a:xfrm>
            <a:off x="1244520" y="4411800"/>
            <a:ext cx="67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28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44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9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6 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96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7" name="矩形 11"/>
          <p:cNvSpPr/>
          <p:nvPr/>
        </p:nvSpPr>
        <p:spPr>
          <a:xfrm>
            <a:off x="5514840" y="4421160"/>
            <a:ext cx="314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5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6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矩形 10"/>
          <p:cNvSpPr/>
          <p:nvPr/>
        </p:nvSpPr>
        <p:spPr>
          <a:xfrm>
            <a:off x="954000" y="134136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六、解决问题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一台微波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一个吸尘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一辆自行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8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妈妈带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买这三样东西，够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9" name="矩形 26"/>
          <p:cNvSpPr/>
          <p:nvPr/>
        </p:nvSpPr>
        <p:spPr>
          <a:xfrm>
            <a:off x="3070080" y="3429000"/>
            <a:ext cx="377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88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3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5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688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73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&gt;15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元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买这三样东西不够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矩形 10"/>
          <p:cNvSpPr/>
          <p:nvPr/>
        </p:nvSpPr>
        <p:spPr>
          <a:xfrm>
            <a:off x="954000" y="126828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汽车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要行多少千米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1" name="矩形 5"/>
          <p:cNvSpPr/>
          <p:nvPr/>
        </p:nvSpPr>
        <p:spPr>
          <a:xfrm>
            <a:off x="2124000" y="3753000"/>
            <a:ext cx="546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8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18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答：汽车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点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点要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千米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22" name="Picture 7" descr=""/>
          <p:cNvPicPr/>
          <p:nvPr/>
        </p:nvPicPr>
        <p:blipFill>
          <a:blip r:embed="rId1"/>
          <a:stretch/>
        </p:blipFill>
        <p:spPr>
          <a:xfrm>
            <a:off x="1727280" y="2023920"/>
            <a:ext cx="3838320" cy="15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3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224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225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226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227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28" name="矩形 19"/>
          <p:cNvSpPr/>
          <p:nvPr/>
        </p:nvSpPr>
        <p:spPr>
          <a:xfrm>
            <a:off x="954000" y="148428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七、聪明的小朋友，你知道这道题的结果等于多少吗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9" name="矩形 10"/>
          <p:cNvSpPr/>
          <p:nvPr/>
        </p:nvSpPr>
        <p:spPr>
          <a:xfrm>
            <a:off x="1295280" y="3179880"/>
            <a:ext cx="76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方法一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9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1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1×(100÷2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1×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0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矩形 8"/>
          <p:cNvSpPr/>
          <p:nvPr/>
        </p:nvSpPr>
        <p:spPr>
          <a:xfrm>
            <a:off x="1224000" y="2452680"/>
            <a:ext cx="75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方法二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9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8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97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(4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×4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"/>
              </a:rPr>
              <a:t>5050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32" name="文本框 1"/>
          <p:cNvSpPr/>
          <p:nvPr/>
        </p:nvSpPr>
        <p:spPr>
          <a:xfrm>
            <a:off x="3452760" y="2263680"/>
            <a:ext cx="524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1" lang="en-US" sz="9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>Administrator</dc:creator>
  <dc:description/>
  <dc:language>en-US</dc:language>
  <cp:lastModifiedBy>相忘于江湖</cp:lastModifiedBy>
  <dcterms:modified xsi:type="dcterms:W3CDTF">2018-01-07T14:32:14Z</dcterms:modified>
  <cp:revision>1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