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6B268-999D-4A57-833D-535B4610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07B9E-26E0-41A4-A03E-FB1C55C2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88927-7261-47A2-B399-8CD1F687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5732D-0A38-4C87-844B-A584B70D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BCBDC-9534-4EEB-B77E-42A028C0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BD382-E2B2-4E92-AB76-1B8FF538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627AE-C378-4858-83EB-F379CBE1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9943F-4DF0-46C8-9481-74FA0298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B5C4A-2E42-4F8D-AF0F-CB394546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6C4EA-5A92-4390-AB4E-A8CF9649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0673E-6DC3-427A-B721-902CA979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ECC3E-DB61-460F-A8FB-C34A373C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37002-D54B-4A27-9DCD-520D2627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093E8-2031-4ED7-8C9D-F3EE302E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4D668-0CF6-4E6E-AA6C-DD910FB0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7F76A-BA5A-4562-AAEE-CDB7020C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79C2B-B9D0-48A0-8945-85DE8960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13195-2D53-4E96-BDA1-775C232D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A00B8-AC99-43A8-82EB-EECAA163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34E00-076B-4E6D-BB10-D549758B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7B99D-3109-4932-B759-FFB005FB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6E8E7-6F49-47E9-B6A4-CFB3B0F1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65251-0E79-4F02-BF3B-00126691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389FD-1285-4CDD-8CF0-8FB42FA0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C6C8A-0339-4BF7-9197-5AF903E1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C8DC4-2A1F-4AE0-8820-820142C1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1D361-FD8F-4FE2-9E1D-F56AEE5D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6F918-28B4-483B-BE45-F6FF1883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3AF5E-F372-44EE-B21F-1D00BB57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26AA7-353B-4DDE-8593-743A08CA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2F7-7F88-4596-AC95-E1588CED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0BBDE-364E-4493-9641-CDACA6E3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CAB7A-2143-4EC9-8604-D47A5672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EF6E3-52FB-4AB2-B09A-9FCF11F5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F0A18-E902-47E8-8014-6EFA6B20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B0C8E-9AC1-4308-8008-D7D83473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DFA9B-9314-4626-BAAB-691F5259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1F654-73B6-49B4-B2A4-370D4B1A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FD62C-6AC4-4AB8-98FC-3CDD8667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84FF3-194C-413D-9A87-9457B523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D6153-9625-4DBC-B59C-E2A45865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A847-D7C7-460C-A7F6-C6812591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8CB64-A79B-4167-A07C-4169478A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F5658-7003-4A7A-9E03-9C21594F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C254D-BC2C-41C4-A06B-A2E1EC61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9064C-DF3B-4809-BF64-FF33CCFF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31D06-4C8A-4C3B-9601-8B13AE7B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729A6-C20A-4918-89C9-4975E6EB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D0FD0-BC64-4BAD-A72A-A5249F26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CBC89-99EF-494F-9F1B-23536CDE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AFB64-A979-43E5-AF02-36A9CDED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3D60C-60CA-4EE7-9C2E-C78C2638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104-B884-4745-985E-8360BD70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73D9A-B45F-412B-AA0F-5F9EE8BB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5885F-EDB6-41EB-9369-561EA41E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0D828-9454-487F-8CAE-B08BDF5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0C5F3-D5CC-4301-A144-3BE5E4A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20BEB-A17F-4D09-A2C6-424807F2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9515E-314A-446E-92FF-DA8A2296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C5E32-57F5-4D50-9039-28AE1D55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3113C-11BF-4431-9936-530F4C94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D1FD8-BAC5-41EF-96B8-93BC1AF5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83D95-2960-465B-8458-93A427E7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473-67F3-4789-8FD5-FEA0C95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3E9B9-4F77-4429-BFF8-942D20B1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3DDB1-430E-47A5-B0B7-635CFDC1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0B10A-0393-4CAD-B494-DD6BAF30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3B313-7476-4A5C-8F10-585858A5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DCE47-A003-485C-84D8-25239AEA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7409C-583D-4A45-9389-48A91481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D3E4E-7F4D-46BC-982A-DEC33E00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3F9F1-F52B-44ED-B838-97B9CDD6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D1E86-A7B7-4C93-B116-02B8A056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BF800-BA9F-48F6-B5FB-DAD98421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3AB-B4C5-4075-96A0-37416B04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03242F-EFA3-4F88-AC09-BFD797A8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283FFF-E76B-42F6-A3F0-CA40AD64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09439-6D03-4786-A320-9D7AC597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CE46E-6C1A-4E4F-8755-DB900FC6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3A0E5-5AF5-49F0-8632-AAD3C8EB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4877B-5BD0-4589-8EF2-7F621322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48C08-79A4-40AE-A029-20B99D8C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778C1-43C8-46B7-A823-78EEB0D1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5EDE5-C063-4E24-A48E-CF0DAF50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092E3-C68A-4F58-872E-54C93716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9A4-8572-4A8D-B7FC-C84C199C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033BC-C169-46FD-A679-F3B21884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59E322-09AA-47F3-A00D-1BF48D3D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73B698-5AB2-4B19-A3C4-6C03D509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D2842B-9674-4BC5-A0AF-97862B8D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6C90A-7413-4375-BEBC-CBCAA70E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2F36D4-BF1B-402A-9B78-CB762258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AA51C-272C-4532-A28D-0BFD5625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DD24C-CB9A-4085-8CC4-5CD95F6F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A39A00-7E8F-41B9-8EBF-1A507E6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EB395-704F-424D-B111-3EDE5ECD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38F-CDBF-4ABC-B271-9A58973F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D70305-2B8B-4DFE-9E3D-CB7DDE81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F151B1-8D1A-4763-B9C3-7BC79146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79D9F3-E554-4979-B89C-895059BF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3E308D-1ED3-4DD6-86BE-2759BA3C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390EDF-3659-40D3-A4C4-23EB343F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7E16E-476A-4420-9890-821E85B3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1A95C-6ABD-4577-B178-3686D16A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C69D9-21F2-4109-96B2-47260D85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7E3FA-BDC5-4673-84D5-7779C7BC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2A196-B3EB-43BF-9AFE-1310052F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E86-D592-4B11-BA76-00E3D845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DA310D-6AEE-4250-AF64-4CDE1DF0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9E0424-1F4D-4592-A8E2-4AE0F2BF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F8A27-D0DC-4B32-92F5-5A689407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9D5CC9-0E51-48A0-BCDA-0FA392AF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7592CF-4ED4-449B-8C6D-5E3D3D20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14E22-B1B6-48A6-9AC0-1BAAE504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711A5-3C08-4A1A-92CD-B4F8C10E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2461B0-1E3E-4624-970F-ECFD8B98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0A6609-0374-4251-8FFA-474BF25B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2339D-94EF-47E4-B32A-4C9B6248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18A-7772-4E36-B9B1-F3FB17DA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FA0302-9CB4-4CFD-AD69-77B1D36E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93024-D5F2-4D88-A7C9-710DD95D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EFB1DE-1AC0-45A8-BC30-CF0FB5CC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0E3DE0-373B-4411-AA29-22EED96F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983DD5-0F86-4AF8-AF33-E1A383DA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F48CE6-977C-4AC8-8BCD-16E64ED3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71CB0-B3F4-4672-AC6D-D78A1EEB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A13DE-B224-48E9-B5BE-85AF948D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73F57-7F3F-4AE3-8444-C1DDD987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78325-CA59-43F2-BD12-6CA60B74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BB20-B35A-4B67-BEE5-D01AA10A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FC84C-2AFC-4661-9148-D48C7BF3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2A96B8-CDE9-4F35-A729-CC1643E8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C018E-471F-4555-B72C-E5E45B92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89F7C3-4658-4CA7-A390-702C7FDA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D590E0-43A6-453F-A3EF-4D47FC84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0FAAB-9B41-4567-A2F0-E51472FA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B77D4-5E4F-4F53-97FD-78DBE2A0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B12C3E-9677-49CC-9D77-960D01D9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459B56-55B3-425B-8AB5-39457A5F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7B9A64-FF87-4532-9F82-F4A5CB78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214-C32C-4546-9C06-B282B2D4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AA4F2E-1593-4596-B3C3-867DA8E9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D1E9F0-4901-4EFA-A93C-33E162F5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37851A-2219-4E49-AB88-99A64B66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942478-2223-4B6C-B848-BC5BEE26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5E35BC-2989-4087-8703-3D8BD831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44987-0D6B-4C3B-9A00-2394E2C5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9CA6BB-BD8F-4BC0-8D79-1D9AEFD0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40BC2E-DB16-4221-B904-EE35A2A7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7F9FA6-3434-4174-93AF-9F7C386E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DE4BA4-6A36-45B4-AD88-A4D95D19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872-3004-4993-BF47-52D8648D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872266-0F3B-471C-9082-550D07AE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D518FF-6CBB-4910-A5A4-23EF63CC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4134AA-5E88-4FC4-B94E-B0DA8E6E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14D083-8F99-49A8-8019-E4D0A371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395684-3B0F-4C74-9BF3-DA60780F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4BCC80-B65C-4CA4-BF4D-65E35A2B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8D9121-BA24-4352-9605-B70D7446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D3A198-BBF4-4CF4-B1AC-F47D834A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C651B6-730B-4467-B2FF-D6A95E84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80890B-1760-437C-9C5D-5A8AB237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7D06-CACE-4F0C-8B7C-D267A487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072AA0-1F73-4B76-9C7C-958A10CE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15744B-529C-4E5A-88EF-4719ED3C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1F8817-F7EC-441C-A9C6-B923069B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43E97-F173-485F-8D85-EB857FCE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85A603-41F4-4814-A221-964162B1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905310-3777-4E18-AC9F-6F42B091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EB9AA-CF1F-4A05-ABAE-34EBE857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5A2C05-6C1C-42F8-9938-D9A1808E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F99F70-909A-4915-87C2-74EB2677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6E399B-A81E-49DD-82FB-F4A6EB7B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63F6-E2AF-4EDB-9691-1443EE13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590DCC-F88D-4F1A-8B5F-DF1235F2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ADE863-F681-4FC0-8BE6-4F860E49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BFA02C-7E43-41A6-A497-EF9AB1A7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6F2AD2-4A06-43BF-A599-D4CD0BBE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68221E-80B3-48F9-A9E4-C4A365A8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59B37A-315A-4AC0-8540-1790BCC2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7ECE94-A979-476E-A899-BF63E947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8FC478-15EC-44D9-AE8F-E3C7D183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BBEC40-3C15-4077-B986-A00E6829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314C03-6AE4-4054-9069-8F9BD6FC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B632-5B64-4926-90EB-45321E0D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404076-B11A-4C56-8827-8095041B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55D594-7616-4DA1-ABEC-E0918148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A797AF-1902-4EC9-AAFB-D4485581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466065-A1F6-448B-AF26-05DC182C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76458A-CF1F-4DF3-911F-3D6BCA29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908EE0-0EFC-49E1-90A4-7D82DA14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890903-2D16-4024-9D42-B5FAE30B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A2F0E6-F94A-4E91-8B93-4581B1F5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4DD49B-BD09-4D7B-8E96-865E0964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F0A2DF-E52A-4446-878B-86B64B57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30CC-D0FD-4511-8685-74AB05C2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045902-C3EF-4936-9AC8-58FB33F0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998578-4A73-4E11-A605-0C5F24D3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E4AE10-2570-41E0-8D80-8F2DD058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E824FE-0CCE-4FFC-8603-E6D85368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1CE81E-1C5A-45BD-BDE6-27FC04ED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28D6E0-61E2-47C8-976F-7D56F075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75F5E3-2C3D-418B-B423-0F047745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20433F-87D0-4086-8CD4-99BB5EA7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B798D5-C07E-410D-AB01-DCB127D0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9F2D-6ADD-44BA-8AA6-49BDD43A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EDE8-F458-41A3-929F-7913BADB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3A7B-6EC1-4F31-9532-1A96745B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5A24-A940-4CC7-B919-B840AEAC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844E-1178-45E0-9985-595D669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82A5-B830-4B60-8B11-500D860E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FD91-E97A-4EED-ACE2-D6D83CAA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52E3-822C-4D1A-9686-A8CA2CA5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F5CD-EC16-4C1C-A576-C3D95948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45139-B3D5-46FA-8F7C-24F27F79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7711-41C5-4524-90F8-D0783313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90C4A-32A5-4EFF-971C-CB6B27C0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6232F-EC67-4D68-A762-47D5DF2F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CDB3-1AD9-494B-A49E-23D3D128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24B3-C02E-4B3D-BA75-CE678A3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90A2B-D17B-4E56-A44C-6760963E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12179-AB3B-4923-AB7E-1A57A924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38CD-E40A-4793-9059-A3273C39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5A2E0-2125-4E1E-AF02-711B0E36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297D-9A02-4D36-8E4D-090219D5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9F230-D0C4-4EE7-AE47-2C3FED4C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EA3C1-0001-452A-B2B0-9093EE08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9BD6-D93F-42CA-955E-2760639F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B6CE3-607F-4135-A0F8-735FA7C2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4489F-A1EB-4CD5-8090-B450AEB5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A279-3841-4419-8F00-94670F2B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3671C-51DE-476D-81BD-5C80ACEB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415B7-0549-4CDA-9DD5-EE298793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42D61-0742-4AF4-8396-7B19EE83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D1FC5-2BF6-4B11-8F39-956583F7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64CB-CCBB-4320-9156-B2D64A54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337AD-FA05-4AF4-A076-9CF5D6E9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638DD-F718-43FF-A252-51D3FE5E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2717E-5F5A-4CA9-A354-AB36B96B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A6CB8-5BE3-4FD7-BED1-37E121EC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9609F-15E7-4437-AF24-23044B30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A156B-A433-4ADB-87E7-B88FA2E9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221C-D0CB-4022-8975-55CD41E5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F4531-3151-4F01-9CA2-0E8751BD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DA125-61A3-439C-993B-229E77F4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FB857-B8D3-42A8-B857-D62571CB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95119-4CBB-4758-8A4D-1C761B18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54A9D-B43B-47D5-B1A8-EAB5F668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6E297-4B73-4918-81E4-A7B47025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0A651-0C08-445D-9611-77010C26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98027-04DA-4ACC-B372-A8B6B33C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308CE-EDCE-49CC-BFC4-1990D818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29306-3E66-4524-B897-D26D544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3919F-2395-421E-BE6F-E1C14E98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9ADA6-A599-41D7-A134-71498181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526FD-8545-4FC0-A12E-98BD6BD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3777A-1197-46FD-8F01-852A2F8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59BF4-42DA-4C4F-BC88-2D7BF305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B9BF3-F758-4422-AE50-C679DA19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750D7-C824-4330-87D3-D28251BA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3EE6B-B4D5-4C16-92BE-9234EDFA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D5C06-E070-47DE-BF41-FFA20832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E90F6-69FD-4FCB-861C-438C81EA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20B48-CECA-45CD-BF94-13ED4005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82A2F-C3EA-4C12-9800-4B8E8903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71399-DAE7-4ADF-A95D-623EB281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F0BB0-F8AC-4A6A-AD73-51F9511F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F8293-F9FF-423B-8A25-1EBE044A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2CF55-9287-4D1A-8D15-4C042F28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ADCA2-34C6-4B64-86F8-CC759AB7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60399-3FA7-419A-A779-94859622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D585A-7F4F-4840-973D-891EDEFA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E1AA0-3A60-403C-A06E-B7AA3A4D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BF362-39FE-4773-BAA2-885A54AB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C7D8D-1B19-47C7-84CD-3B0A355D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D59CC-07B1-4065-BC91-14B8D4E0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2696-33E3-4C92-85FD-05847B595A6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AA0F-D4EF-44F5-B04B-AEC32ED82D3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92DC-644D-4574-BA83-CF0A54BAF69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CF99-3F20-421A-B153-408AB15ECA7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A993-511C-418D-AE79-4BDE9AEBDE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0ED6-B0E9-42EF-A9AA-4A8B51B8775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B3CA-AAB7-4EE4-9C0B-0D32E22F860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D4A0-BCB3-4353-99EF-BD15AE1A6B0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E84D-3EFD-4145-BFC1-746A1A4E968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C51-89A7-4544-A066-60F3DB20E5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693C-F7C6-4C60-9412-B4EB60E183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3B2-4E29-4E39-AAD3-E97C50C96E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5BAE-D1EB-406C-896B-32C6B62DF6C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D704-95F7-410B-A222-6340C25CE9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968F-2B26-4BE5-8F06-8368F0440F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C57C-8D66-4437-9356-AB40C3529AC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AB0B-F0E8-4AD0-BD1E-D842D5B5853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0E2A-B4F1-44D6-A31B-B5EBC906AA9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B910-2215-4103-9841-81F82FD70C24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8EE3-B082-4773-897E-E5921C8630A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C785-CCD8-4F59-BD7B-2F4DAA3F256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D582-7B34-429B-A956-3D9592A31DE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A72B-9DE6-42D4-A5E2-22A40D06B51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1332000" y="1989000"/>
            <a:ext cx="6953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减法的运算性质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4"/>
          <p:cNvSpPr/>
          <p:nvPr/>
        </p:nvSpPr>
        <p:spPr>
          <a:xfrm>
            <a:off x="4386240" y="1574640"/>
            <a:ext cx="45784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3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快乐农场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运算律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矩形 10"/>
          <p:cNvSpPr/>
          <p:nvPr/>
        </p:nvSpPr>
        <p:spPr>
          <a:xfrm>
            <a:off x="954000" y="1268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商店运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克水果，上午卖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克，下午卖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克，又运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克水果，商店里还有多少千克水果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8" name="矩形 9"/>
          <p:cNvSpPr/>
          <p:nvPr/>
        </p:nvSpPr>
        <p:spPr>
          <a:xfrm>
            <a:off x="2376360" y="3176640"/>
            <a:ext cx="608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5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7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15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8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7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1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千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答：商店里还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千克水果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40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41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4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4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4" name="矩形 19"/>
          <p:cNvSpPr/>
          <p:nvPr/>
        </p:nvSpPr>
        <p:spPr>
          <a:xfrm>
            <a:off x="954000" y="1484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计算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0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15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45" name="Picture 9" descr=""/>
          <p:cNvPicPr/>
          <p:nvPr/>
        </p:nvPicPr>
        <p:blipFill>
          <a:blip r:embed="rId2"/>
          <a:stretch/>
        </p:blipFill>
        <p:spPr>
          <a:xfrm>
            <a:off x="1406520" y="2593800"/>
            <a:ext cx="3344760" cy="474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9" descr=""/>
          <p:cNvPicPr/>
          <p:nvPr/>
        </p:nvPicPr>
        <p:blipFill>
          <a:blip r:embed="rId3"/>
          <a:stretch/>
        </p:blipFill>
        <p:spPr>
          <a:xfrm>
            <a:off x="4896000" y="2629080"/>
            <a:ext cx="3346200" cy="475920"/>
          </a:xfrm>
          <a:prstGeom prst="rect">
            <a:avLst/>
          </a:prstGeom>
          <a:ln w="0">
            <a:noFill/>
          </a:ln>
        </p:spPr>
      </p:pic>
      <p:grpSp>
        <p:nvGrpSpPr>
          <p:cNvPr id="1047" name="组合 1"/>
          <p:cNvGrpSpPr/>
          <p:nvPr/>
        </p:nvGrpSpPr>
        <p:grpSpPr>
          <a:xfrm>
            <a:off x="1150920" y="3176640"/>
            <a:ext cx="7669080" cy="3251160"/>
            <a:chOff x="1150920" y="3176640"/>
            <a:chExt cx="7669080" cy="3251160"/>
          </a:xfrm>
        </p:grpSpPr>
        <p:sp>
          <p:nvSpPr>
            <p:cNvPr id="1048" name="矩形 10"/>
            <p:cNvSpPr/>
            <p:nvPr/>
          </p:nvSpPr>
          <p:spPr>
            <a:xfrm>
              <a:off x="1150920" y="3176640"/>
              <a:ext cx="7669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201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201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…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201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(2015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2015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…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2015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(201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2015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(201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2015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…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(2016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－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2015)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＋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…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＝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49" name="Picture 9" descr=""/>
            <p:cNvPicPr/>
            <p:nvPr/>
          </p:nvPicPr>
          <p:blipFill>
            <a:blip r:embed="rId4"/>
            <a:stretch/>
          </p:blipFill>
          <p:spPr>
            <a:xfrm>
              <a:off x="1438920" y="3709080"/>
              <a:ext cx="3345840" cy="47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9" descr=""/>
            <p:cNvPicPr/>
            <p:nvPr/>
          </p:nvPicPr>
          <p:blipFill>
            <a:blip r:embed="rId5"/>
            <a:stretch/>
          </p:blipFill>
          <p:spPr>
            <a:xfrm>
              <a:off x="4967280" y="3716640"/>
              <a:ext cx="3345840" cy="47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Picture 10" descr=""/>
            <p:cNvPicPr/>
            <p:nvPr/>
          </p:nvPicPr>
          <p:blipFill>
            <a:blip r:embed="rId6"/>
            <a:stretch/>
          </p:blipFill>
          <p:spPr>
            <a:xfrm>
              <a:off x="1474920" y="4905000"/>
              <a:ext cx="7201080" cy="4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11" descr=""/>
            <p:cNvPicPr/>
            <p:nvPr/>
          </p:nvPicPr>
          <p:blipFill>
            <a:blip r:embed="rId7"/>
            <a:stretch/>
          </p:blipFill>
          <p:spPr>
            <a:xfrm>
              <a:off x="1546920" y="5913360"/>
              <a:ext cx="2082960" cy="514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6553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减法运算性质灵活运用的变式练习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合理运用加法运算律和减法的性质进行加减法的简算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减法性质在解决实际问题中的应用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54000" y="126828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在      里填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gt;”“&lt;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“＝”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3        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9        2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64        45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64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5)        4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7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       1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椭圆 1"/>
          <p:cNvSpPr/>
          <p:nvPr/>
        </p:nvSpPr>
        <p:spPr>
          <a:xfrm>
            <a:off x="1981080" y="1382760"/>
            <a:ext cx="425520" cy="42552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5" name="椭圆 12"/>
          <p:cNvSpPr/>
          <p:nvPr/>
        </p:nvSpPr>
        <p:spPr>
          <a:xfrm>
            <a:off x="2916360" y="1943280"/>
            <a:ext cx="425160" cy="42516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椭圆 13"/>
          <p:cNvSpPr/>
          <p:nvPr/>
        </p:nvSpPr>
        <p:spPr>
          <a:xfrm>
            <a:off x="2741760" y="2492280"/>
            <a:ext cx="425160" cy="42552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椭圆 14"/>
          <p:cNvSpPr/>
          <p:nvPr/>
        </p:nvSpPr>
        <p:spPr>
          <a:xfrm>
            <a:off x="3708360" y="3040200"/>
            <a:ext cx="425520" cy="42516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8" name="椭圆 15"/>
          <p:cNvSpPr/>
          <p:nvPr/>
        </p:nvSpPr>
        <p:spPr>
          <a:xfrm>
            <a:off x="3876840" y="3600360"/>
            <a:ext cx="425160" cy="42552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椭圆 17"/>
          <p:cNvSpPr/>
          <p:nvPr/>
        </p:nvSpPr>
        <p:spPr>
          <a:xfrm>
            <a:off x="3548160" y="4151160"/>
            <a:ext cx="425520" cy="425520"/>
          </a:xfrm>
          <a:prstGeom prst="ellips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0" name="矩形 18"/>
          <p:cNvSpPr/>
          <p:nvPr/>
        </p:nvSpPr>
        <p:spPr>
          <a:xfrm>
            <a:off x="2360520" y="1922400"/>
            <a:ext cx="15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lt;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1" name="矩形 20"/>
          <p:cNvSpPr/>
          <p:nvPr/>
        </p:nvSpPr>
        <p:spPr>
          <a:xfrm>
            <a:off x="2184480" y="2463840"/>
            <a:ext cx="15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2" name="矩形 21"/>
          <p:cNvSpPr/>
          <p:nvPr/>
        </p:nvSpPr>
        <p:spPr>
          <a:xfrm>
            <a:off x="3151080" y="3024360"/>
            <a:ext cx="15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3" name="矩形 23"/>
          <p:cNvSpPr/>
          <p:nvPr/>
        </p:nvSpPr>
        <p:spPr>
          <a:xfrm>
            <a:off x="3316320" y="3579840"/>
            <a:ext cx="15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lt;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4" name="矩形 24"/>
          <p:cNvSpPr/>
          <p:nvPr/>
        </p:nvSpPr>
        <p:spPr>
          <a:xfrm>
            <a:off x="2987640" y="4135320"/>
            <a:ext cx="15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&lt;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矩形 10"/>
          <p:cNvSpPr/>
          <p:nvPr/>
        </p:nvSpPr>
        <p:spPr>
          <a:xfrm>
            <a:off x="954000" y="1341360"/>
            <a:ext cx="721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填表，并回答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一说在填写上表的时候分别先算哪两个数的和或差能使计算简便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6" name="Picture 4" descr=""/>
          <p:cNvPicPr/>
          <p:nvPr/>
        </p:nvPicPr>
        <p:blipFill>
          <a:blip r:embed="rId1"/>
          <a:stretch/>
        </p:blipFill>
        <p:spPr>
          <a:xfrm>
            <a:off x="1440000" y="1960560"/>
            <a:ext cx="5827680" cy="2655720"/>
          </a:xfrm>
          <a:prstGeom prst="rect">
            <a:avLst/>
          </a:prstGeom>
          <a:ln w="0">
            <a:noFill/>
          </a:ln>
        </p:spPr>
      </p:pic>
      <p:sp>
        <p:nvSpPr>
          <p:cNvPr id="1017" name="矩形 4"/>
          <p:cNvSpPr/>
          <p:nvPr/>
        </p:nvSpPr>
        <p:spPr>
          <a:xfrm>
            <a:off x="2232000" y="2960640"/>
            <a:ext cx="15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9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8" name="矩形 5"/>
          <p:cNvSpPr/>
          <p:nvPr/>
        </p:nvSpPr>
        <p:spPr>
          <a:xfrm>
            <a:off x="5784840" y="3471840"/>
            <a:ext cx="15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9" name="矩形 6"/>
          <p:cNvSpPr/>
          <p:nvPr/>
        </p:nvSpPr>
        <p:spPr>
          <a:xfrm>
            <a:off x="4524480" y="4011480"/>
            <a:ext cx="15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0" name="矩形 7"/>
          <p:cNvSpPr/>
          <p:nvPr/>
        </p:nvSpPr>
        <p:spPr>
          <a:xfrm>
            <a:off x="1655640" y="5667480"/>
            <a:ext cx="58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月先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二月先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三月先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4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能使计算简便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矩形 10"/>
          <p:cNvSpPr/>
          <p:nvPr/>
        </p:nvSpPr>
        <p:spPr>
          <a:xfrm>
            <a:off x="954000" y="126828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怎样简便就怎样算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9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6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2                     37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6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2" name="矩形 5"/>
          <p:cNvSpPr/>
          <p:nvPr/>
        </p:nvSpPr>
        <p:spPr>
          <a:xfrm>
            <a:off x="1138320" y="2176560"/>
            <a:ext cx="546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7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7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76 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3" name="矩形 4"/>
          <p:cNvSpPr/>
          <p:nvPr/>
        </p:nvSpPr>
        <p:spPr>
          <a:xfrm>
            <a:off x="4500720" y="2173320"/>
            <a:ext cx="546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8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2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4" name="矩形 6"/>
          <p:cNvSpPr/>
          <p:nvPr/>
        </p:nvSpPr>
        <p:spPr>
          <a:xfrm>
            <a:off x="1150920" y="4408560"/>
            <a:ext cx="546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6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6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78 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78 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22 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5" name="矩形 7"/>
          <p:cNvSpPr/>
          <p:nvPr/>
        </p:nvSpPr>
        <p:spPr>
          <a:xfrm>
            <a:off x="4578480" y="4413240"/>
            <a:ext cx="546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7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7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8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8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2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10"/>
          <p:cNvSpPr/>
          <p:nvPr/>
        </p:nvSpPr>
        <p:spPr>
          <a:xfrm>
            <a:off x="954000" y="1268280"/>
            <a:ext cx="721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18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7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18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18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18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18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18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5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7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1138320" y="1736640"/>
            <a:ext cx="703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5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5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8 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8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6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1150920" y="4408560"/>
            <a:ext cx="70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7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39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8)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7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00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24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9" name="矩形 8"/>
          <p:cNvSpPr/>
          <p:nvPr/>
        </p:nvSpPr>
        <p:spPr>
          <a:xfrm>
            <a:off x="4341960" y="1736640"/>
            <a:ext cx="703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23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15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7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0" name="矩形 9"/>
          <p:cNvSpPr/>
          <p:nvPr/>
        </p:nvSpPr>
        <p:spPr>
          <a:xfrm>
            <a:off x="3924360" y="4421160"/>
            <a:ext cx="70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64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57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3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76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0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矩形 10"/>
          <p:cNvSpPr/>
          <p:nvPr/>
        </p:nvSpPr>
        <p:spPr>
          <a:xfrm>
            <a:off x="954000" y="1268280"/>
            <a:ext cx="721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解决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北京某航空售票处预计今天售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张票，上午售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8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张，下午售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张，还要售出多少张票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2" name="矩形 9"/>
          <p:cNvSpPr/>
          <p:nvPr/>
        </p:nvSpPr>
        <p:spPr>
          <a:xfrm>
            <a:off x="1042920" y="3213000"/>
            <a:ext cx="70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28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1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7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8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答：还要售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张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矩形 10"/>
          <p:cNvSpPr/>
          <p:nvPr/>
        </p:nvSpPr>
        <p:spPr>
          <a:xfrm>
            <a:off x="954000" y="1268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图书馆有故事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，文艺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3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，科技书比文艺书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，问故事书比科技书多多少本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4" name="矩形 9"/>
          <p:cNvSpPr/>
          <p:nvPr/>
        </p:nvSpPr>
        <p:spPr>
          <a:xfrm>
            <a:off x="1042920" y="3213000"/>
            <a:ext cx="70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33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3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61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答：故事书比科技书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6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本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矩形 10"/>
          <p:cNvSpPr/>
          <p:nvPr/>
        </p:nvSpPr>
        <p:spPr>
          <a:xfrm>
            <a:off x="954000" y="1268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根电线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5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第一次截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第二次比第一次多截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还剩多少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6" name="矩形 9"/>
          <p:cNvSpPr/>
          <p:nvPr/>
        </p:nvSpPr>
        <p:spPr>
          <a:xfrm>
            <a:off x="1008000" y="284004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5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1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7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5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6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答：还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6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>Administrator</dc:creator>
  <dc:description/>
  <dc:language>en-US</dc:language>
  <cp:lastModifiedBy>相忘于江湖</cp:lastModifiedBy>
  <dcterms:modified xsi:type="dcterms:W3CDTF">2018-01-07T14:32:28Z</dcterms:modified>
  <cp:revision>1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