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68560-E7A9-4F40-B89A-6DCDD73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E29FC-72B3-4AC1-A645-1573BF3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A2D5-EA8E-49B6-B694-E28D3B6F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06027-558B-4294-B20C-DAF73CD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D4B18-F26E-41F8-AA0F-9C8391D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8BBD-72F9-45F5-8FF0-F8814DD6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14C5-AA63-4419-8A7B-286DBE3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113F-CB89-4793-9DFC-F77656CF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E3145-1DE5-4C9E-89C6-37544BAC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C28EE-7007-4A27-A34F-069719E9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4B9A7-434B-4DF0-A2F5-FF808A1D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2B0A6-972E-477B-B7EA-00652E60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5FF79-44AF-4342-9689-78E788B0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A0949-2BFD-49A4-8C52-10C2793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D538A-9027-4A69-B9EF-BB580B8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141AF-B26A-49E0-B5A0-2690641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75354-CDFB-4E4C-8FFD-3484E10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D4306-58A4-4CEA-8198-1F0B981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AA5AF-32F8-4F19-812C-52EACC06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F441C-0F7C-4F60-9745-DBABC61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EE5AC-7AD2-4039-AAFB-3321BB09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0BCB9-EBDA-4DD7-A05B-D5B4BB44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D4B83-BA47-4CDF-8D57-FBE2FA7E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F6904-B76D-4401-808C-6D2E2AFE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A166B-73B0-42E1-8A52-042D5805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9C276-EFB4-4A66-A191-4EF9CD5B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319BD-86C0-4A5B-AC98-B1149318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71A3F-C416-438E-9CF5-2BD0D7E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9D3C-681D-44EE-A064-DECD0CBA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815F6-B8FB-45C1-9ADD-97C3F56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E13-9143-496B-A777-5AD29841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C8C46-501A-4249-B565-A4EB5970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0E264-F401-4C28-835F-46878674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7BC9A-20EF-49BA-AC33-8576F7E0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040CA-37FD-48CB-8096-6A44D5F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047E-D9AB-46E0-BF63-6FF1CF1C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B7D55-F314-49EE-9541-7EDE3EA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8209-75D6-448B-878F-D0E84AC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53EB-055C-49CD-8800-742B739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C68F4-9F87-498F-98DE-9F0961A8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8166D-DC69-4CCE-AD77-5B6EA66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C94-EA55-49C5-9265-D3ECB2E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4A545-BF92-4035-93F2-CE8E078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BD73A-F066-4510-9A03-293438B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40067-B068-4891-A280-42D4049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2231F-43CD-4F45-BCCF-24CF52E8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8C62-D2C7-4C16-868A-0267A800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CD9F1-8FA0-449C-9D2C-422738AA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6037E-3E8F-4045-93C3-B8D7AAE8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B73F7-46B3-4FC7-B293-A66B3421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A648D-5F53-45D8-AB75-F7C3FE8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F3F11-0A9F-4933-AE01-D871FCB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A96-A8A8-4102-9BB3-1C61CE7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00C7B-BC99-42FB-B051-E235C9AF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22F67-B750-4F0A-A7D2-55D3737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0405-0615-4594-90D0-B551F97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F61E8-F513-4621-A419-1577E98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33E66-A228-4410-9CE8-BB9C39C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87E98-BB89-4931-BAF0-45501749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FC243-ED5B-4523-947F-B81248C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672A0-3BA1-467A-8114-0497E642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05BF7-F201-4086-AC64-CA1EE29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46863-DA0C-45A0-937D-F89F79E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F6D-6C4E-471B-BFAC-C92F59B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78C94-4C9C-45CE-998E-1AB7655E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9C6B3-A473-4AA5-BAC1-EF3782F3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ADD8F-D7AA-4C50-9E45-CE745DC5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96AEC-AEFD-41BB-BC70-DA60353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06B83-E206-4E22-BCF7-2FEC9AC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D0EE4-72A0-4056-9397-99AA23E7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74F03-8578-4271-BB87-59F6B19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D564D-61B3-49C7-93A6-06DADA16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9345A-F7CE-40D1-828B-84F4EA9A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270FE-4FD1-4952-B0E7-8D93F6BA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03C-672B-4F99-AC8B-97F2BF8B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6ADBA-BDEB-47F7-901A-887EAE4E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7AB97-4282-4534-B520-5269C31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213FF-C864-434E-A5C3-ECA32F7B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99158-8F7E-425C-9F31-42101417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788FC-FD4C-4C35-8291-ECAD2C3B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7F0BB-B824-458A-AC2E-08EB28F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E0EBE-198A-4E8E-B8DB-ACC9519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3F44A-029A-45F5-8CAF-5E279088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0D609-935C-494D-B60C-F2C314E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8CEBB-20FC-4CB0-BF79-5F6F31FC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2B0-005D-459B-BD78-8AA28EB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0FFD5-82C5-461A-9502-63EDC506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260D2-804F-4B9E-B481-0175F25D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5520E-9257-419F-A74F-BE6AE9F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A36CB-36F0-4621-810A-3B483F76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EF919-ECC1-4E9F-BCAC-669B5A0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ADF4B-F036-4C4A-B29D-B7078B1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0E84B7-57A8-45CD-947E-FC32AFF0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B4908-CA05-48AC-B031-AD14E1EC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C3E08-A897-4DD0-B6A6-22DFE74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0CA68-652C-4178-B001-19A0BD8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BEB-470E-440B-8960-B980E92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566D8-F3F8-49AB-9146-5245940C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C91B5-F8E2-4B15-AEAA-E048560A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4E3FA-12ED-40B4-94E7-6F03113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1A175-C4F2-4A1D-94EA-795F67D4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70183-558E-49E7-BF1E-4747D8B6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51E42-1524-47E5-8691-BD490B45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7F6A9-FCA6-4E81-A631-A69C2A92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E1082-F8F8-467B-A1C5-AAA42ADD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65053-B98D-4F6A-9402-EE30D230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B56E0-C0B5-4BF8-9C0B-3417FC00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86A-4682-4FB2-BD08-BC1FF0A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29DD3-F576-40C1-834B-CCBE603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78106-BBE5-4725-A7E9-79C6618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955E0-94F3-4F1D-85F3-381631C4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0CDDD-954E-4F73-98D5-9D44D7EE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99250-8F25-492C-85B1-CC8C0F9B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26C32-DECE-4FC6-9E0B-9EFE4AF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E1615-E764-4CBE-B48C-FF27D60B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FFDA0-C5F2-4B3E-9E43-52E63FE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89C82-0334-4BD9-97C6-C0AD42BB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C1E72-5033-4F4D-8DED-C45D009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B2D-1187-4A5A-B0DE-AE85228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189B0-0B03-4002-9CC8-586E18D1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4903E-4B43-4DF8-88C8-3A20C7A5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85E08-907A-4128-9EE7-71CAE29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3FEEB-F5AF-4F69-A354-00DF554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42F16-7607-4745-B1DA-542CACA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DB4D2-5C25-4DC3-98DC-BEA2033D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A97F2-1DC9-461A-9062-FC7F6C14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32D2E-5A7F-497F-90F5-64A75596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B98F0-7084-433D-BC9C-69EE421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21CFE-8364-4FDA-AFDA-BBDD4E11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4FD-5D6E-4AB1-82E5-06959494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02A89-2EF0-4474-9EE8-51412F0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7C449F-22EA-4F59-AE60-11CB57B4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DBBB4-C023-4390-8CB0-B56EC15E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2CE79-9CE7-4F24-9308-60FDF2E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BC6ED-F04D-49A5-B99C-164E3DA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BEFC7-A728-4C32-81CD-E6B60E6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AE0EB-3109-4315-B17A-E1756D7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62003-0D90-4851-89BE-65CB5207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62784-90FA-4F10-99E6-8BA7E545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F5358-FA3B-4D06-BED5-2C691203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D2E-5AB0-44FB-82F3-AAF0EF30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C2A99-D371-429C-AFCB-1E6C1FC3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0F651-8DBF-41CA-8745-87416B2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9F1A5-6FA1-44AA-9248-F9144EAA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0FB0D-7D1F-473E-B8C3-8830BC6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4BE3D-4047-4625-8BB7-A0C1EAAC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A3031-3993-4E48-BA90-97866DB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A654B-69E1-4367-9899-B6D006D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50EFC-9398-455A-9A5C-1C99BB0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683DA-A133-4452-8AF8-1BE5105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75B91-CA99-4B2C-8497-3E11454B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EF9-00D7-4C97-AB94-34FADA66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B1503-6A14-4C87-82D2-2962E7B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11065-FDD7-44A7-8373-81491E36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3E482-523E-4180-A70B-199C2392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FF597-92F9-43D1-81FE-A024C20A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0DA0D-5B74-4CD4-8AC4-E33434ED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D298E-70B3-4B6E-9495-A9BE1594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B8D95-AEDA-40C3-9B8B-32836E6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81B3F-1BCD-4BBE-AA81-7A8B643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F6B58-7026-4825-8926-71861485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68D99-E412-433C-A3F1-E2AD1DF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A993-63D1-4B18-81AD-C2342277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F8D41-707D-4F9A-B925-7BBBCC70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66BE4-517B-4920-996D-D4CE53AB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7A947-A671-4FD6-B303-1FFC40DB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EEF01-1DAB-41FE-A35A-3907F3A1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C9C3C-A469-4F02-AE5B-D0D76DF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BC6E7-862F-4C20-A1A9-BCE78E59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2E5F9-DAE6-4537-8DDC-055E5D3D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794DA-CC65-4FD1-ADD8-244D469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7FBD30-4710-43C5-BE60-77DCA784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6DE69-B6A5-4A57-874E-D482547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BB90-DFF8-4051-8FE9-EA94D731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D64AD-6712-4CCC-9807-F33F77AC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EB056-8CC4-4B41-84CF-912D9B63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149C1-4137-4A16-90B5-1FD6640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27729-9741-41D2-85E7-2CC0F401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A300C-FA85-47B4-B9D4-93277C9D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FE640-CB05-45CA-95BD-02C6CB83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827B16-E56E-4D66-8F76-64B5716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FA627A-8B63-485F-94A0-49C467A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D93CDA-EABC-496D-B7EB-52F99004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0AC08-FD02-4C82-86A8-69EA5F9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020E-DBF7-4FAF-AC4C-8D4B16D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1667A-BA73-426E-AD7B-FEECF953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33D66-B691-47F0-A223-71A48067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4A96AF-DC02-49CF-B6D8-F6F64DA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69C3D-FDA0-4F31-A7D1-2155611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E902A9-8490-4167-AEFB-E1CA44D5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A545F8-5927-4207-B97E-E8662088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21DC8C-7E8B-4D43-95E8-C90092DB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174C5-5C71-434A-9928-689EFCFB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703E5-9FEB-4C12-91EC-85662F2C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18FBC0-A85D-470C-987E-543264B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BCF8-E06A-46E5-B2C7-FB788233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51BB3-7890-4241-8121-B76ECAF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0B1A9E-E6A7-4EE5-9AB3-77D9D988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76E06-DB1E-4EDE-936F-5B06440F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7E4267-51FC-4ED7-B2D3-0A205AB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29839-307B-4444-ABEF-16DE2377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87918C-3176-4936-811B-60EA75D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08E39-EC2B-4212-8265-EBF033DA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FEE5B0-C49F-4165-9AAB-0B05434F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5615CB-061C-4A96-B220-C16EC328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FE9E-2A1B-4F7E-9408-AF6746F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DD96-5F64-419C-A7F9-C725541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65D1-5E01-4DA7-855F-C5ADD60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D59E-B5EA-4F09-ACF6-719E556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AE9C-01F1-48DC-B020-7C8B500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F5E-2E5D-462C-81AF-1B2C72C0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6051-E25F-49EF-BC9A-D1C039A1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0AFD-C81C-400E-9280-F1FBBBE2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002A-62C2-4A84-9337-E1C46E99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15B9-B7A3-489E-879D-C8C14155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C5E2-A656-463C-B355-206F4EA4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4B84-F0E6-4E87-8FBC-19431B0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99AE-1530-4866-89E2-549D53C8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2A9B-E6FE-412C-BFD5-C77ED49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FF213-9600-4F75-9312-82A2BC7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1A02-1215-4CE1-A95B-38F2C226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462F-BF1D-410F-8802-D2EDDA2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3F74-3E6E-456A-97D2-3567309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69D8-927E-4BF8-82F0-87F35E17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1595-EF27-4FB7-8C28-A5F35D4A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EFA6-7557-4051-ABF0-505C455D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887E-DC79-4EB5-BCE9-CEF4EF49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661B-B1AE-4252-9D03-BC1C117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C1A2-D527-4021-9E23-A5034475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4C1A-DA00-4480-A153-1972D73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28B6-C1DA-4F5E-B756-0884D66F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AD08-A6C3-4827-89EE-7BE472E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56BF-B7CC-4054-ACFC-9B8EAD0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87CA-14EC-451A-840A-287DCE4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A0F6-739C-4F77-9731-53E3564E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97BC-C48F-423C-AC79-CCE9B9F5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4567-F01B-4107-B451-15A64651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C50C-8F1C-453D-B2C3-99A59B06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4F94-948A-439A-B9EF-6CF7B0B8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68E0-BC02-4D88-B216-0F4544D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AF51-46C0-4A91-B228-B2591C6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CF53-3C3E-49ED-8CCA-F293518D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E55D-5D9E-4D47-830F-767246C3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471B9-E21C-49ED-BFAF-C5C22A7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8BEF-2F28-4934-9793-B82BD76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122F-7191-4502-8A83-BC889DC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37E5-230F-4DBC-B8E4-A292CBA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E1725-F9F5-4D20-AFE5-56862E30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34A2-3A6D-43D7-93DF-0B48F898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F5E6-3B3F-4DF9-8798-6004198A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DBC8-EE26-442E-90BD-610CC134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4AAB2-1241-4580-A07E-10633EB3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B856-60D3-44F8-8E0B-013F7A6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9F5E-9484-4823-89ED-995ED6C0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21067-C66B-4073-867A-4B0C111C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BF8D-510B-4123-95AB-653BEEB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C0C0-DDA0-42E1-8221-93D21BF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2639-36F5-4D93-8E76-59E49F92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9416-F269-4E3A-B581-CEBFB284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F9A1D-87B0-496B-B112-7D97EDB0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754B-0318-4EA1-95CC-726A29E4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6771D-852F-48E9-893E-138D4C6B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0A04-D356-474A-A296-8F50D08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0D980-2AB5-41BC-9B89-9C2FEA1B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9870-413F-4A45-A798-E3148E6A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AAC6-CEA7-4663-9E95-342D5930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D35DF-1359-4100-AC96-3A6F2F77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244A-DA29-4E0A-BE1A-2EE71F4C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2BFB2-C206-4CF2-A818-CC8759E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CBF79-142A-439A-8150-0C9F726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F153F-8C4D-49A8-B425-ADA3302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4DDA2-1EDA-4A08-8275-710A54B0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97750-6C0C-4A58-BA0E-CA7C7F09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2BF9A-E265-4407-9BCD-C8F09582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5EF2-22E1-453D-9FDB-5F3E7CD6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C0360-BC22-439D-830D-D0A14673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E4D1-1EDA-4FF8-95A2-E7D04E745A3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0DD-E73A-49B4-A75C-B7682ED7F1E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4417-CC28-4EB5-B760-73AB15975C4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1A9F-21DD-418B-A963-2AFA2E2AC04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E39-0429-46CF-9EBB-4F6F25EA9A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40C-0055-4EA2-B233-4CC76DC953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B65D-2C07-4413-A550-E1DCD3B5EA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935B-87A9-4542-A6F9-92CD166DD0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C6B-6D40-449D-8D88-A6F35FA496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A211-AB83-4400-AC3A-CD7A8FE66F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60E7-C582-4C19-A120-4B111591E1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EF0D-BADF-4E74-A5B5-476B977668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829A-61D0-4B06-A346-4FA0683C32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E16D-5C1C-47AE-8C78-0F65E9E3C1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BC49-9CD4-4C2B-A44B-417C5C1811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43B1-AE6D-4AB9-9442-62BF2030C9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277D-DA77-4D05-85E0-C058B9B7B7F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F424-CEDF-4C3C-8DCB-0241079C0A2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ADE-80FB-4D46-89AA-FD95E2349BD3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D6A-1C41-4EA3-A973-92DF5D52F78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4E97-A408-4E9B-BB23-E8E4AE1028F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F025-1EF5-4DF3-AC0D-AB49D7A170E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F35-171A-41E2-848D-42B7FCCA2CE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认识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176720" y="1736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巧手小工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认识多边形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平行四边形的特征解答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作两条不同的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画出一个平行四边形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数出平行四边形的个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34920" y="1420920"/>
            <a:ext cx="721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看图回答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平行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这个平行四边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1"/>
          <p:cNvSpPr/>
          <p:nvPr/>
        </p:nvSpPr>
        <p:spPr>
          <a:xfrm>
            <a:off x="4859280" y="420048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矩形 15"/>
          <p:cNvSpPr/>
          <p:nvPr/>
        </p:nvSpPr>
        <p:spPr>
          <a:xfrm>
            <a:off x="1116000" y="476100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10"/>
          <p:cNvSpPr/>
          <p:nvPr/>
        </p:nvSpPr>
        <p:spPr>
          <a:xfrm>
            <a:off x="3749760" y="472428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12"/>
          <p:cNvSpPr/>
          <p:nvPr/>
        </p:nvSpPr>
        <p:spPr>
          <a:xfrm>
            <a:off x="5924520" y="474012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13"/>
          <p:cNvSpPr/>
          <p:nvPr/>
        </p:nvSpPr>
        <p:spPr>
          <a:xfrm>
            <a:off x="4356000" y="528012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9" name="Picture 11" descr="A7"/>
          <p:cNvPicPr/>
          <p:nvPr/>
        </p:nvPicPr>
        <p:blipFill>
          <a:blip r:embed="rId2"/>
          <a:stretch/>
        </p:blipFill>
        <p:spPr>
          <a:xfrm>
            <a:off x="2368440" y="2316240"/>
            <a:ext cx="3083040" cy="17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0"/>
          <p:cNvSpPr/>
          <p:nvPr/>
        </p:nvSpPr>
        <p:spPr>
          <a:xfrm>
            <a:off x="954000" y="136512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作出平行四边形两条不同的高并测量出相应的底和高的长度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9"/>
          <p:cNvSpPr/>
          <p:nvPr/>
        </p:nvSpPr>
        <p:spPr>
          <a:xfrm>
            <a:off x="1476360" y="55846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略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2" name="Picture 5" descr="4QD7"/>
          <p:cNvPicPr/>
          <p:nvPr/>
        </p:nvPicPr>
        <p:blipFill>
          <a:blip r:embed="rId1"/>
          <a:stretch/>
        </p:blipFill>
        <p:spPr>
          <a:xfrm>
            <a:off x="2951280" y="2955960"/>
            <a:ext cx="2990880" cy="17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矩形 10"/>
          <p:cNvSpPr/>
          <p:nvPr/>
        </p:nvSpPr>
        <p:spPr>
          <a:xfrm>
            <a:off x="954000" y="126828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如图，画一个平行四边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6"/>
          <p:cNvSpPr/>
          <p:nvPr/>
        </p:nvSpPr>
        <p:spPr>
          <a:xfrm>
            <a:off x="684360" y="494820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略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5" name="Picture 6" descr="A9"/>
          <p:cNvPicPr/>
          <p:nvPr/>
        </p:nvPicPr>
        <p:blipFill>
          <a:blip r:embed="rId1"/>
          <a:stretch/>
        </p:blipFill>
        <p:spPr>
          <a:xfrm>
            <a:off x="2411280" y="2457360"/>
            <a:ext cx="2897280" cy="18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矩形 10"/>
          <p:cNvSpPr/>
          <p:nvPr/>
        </p:nvSpPr>
        <p:spPr>
          <a:xfrm>
            <a:off x="954000" y="1268280"/>
            <a:ext cx="78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下图中有多少个平行四边形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7" name="Picture 4" descr="A10A"/>
          <p:cNvPicPr/>
          <p:nvPr/>
        </p:nvPicPr>
        <p:blipFill>
          <a:blip r:embed="rId1"/>
          <a:stretch/>
        </p:blipFill>
        <p:spPr>
          <a:xfrm>
            <a:off x="1994040" y="2333520"/>
            <a:ext cx="2469960" cy="14385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5" descr="A10B"/>
          <p:cNvPicPr/>
          <p:nvPr/>
        </p:nvPicPr>
        <p:blipFill>
          <a:blip r:embed="rId2"/>
          <a:stretch/>
        </p:blipFill>
        <p:spPr>
          <a:xfrm>
            <a:off x="4879800" y="2409840"/>
            <a:ext cx="2490840" cy="1285920"/>
          </a:xfrm>
          <a:prstGeom prst="rect">
            <a:avLst/>
          </a:prstGeom>
          <a:ln w="0">
            <a:noFill/>
          </a:ln>
        </p:spPr>
      </p:pic>
      <p:sp>
        <p:nvSpPr>
          <p:cNvPr id="1019" name="矩形 5"/>
          <p:cNvSpPr/>
          <p:nvPr/>
        </p:nvSpPr>
        <p:spPr>
          <a:xfrm>
            <a:off x="2232000" y="3249720"/>
            <a:ext cx="14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6"/>
          <p:cNvSpPr/>
          <p:nvPr/>
        </p:nvSpPr>
        <p:spPr>
          <a:xfrm>
            <a:off x="5346720" y="321300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2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3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6" name="矩形 19"/>
          <p:cNvSpPr/>
          <p:nvPr/>
        </p:nvSpPr>
        <p:spPr>
          <a:xfrm>
            <a:off x="954000" y="1484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如图，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平行四边形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小棒，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呢？先填表，再回答问题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平行四边形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小棒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7" name="Picture 9" descr=""/>
          <p:cNvPicPr/>
          <p:nvPr/>
        </p:nvPicPr>
        <p:blipFill>
          <a:blip r:embed="rId2"/>
          <a:stretch/>
        </p:blipFill>
        <p:spPr>
          <a:xfrm>
            <a:off x="1368360" y="2924280"/>
            <a:ext cx="6174000" cy="17841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10"/>
          <p:cNvSpPr/>
          <p:nvPr/>
        </p:nvSpPr>
        <p:spPr>
          <a:xfrm>
            <a:off x="4624560" y="4041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9"/>
          <p:cNvSpPr/>
          <p:nvPr/>
        </p:nvSpPr>
        <p:spPr>
          <a:xfrm>
            <a:off x="5184720" y="40417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0" name="矩形 11"/>
          <p:cNvSpPr/>
          <p:nvPr/>
        </p:nvSpPr>
        <p:spPr>
          <a:xfrm>
            <a:off x="5740560" y="4041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12"/>
          <p:cNvSpPr/>
          <p:nvPr/>
        </p:nvSpPr>
        <p:spPr>
          <a:xfrm>
            <a:off x="5164200" y="47926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33:40Z</dcterms:modified>
  <cp:revision>1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