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3CC5E-B1C7-4616-9F6A-07566E38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A3738-D4F5-4CEE-B462-6435EBB6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FCDFF-7566-49BB-A6B0-11686004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08ECE-D3D6-4876-811A-FDE9C5C9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664ED-B6A5-4A47-A336-DA1435D2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7983D-1032-466A-A936-6919711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02F6A-EBE4-459C-B79F-51505528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FA95D-D29F-408B-B52C-83C92C4A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994D6-6319-49E3-B043-1ED62035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4F344-A14B-4C28-A7B7-81F6EA15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893D2-D6BD-434C-9129-17335684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BACED-44C4-4E97-947C-54AB7A93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F4647-9D51-425C-B46B-DEA0489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18A4B-AC1D-424B-B470-2CCA6744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01572-28BB-4402-B17D-A1DD3F46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F8640-56F6-4F88-9623-BD012C65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21927-1BD4-490F-9A97-3319A207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99DBC-18F6-43AC-8329-A16FC10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00FD0-D5F8-4650-A8E9-5B89DB1F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C133F-2515-48D1-96BD-D9CB0D6D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84534-5A67-4E56-9E27-5DD22945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8C1DE-8C1B-45E7-8393-856685B9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C4F55-E17D-4F45-9FF6-C8DCDDB7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C4022-7610-4A4B-9C02-7B1B30DD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45F2E-101E-4221-BAFA-C91D623E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7E997-A74C-4505-8C02-79A1089A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060EE-AAB7-4020-8EBC-B7403DF8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F078E-EC39-45F2-8D32-D850CC17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84B55-E25B-4238-8034-B449C7E4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F9C35-42CB-4C1B-9067-75D795E2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775-5CBA-458D-9812-BC26A44C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7DA5D-7D70-49C4-A0A9-87EC14E7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3124D-A74F-416E-B55A-EDFB3896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54629-BE10-4CF2-AF01-4E51A7E1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E9B57-C3A3-486B-B13B-795F8778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3BE90-CAD2-4408-A182-4DF05C1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A5277-669B-4974-A100-0F4C5119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56883-A733-4D09-86EC-24446564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18B5F-0C7E-4E5F-9CCB-D800BEDB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C3470-66FD-483A-BE1B-C8855A3D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B9FB-B550-42FF-B5D7-450031DD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126-5AD5-4DE5-9CD3-9C1A931B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899EE-5BF7-4D6A-8F01-CA8505C0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106BF-E070-4155-9140-E0C87704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80EFD-F745-4FE2-9057-839F7C9D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68F48-E55C-41B5-9130-B5129144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CE0FC-0F30-4469-8EE0-78338729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75550-E94F-4F59-8CB2-582399D8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80364-EC4F-487F-9767-FDFD0090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E0149-2ED3-43CC-A6DB-C69BE8E8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D8C7D-4A25-42DD-ABF6-4CA3D8B0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71922-C528-4A9C-A937-D37005B2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3DF-2EC1-4161-A421-9966C38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4F921-82F4-452D-8B5E-9A4C98CB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75D01-8575-40E0-B400-F566911F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CFC2E-B261-490D-A9E4-2FECBA9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93B28-F15D-4AB4-B5D0-C9BE633E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D810B-2AAD-4DF9-AD6F-01A04F9D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17F8C-8A33-4D88-BD9B-595F75E2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DCE53-6F76-4947-B522-45BFA912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7FCCAB-0380-4E5F-8074-4D4572E9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9D4A7-563F-4563-916E-BC5BBECF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8CE05-9393-4180-851B-484A0606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6BB-AC76-4163-B4BE-C0A643C6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7A633-01E1-4876-A359-90DBEF3B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1E69B4-0D52-4D0A-BC19-56AB611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83104-C604-4AC6-A311-2D103BB7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842A6-95CF-46A6-9F21-86C69FA5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50ADF-F11F-4A47-823C-572692A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887EA-76BF-4811-ADC6-83E4477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A2A8B-63AE-4865-A6E9-EE2600F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235BB4-3B67-4A67-850C-85FA5979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72F83-8B75-4AA0-ABA6-2054AD30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55C680-9301-416E-B484-A3CA7FEC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C53-3BF0-4609-A71D-EAD01C12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9EE92-B2C9-4D27-98AF-8E1404C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EAAB0-5E88-4066-AB23-BA99433C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D863BC-2F2E-4A58-A91F-7F6F6650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7E534-73C9-409D-93FE-429FA151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EE2640-65A5-47DA-A4F9-DA26B42C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6222E7-B817-4C64-B1B6-3656B60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DD92A-DE59-4A03-8B5C-33051FF2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15EDE-176B-4131-9650-8092F9FF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09688-7664-4746-BEB1-2EC3C717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7A61D-6E50-49A6-B6F8-F79C9E52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9D3-EB70-4DE2-BDD7-77D6BE83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E150A1-4262-4A22-869E-4BB62107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69D81-CE8C-46DD-A464-F5B1E3A7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38E3C7-8B04-49D4-A75C-2E844861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1E79D-66A1-4BF6-B52B-9EA6CC67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7DDA4-6817-4371-B085-91407783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1C492-70B1-47A3-A8E5-78376CB5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14FB6-C591-4C85-A98B-86688C0B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61072-EB96-4ABA-9D88-3575D0C8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A9D6D-D0DF-4F61-A023-2ECE1811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D567E-492D-4A8F-93F5-41713771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6EB-39BE-4B45-88E7-A915CC7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568DCA-33FF-4DAD-8670-71E1E482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F0A71-B7F7-4F27-A3BF-9E238618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D6547-EB03-4586-BEAC-6B4F960B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50A477-8761-4CA9-8463-25CA9472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6C841-ABC8-46E6-AC2B-467E0619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866A5-3138-46A7-8CB6-DC965D69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46770-264E-4570-95E4-6CC016C0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715EF5-58D1-415C-92E8-4A34331A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725CD-3514-4B98-BB84-4BF0EB91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449FD-F4D9-4DC0-B38B-6EC5420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E93-65D0-453D-B31D-E755A189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3168C-C64A-4431-B034-913CCEE1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BCE08-7603-476A-AC7C-9185563B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2B358-932F-48D8-90B4-099EB3E4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037F3-B7AC-410F-93C9-EE7265C1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FF729-6104-41E9-8292-2DE9A4CD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B02E54-E1AC-43FB-B143-3E39C83D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0FFABB-CC54-48E7-B713-16534624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B02E6-050E-45B6-89DC-DB8834EB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17ED4-4EDE-4DCE-AAC5-2FA41A3B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A5C4B-ABB9-47CC-8EF3-58A8BB56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CB8-7408-4CA3-8729-3078D5E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0E17A-597B-4522-9CD4-646E3D48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2FD98-58E1-43FF-A06A-60278EA7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C2302-78E4-4180-9E7A-533AA920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E4A49D-3C81-465A-8C65-9FB754E9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F49F25-BD56-429B-99F5-D3904363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7468A5-9E0C-4738-80AA-021DAEC2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1E1A05-A3B6-4DC2-8628-3C58C8BE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A37011-7347-46F7-858A-506ED4D3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53CB2-38D0-4971-8A79-2817368B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A1B74-A654-4DA6-B413-15F3CEA4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2FCC-502E-420F-96B0-CFF37F39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DB001F-6612-41BB-B46C-463D9726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59C5F2-81E6-4738-BECD-AB5316AD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73AE7F-0542-4DFB-810D-93106B2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17D04-C262-4D45-BC1A-9AC3413E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4CAD07-6208-4C37-9ACC-AACA57C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E1C9D3-D7ED-4431-B287-C0331CD8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20F91B-99B0-4310-BAE2-5EDCA79A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7A98B-150E-4986-A0B4-E4A95B1A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A9E59-698B-4658-B398-71C9EB25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B4C516-A9B7-48F6-A91A-453FD660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6869-23CC-4561-8999-0461887F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DEE336-52F0-40E1-99E0-F99E064C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93B26-6944-42C5-B6D6-BF763660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6F89B1-9427-487F-83AD-F3037D81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86859-0B9A-4802-96CE-0234032E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70BD4-4C35-4E45-8551-9530EC4A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B87379-9382-4CDD-9416-41848B2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051AF-BE67-4E0F-B010-6EA82A7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D546D8-04C4-4671-81D5-358B8E96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51EA46-290D-4777-B99A-F4B53A50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0BF11-5430-44F9-973F-31FD4271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DD1-70DF-4724-9CE9-94C3A7ED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7F3D5E-6552-49CC-A234-C2436B09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8BDC49-1FAA-427B-97E0-59DD9F7B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8D794-ADA3-418C-B481-07F3EA3F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867DE4-2FE2-4681-9590-86F607E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6A7D33-64B8-4F27-93F5-FAFFFF1B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9A68F0-7B9E-438B-8E09-A969AF32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6494A5-91A7-4503-B1D6-5214D2E9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4796D2-2231-4C21-A68B-46CC7BC8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8D600-EF16-4388-A337-6578730D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D08E18-A2A4-4CB9-A57D-42E9321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7348-D40B-46C6-88BB-2E82E20C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6AFF53-237B-40E7-A40A-3C374F9A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C46BDF-B8AE-44D2-8AEE-755AD6D9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4653D2-5A1A-456F-BCEF-F6E6EC52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FE330-9236-4DCA-8BFE-C306AAF8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EC4B59-0506-4282-AE21-1358A0D4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E20EA-D650-4BBF-8959-E3D4097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1C62B-A812-4978-9199-F12BE2FF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0A6F2-DCF5-4B9D-9516-6062E5E9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E177D6-48C8-4BC0-AAB5-493D3B21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6E2E31-1411-4359-A0BC-F75B4C0E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2608-A366-4CC3-8F68-5076B940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19D66A-EE00-47BE-AB86-1E60D5D0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D3F978-4DC9-4648-8A69-0FF3F640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7EE8C-DB11-4F9C-8AF4-B937AE1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6679F-0EED-4D00-BF3A-B7C68EB9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17B646-04C5-4237-B6E1-81613BA7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1C7BEA-FAC0-4656-8552-E923C7FF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3EA4A4-D8F0-4C37-862D-C56C4318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5AF99A-A8F2-4AB3-B601-F448D19C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5B84DA-CEEF-45E8-9C1D-766C3C9D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FFD29D-2F89-4FA1-A06B-3E70700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BBA5-7FBF-4768-B906-0F882AB3E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D64271-53BC-4FF5-8BAF-67754105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8FC91-5B9D-4C61-A798-6FD9397A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BA07C-7D0B-4BDF-B499-64F7396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0DE5B3-A25E-4984-9B17-36E52845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E03170-6AD8-4FCF-81F9-1C09494A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BBA70B-2045-4166-BB9B-BF8E255D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7948A9-C4C4-4956-BC13-924CBA6B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23714C-0F68-4232-B846-E2044AB3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ACF4DC-D50C-4248-B8E5-AD38F83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750DEA-0388-43E1-A78F-DC5EE021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81BF-5D00-4A12-9DF8-9036D65D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05D1F2-C605-4B97-834F-8A851125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84A4F6-07AC-484E-9B6B-D18A5AB3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34FB61-AA4D-4E04-94F0-BF9C0A71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E5FD6B-89B7-4169-A01D-345BF628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AD96BA-44BF-4331-883A-35F56CD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83CFEC-7D53-4C49-A7EF-7D94DE6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5B55D9-AAD5-46AB-8EA6-68B5819D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BFC195-2D82-4F01-A998-EB7A2ABD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BEC0F2-8406-47F8-9E40-335E3A38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24DD-8E12-4A9C-BF0B-7C2D2145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B2B4-30AA-412E-8FB4-865F2C37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AF0-3AF3-4EB4-A1BB-550E107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D657-3F84-49F8-B6CE-D527A93F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D963-3561-4D4B-81C6-593133DB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0F79-3430-4972-B920-5F7C3A54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FBE1-A3BE-42B8-9B91-5E2B8B30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B534-FF7E-49C2-8C99-429AC9CF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F7E95-FFDA-437B-AE74-3CE9FC93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4A45-2D9E-49F1-A5D6-F2BAC611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49E6-82D6-4FD9-B568-7037F2BE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296B-4275-4D60-A979-1A7C289B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8548-7303-4A26-A3CC-02619A77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2F9C-AB33-4087-AAD7-1EB7DC24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214E7-DBBE-4C44-A0BF-CB0F43A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FBCF-AC5D-4579-BDCF-29A9785B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08A8-293F-4DA0-A67A-A28374B0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CEA35-1514-4E62-A706-68603265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32C6-2B63-4958-B778-FA9A66C4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3CAEC-734B-4426-81C6-F411F87F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E784-5B29-4AEA-8FF8-B7EB45E9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F0F69-2AC9-4E18-8F53-F47BF4AB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76689-42F0-478F-8CF1-B04C8E70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29CB-F17B-44DB-BD6E-0ED80113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8C3C-0500-405E-BCDF-A01031AC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883D7-B1BF-48EC-A52A-E71A31A4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0AB0F-664D-4B85-B42A-0243A898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E7708-A9E7-4524-A2F7-87031B0C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19EC4-D875-40DE-BB22-85490CB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5C7E-053E-4773-AF3B-CBD75280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5E90-2782-47ED-B009-3F047685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A842-AE16-4D91-9590-8B7778C8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EFE6C-E524-4521-9923-D576C271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95AB0-F9C1-4CA7-8394-29D7CED4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B9DA8-FD04-4C8B-9EB3-BE64217A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7BBDD-6314-43AF-877E-40048FB7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7DE7E-D825-46A2-B053-8374BA0B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99EC2-2E37-4398-9CFD-0D050305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09678-41E6-4E5A-83DC-3C7A9977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21612-217D-4898-B725-C00B1AD4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EE1F-EDE3-4DBF-8311-4BD38096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8D87E-849C-42E2-9476-210F4313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6169C-4EF8-432C-A82B-27CF45A0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EC1E7-E99A-42AD-A2A3-E464FAC0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D669-ED76-4C31-87C9-E23A5A42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11BAF-0811-4BC6-903A-98DDE49C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DF93-2276-4013-907E-2D5FE4C1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6AFE7-1CF0-45F0-95AA-9283C4AC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0B53A-4BFF-45E9-B69D-177EABA7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2B89D-ABC3-4951-917E-51824110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341F-9AB8-47D1-AB60-5F87DD6F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2827E-55FC-48F5-948A-688E8DD8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0F0A-14DE-490A-AF83-C6A03714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CD4FB-01E9-446A-B173-98C48A1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6A235-35B9-4046-8CD5-A91CDE5D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E683B-B7A6-4F6B-A639-C0BE7E47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EF1A6-6498-49F6-8D24-20514F73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344C5-AF65-45F4-B059-26F038A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C8539-48FA-4BC6-9B9F-75C15F04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7BC29-4FC2-4DE1-A833-43A21A68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50A61-1D33-4381-8C07-CF9EED71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EC2DE-59D6-49F0-B4F3-FC0F7F67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504AB-AD24-4A1D-89C0-63F688E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6B35-92DF-44A7-8BA4-EF3F08A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18DDC-DF43-4484-AF25-C7DC0678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B51EF-168A-4FAC-840A-0363DA78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D36BB-35F5-4CFF-AEDE-13503E9B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1A0B1-0BCD-4E06-91FB-29B075BD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413EB-5202-4312-ADDF-F4FE32E2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17129-0D0F-4BD5-A46A-1C268596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08F36-00FE-46E5-AA11-9323865D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D547-C9BA-48B6-96A8-D90204162C0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8420-368C-48E9-83F5-4B28CF1D2C7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B4D2-6374-4168-A32A-1A05EE8025F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DC19-27A2-440F-8224-47F2A94BEA2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8ADE-98AB-4930-A0C4-FA405510436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14EF-9D89-47C8-8DEE-844697C1BF4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859-C9DB-4133-A166-E1BADF5929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22F4-E76B-46B0-808A-C6FEBA36A7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F882-BE4D-467A-B5B0-9A7B4664EB6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A733-3D68-405E-88FC-56AF2652EAF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0F97-BCD8-4751-9F55-39DCD189033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70C0-DE52-40FF-A47B-8B62898BFC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BC7-8D0A-4C75-9A6A-F29D0ACDFB8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9F48-68EB-43BA-890E-EDB345F998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CD86-8433-45EC-980C-AF699E7C07D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9586-C958-460F-9C79-796CBDE86D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2A94-8740-431B-BE91-851EA70111B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5C97-958B-431E-A545-A3BF0B10A410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FDE3-D953-4903-8683-ED791888CB21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CDA9-5824-49C6-9674-C6E3EEFAF0A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30E3-96F2-4F98-B14A-F02CB8142AB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1BF-9280-4D0C-B418-10EA98F74D3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37A7-EFA0-4FF3-AB3B-C89BF6F8023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角形的分类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176720" y="1736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巧手小工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认识多边形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矩形 10"/>
          <p:cNvSpPr/>
          <p:nvPr/>
        </p:nvSpPr>
        <p:spPr>
          <a:xfrm>
            <a:off x="934920" y="142092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如下图，已知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50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51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52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53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54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5" name="矩形 10"/>
          <p:cNvSpPr/>
          <p:nvPr/>
        </p:nvSpPr>
        <p:spPr>
          <a:xfrm>
            <a:off x="1692360" y="4802040"/>
            <a:ext cx="63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0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56" name="Picture 11" descr=""/>
          <p:cNvPicPr/>
          <p:nvPr/>
        </p:nvPicPr>
        <p:blipFill>
          <a:blip r:embed="rId2"/>
          <a:stretch/>
        </p:blipFill>
        <p:spPr>
          <a:xfrm>
            <a:off x="3429000" y="2295360"/>
            <a:ext cx="2286000" cy="22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矩形 10"/>
          <p:cNvSpPr/>
          <p:nvPr/>
        </p:nvSpPr>
        <p:spPr>
          <a:xfrm>
            <a:off x="95400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精挑细选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个直角三角形的两个锐角中，较大的锐角的度数是较小锐角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倍，这个较大的锐角的度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一个等腰三角形中，有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内角，它的顶角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°  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8" name="矩形 12"/>
          <p:cNvSpPr/>
          <p:nvPr/>
        </p:nvSpPr>
        <p:spPr>
          <a:xfrm>
            <a:off x="1155600" y="3068640"/>
            <a:ext cx="15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9" name="矩形 3"/>
          <p:cNvSpPr/>
          <p:nvPr/>
        </p:nvSpPr>
        <p:spPr>
          <a:xfrm>
            <a:off x="2114640" y="4689360"/>
            <a:ext cx="15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矩形 10"/>
          <p:cNvSpPr/>
          <p:nvPr/>
        </p:nvSpPr>
        <p:spPr>
          <a:xfrm>
            <a:off x="954000" y="126828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已知等腰三角形的一个底角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顶角的度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1" name="矩形 7"/>
          <p:cNvSpPr/>
          <p:nvPr/>
        </p:nvSpPr>
        <p:spPr>
          <a:xfrm>
            <a:off x="1584360" y="224172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°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顶角的度数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2" name="矩形 10"/>
          <p:cNvSpPr/>
          <p:nvPr/>
        </p:nvSpPr>
        <p:spPr>
          <a:xfrm>
            <a:off x="971640" y="386064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红领巾中一个角的度数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求其他两个角各多少度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3" name="矩形 4"/>
          <p:cNvSpPr/>
          <p:nvPr/>
        </p:nvSpPr>
        <p:spPr>
          <a:xfrm>
            <a:off x="1584360" y="49989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18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0°)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其他两个角分别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矩形 10"/>
          <p:cNvSpPr/>
          <p:nvPr/>
        </p:nvSpPr>
        <p:spPr>
          <a:xfrm>
            <a:off x="954000" y="1268280"/>
            <a:ext cx="78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九、根据三角形的内角和你能求出下面图形的内角和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5" name="矩形 9"/>
          <p:cNvSpPr/>
          <p:nvPr/>
        </p:nvSpPr>
        <p:spPr>
          <a:xfrm>
            <a:off x="1008000" y="3968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0°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6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0°×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2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0°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40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66" name="Picture 5" descr=""/>
          <p:cNvPicPr/>
          <p:nvPr/>
        </p:nvPicPr>
        <p:blipFill>
          <a:blip r:embed="rId1"/>
          <a:stretch/>
        </p:blipFill>
        <p:spPr>
          <a:xfrm>
            <a:off x="1511280" y="2097000"/>
            <a:ext cx="642924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Picture 9" descr=""/>
          <p:cNvPicPr/>
          <p:nvPr/>
        </p:nvPicPr>
        <p:blipFill>
          <a:blip r:embed="rId1"/>
          <a:stretch/>
        </p:blipFill>
        <p:spPr>
          <a:xfrm>
            <a:off x="3176640" y="3105000"/>
            <a:ext cx="2790720" cy="2152800"/>
          </a:xfrm>
          <a:prstGeom prst="rect">
            <a:avLst/>
          </a:prstGeom>
          <a:ln w="0">
            <a:noFill/>
          </a:ln>
        </p:spPr>
      </p:pic>
      <p:grpSp>
        <p:nvGrpSpPr>
          <p:cNvPr id="1068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69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70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71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72" name="图片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3" name="矩形 19"/>
          <p:cNvSpPr/>
          <p:nvPr/>
        </p:nvSpPr>
        <p:spPr>
          <a:xfrm>
            <a:off x="954000" y="1484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十、在等腰三角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下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你知道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度数吗？聪明的小朋友，动脑筋想一想吧！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4" name="矩形 11"/>
          <p:cNvSpPr/>
          <p:nvPr/>
        </p:nvSpPr>
        <p:spPr>
          <a:xfrm>
            <a:off x="1054080" y="5157720"/>
            <a:ext cx="762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18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0°)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5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182600" y="1700280"/>
            <a:ext cx="73137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角的特征判断三角形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根据要求画出各类三角形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数出各类三角形的个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934920" y="142092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、下面的三角形都被一张纸遮住了一部分，你能直接确定它们各是什么三角形吗？如果能，请说明是什么三角形；如果不能，请说明原因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4" name="矩形 14"/>
          <p:cNvSpPr/>
          <p:nvPr/>
        </p:nvSpPr>
        <p:spPr>
          <a:xfrm>
            <a:off x="1565280" y="455436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①个是钝角三角形。第②个是直角三角形。第③个不能确定是什么三角形，因为不知道盖住的两个角中有没有直角或钝角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5" name="Picture 10" descr=""/>
          <p:cNvPicPr/>
          <p:nvPr/>
        </p:nvPicPr>
        <p:blipFill>
          <a:blip r:embed="rId2"/>
          <a:stretch/>
        </p:blipFill>
        <p:spPr>
          <a:xfrm>
            <a:off x="1760400" y="3241800"/>
            <a:ext cx="5623200" cy="13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10"/>
          <p:cNvSpPr/>
          <p:nvPr/>
        </p:nvSpPr>
        <p:spPr>
          <a:xfrm>
            <a:off x="954000" y="136512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按要求画一画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下面的三角形中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线段，把它们按要求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矩形 10"/>
          <p:cNvSpPr/>
          <p:nvPr/>
        </p:nvSpPr>
        <p:spPr>
          <a:xfrm>
            <a:off x="3546360" y="4824360"/>
            <a:ext cx="21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锐角三角形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钝角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8" name="矩形 10"/>
          <p:cNvSpPr/>
          <p:nvPr/>
        </p:nvSpPr>
        <p:spPr>
          <a:xfrm>
            <a:off x="5832360" y="4843440"/>
            <a:ext cx="20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直角三角形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钝角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矩形 10"/>
          <p:cNvSpPr/>
          <p:nvPr/>
        </p:nvSpPr>
        <p:spPr>
          <a:xfrm>
            <a:off x="1457280" y="4840200"/>
            <a:ext cx="19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直角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0" name="Picture 5" descr=""/>
          <p:cNvPicPr/>
          <p:nvPr/>
        </p:nvPicPr>
        <p:blipFill>
          <a:blip r:embed="rId1"/>
          <a:stretch/>
        </p:blipFill>
        <p:spPr>
          <a:xfrm>
            <a:off x="1482840" y="3078000"/>
            <a:ext cx="623700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011" name="组合 9"/>
          <p:cNvGrpSpPr/>
          <p:nvPr/>
        </p:nvGrpSpPr>
        <p:grpSpPr>
          <a:xfrm>
            <a:off x="1850760" y="4368960"/>
            <a:ext cx="741240" cy="392040"/>
            <a:chOff x="1850760" y="4368960"/>
            <a:chExt cx="741240" cy="392040"/>
          </a:xfrm>
        </p:grpSpPr>
        <p:sp>
          <p:nvSpPr>
            <p:cNvPr id="1012" name="直接连接符 2"/>
            <p:cNvSpPr/>
            <p:nvPr/>
          </p:nvSpPr>
          <p:spPr>
            <a:xfrm flipH="1">
              <a:off x="1850760" y="4368960"/>
              <a:ext cx="685080" cy="392040"/>
            </a:xfrm>
            <a:prstGeom prst="line">
              <a:avLst/>
            </a:prstGeom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13" name="直接连接符 13"/>
            <p:cNvSpPr/>
            <p:nvPr/>
          </p:nvSpPr>
          <p:spPr>
            <a:xfrm flipH="1">
              <a:off x="2490120" y="4439520"/>
              <a:ext cx="101880" cy="53640"/>
            </a:xfrm>
            <a:prstGeom prst="line">
              <a:avLst/>
            </a:prstGeom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14" name="直接连接符 14"/>
            <p:cNvSpPr/>
            <p:nvPr/>
          </p:nvSpPr>
          <p:spPr>
            <a:xfrm flipH="1" flipV="1">
              <a:off x="2423880" y="4434480"/>
              <a:ext cx="61920" cy="59400"/>
            </a:xfrm>
            <a:prstGeom prst="line">
              <a:avLst/>
            </a:prstGeom>
            <a:ln w="316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015" name="直接连接符 16"/>
          <p:cNvSpPr/>
          <p:nvPr/>
        </p:nvSpPr>
        <p:spPr>
          <a:xfrm flipH="1">
            <a:off x="4140000" y="3716280"/>
            <a:ext cx="306360" cy="10317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6" name="直接连接符 18"/>
          <p:cNvSpPr/>
          <p:nvPr/>
        </p:nvSpPr>
        <p:spPr>
          <a:xfrm>
            <a:off x="6443640" y="3716280"/>
            <a:ext cx="934920" cy="103176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矩形 10"/>
          <p:cNvSpPr/>
          <p:nvPr/>
        </p:nvSpPr>
        <p:spPr>
          <a:xfrm>
            <a:off x="954000" y="1268280"/>
            <a:ext cx="757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数一数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锐角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直角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钝角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等腰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18" name="Picture 5" descr=""/>
          <p:cNvPicPr/>
          <p:nvPr/>
        </p:nvPicPr>
        <p:blipFill>
          <a:blip r:embed="rId1"/>
          <a:stretch/>
        </p:blipFill>
        <p:spPr>
          <a:xfrm>
            <a:off x="4743360" y="2068560"/>
            <a:ext cx="2960640" cy="2065320"/>
          </a:xfrm>
          <a:prstGeom prst="rect">
            <a:avLst/>
          </a:prstGeom>
          <a:ln w="0">
            <a:noFill/>
          </a:ln>
        </p:spPr>
      </p:pic>
      <p:sp>
        <p:nvSpPr>
          <p:cNvPr id="1019" name="矩形 5"/>
          <p:cNvSpPr/>
          <p:nvPr/>
        </p:nvSpPr>
        <p:spPr>
          <a:xfrm>
            <a:off x="431640" y="1844640"/>
            <a:ext cx="31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0" name="矩形 6"/>
          <p:cNvSpPr/>
          <p:nvPr/>
        </p:nvSpPr>
        <p:spPr>
          <a:xfrm>
            <a:off x="431640" y="2421000"/>
            <a:ext cx="31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1" name="矩形 7"/>
          <p:cNvSpPr/>
          <p:nvPr/>
        </p:nvSpPr>
        <p:spPr>
          <a:xfrm>
            <a:off x="431640" y="2960640"/>
            <a:ext cx="31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8"/>
          <p:cNvSpPr/>
          <p:nvPr/>
        </p:nvSpPr>
        <p:spPr>
          <a:xfrm>
            <a:off x="431640" y="3500280"/>
            <a:ext cx="319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矩形 10"/>
          <p:cNvSpPr/>
          <p:nvPr/>
        </p:nvSpPr>
        <p:spPr>
          <a:xfrm>
            <a:off x="954000" y="1268280"/>
            <a:ext cx="757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根铁丝可围成一个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等边三角形。如果把这根铁丝围成一个底边的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等腰三角形，腰长多少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4" name="矩形 9"/>
          <p:cNvSpPr/>
          <p:nvPr/>
        </p:nvSpPr>
        <p:spPr>
          <a:xfrm>
            <a:off x="2857680" y="3716280"/>
            <a:ext cx="319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5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5(cm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4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)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(cm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腰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6 c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6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7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8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9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0" name="矩形 19"/>
          <p:cNvSpPr/>
          <p:nvPr/>
        </p:nvSpPr>
        <p:spPr>
          <a:xfrm>
            <a:off x="954000" y="1484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八、一个小等边三角形的边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如果用同样的小等边三角形拼成一个边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大等边三角形，需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这样的小等边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1" name="矩形 11"/>
          <p:cNvSpPr/>
          <p:nvPr/>
        </p:nvSpPr>
        <p:spPr>
          <a:xfrm>
            <a:off x="1587600" y="2635200"/>
            <a:ext cx="31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角形的内角和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33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1034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5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037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1038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9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041" name="TextBox 4"/>
          <p:cNvSpPr/>
          <p:nvPr/>
        </p:nvSpPr>
        <p:spPr>
          <a:xfrm>
            <a:off x="4176720" y="1736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巧手小工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认识多边形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2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3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2"/>
          <p:cNvSpPr/>
          <p:nvPr/>
        </p:nvSpPr>
        <p:spPr>
          <a:xfrm>
            <a:off x="1182600" y="1700280"/>
            <a:ext cx="731376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用三角形内角和求角的度数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特殊三角形中角的运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3160" indent="-8031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多边形内角和的推导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45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1046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47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48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14:47:47Z</dcterms:modified>
  <cp:revision>1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