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9.jpeg" ContentType="image/jpeg"/>
  <Override PartName="/ppt/media/image8.png" ContentType="image/png"/>
  <Override PartName="/ppt/media/image10.wmf" ContentType="image/x-wmf"/>
  <Override PartName="/ppt/media/image4.jpeg" ContentType="image/jpeg"/>
  <Override PartName="/ppt/media/image22.wmf" ContentType="image/x-wmf"/>
  <Override PartName="/ppt/media/image5.wmf" ContentType="image/x-wmf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jpeg" ContentType="image/jpeg"/>
  <Override PartName="/ppt/media/image15.wmf" ContentType="image/x-wmf"/>
  <Override PartName="/ppt/media/image1.jpeg" ContentType="image/jpeg"/>
  <Override PartName="/ppt/media/image18.jpeg" ContentType="image/jpeg"/>
  <Override PartName="/ppt/media/image17.png" ContentType="image/png"/>
  <Override PartName="/ppt/media/image6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A118-0A8D-49DE-A587-834E44A8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5219-1B7C-498D-A6B7-D5F59A20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8ADD-0AA7-450E-ADD2-C8B0A1C1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67A5-C19E-41A3-9753-C90633E0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D069-9060-439E-A45E-67DA914B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DC44-7FB1-4F1A-BC86-39D2E2B0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8A9C-D39D-492F-B2B5-C170AD97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2B0-1218-4ACE-95E6-B7CA515C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AA6D-C4E8-439E-A17E-D049B5A3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5DFC-1501-4740-A310-D1B0B231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1679-3F55-423B-8AD2-163BA880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CB1A-8E75-4D9A-95A8-D418FBAF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E57A-340B-4C64-B354-B501C80CEB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wmf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5" descr="数学ppt.jpg"/>
          <p:cNvPicPr/>
          <p:nvPr/>
        </p:nvPicPr>
        <p:blipFill>
          <a:blip r:embed="rId1"/>
          <a:stretch/>
        </p:blipFill>
        <p:spPr>
          <a:xfrm>
            <a:off x="0" y="579600"/>
            <a:ext cx="9144000" cy="5698800"/>
          </a:xfrm>
          <a:prstGeom prst="rect">
            <a:avLst/>
          </a:prstGeom>
          <a:ln w="0">
            <a:noFill/>
          </a:ln>
        </p:spPr>
      </p:pic>
      <p:sp>
        <p:nvSpPr>
          <p:cNvPr id="43" name="标题 1"/>
          <p:cNvSpPr/>
          <p:nvPr/>
        </p:nvSpPr>
        <p:spPr>
          <a:xfrm>
            <a:off x="500040" y="1530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三角形的内角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3203640" y="5516640"/>
            <a:ext cx="1655640" cy="368280"/>
            <a:chOff x="3203640" y="5516640"/>
            <a:chExt cx="1655640" cy="368280"/>
          </a:xfrm>
        </p:grpSpPr>
        <p:pic>
          <p:nvPicPr>
            <p:cNvPr id="45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3203640" y="551772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12"/>
            <p:cNvSpPr/>
            <p:nvPr/>
          </p:nvSpPr>
          <p:spPr>
            <a:xfrm>
              <a:off x="3637080" y="5516640"/>
              <a:ext cx="12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回顾反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7"/>
          <p:cNvGrpSpPr/>
          <p:nvPr/>
        </p:nvGrpSpPr>
        <p:grpSpPr>
          <a:xfrm>
            <a:off x="2050920" y="4983120"/>
            <a:ext cx="2060640" cy="387360"/>
            <a:chOff x="2050920" y="4983120"/>
            <a:chExt cx="2060640" cy="387360"/>
          </a:xfrm>
        </p:grpSpPr>
        <p:sp>
          <p:nvSpPr>
            <p:cNvPr id="48" name="Text Box 11"/>
            <p:cNvSpPr/>
            <p:nvPr/>
          </p:nvSpPr>
          <p:spPr>
            <a:xfrm>
              <a:off x="2455560" y="498312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自主练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5" descr="C:\Documents and Settings\pub\Desktop\未命名文件夹 4\按钮\按钮3.jpg"/>
            <p:cNvPicPr/>
            <p:nvPr/>
          </p:nvPicPr>
          <p:blipFill>
            <a:blip r:embed="rId3"/>
            <a:stretch/>
          </p:blipFill>
          <p:spPr>
            <a:xfrm>
              <a:off x="2050920" y="5013360"/>
              <a:ext cx="3571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Group 10"/>
          <p:cNvGrpSpPr/>
          <p:nvPr/>
        </p:nvGrpSpPr>
        <p:grpSpPr>
          <a:xfrm>
            <a:off x="1187280" y="4249800"/>
            <a:ext cx="2016000" cy="399960"/>
            <a:chOff x="1187280" y="4249800"/>
            <a:chExt cx="2016000" cy="399960"/>
          </a:xfrm>
        </p:grpSpPr>
        <p:sp>
          <p:nvSpPr>
            <p:cNvPr id="51" name="Text Box 10"/>
            <p:cNvSpPr/>
            <p:nvPr/>
          </p:nvSpPr>
          <p:spPr>
            <a:xfrm>
              <a:off x="1547640" y="424980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合作探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5" descr="C:\Documents and Settings\pub\Desktop\未命名文件夹 4\按钮\按钮3.jpg"/>
            <p:cNvPicPr/>
            <p:nvPr/>
          </p:nvPicPr>
          <p:blipFill>
            <a:blip r:embed="rId4"/>
            <a:stretch/>
          </p:blipFill>
          <p:spPr>
            <a:xfrm>
              <a:off x="1187280" y="4292640"/>
              <a:ext cx="3571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Group 13"/>
          <p:cNvGrpSpPr/>
          <p:nvPr/>
        </p:nvGrpSpPr>
        <p:grpSpPr>
          <a:xfrm>
            <a:off x="482760" y="3529080"/>
            <a:ext cx="2044080" cy="401040"/>
            <a:chOff x="482760" y="3529080"/>
            <a:chExt cx="2044080" cy="401040"/>
          </a:xfrm>
        </p:grpSpPr>
        <p:sp>
          <p:nvSpPr>
            <p:cNvPr id="54" name="Text Box 9"/>
            <p:cNvSpPr/>
            <p:nvPr/>
          </p:nvSpPr>
          <p:spPr>
            <a:xfrm>
              <a:off x="871200" y="352908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情境导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5" descr="C:\Documents and Settings\pub\Desktop\未命名文件夹 4\按钮\按钮3.jpg"/>
            <p:cNvPicPr/>
            <p:nvPr/>
          </p:nvPicPr>
          <p:blipFill>
            <a:blip r:embed="rId5"/>
            <a:stretch/>
          </p:blipFill>
          <p:spPr>
            <a:xfrm>
              <a:off x="482760" y="3573000"/>
              <a:ext cx="356760" cy="357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574560" y="431640"/>
            <a:ext cx="27766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6084720" y="1844640"/>
            <a:ext cx="27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3132000" y="1989000"/>
            <a:ext cx="4969080" cy="1574640"/>
          </a:xfrm>
          <a:prstGeom prst="rect">
            <a:avLst/>
          </a:prstGeom>
          <a:solidFill>
            <a:srgbClr val="339966">
              <a:alpha val="10000"/>
            </a:srgbClr>
          </a:solidFill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帕斯卡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23-166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法国数学家、物理学家，近代概率论的奠基者。早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年前这位法国著名的科学家就已经发现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何三角形的内角和都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而他当时只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11"/>
          <p:cNvSpPr txBox="1"/>
          <p:nvPr/>
        </p:nvSpPr>
        <p:spPr>
          <a:xfrm>
            <a:off x="611280" y="1341360"/>
            <a:ext cx="1657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993300"/>
                  </a:solidFill>
                  <a:miter/>
                </a:ln>
                <a:noFill/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小资料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noFill/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9" name="Picture 12" descr="91ef76c6a7efce1b89f08960af51f3deb58f8c5495ee457c"/>
          <p:cNvPicPr/>
          <p:nvPr/>
        </p:nvPicPr>
        <p:blipFill>
          <a:blip r:embed="rId1"/>
          <a:stretch/>
        </p:blipFill>
        <p:spPr>
          <a:xfrm>
            <a:off x="684360" y="2565360"/>
            <a:ext cx="1879560" cy="1968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574560" y="431640"/>
            <a:ext cx="2819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4" descr="四下_页面_043"/>
          <p:cNvPicPr/>
          <p:nvPr/>
        </p:nvPicPr>
        <p:blipFill>
          <a:blip r:embed="rId2"/>
          <a:srcRect l="19648" t="35051" r="15031" b="49457"/>
          <a:stretch/>
        </p:blipFill>
        <p:spPr>
          <a:xfrm>
            <a:off x="684360" y="1989000"/>
            <a:ext cx="7956360" cy="26272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70"/>
          <p:cNvSpPr/>
          <p:nvPr/>
        </p:nvSpPr>
        <p:spPr>
          <a:xfrm>
            <a:off x="1979640" y="3860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3"/>
          <p:cNvSpPr/>
          <p:nvPr/>
        </p:nvSpPr>
        <p:spPr>
          <a:xfrm>
            <a:off x="4646520" y="3860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5</a:t>
            </a:r>
            <a:r>
              <a:rPr b="1" lang="en-US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8"/>
          <p:cNvSpPr/>
          <p:nvPr/>
        </p:nvSpPr>
        <p:spPr>
          <a:xfrm>
            <a:off x="7524720" y="386064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7"/>
          <p:cNvSpPr/>
          <p:nvPr/>
        </p:nvSpPr>
        <p:spPr>
          <a:xfrm>
            <a:off x="539640" y="1413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，算一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0"/>
          <p:cNvSpPr/>
          <p:nvPr/>
        </p:nvSpPr>
        <p:spPr>
          <a:xfrm>
            <a:off x="900000" y="5229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如何计算三角形中未知角的度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574560" y="431640"/>
            <a:ext cx="2819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21"/>
          <p:cNvSpPr/>
          <p:nvPr/>
        </p:nvSpPr>
        <p:spPr>
          <a:xfrm>
            <a:off x="2086200" y="1484280"/>
            <a:ext cx="7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下面说法是否正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900000" y="2781360"/>
            <a:ext cx="1656000" cy="611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828720" y="364500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我的两个锐角之和大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9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419640" y="357336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我的两个锐角之和等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9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5938920" y="3500280"/>
            <a:ext cx="223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把我分成两个三角形，每个三角形的内角和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9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6103800" y="2708280"/>
            <a:ext cx="1584360" cy="647640"/>
          </a:xfrm>
          <a:prstGeom prst="triangle">
            <a:avLst>
              <a:gd name="adj" fmla="val 7081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"/>
          <p:cNvSpPr/>
          <p:nvPr/>
        </p:nvSpPr>
        <p:spPr>
          <a:xfrm flipH="1">
            <a:off x="6970680" y="2744640"/>
            <a:ext cx="239760" cy="638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1547640" y="4581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3960720" y="4581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29"/>
          <p:cNvGrpSpPr/>
          <p:nvPr/>
        </p:nvGrpSpPr>
        <p:grpSpPr>
          <a:xfrm>
            <a:off x="3850920" y="2349360"/>
            <a:ext cx="730440" cy="1008000"/>
            <a:chOff x="3850920" y="2349360"/>
            <a:chExt cx="730440" cy="1008000"/>
          </a:xfrm>
        </p:grpSpPr>
        <p:sp>
          <p:nvSpPr>
            <p:cNvPr id="201" name="AutoShape 8"/>
            <p:cNvSpPr/>
            <p:nvPr/>
          </p:nvSpPr>
          <p:spPr>
            <a:xfrm>
              <a:off x="3860640" y="2349360"/>
              <a:ext cx="720720" cy="100800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15"/>
            <p:cNvGrpSpPr/>
            <p:nvPr/>
          </p:nvGrpSpPr>
          <p:grpSpPr>
            <a:xfrm>
              <a:off x="3850920" y="3203280"/>
              <a:ext cx="144360" cy="144720"/>
              <a:chOff x="3850920" y="3203280"/>
              <a:chExt cx="144360" cy="144720"/>
            </a:xfrm>
          </p:grpSpPr>
          <p:sp>
            <p:nvSpPr>
              <p:cNvPr id="203" name="Line 16"/>
              <p:cNvSpPr/>
              <p:nvPr/>
            </p:nvSpPr>
            <p:spPr>
              <a:xfrm flipH="1">
                <a:off x="3850920" y="320328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7"/>
              <p:cNvSpPr/>
              <p:nvPr/>
            </p:nvSpPr>
            <p:spPr>
              <a:xfrm>
                <a:off x="3995280" y="3203280"/>
                <a:ext cx="0" cy="14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Text Box 23"/>
          <p:cNvSpPr/>
          <p:nvPr/>
        </p:nvSpPr>
        <p:spPr>
          <a:xfrm>
            <a:off x="656280" y="227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3085920" y="2286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5935680" y="228600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9"/>
          <p:cNvSpPr/>
          <p:nvPr/>
        </p:nvSpPr>
        <p:spPr>
          <a:xfrm>
            <a:off x="1198440" y="45957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0"/>
          <p:cNvSpPr/>
          <p:nvPr/>
        </p:nvSpPr>
        <p:spPr>
          <a:xfrm>
            <a:off x="3419640" y="465300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1"/>
          <p:cNvSpPr/>
          <p:nvPr/>
        </p:nvSpPr>
        <p:spPr>
          <a:xfrm>
            <a:off x="6084720" y="46497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684360" y="55897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个三角形最多有几个钝角？最多有几个直角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6659640" y="4581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574560" y="431640"/>
            <a:ext cx="2819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15" name="Freeform 18"/>
          <p:cNvSpPr/>
          <p:nvPr/>
        </p:nvSpPr>
        <p:spPr>
          <a:xfrm flipH="1">
            <a:off x="5723640" y="3200400"/>
            <a:ext cx="2016360" cy="3657600"/>
          </a:xfrm>
          <a:custGeom>
            <a:avLst/>
            <a:gdLst>
              <a:gd name="textAreaLeft" fmla="*/ -360 w 2016360"/>
              <a:gd name="textAreaRight" fmla="*/ 2016360 w 2016360"/>
              <a:gd name="textAreaTop" fmla="*/ 0 h 3657600"/>
              <a:gd name="textAreaBottom" fmla="*/ 3657960 h 3657600"/>
            </a:gdLst>
            <a:ahLst/>
            <a:rect l="textAreaLeft" t="textAreaTop" r="textAreaRight" b="textAreaBottom"/>
            <a:pathLst>
              <a:path w="996" h="2032">
                <a:moveTo>
                  <a:pt x="0" y="0"/>
                </a:moveTo>
                <a:cubicBezTo>
                  <a:pt x="18" y="53"/>
                  <a:pt x="36" y="73"/>
                  <a:pt x="48" y="132"/>
                </a:cubicBezTo>
                <a:cubicBezTo>
                  <a:pt x="52" y="204"/>
                  <a:pt x="50" y="277"/>
                  <a:pt x="60" y="348"/>
                </a:cubicBezTo>
                <a:cubicBezTo>
                  <a:pt x="62" y="362"/>
                  <a:pt x="80" y="370"/>
                  <a:pt x="84" y="384"/>
                </a:cubicBezTo>
                <a:cubicBezTo>
                  <a:pt x="120" y="504"/>
                  <a:pt x="90" y="522"/>
                  <a:pt x="180" y="612"/>
                </a:cubicBezTo>
                <a:cubicBezTo>
                  <a:pt x="191" y="736"/>
                  <a:pt x="195" y="772"/>
                  <a:pt x="264" y="864"/>
                </a:cubicBezTo>
                <a:cubicBezTo>
                  <a:pt x="268" y="912"/>
                  <a:pt x="270" y="960"/>
                  <a:pt x="276" y="1008"/>
                </a:cubicBezTo>
                <a:cubicBezTo>
                  <a:pt x="278" y="1024"/>
                  <a:pt x="277" y="1044"/>
                  <a:pt x="288" y="1056"/>
                </a:cubicBezTo>
                <a:cubicBezTo>
                  <a:pt x="307" y="1078"/>
                  <a:pt x="360" y="1104"/>
                  <a:pt x="360" y="1104"/>
                </a:cubicBezTo>
                <a:cubicBezTo>
                  <a:pt x="389" y="1190"/>
                  <a:pt x="370" y="1155"/>
                  <a:pt x="408" y="1212"/>
                </a:cubicBezTo>
                <a:cubicBezTo>
                  <a:pt x="423" y="1272"/>
                  <a:pt x="449" y="1325"/>
                  <a:pt x="492" y="1368"/>
                </a:cubicBezTo>
                <a:cubicBezTo>
                  <a:pt x="516" y="1440"/>
                  <a:pt x="556" y="1445"/>
                  <a:pt x="600" y="1512"/>
                </a:cubicBezTo>
                <a:cubicBezTo>
                  <a:pt x="627" y="1553"/>
                  <a:pt x="668" y="1591"/>
                  <a:pt x="708" y="1620"/>
                </a:cubicBezTo>
                <a:cubicBezTo>
                  <a:pt x="734" y="1639"/>
                  <a:pt x="765" y="1650"/>
                  <a:pt x="792" y="1668"/>
                </a:cubicBezTo>
                <a:cubicBezTo>
                  <a:pt x="820" y="1709"/>
                  <a:pt x="847" y="1736"/>
                  <a:pt x="888" y="1764"/>
                </a:cubicBezTo>
                <a:cubicBezTo>
                  <a:pt x="909" y="1828"/>
                  <a:pt x="934" y="1888"/>
                  <a:pt x="972" y="1944"/>
                </a:cubicBezTo>
                <a:cubicBezTo>
                  <a:pt x="985" y="2032"/>
                  <a:pt x="956" y="2028"/>
                  <a:pt x="996" y="2028"/>
                </a:cubicBezTo>
              </a:path>
            </a:pathLst>
          </a:custGeom>
          <a:noFill/>
          <a:ln w="63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9"/>
          <p:cNvGrpSpPr/>
          <p:nvPr/>
        </p:nvGrpSpPr>
        <p:grpSpPr>
          <a:xfrm>
            <a:off x="5488920" y="1787760"/>
            <a:ext cx="3126960" cy="3439800"/>
            <a:chOff x="5488920" y="1787760"/>
            <a:chExt cx="3126960" cy="3439800"/>
          </a:xfrm>
        </p:grpSpPr>
        <p:sp>
          <p:nvSpPr>
            <p:cNvPr id="217" name="Freeform 20"/>
            <p:cNvSpPr/>
            <p:nvPr/>
          </p:nvSpPr>
          <p:spPr>
            <a:xfrm flipH="1" rot="4699800">
              <a:off x="5783040" y="3452760"/>
              <a:ext cx="1006920" cy="1421280"/>
            </a:xfrm>
            <a:custGeom>
              <a:avLst/>
              <a:gdLst>
                <a:gd name="textAreaLeft" fmla="*/ -360 w 1006920"/>
                <a:gd name="textAreaRight" fmla="*/ 1006920 w 1006920"/>
                <a:gd name="textAreaTop" fmla="*/ 0 h 1421280"/>
                <a:gd name="textAreaBottom" fmla="*/ 1421640 h 1421280"/>
              </a:gdLst>
              <a:ahLst/>
              <a:rect l="textAreaLeft" t="textAreaTop" r="textAreaRight" b="textAreaBottom"/>
              <a:pathLst>
                <a:path w="952" h="1089">
                  <a:moveTo>
                    <a:pt x="771" y="0"/>
                  </a:moveTo>
                  <a:lnTo>
                    <a:pt x="227" y="952"/>
                  </a:lnTo>
                  <a:lnTo>
                    <a:pt x="0" y="1089"/>
                  </a:lnTo>
                  <a:lnTo>
                    <a:pt x="0" y="952"/>
                  </a:lnTo>
                  <a:lnTo>
                    <a:pt x="453" y="726"/>
                  </a:lnTo>
                  <a:lnTo>
                    <a:pt x="862" y="91"/>
                  </a:lnTo>
                  <a:lnTo>
                    <a:pt x="952" y="0"/>
                  </a:lnTo>
                  <a:lnTo>
                    <a:pt x="771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 rot="21548400">
              <a:off x="7126560" y="3877920"/>
              <a:ext cx="1066320" cy="1341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1341360"/>
                <a:gd name="textAreaBottom" fmla="*/ 1341720 h 1341360"/>
              </a:gdLst>
              <a:ahLst/>
              <a:rect l="textAreaLeft" t="textAreaTop" r="textAreaRight" b="textAreaBottom"/>
              <a:pathLst>
                <a:path w="952" h="1089">
                  <a:moveTo>
                    <a:pt x="771" y="0"/>
                  </a:moveTo>
                  <a:lnTo>
                    <a:pt x="227" y="952"/>
                  </a:lnTo>
                  <a:lnTo>
                    <a:pt x="0" y="1089"/>
                  </a:lnTo>
                  <a:lnTo>
                    <a:pt x="0" y="952"/>
                  </a:lnTo>
                  <a:lnTo>
                    <a:pt x="453" y="726"/>
                  </a:lnTo>
                  <a:lnTo>
                    <a:pt x="862" y="91"/>
                  </a:lnTo>
                  <a:lnTo>
                    <a:pt x="952" y="0"/>
                  </a:lnTo>
                  <a:lnTo>
                    <a:pt x="771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22"/>
            <p:cNvGrpSpPr/>
            <p:nvPr/>
          </p:nvGrpSpPr>
          <p:grpSpPr>
            <a:xfrm>
              <a:off x="6555600" y="1787760"/>
              <a:ext cx="2060280" cy="2248560"/>
              <a:chOff x="6555600" y="1787760"/>
              <a:chExt cx="2060280" cy="2248560"/>
            </a:xfrm>
          </p:grpSpPr>
          <p:sp>
            <p:nvSpPr>
              <p:cNvPr id="220" name="AutoShape 23"/>
              <p:cNvSpPr/>
              <p:nvPr/>
            </p:nvSpPr>
            <p:spPr>
              <a:xfrm rot="661800">
                <a:off x="6726960" y="1933920"/>
                <a:ext cx="1717560" cy="195624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24"/>
              <p:cNvSpPr/>
              <p:nvPr/>
            </p:nvSpPr>
            <p:spPr>
              <a:xfrm rot="661800">
                <a:off x="7400160" y="2382840"/>
                <a:ext cx="472320" cy="223920"/>
              </a:xfrm>
              <a:custGeom>
                <a:avLst/>
                <a:gdLst>
                  <a:gd name="textAreaLeft" fmla="*/ 0 w 472320"/>
                  <a:gd name="textAreaRight" fmla="*/ 472680 w 4723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408" h="182">
                    <a:moveTo>
                      <a:pt x="45" y="91"/>
                    </a:moveTo>
                    <a:lnTo>
                      <a:pt x="226" y="0"/>
                    </a:lnTo>
                    <a:lnTo>
                      <a:pt x="408" y="46"/>
                    </a:lnTo>
                    <a:lnTo>
                      <a:pt x="408" y="136"/>
                    </a:lnTo>
                    <a:lnTo>
                      <a:pt x="226" y="91"/>
                    </a:lnTo>
                    <a:lnTo>
                      <a:pt x="0" y="182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25"/>
              <p:cNvSpPr/>
              <p:nvPr/>
            </p:nvSpPr>
            <p:spPr>
              <a:xfrm rot="661800">
                <a:off x="7077240" y="2760840"/>
                <a:ext cx="887400" cy="334800"/>
              </a:xfrm>
              <a:custGeom>
                <a:avLst/>
                <a:gdLst>
                  <a:gd name="textAreaLeft" fmla="*/ 0 w 887400"/>
                  <a:gd name="textAreaRight" fmla="*/ 887760 w 887400"/>
                  <a:gd name="textAreaTop" fmla="*/ 0 h 334800"/>
                  <a:gd name="textAreaBottom" fmla="*/ 334800 h 334800"/>
                </a:gdLst>
                <a:ahLst/>
                <a:rect l="textAreaLeft" t="textAreaTop" r="textAreaRight" b="textAreaBottom"/>
                <a:pathLst>
                  <a:path w="408" h="182">
                    <a:moveTo>
                      <a:pt x="45" y="91"/>
                    </a:moveTo>
                    <a:lnTo>
                      <a:pt x="226" y="0"/>
                    </a:lnTo>
                    <a:lnTo>
                      <a:pt x="408" y="46"/>
                    </a:lnTo>
                    <a:lnTo>
                      <a:pt x="408" y="136"/>
                    </a:lnTo>
                    <a:lnTo>
                      <a:pt x="226" y="91"/>
                    </a:lnTo>
                    <a:lnTo>
                      <a:pt x="0" y="182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26"/>
              <p:cNvSpPr/>
              <p:nvPr/>
            </p:nvSpPr>
            <p:spPr>
              <a:xfrm rot="661800">
                <a:off x="6734520" y="3308760"/>
                <a:ext cx="1361520" cy="334800"/>
              </a:xfrm>
              <a:custGeom>
                <a:avLst/>
                <a:gdLst>
                  <a:gd name="textAreaLeft" fmla="*/ 0 w 1361520"/>
                  <a:gd name="textAreaRight" fmla="*/ 1361880 w 1361520"/>
                  <a:gd name="textAreaTop" fmla="*/ 0 h 334800"/>
                  <a:gd name="textAreaBottom" fmla="*/ 334800 h 334800"/>
                </a:gdLst>
                <a:ahLst/>
                <a:rect l="textAreaLeft" t="textAreaTop" r="textAreaRight" b="textAreaBottom"/>
                <a:pathLst>
                  <a:path w="408" h="182">
                    <a:moveTo>
                      <a:pt x="45" y="91"/>
                    </a:moveTo>
                    <a:lnTo>
                      <a:pt x="226" y="0"/>
                    </a:lnTo>
                    <a:lnTo>
                      <a:pt x="408" y="46"/>
                    </a:lnTo>
                    <a:lnTo>
                      <a:pt x="408" y="136"/>
                    </a:lnTo>
                    <a:lnTo>
                      <a:pt x="226" y="91"/>
                    </a:lnTo>
                    <a:lnTo>
                      <a:pt x="0" y="182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Rectangle 29"/>
          <p:cNvSpPr/>
          <p:nvPr/>
        </p:nvSpPr>
        <p:spPr>
          <a:xfrm>
            <a:off x="971640" y="1341360"/>
            <a:ext cx="5113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等腰三角形的风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的一个底角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它的顶角是多少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0"/>
          <p:cNvSpPr/>
          <p:nvPr/>
        </p:nvSpPr>
        <p:spPr>
          <a:xfrm>
            <a:off x="971640" y="278136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0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°=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6"/>
          <p:cNvSpPr/>
          <p:nvPr/>
        </p:nvSpPr>
        <p:spPr>
          <a:xfrm>
            <a:off x="900000" y="364500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0°-(70°+70°)=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45"/>
          <p:cNvGrpSpPr/>
          <p:nvPr/>
        </p:nvGrpSpPr>
        <p:grpSpPr>
          <a:xfrm>
            <a:off x="6588000" y="2421000"/>
            <a:ext cx="1717920" cy="1955880"/>
            <a:chOff x="6588000" y="2421000"/>
            <a:chExt cx="1717920" cy="1955880"/>
          </a:xfrm>
        </p:grpSpPr>
        <p:sp>
          <p:nvSpPr>
            <p:cNvPr id="228" name="AutoShape 46"/>
            <p:cNvSpPr/>
            <p:nvPr/>
          </p:nvSpPr>
          <p:spPr>
            <a:xfrm>
              <a:off x="6588000" y="2421000"/>
              <a:ext cx="1717920" cy="19558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47"/>
            <p:cNvSpPr/>
            <p:nvPr/>
          </p:nvSpPr>
          <p:spPr>
            <a:xfrm>
              <a:off x="7180560" y="2868120"/>
              <a:ext cx="472320" cy="223920"/>
            </a:xfrm>
            <a:custGeom>
              <a:avLst/>
              <a:gdLst>
                <a:gd name="textAreaLeft" fmla="*/ 0 w 472320"/>
                <a:gd name="textAreaRight" fmla="*/ 472680 w 472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408" h="182">
                  <a:moveTo>
                    <a:pt x="45" y="91"/>
                  </a:moveTo>
                  <a:lnTo>
                    <a:pt x="226" y="0"/>
                  </a:lnTo>
                  <a:lnTo>
                    <a:pt x="408" y="46"/>
                  </a:lnTo>
                  <a:lnTo>
                    <a:pt x="408" y="136"/>
                  </a:lnTo>
                  <a:lnTo>
                    <a:pt x="226" y="91"/>
                  </a:lnTo>
                  <a:lnTo>
                    <a:pt x="0" y="182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eeec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8"/>
            <p:cNvSpPr/>
            <p:nvPr/>
          </p:nvSpPr>
          <p:spPr>
            <a:xfrm>
              <a:off x="6942960" y="3259440"/>
              <a:ext cx="887760" cy="334800"/>
            </a:xfrm>
            <a:custGeom>
              <a:avLst/>
              <a:gdLst>
                <a:gd name="textAreaLeft" fmla="*/ 0 w 887760"/>
                <a:gd name="textAreaRight" fmla="*/ 888120 w 88776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408" h="182">
                  <a:moveTo>
                    <a:pt x="45" y="91"/>
                  </a:moveTo>
                  <a:lnTo>
                    <a:pt x="226" y="0"/>
                  </a:lnTo>
                  <a:lnTo>
                    <a:pt x="408" y="46"/>
                  </a:lnTo>
                  <a:lnTo>
                    <a:pt x="408" y="136"/>
                  </a:lnTo>
                  <a:lnTo>
                    <a:pt x="226" y="91"/>
                  </a:lnTo>
                  <a:lnTo>
                    <a:pt x="0" y="182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eeec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9"/>
            <p:cNvSpPr/>
            <p:nvPr/>
          </p:nvSpPr>
          <p:spPr>
            <a:xfrm>
              <a:off x="6706440" y="3817440"/>
              <a:ext cx="1361520" cy="334800"/>
            </a:xfrm>
            <a:custGeom>
              <a:avLst/>
              <a:gdLst>
                <a:gd name="textAreaLeft" fmla="*/ 0 w 1361520"/>
                <a:gd name="textAreaRight" fmla="*/ 1361880 w 136152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408" h="182">
                  <a:moveTo>
                    <a:pt x="45" y="91"/>
                  </a:moveTo>
                  <a:lnTo>
                    <a:pt x="226" y="0"/>
                  </a:lnTo>
                  <a:lnTo>
                    <a:pt x="408" y="46"/>
                  </a:lnTo>
                  <a:lnTo>
                    <a:pt x="408" y="136"/>
                  </a:lnTo>
                  <a:lnTo>
                    <a:pt x="226" y="91"/>
                  </a:lnTo>
                  <a:lnTo>
                    <a:pt x="0" y="182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55"/>
          <p:cNvGrpSpPr/>
          <p:nvPr/>
        </p:nvGrpSpPr>
        <p:grpSpPr>
          <a:xfrm>
            <a:off x="6642720" y="4075200"/>
            <a:ext cx="882000" cy="368280"/>
            <a:chOff x="6642720" y="4075200"/>
            <a:chExt cx="882000" cy="368280"/>
          </a:xfrm>
        </p:grpSpPr>
        <p:sp>
          <p:nvSpPr>
            <p:cNvPr id="233" name="Arc 50"/>
            <p:cNvSpPr/>
            <p:nvPr/>
          </p:nvSpPr>
          <p:spPr>
            <a:xfrm rot="1449000">
              <a:off x="6662520" y="4191840"/>
              <a:ext cx="209520" cy="1425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53"/>
            <p:cNvSpPr/>
            <p:nvPr/>
          </p:nvSpPr>
          <p:spPr>
            <a:xfrm>
              <a:off x="6805800" y="407520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7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56"/>
          <p:cNvGrpSpPr/>
          <p:nvPr/>
        </p:nvGrpSpPr>
        <p:grpSpPr>
          <a:xfrm>
            <a:off x="7597800" y="4075200"/>
            <a:ext cx="720720" cy="368280"/>
            <a:chOff x="7597800" y="4075200"/>
            <a:chExt cx="720720" cy="368280"/>
          </a:xfrm>
        </p:grpSpPr>
        <p:sp>
          <p:nvSpPr>
            <p:cNvPr id="236" name="Arc 51"/>
            <p:cNvSpPr/>
            <p:nvPr/>
          </p:nvSpPr>
          <p:spPr>
            <a:xfrm flipH="1" rot="20151000">
              <a:off x="8030160" y="4186080"/>
              <a:ext cx="215640" cy="14292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54"/>
            <p:cNvSpPr/>
            <p:nvPr/>
          </p:nvSpPr>
          <p:spPr>
            <a:xfrm>
              <a:off x="7597800" y="40752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7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58"/>
          <p:cNvGrpSpPr/>
          <p:nvPr/>
        </p:nvGrpSpPr>
        <p:grpSpPr>
          <a:xfrm>
            <a:off x="7306560" y="2610720"/>
            <a:ext cx="506880" cy="465840"/>
            <a:chOff x="7306560" y="2610720"/>
            <a:chExt cx="506880" cy="465840"/>
          </a:xfrm>
        </p:grpSpPr>
        <p:sp>
          <p:nvSpPr>
            <p:cNvPr id="239" name="Arc 52"/>
            <p:cNvSpPr/>
            <p:nvPr/>
          </p:nvSpPr>
          <p:spPr>
            <a:xfrm flipH="1" rot="11644800">
              <a:off x="7320240" y="2634480"/>
              <a:ext cx="216000" cy="142920"/>
            </a:xfrm>
            <a:custGeom>
              <a:avLst/>
              <a:gdLst>
                <a:gd name="textAreaLeft" fmla="*/ 360 w 216000"/>
                <a:gd name="textAreaRight" fmla="*/ 216720 w 21600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7"/>
            <p:cNvSpPr/>
            <p:nvPr/>
          </p:nvSpPr>
          <p:spPr>
            <a:xfrm>
              <a:off x="7308720" y="2708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21"/>
          <p:cNvSpPr/>
          <p:nvPr/>
        </p:nvSpPr>
        <p:spPr>
          <a:xfrm>
            <a:off x="577800" y="1362240"/>
            <a:ext cx="49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0"/>
          <p:cNvSpPr/>
          <p:nvPr/>
        </p:nvSpPr>
        <p:spPr>
          <a:xfrm>
            <a:off x="1547640" y="4724280"/>
            <a:ext cx="3600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它的顶角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"/>
          <p:cNvSpPr/>
          <p:nvPr/>
        </p:nvSpPr>
        <p:spPr>
          <a:xfrm>
            <a:off x="574560" y="431640"/>
            <a:ext cx="2819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3"/>
          <p:cNvSpPr/>
          <p:nvPr/>
        </p:nvSpPr>
        <p:spPr>
          <a:xfrm>
            <a:off x="395280" y="1471680"/>
            <a:ext cx="8353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埃及金字塔的四个侧面的形状都是等腰三角形，每个等腰三角形的顶角约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2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金字塔每个侧面的底角大约是多少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468360" y="3500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0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2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2 =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4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7" descr=""/>
          <p:cNvPicPr/>
          <p:nvPr/>
        </p:nvPicPr>
        <p:blipFill>
          <a:blip r:embed="rId2"/>
          <a:stretch/>
        </p:blipFill>
        <p:spPr>
          <a:xfrm>
            <a:off x="4788000" y="2708280"/>
            <a:ext cx="4066920" cy="225108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26"/>
          <p:cNvSpPr/>
          <p:nvPr/>
        </p:nvSpPr>
        <p:spPr>
          <a:xfrm>
            <a:off x="5003640" y="2708280"/>
            <a:ext cx="3311640" cy="2735280"/>
          </a:xfrm>
          <a:prstGeom prst="triangle">
            <a:avLst>
              <a:gd name="adj" fmla="val 50000"/>
            </a:avLst>
          </a:prstGeom>
          <a:solidFill>
            <a:srgbClr val="d06800"/>
          </a:solidFill>
          <a:ln w="9360">
            <a:solidFill>
              <a:srgbClr val="ffb2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29"/>
          <p:cNvGrpSpPr/>
          <p:nvPr/>
        </p:nvGrpSpPr>
        <p:grpSpPr>
          <a:xfrm>
            <a:off x="5219640" y="4871880"/>
            <a:ext cx="1008000" cy="581400"/>
            <a:chOff x="5219640" y="4871880"/>
            <a:chExt cx="1008000" cy="581400"/>
          </a:xfrm>
        </p:grpSpPr>
        <p:sp>
          <p:nvSpPr>
            <p:cNvPr id="250" name="Arc 27"/>
            <p:cNvSpPr/>
            <p:nvPr/>
          </p:nvSpPr>
          <p:spPr>
            <a:xfrm>
              <a:off x="5219640" y="5087880"/>
              <a:ext cx="360360" cy="3585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8"/>
            <p:cNvSpPr/>
            <p:nvPr/>
          </p:nvSpPr>
          <p:spPr>
            <a:xfrm>
              <a:off x="5506920" y="487188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8"/>
          <p:cNvGrpSpPr/>
          <p:nvPr/>
        </p:nvGrpSpPr>
        <p:grpSpPr>
          <a:xfrm>
            <a:off x="7307280" y="4869000"/>
            <a:ext cx="793440" cy="581400"/>
            <a:chOff x="7307280" y="4869000"/>
            <a:chExt cx="793440" cy="581400"/>
          </a:xfrm>
        </p:grpSpPr>
        <p:sp>
          <p:nvSpPr>
            <p:cNvPr id="253" name="Arc 31"/>
            <p:cNvSpPr/>
            <p:nvPr/>
          </p:nvSpPr>
          <p:spPr>
            <a:xfrm flipH="1">
              <a:off x="7740000" y="5084640"/>
              <a:ext cx="360360" cy="35820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32"/>
            <p:cNvSpPr/>
            <p:nvPr/>
          </p:nvSpPr>
          <p:spPr>
            <a:xfrm flipH="1">
              <a:off x="7307280" y="486900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7"/>
          <p:cNvGrpSpPr/>
          <p:nvPr/>
        </p:nvGrpSpPr>
        <p:grpSpPr>
          <a:xfrm>
            <a:off x="6372360" y="2849760"/>
            <a:ext cx="936360" cy="883800"/>
            <a:chOff x="6372360" y="2849760"/>
            <a:chExt cx="936360" cy="883800"/>
          </a:xfrm>
        </p:grpSpPr>
        <p:sp>
          <p:nvSpPr>
            <p:cNvPr id="256" name="Arc 34"/>
            <p:cNvSpPr/>
            <p:nvPr/>
          </p:nvSpPr>
          <p:spPr>
            <a:xfrm rot="8164800">
              <a:off x="6468840" y="2924280"/>
              <a:ext cx="360000" cy="35856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36"/>
            <p:cNvSpPr/>
            <p:nvPr/>
          </p:nvSpPr>
          <p:spPr>
            <a:xfrm>
              <a:off x="6372360" y="3213000"/>
              <a:ext cx="93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52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Rectangle 40"/>
          <p:cNvSpPr/>
          <p:nvPr/>
        </p:nvSpPr>
        <p:spPr>
          <a:xfrm>
            <a:off x="684360" y="4437000"/>
            <a:ext cx="3744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金字塔每个侧面的底角大约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4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574560" y="431640"/>
            <a:ext cx="289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6084720" y="1844640"/>
            <a:ext cx="27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684360" y="2637000"/>
            <a:ext cx="3457440" cy="2232000"/>
          </a:xfrm>
          <a:prstGeom prst="rect">
            <a:avLst/>
          </a:prstGeom>
          <a:noFill/>
          <a:ln w="25560">
            <a:solidFill>
              <a:srgbClr val="88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5796000" y="2637000"/>
            <a:ext cx="2305080" cy="2304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684360" y="2637000"/>
            <a:ext cx="3456000" cy="2232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5796000" y="2637000"/>
            <a:ext cx="2305080" cy="2304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468360" y="1268280"/>
            <a:ext cx="80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三角形内角和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0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你能推算出长方形和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内角和分别是多少度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0"/>
          <p:cNvGrpSpPr/>
          <p:nvPr/>
        </p:nvGrpSpPr>
        <p:grpSpPr>
          <a:xfrm>
            <a:off x="1116000" y="5516640"/>
            <a:ext cx="2770200" cy="525240"/>
            <a:chOff x="1116000" y="5516640"/>
            <a:chExt cx="2770200" cy="525240"/>
          </a:xfrm>
        </p:grpSpPr>
        <p:sp>
          <p:nvSpPr>
            <p:cNvPr id="268" name="Text Box 11"/>
            <p:cNvSpPr/>
            <p:nvPr/>
          </p:nvSpPr>
          <p:spPr>
            <a:xfrm>
              <a:off x="1942920" y="5521320"/>
              <a:ext cx="19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2=360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2"/>
            <p:cNvSpPr/>
            <p:nvPr/>
          </p:nvSpPr>
          <p:spPr>
            <a:xfrm>
              <a:off x="1116000" y="5516640"/>
              <a:ext cx="12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80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3"/>
          <p:cNvGrpSpPr/>
          <p:nvPr/>
        </p:nvGrpSpPr>
        <p:grpSpPr>
          <a:xfrm>
            <a:off x="5940360" y="5516640"/>
            <a:ext cx="2664000" cy="520560"/>
            <a:chOff x="5940360" y="5516640"/>
            <a:chExt cx="2664000" cy="520560"/>
          </a:xfrm>
        </p:grpSpPr>
        <p:sp>
          <p:nvSpPr>
            <p:cNvPr id="271" name="Text Box 14"/>
            <p:cNvSpPr/>
            <p:nvPr/>
          </p:nvSpPr>
          <p:spPr>
            <a:xfrm>
              <a:off x="6661080" y="5516640"/>
              <a:ext cx="19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2=360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5"/>
            <p:cNvSpPr/>
            <p:nvPr/>
          </p:nvSpPr>
          <p:spPr>
            <a:xfrm>
              <a:off x="5940360" y="5516640"/>
              <a:ext cx="12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80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9"/>
          <p:cNvSpPr/>
          <p:nvPr/>
        </p:nvSpPr>
        <p:spPr>
          <a:xfrm>
            <a:off x="468360" y="1484280"/>
            <a:ext cx="5759280" cy="302436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9" descr="C:\Documents and Settings\pub\Desktop\新ppt\返回首页.jpg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rcRect l="-0" t="-0" r="-0" b="9328"/>
          <a:stretch/>
        </p:blipFill>
        <p:spPr>
          <a:xfrm>
            <a:off x="684360" y="3500280"/>
            <a:ext cx="874440" cy="863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0"/>
          <p:cNvSpPr/>
          <p:nvPr/>
        </p:nvSpPr>
        <p:spPr>
          <a:xfrm>
            <a:off x="6346800" y="19512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内角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6372360" y="426240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角形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内角的和是多少度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8"/>
          <p:cNvGrpSpPr/>
          <p:nvPr/>
        </p:nvGrpSpPr>
        <p:grpSpPr>
          <a:xfrm>
            <a:off x="2268360" y="1844640"/>
            <a:ext cx="3887640" cy="2555640"/>
            <a:chOff x="2268360" y="1844640"/>
            <a:chExt cx="3887640" cy="2555640"/>
          </a:xfrm>
        </p:grpSpPr>
        <p:pic>
          <p:nvPicPr>
            <p:cNvPr id="62" name="Picture 5" descr=""/>
            <p:cNvPicPr/>
            <p:nvPr/>
          </p:nvPicPr>
          <p:blipFill>
            <a:blip r:embed="rId3"/>
            <a:srcRect l="5280" t="4068" r="5222" b="0"/>
            <a:stretch/>
          </p:blipFill>
          <p:spPr>
            <a:xfrm>
              <a:off x="2268360" y="1844640"/>
              <a:ext cx="3887640" cy="255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Group 21"/>
            <p:cNvGrpSpPr/>
            <p:nvPr/>
          </p:nvGrpSpPr>
          <p:grpSpPr>
            <a:xfrm>
              <a:off x="3378600" y="2362680"/>
              <a:ext cx="1269360" cy="1406520"/>
              <a:chOff x="3378600" y="2362680"/>
              <a:chExt cx="1269360" cy="1406520"/>
            </a:xfrm>
          </p:grpSpPr>
          <p:sp>
            <p:nvSpPr>
              <p:cNvPr id="64" name="Line 18"/>
              <p:cNvSpPr/>
              <p:nvPr/>
            </p:nvSpPr>
            <p:spPr>
              <a:xfrm flipH="1">
                <a:off x="3378600" y="2362680"/>
                <a:ext cx="1031760" cy="1406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9"/>
              <p:cNvSpPr/>
              <p:nvPr/>
            </p:nvSpPr>
            <p:spPr>
              <a:xfrm flipH="1">
                <a:off x="3378600" y="3769200"/>
                <a:ext cx="1269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20"/>
              <p:cNvSpPr/>
              <p:nvPr/>
            </p:nvSpPr>
            <p:spPr>
              <a:xfrm>
                <a:off x="4410360" y="2362680"/>
                <a:ext cx="235800" cy="1406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Rectangle 22"/>
            <p:cNvSpPr/>
            <p:nvPr/>
          </p:nvSpPr>
          <p:spPr>
            <a:xfrm rot="3015000">
              <a:off x="3458520" y="3388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3"/>
            <p:cNvSpPr/>
            <p:nvPr/>
          </p:nvSpPr>
          <p:spPr>
            <a:xfrm rot="19716600">
              <a:off x="4259160" y="3411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4"/>
            <p:cNvSpPr/>
            <p:nvPr/>
          </p:nvSpPr>
          <p:spPr>
            <a:xfrm rot="11454600">
              <a:off x="4192200" y="2459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25"/>
            <p:cNvSpPr/>
            <p:nvPr/>
          </p:nvSpPr>
          <p:spPr>
            <a:xfrm>
              <a:off x="4013640" y="2733480"/>
              <a:ext cx="87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0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6"/>
            <p:cNvSpPr/>
            <p:nvPr/>
          </p:nvSpPr>
          <p:spPr>
            <a:xfrm>
              <a:off x="3616560" y="3360960"/>
              <a:ext cx="87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65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7"/>
            <p:cNvSpPr/>
            <p:nvPr/>
          </p:nvSpPr>
          <p:spPr>
            <a:xfrm rot="20944800">
              <a:off x="4172400" y="332676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20"/>
          <p:cNvSpPr/>
          <p:nvPr/>
        </p:nvSpPr>
        <p:spPr>
          <a:xfrm>
            <a:off x="6372360" y="119700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三角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内角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6300720" y="23893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另一个内角是多少度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1"/>
          <p:cNvSpPr/>
          <p:nvPr/>
        </p:nvSpPr>
        <p:spPr>
          <a:xfrm>
            <a:off x="539640" y="2133720"/>
            <a:ext cx="2232000" cy="1296720"/>
          </a:xfrm>
          <a:prstGeom prst="wedgeEllipseCallout">
            <a:avLst>
              <a:gd name="adj1" fmla="val -30305"/>
              <a:gd name="adj2" fmla="val 56365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要求？是多少度，需要知道三角形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个内角的和是多少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6346800" y="3214800"/>
            <a:ext cx="246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要求？是多少度，需要知道三角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个内角的和是多少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539640" y="5661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根据这些信息，你能提出什么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395280" y="2205000"/>
            <a:ext cx="252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6"/>
          <p:cNvSpPr/>
          <p:nvPr/>
        </p:nvSpPr>
        <p:spPr>
          <a:xfrm>
            <a:off x="3348000" y="2492280"/>
            <a:ext cx="180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6300720" y="3213000"/>
            <a:ext cx="2232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8" descr=""/>
          <p:cNvPicPr/>
          <p:nvPr/>
        </p:nvPicPr>
        <p:blipFill>
          <a:blip r:embed="rId4"/>
          <a:stretch/>
        </p:blipFill>
        <p:spPr>
          <a:xfrm>
            <a:off x="324000" y="1268280"/>
            <a:ext cx="863280" cy="5828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574560" y="431640"/>
            <a:ext cx="291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574560" y="431640"/>
            <a:ext cx="2847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415"/>
          <p:cNvGrpSpPr/>
          <p:nvPr/>
        </p:nvGrpSpPr>
        <p:grpSpPr>
          <a:xfrm>
            <a:off x="468360" y="1324080"/>
            <a:ext cx="5183280" cy="622080"/>
            <a:chOff x="468360" y="1324080"/>
            <a:chExt cx="5183280" cy="622080"/>
          </a:xfrm>
        </p:grpSpPr>
        <p:pic>
          <p:nvPicPr>
            <p:cNvPr id="86" name="Picture 394" descr="四下_页面_041"/>
            <p:cNvPicPr/>
            <p:nvPr/>
          </p:nvPicPr>
          <p:blipFill>
            <a:blip r:embed="rId2"/>
            <a:srcRect l="13402" t="43075" r="80943" b="53448"/>
            <a:stretch/>
          </p:blipFill>
          <p:spPr>
            <a:xfrm>
              <a:off x="468360" y="1324080"/>
              <a:ext cx="68256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395"/>
            <p:cNvSpPr/>
            <p:nvPr/>
          </p:nvSpPr>
          <p:spPr>
            <a:xfrm>
              <a:off x="1042920" y="1379160"/>
              <a:ext cx="460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三角形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个内角的和是多少度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Arc 403"/>
          <p:cNvSpPr/>
          <p:nvPr/>
        </p:nvSpPr>
        <p:spPr>
          <a:xfrm>
            <a:off x="2411280" y="473400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rc 404"/>
          <p:cNvSpPr/>
          <p:nvPr/>
        </p:nvSpPr>
        <p:spPr>
          <a:xfrm rot="9751200">
            <a:off x="3679560" y="2907720"/>
            <a:ext cx="288720" cy="114120"/>
          </a:xfrm>
          <a:custGeom>
            <a:avLst/>
            <a:gdLst>
              <a:gd name="textAreaLeft" fmla="*/ 0 w 288720"/>
              <a:gd name="textAreaRight" fmla="*/ 289080 w 2887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rc 405"/>
          <p:cNvSpPr/>
          <p:nvPr/>
        </p:nvSpPr>
        <p:spPr>
          <a:xfrm flipH="1">
            <a:off x="5939640" y="4653000"/>
            <a:ext cx="71640" cy="287280"/>
          </a:xfrm>
          <a:custGeom>
            <a:avLst/>
            <a:gdLst>
              <a:gd name="textAreaLeft" fmla="*/ -360 w 71640"/>
              <a:gd name="textAreaRight" fmla="*/ 71640 w 71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06"/>
          <p:cNvSpPr/>
          <p:nvPr/>
        </p:nvSpPr>
        <p:spPr>
          <a:xfrm flipH="1">
            <a:off x="2300400" y="2789280"/>
            <a:ext cx="1511280" cy="216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07"/>
          <p:cNvSpPr/>
          <p:nvPr/>
        </p:nvSpPr>
        <p:spPr>
          <a:xfrm flipV="1">
            <a:off x="2320920" y="4941360"/>
            <a:ext cx="4103640" cy="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08"/>
          <p:cNvSpPr/>
          <p:nvPr/>
        </p:nvSpPr>
        <p:spPr>
          <a:xfrm>
            <a:off x="3811680" y="2789280"/>
            <a:ext cx="2631960" cy="215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409"/>
          <p:cNvSpPr txBox="1"/>
          <p:nvPr/>
        </p:nvSpPr>
        <p:spPr>
          <a:xfrm>
            <a:off x="3708360" y="314964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1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WordArt 410"/>
          <p:cNvSpPr txBox="1"/>
          <p:nvPr/>
        </p:nvSpPr>
        <p:spPr>
          <a:xfrm>
            <a:off x="2700360" y="4589640"/>
            <a:ext cx="142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2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WordArt 411"/>
          <p:cNvSpPr txBox="1"/>
          <p:nvPr/>
        </p:nvSpPr>
        <p:spPr>
          <a:xfrm>
            <a:off x="5651640" y="4581360"/>
            <a:ext cx="144360" cy="2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3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Text Box 412"/>
          <p:cNvSpPr/>
          <p:nvPr/>
        </p:nvSpPr>
        <p:spPr>
          <a:xfrm>
            <a:off x="4211640" y="5300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+∠2+∠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13"/>
          <p:cNvSpPr/>
          <p:nvPr/>
        </p:nvSpPr>
        <p:spPr>
          <a:xfrm>
            <a:off x="169236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角形的内角和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16"/>
          <p:cNvSpPr/>
          <p:nvPr/>
        </p:nvSpPr>
        <p:spPr>
          <a:xfrm>
            <a:off x="938160" y="202248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角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角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含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6"/>
          <p:cNvSpPr/>
          <p:nvPr/>
        </p:nvSpPr>
        <p:spPr>
          <a:xfrm>
            <a:off x="826920" y="2060640"/>
            <a:ext cx="7201080" cy="2232000"/>
          </a:xfrm>
          <a:prstGeom prst="foldedCorner">
            <a:avLst>
              <a:gd name="adj" fmla="val 12500"/>
            </a:avLst>
          </a:prstGeom>
          <a:solidFill>
            <a:srgbClr val="ff6600">
              <a:alpha val="25000"/>
            </a:srgbClr>
          </a:solidFill>
          <a:ln w="255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74560" y="431640"/>
            <a:ext cx="2847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四下_页面_042"/>
          <p:cNvPicPr/>
          <p:nvPr/>
        </p:nvPicPr>
        <p:blipFill>
          <a:blip r:embed="rId2"/>
          <a:srcRect l="15722" t="22317" r="17266" b="63179"/>
          <a:stretch/>
        </p:blipFill>
        <p:spPr>
          <a:xfrm>
            <a:off x="1258920" y="4437000"/>
            <a:ext cx="5759280" cy="13683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1189080" y="256536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每人选择一种三角形，量一量每个内角的度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187280" y="3103560"/>
            <a:ext cx="53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求出三角形的内角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1187280" y="364500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填好记录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3203640" y="213372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合作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1116000" y="59961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不是所有三角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内角的和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8"/>
          <p:cNvGrpSpPr/>
          <p:nvPr/>
        </p:nvGrpSpPr>
        <p:grpSpPr>
          <a:xfrm>
            <a:off x="468360" y="1324080"/>
            <a:ext cx="5183280" cy="622080"/>
            <a:chOff x="468360" y="1324080"/>
            <a:chExt cx="5183280" cy="622080"/>
          </a:xfrm>
        </p:grpSpPr>
        <p:pic>
          <p:nvPicPr>
            <p:cNvPr id="110" name="Picture 19" descr="四下_页面_041"/>
            <p:cNvPicPr/>
            <p:nvPr/>
          </p:nvPicPr>
          <p:blipFill>
            <a:blip r:embed="rId3"/>
            <a:srcRect l="13402" t="43075" r="80943" b="53448"/>
            <a:stretch/>
          </p:blipFill>
          <p:spPr>
            <a:xfrm>
              <a:off x="468360" y="1324080"/>
              <a:ext cx="68256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20"/>
            <p:cNvSpPr/>
            <p:nvPr/>
          </p:nvSpPr>
          <p:spPr>
            <a:xfrm>
              <a:off x="1042920" y="1379160"/>
              <a:ext cx="460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三角形三个内角的和是多少度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26"/>
          <p:cNvSpPr/>
          <p:nvPr/>
        </p:nvSpPr>
        <p:spPr>
          <a:xfrm>
            <a:off x="4358880" y="3246480"/>
            <a:ext cx="4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276720" y="4803840"/>
            <a:ext cx="723960" cy="31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211640" y="4808520"/>
            <a:ext cx="723960" cy="28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5148360" y="4808520"/>
            <a:ext cx="723960" cy="28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6084720" y="4808520"/>
            <a:ext cx="723960" cy="28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3276720" y="5157720"/>
            <a:ext cx="723960" cy="28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4211640" y="5157720"/>
            <a:ext cx="723960" cy="28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5148360" y="5157720"/>
            <a:ext cx="723960" cy="28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6084720" y="5157720"/>
            <a:ext cx="723960" cy="28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3276720" y="5479920"/>
            <a:ext cx="723960" cy="28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13"/>
          <a:stretch/>
        </p:blipFill>
        <p:spPr>
          <a:xfrm>
            <a:off x="4211640" y="5478480"/>
            <a:ext cx="723960" cy="28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14"/>
          <a:stretch/>
        </p:blipFill>
        <p:spPr>
          <a:xfrm>
            <a:off x="5148360" y="5494320"/>
            <a:ext cx="723960" cy="28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15"/>
          <a:stretch/>
        </p:blipFill>
        <p:spPr>
          <a:xfrm>
            <a:off x="6084720" y="5502240"/>
            <a:ext cx="723960" cy="28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40"/>
          <p:cNvSpPr/>
          <p:nvPr/>
        </p:nvSpPr>
        <p:spPr>
          <a:xfrm>
            <a:off x="611280" y="2492280"/>
            <a:ext cx="7848360" cy="2592360"/>
          </a:xfrm>
          <a:prstGeom prst="foldedCorner">
            <a:avLst>
              <a:gd name="adj" fmla="val 12500"/>
            </a:avLst>
          </a:prstGeom>
          <a:solidFill>
            <a:srgbClr val="ff6600">
              <a:alpha val="25000"/>
            </a:srgbClr>
          </a:solidFill>
          <a:ln w="255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74560" y="431640"/>
            <a:ext cx="2847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2"/>
          <p:cNvSpPr/>
          <p:nvPr/>
        </p:nvSpPr>
        <p:spPr>
          <a:xfrm>
            <a:off x="684360" y="4363920"/>
            <a:ext cx="7632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组集体总结验证过程，并选两名代表，准备在全班交流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4" descr="蓝色按钮"/>
          <p:cNvPicPr/>
          <p:nvPr/>
        </p:nvPicPr>
        <p:blipFill>
          <a:blip r:embed="rId2"/>
          <a:stretch/>
        </p:blipFill>
        <p:spPr>
          <a:xfrm>
            <a:off x="555480" y="629748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3"/>
          <p:cNvSpPr/>
          <p:nvPr/>
        </p:nvSpPr>
        <p:spPr>
          <a:xfrm>
            <a:off x="612720" y="3174840"/>
            <a:ext cx="7920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组长做好分工，每种三角形都要进行验证，填好记录单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5"/>
          <p:cNvSpPr/>
          <p:nvPr/>
        </p:nvSpPr>
        <p:spPr>
          <a:xfrm>
            <a:off x="612720" y="3716280"/>
            <a:ext cx="6229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验证结束后，小组内交流验证的结果和发现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4" descr="蓝色按钮"/>
          <p:cNvPicPr/>
          <p:nvPr/>
        </p:nvPicPr>
        <p:blipFill>
          <a:blip r:embed="rId3"/>
          <a:stretch/>
        </p:blipFill>
        <p:spPr>
          <a:xfrm>
            <a:off x="2354400" y="6297480"/>
            <a:ext cx="431640" cy="430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蓝色按钮"/>
          <p:cNvPicPr/>
          <p:nvPr/>
        </p:nvPicPr>
        <p:blipFill>
          <a:blip r:embed="rId4"/>
          <a:stretch/>
        </p:blipFill>
        <p:spPr>
          <a:xfrm>
            <a:off x="1454040" y="629748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1"/>
          <p:cNvSpPr/>
          <p:nvPr/>
        </p:nvSpPr>
        <p:spPr>
          <a:xfrm>
            <a:off x="3492360" y="263700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验证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2"/>
          <p:cNvSpPr/>
          <p:nvPr/>
        </p:nvSpPr>
        <p:spPr>
          <a:xfrm>
            <a:off x="684360" y="1484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验证猜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3"/>
          <p:cNvSpPr/>
          <p:nvPr/>
        </p:nvSpPr>
        <p:spPr>
          <a:xfrm>
            <a:off x="596880" y="60721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4"/>
          <p:cNvSpPr/>
          <p:nvPr/>
        </p:nvSpPr>
        <p:spPr>
          <a:xfrm>
            <a:off x="1474920" y="6093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5"/>
          <p:cNvSpPr/>
          <p:nvPr/>
        </p:nvSpPr>
        <p:spPr>
          <a:xfrm>
            <a:off x="2338560" y="6093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继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574560" y="431640"/>
            <a:ext cx="27766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523880" y="1397160"/>
            <a:ext cx="723960" cy="28548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5"/>
          <p:cNvGrpSpPr/>
          <p:nvPr/>
        </p:nvGrpSpPr>
        <p:grpSpPr>
          <a:xfrm>
            <a:off x="75240" y="6019920"/>
            <a:ext cx="966960" cy="704880"/>
            <a:chOff x="75240" y="6019920"/>
            <a:chExt cx="966960" cy="704880"/>
          </a:xfrm>
        </p:grpSpPr>
        <p:pic>
          <p:nvPicPr>
            <p:cNvPr id="143" name="Picture 36" descr="蓝色按钮"/>
            <p:cNvPicPr/>
            <p:nvPr/>
          </p:nvPicPr>
          <p:blipFill>
            <a:blip r:embed="rId3"/>
            <a:stretch/>
          </p:blipFill>
          <p:spPr>
            <a:xfrm>
              <a:off x="449280" y="6297840"/>
              <a:ext cx="431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37"/>
            <p:cNvSpPr/>
            <p:nvPr/>
          </p:nvSpPr>
          <p:spPr>
            <a:xfrm>
              <a:off x="75240" y="60199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684360" y="1628640"/>
            <a:ext cx="7848360" cy="446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574560" y="431640"/>
            <a:ext cx="27766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4"/>
          <p:cNvGrpSpPr/>
          <p:nvPr/>
        </p:nvGrpSpPr>
        <p:grpSpPr>
          <a:xfrm>
            <a:off x="75240" y="6019920"/>
            <a:ext cx="966960" cy="704880"/>
            <a:chOff x="75240" y="6019920"/>
            <a:chExt cx="966960" cy="704880"/>
          </a:xfrm>
        </p:grpSpPr>
        <p:pic>
          <p:nvPicPr>
            <p:cNvPr id="149" name="Picture 36" descr="蓝色按钮"/>
            <p:cNvPicPr/>
            <p:nvPr/>
          </p:nvPicPr>
          <p:blipFill>
            <a:blip r:embed="rId2"/>
            <a:stretch/>
          </p:blipFill>
          <p:spPr>
            <a:xfrm>
              <a:off x="449280" y="6297840"/>
              <a:ext cx="431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37"/>
            <p:cNvSpPr/>
            <p:nvPr/>
          </p:nvSpPr>
          <p:spPr>
            <a:xfrm>
              <a:off x="75240" y="60199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900000" y="1484280"/>
            <a:ext cx="7128000" cy="446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574560" y="431640"/>
            <a:ext cx="2847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468360" y="151344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思考：拼和折这两种方法有什么相同之处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2987640" y="6308640"/>
            <a:ext cx="2952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708360" y="578952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  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979640" y="60786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6156360" y="60069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2987640" y="6453360"/>
            <a:ext cx="2952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6588000" y="191628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"/>
          <p:cNvPicPr/>
          <p:nvPr/>
        </p:nvPicPr>
        <p:blipFill>
          <a:blip r:embed="rId2"/>
          <a:srcRect l="20325" t="18169" r="58659" b="18833"/>
          <a:stretch/>
        </p:blipFill>
        <p:spPr>
          <a:xfrm>
            <a:off x="684360" y="2133720"/>
            <a:ext cx="2050920" cy="345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"/>
          <p:cNvPicPr/>
          <p:nvPr/>
        </p:nvPicPr>
        <p:blipFill>
          <a:blip r:embed="rId3"/>
          <a:srcRect l="46305" t="23519" r="34325" b="17686"/>
          <a:stretch/>
        </p:blipFill>
        <p:spPr>
          <a:xfrm>
            <a:off x="2843280" y="2276640"/>
            <a:ext cx="2278080" cy="34574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4067280" y="19162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4" descr="图片1"/>
          <p:cNvPicPr/>
          <p:nvPr/>
        </p:nvPicPr>
        <p:blipFill>
          <a:blip r:embed="rId4"/>
          <a:srcRect l="0" t="4082" r="0" b="5282"/>
          <a:stretch/>
        </p:blipFill>
        <p:spPr>
          <a:xfrm>
            <a:off x="5435640" y="2421000"/>
            <a:ext cx="292572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574560" y="431640"/>
            <a:ext cx="27766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539640" y="234936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锐角三角形的内角和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539640" y="33987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钝角三角形的内角和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0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611280" y="440676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角三角形的内角和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5146560" y="3270240"/>
            <a:ext cx="3457800" cy="934920"/>
          </a:xfrm>
          <a:prstGeom prst="rect">
            <a:avLst/>
          </a:prstGeom>
          <a:solidFill>
            <a:srgbClr val="ff66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角形的内角和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0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7"/>
          <p:cNvGrpSpPr/>
          <p:nvPr/>
        </p:nvGrpSpPr>
        <p:grpSpPr>
          <a:xfrm>
            <a:off x="468360" y="1438200"/>
            <a:ext cx="5183280" cy="622440"/>
            <a:chOff x="468360" y="1438200"/>
            <a:chExt cx="5183280" cy="622440"/>
          </a:xfrm>
        </p:grpSpPr>
        <p:pic>
          <p:nvPicPr>
            <p:cNvPr id="171" name="Picture 18" descr="四下_页面_041"/>
            <p:cNvPicPr/>
            <p:nvPr/>
          </p:nvPicPr>
          <p:blipFill>
            <a:blip r:embed="rId1"/>
            <a:srcRect l="13402" t="43075" r="80943" b="53448"/>
            <a:stretch/>
          </p:blipFill>
          <p:spPr>
            <a:xfrm>
              <a:off x="468360" y="1438200"/>
              <a:ext cx="68256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9"/>
            <p:cNvSpPr/>
            <p:nvPr/>
          </p:nvSpPr>
          <p:spPr>
            <a:xfrm>
              <a:off x="1042920" y="1493640"/>
              <a:ext cx="460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三角形三个内角的和是多少度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AutoShape 24"/>
          <p:cNvSpPr/>
          <p:nvPr/>
        </p:nvSpPr>
        <p:spPr>
          <a:xfrm>
            <a:off x="4788000" y="2525760"/>
            <a:ext cx="144360" cy="2233440"/>
          </a:xfrm>
          <a:custGeom>
            <a:avLst/>
            <a:gdLst>
              <a:gd name="textAreaLeft" fmla="*/ 0 w 144360"/>
              <a:gd name="textAreaRight" fmla="*/ 52200 w 144360"/>
              <a:gd name="textAreaTop" fmla="*/ 46800 h 2233440"/>
              <a:gd name="textAreaBottom" fmla="*/ 218664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6"/>
                  <a:pt x="10800" y="1451"/>
                </a:cubicBezTo>
                <a:lnTo>
                  <a:pt x="10800" y="9349"/>
                </a:lnTo>
                <a:cubicBezTo>
                  <a:pt x="10800" y="10075"/>
                  <a:pt x="16200" y="10800"/>
                  <a:pt x="21600" y="10800"/>
                </a:cubicBezTo>
                <a:cubicBezTo>
                  <a:pt x="16200" y="10800"/>
                  <a:pt x="10800" y="11526"/>
                  <a:pt x="10800" y="12251"/>
                </a:cubicBezTo>
                <a:lnTo>
                  <a:pt x="10800" y="20149"/>
                </a:lnTo>
                <a:cubicBezTo>
                  <a:pt x="10800" y="208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4T12:58:19Z</dcterms:created>
  <dc:creator>Lenovo</dc:creator>
  <dc:description/>
  <dc:language>en-US</dc:language>
  <cp:lastModifiedBy>微软用户</cp:lastModifiedBy>
  <dcterms:modified xsi:type="dcterms:W3CDTF">2015-10-22T08:28:39Z</dcterms:modified>
  <cp:revision>2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