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7020-3577-4BD6-BDFF-BDB68E70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0B2E0-E285-4E32-B4C2-8E5551E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63B84-303E-494E-80CA-1276B4C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0221-B709-434A-98CA-2DF5B7A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566C-DA3E-40C5-B418-A7BDB200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C6788-C816-4A53-A72D-0931BF86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EDD33-D900-4A86-974D-AC3E4E50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8BAC3-EF82-4146-92DF-122DEF5C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7FB5-9BEB-4118-96D9-7FD6D84D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F6A9C-7904-4029-807D-6DB2E88F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B96C2-631E-4DDD-B3C1-C017884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FC6D-98A8-4D9B-9A0D-E950166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0D79C-4B8E-4241-BEE5-C8FBF6E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4DEFD-6716-4C8E-A437-7DB6F0B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E63B3-2A22-4655-97B2-8059A47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CA413-5BC7-4741-995F-35F4B6A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C3969-B677-412A-83F1-49A7C3C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D9153-390F-4397-BDE9-EDC1DB7C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4A58B-97DD-4110-86B7-28EB42CF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62ADD-07D3-4FE4-8535-917C146D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B6564-7052-487E-9A33-5CBB7FA2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D04AF-C739-49C3-9CF2-CBEFFBDA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0830B-DD99-4A76-8042-DE3F5D4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F64D3-8617-4469-B860-B97D7BC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A965F-4D86-4FE4-BB20-41DCBE2D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C7A4F-8F93-419B-B7F8-63E144A9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84978-ADB3-4963-AB98-958B6A01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A3A6-CB10-4B40-B6EE-88BE278A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822D3-D0DA-401A-9DC0-F39AE21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A2601-BC9D-485E-954F-5D9B8F4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CFB-9083-4D2C-9372-3B5A3E89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1E369-5ADF-401D-9EFD-0A1B57F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44BDD-0F8A-498A-B8BB-267C107F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0FF64-A03D-4529-9461-BBABD934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7315-8C61-405C-A696-0C9387D4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E917C-F4F7-4269-8A9B-1042F956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7E71-638E-4D42-B04E-08C1A2CA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1A725-C1E8-4C53-B7AF-DCD6666F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111E7-4929-410D-9F7D-DBA823A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4C39-AD6C-44FF-A330-F2A8537E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FF026-28D5-42B7-A452-73E3FDC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948-A4A4-4987-9DD2-9C53A791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FDB1B-2FFB-4518-A379-2C8A964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635C-A2C8-43EA-B66C-AE0EE39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E19A-CF0D-440C-BB98-ACDCD427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A184B-9F0E-49EA-A7B8-EB1E8A16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0910A-27CE-44F8-B79B-453B4B57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04C2-B6FC-44E7-85DE-16F94014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F85B6-315A-4BC5-B4C6-C21753DE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3FA37-953A-4F7B-B939-409B7EB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B2552-1E55-4EC6-9CEC-26920F43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B2B36-5097-4E1A-A990-0CBCC929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59B-6E67-4C49-A3E2-6C6F3F67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FDA7E-0D2E-4E79-9073-BCF3F457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A1C74-EA3B-48A9-A9B3-7BFBCF1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DA66D-3606-4CD1-AFB3-C62822CA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DA415-76B3-4DDA-8B13-54F46FB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D1B4C-681E-4446-80F3-CA10973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89C95-83FB-4C72-B218-F82B15B5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C46BE-AC00-4502-B917-F94D28B3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EA8CD-7B48-46F3-8636-006118E8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E911F-70F5-47C2-AC97-D93131F4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B18EF-B648-4121-A0BA-324E5FA2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708-D890-40A5-BF0F-B876024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2C29C-5A83-4EC8-9981-620165A5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08FF4-E9C2-43D1-ABC1-013D65EF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95E25-ABAA-4795-A197-078474E2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9145C-E95E-4266-82C9-FF81442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0977E-EB24-4EBC-AB4F-66CF9DD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F9529-E415-46C3-B29C-0E584D56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E88F9-78F9-458E-8C53-910F04D4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E7BD9-39F7-4BEF-98FA-ECFDB9A6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410C7-5DDD-4869-B944-5636262E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C9F7B-1D1C-4174-8773-1AD3F701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47C-162A-485A-A770-56ED1831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6A245-764B-4DBB-9D24-51DBCFB3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F3CFF-52E4-496F-94B5-07A6781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B4384-42F5-440A-AC9E-E99684AB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372C2-BF7B-4003-B33B-A85BF7BD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29988-33B6-4799-B227-BD000DB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361D7-C9AF-40E8-88B4-A4A4132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A09FE-85F2-40FA-BA04-469B1414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30528-EE67-4608-9A54-F8E0E5B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82F00-614F-4F0C-AD25-01130FC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7EDCF-7361-4EA0-8CFA-C3080575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B9D-E764-4881-A638-5577A413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951A1-EBA4-4CED-B0A9-CB736F2F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F3D59-67DA-4CA1-BA59-9F4EB77C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E5419-CBE5-4453-BCBC-73B4B3A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F7F55-59E5-40E6-A9B6-DA8BBCC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1BAD4-D135-473E-A8B3-B7765B06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32A5D-10FD-465B-B2B3-B195DF02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92E83-94CF-4013-B25A-178B5AAC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4D786-11B5-48A0-8A7E-7349B93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5635E7-47C5-4BB4-8FE9-77F140A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16E77-30D9-4CBA-B835-BA2B8C0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6F0-CEF7-4E5F-84EC-BD30B327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F33BB-FD77-41CD-970B-29EF495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84C10-FCF1-4725-A061-BE9ACAFF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6BEDF-F94F-4E16-9291-07884A08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4F758-26B2-460A-A85F-D98E116F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658A8-6342-4E7D-8705-92B38E0B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5C0A5-7A89-4B34-9DCF-4D0B751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CBC97-C5B3-4D1B-8763-FFC027A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CA364-3F3A-40B1-9864-436181F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8D119-A52A-4DE9-8EF1-FB4F2F8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B7C5D-8A00-4DF9-8112-B2DDB98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A3F-24E8-4D68-AA7B-6E670CF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F5C99-CD94-489B-8A37-5944BEA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A812B-E722-4235-A3B9-05CB476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7B127-9CAD-4D13-BB26-E3D2640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9B1A7-3A4B-483D-A956-6F70A1AD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74AB3-D16E-4468-9AF9-2181BB5A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C8383-254F-4334-B930-DEF17876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9D049-0F5E-4AF5-BAF7-22C6D585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6FE29-A3B5-446C-B2B4-C62F34F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10EC4-EC94-4D26-9BEC-17C4FD6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B9F8A-E620-4F79-B6D7-81B3FEC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CE4-9FAB-4467-BC7F-A2536D6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E1993-D075-4C1B-A071-7B7DD209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33D7E-6C19-413D-8F1A-0175801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ED3D0-4BAC-4E6C-BED5-B904B19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6C314-C2F9-4FB9-99B7-F5007AE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E30D5-A397-4BA6-ACFF-48474D2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773EB-807B-45E6-8589-1DAC789F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0FC83-FBBA-4CFD-81F8-5BD825EC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2F278-FE42-42F9-A451-36777D21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1EBE3-A327-45C0-BF2A-F0EF9457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59AED-F11B-4388-99A3-D4C31CC2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72C-950E-490A-9BBF-A0FFD0B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43682-2632-4264-9CF9-47A6D5EB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3D96A-2D81-4BE9-BB97-690AA3F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007FF-3561-4E20-A76B-0093EAA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E1613-9B5C-45B1-9773-0B7A399C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1E4CC-E03D-4FAD-9289-614F86F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DB84A-D40A-4010-9419-17DC273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8A728-0A66-4CA2-878E-B63CE241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301FB-AB0B-47B9-8FFC-524960C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A9175-4DAB-45BF-A925-010086A9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5DC02-95B6-4049-86F0-8DCCD95E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28C-9B4A-4AB7-A32D-1FBA49B4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A569E-75ED-4198-A77B-93F06AD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1F6D2-91D6-4C20-BBEB-7783498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7320E-479D-48B8-A2AA-6B349C40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F6747-967A-43C4-ABEF-882D4288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C5F1D-F0BF-49BE-9626-D634A27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9AE60-CBD4-4496-A432-21FB7C47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CCF5A-39A7-44C9-837C-DB6506F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A2C93-3800-40F7-B4A6-57EFC450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40FBA-AC8A-4FCB-87A2-58DF086A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143A7-DF31-49FC-8F28-4E77F707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ED4-136F-49FE-A522-564CE11C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9C40A-3F38-4AEB-ADFF-AD85C279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3179E9-CBAE-4FA5-82EF-916CA791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FEC4F-F593-4CCF-AC6E-6A59583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BBDC38-2521-4A2D-98A7-2A75258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E7174-5A4C-4D77-B918-DFA50A9F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4939C-6FC1-477E-B1D0-A262CEA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81F72-8300-40C7-8F9D-5B88549F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84DB9-8149-491C-BDB6-D419C32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0E38F-A010-4FF7-8F05-394CC612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13410-6D98-4C07-9A57-D441A5D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370-BFDD-47CF-BA04-E2A098D3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6BF0B-8F79-43C8-8DA1-81CC729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8C23A-BB00-4460-A699-D35022AD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74B54-51B5-4370-8080-DD9507CF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F6DF7-94E0-4550-BFAE-E11F45CE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5CFD2-A63B-4DBD-A91E-E16446F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F649D-AFFB-4F1B-9B24-675A4BED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701B77-B64C-4184-A62A-62D435D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8B3EB-CA6F-4862-B4CB-75E7CAF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4338B-4D71-4DA2-99DD-22929BA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283A5F-E90D-4D17-BC77-9D25EE7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D27-99EC-41D9-A76B-CECCC71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E90518-70DC-44A7-9504-239CA6A8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E2461-66DB-460D-85FA-F289384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F141D-039A-42C1-9A44-17513D9C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6EDC86-681B-48FB-8F5F-32FBC38A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A8A27-AE81-454B-9F07-0F82F7FC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48203E-E0B9-41DE-B948-36344204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027F3-90A3-49BF-B67B-512AC40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3137C-317C-4CF2-AFDC-E9DC5BE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726B7-0DB7-4C44-95DD-7464129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31B48-963D-4E1C-8FC8-6EB57E9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19FA-C001-4656-9588-06998BB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A8E5C-2E01-4F88-97DA-ED6B590A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6745B-E35B-4E36-9473-809AD14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932A4-C291-4496-AD81-9B3226EA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1B3B3-346E-4C04-9161-9AE6F28F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BA8175-DFF6-4500-B5CC-85BBF5F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EC086C-C65A-4A95-9EC7-B9D5AB96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EF898B-CD6E-4009-BE6D-024A3362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7FAEBB-47A2-4ED4-9422-CC2A5A21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8EFA3-BBF8-4B86-899A-8A8A3D3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51ECE-1722-4956-8F33-E8479410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AE6A-E33B-4AB0-A374-C22E8AEF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62CD7-D1B9-4A96-A5C2-A01081A3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3960F2-12AC-4278-A8C2-F2D8214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F50924-D827-4B90-BC62-E539C12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974580-1E88-4814-B285-B758B16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AAC251-7C9F-4B0C-9C40-9B7901A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159313-95FE-46AD-8B6C-DBC91AF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8AE1C-CAAB-4DB6-B1BB-21AE724C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BC3521-AF8A-4A57-81D0-6F85F9B6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11D1B-43E7-48F6-A46E-E153506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DAC6-3994-4181-9D49-7B0162AB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3C4-4160-4EEC-B14E-5405CFAC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1B74-7454-49FA-9750-DB1C3741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A99A-43D6-4D41-B5BF-BBF49ABA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0B88-383F-4B59-8CCA-DF6C6A2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3922-9867-4782-A137-3B0DD2F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0FAC-74B8-46F7-9A4B-E9621379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2F29-3AE3-4421-8B62-E4A5B753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C1F0-6E61-4005-B1FD-747D529B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358C-50B2-4DB4-A4B7-7CC7B10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D740-432F-4296-A496-F32C6307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424ED-C1A4-469B-A10E-7AC6DC79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A6DE-090A-4B96-AD4F-C971D704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AB87-9807-433D-B066-65177131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0073-5619-4307-96A2-7C9D4137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8CE6-72FE-4914-AC33-4421D46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F7E4-FD58-453F-A377-52A25275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AD45-6C1D-4226-AFFB-58C4D6F5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F887-54FC-4AC3-AC38-C2FB6FC7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20B0F-5FF7-481B-B01C-66283105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52EA-CD70-4B30-B669-495552EA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2CD9-7816-4E65-99AD-DF9198B7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711D-70DC-471C-9BEE-8844C653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014C-6B43-4D4A-8585-2925ECA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CFE7-BFAE-43CB-8DFB-51B439D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C52F-A88E-46D1-B064-E298C94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0988-ACBB-4F99-AEF6-A7BA262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E519-1019-43BD-A33D-DFBB787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8362-8074-44B4-A6CF-70F027D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792A-F83A-40AF-9DF4-050D8AC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71E1-8E6A-4DAB-B22F-0F6DBEA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0BA7-5F96-4B73-BC00-96180A12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048F-A6AE-447E-8694-B94DDA8B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E780-DC9B-4569-8703-EDC5B372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788B-A935-4E47-AEB6-D6A85262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8EA5-6C80-4C5A-9171-26F2FFB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1AA2-ABF9-4F98-BC98-EEBA482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A66B-2D41-4B3F-84F6-7B5D342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D355-1D26-4E21-9FB2-60A19C18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57280-9CED-4335-A7C6-D1D30EB0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5E7B-5D7D-4D5F-9E93-974E7FE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2879-4FDA-46F6-A732-6B6ED4E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5C9CC-E97C-40DA-9492-B5B271EB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A50A-8F95-4649-9993-8D92325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F073-A4E7-4441-A1F5-542DBCC9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32CB-E1CD-468A-9F23-99432B4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70AEE-6ED9-49E9-8E07-B9613D6C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6F9A-169C-4FD1-879D-2FF5185E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D5C0-DE97-47CC-A904-2A170EF3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B6C6-2936-4DA3-A21B-26DF2E7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1586-AEB8-46FC-9E81-8C6E0F3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3977-EFC8-4053-9BBD-DF07DFE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85DB-4BE0-4CED-A893-0A4879D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3407-E955-420C-9C56-CC96C52A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72C1-9C14-4A0A-99B0-6A6A335C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FE35-E26E-4953-8E57-C4AEE102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336A-DDFD-4373-B0F1-586816DB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3AA20-75B2-4850-9E7A-07530E76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478FD-6670-41AC-9D64-8B24A3B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CA8C-B2A3-40F5-9ED8-DD304D7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DD5EC-260B-4D73-B102-73551EA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8E29-FCD9-4CAC-B633-EC53F0D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ECD77-51A3-4CCB-AA29-7024835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11677-9FBB-4FF2-BEAB-DF48203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871BB-1B58-4FA0-A2BB-465BF81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8F5C-CBEB-4DC1-9123-B04CC82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E023-7814-4E20-BD85-849E2949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911F-B586-497E-ACB9-78198E9F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3AD5-16E6-4F10-8F26-8398F103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0B9E8-419F-4AB9-A295-0CBCD65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7B807-2ECF-4F37-996E-4E9115E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417-AA4D-4E57-B8F7-04A3108A353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5C3-5A23-4FFB-B533-F35B6CBFF0A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3519-5FD7-410F-8FEB-F62E0A7D795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D6FA-DE68-406E-97C7-4DDC958ECFA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D8C-94FD-4ABC-AC43-21D84AA2EF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2A55-E6C6-4C29-8C7C-DBCD14D054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4550-2788-4845-85B8-C42A09D4A1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FBEC-F061-44D3-9C7C-ED3374BD9C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088E-A72B-404D-8B57-F0DE11C5241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EB1-9E23-4634-BDC6-A22C4DA71A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500-BB39-4EAA-ABD0-EC4EFB8AFF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53A6-1CAF-4920-8301-E79475524B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32C4-1CD7-4D4A-93A1-90DA693CB8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954-D2FE-42D6-B085-50DAAAE72D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8CEA-0290-4B97-985E-D97762DA12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B10-EB7E-40FD-B77D-3F48C00F27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EFB-BC1E-4D44-9381-22DD55EFFA7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2DE8-7413-443F-AED7-A26BD87EB90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33E-2205-4A80-A24A-D2CE06ACB1C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DCE7-133D-4080-91B3-D916C9BE5EB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AC39-D2EA-4EA9-991F-C2955E82434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C110-AB80-4852-A42C-32B2849ED5F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A82-904C-40CC-9222-B9CFCFE1426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角形的认识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176720" y="16970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巧手小工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多边形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矩形 10"/>
          <p:cNvSpPr/>
          <p:nvPr/>
        </p:nvSpPr>
        <p:spPr>
          <a:xfrm>
            <a:off x="954000" y="136512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求周长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等腰三角形的两条边长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个三角形的周长是多少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1" name="矩形 12"/>
          <p:cNvSpPr/>
          <p:nvPr/>
        </p:nvSpPr>
        <p:spPr>
          <a:xfrm>
            <a:off x="1204920" y="3645000"/>
            <a:ext cx="63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个三角形的周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9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0"/>
          <p:cNvSpPr/>
          <p:nvPr/>
        </p:nvSpPr>
        <p:spPr>
          <a:xfrm>
            <a:off x="954000" y="1268280"/>
            <a:ext cx="75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已知等腰三角形的两条边长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这个三角形的周长是多少厘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3" name="矩形 7"/>
          <p:cNvSpPr/>
          <p:nvPr/>
        </p:nvSpPr>
        <p:spPr>
          <a:xfrm>
            <a:off x="1584360" y="3105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个三角形的周长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1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4" descr=""/>
          <p:cNvPicPr/>
          <p:nvPr/>
        </p:nvPicPr>
        <p:blipFill>
          <a:blip r:embed="rId1"/>
          <a:stretch/>
        </p:blipFill>
        <p:spPr>
          <a:xfrm>
            <a:off x="2505240" y="2924280"/>
            <a:ext cx="4190760" cy="15714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10"/>
          <p:cNvSpPr/>
          <p:nvPr/>
        </p:nvSpPr>
        <p:spPr>
          <a:xfrm>
            <a:off x="954000" y="126828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如图所示，奇奇从家出发去妙妙家一同看“太空授课”，奇奇可以走哪几条路？走哪条路最近？请用三角形的相关知识解释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6" name="矩形 9"/>
          <p:cNvSpPr/>
          <p:nvPr/>
        </p:nvSpPr>
        <p:spPr>
          <a:xfrm>
            <a:off x="1655640" y="433692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奇有三条路可走，分别是路线①、②、③。走路线①最近。因为三角形任意两边长度的和大于第三边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8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9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60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61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矩形 19"/>
          <p:cNvSpPr/>
          <p:nvPr/>
        </p:nvSpPr>
        <p:spPr>
          <a:xfrm>
            <a:off x="954000" y="1484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棒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。可拼成各边长是几厘米的三角形？写一写。如果想利用这些小棒拼成等边三角形，想一想怎样拼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3" name="矩形 11"/>
          <p:cNvSpPr/>
          <p:nvPr/>
        </p:nvSpPr>
        <p:spPr>
          <a:xfrm>
            <a:off x="1054080" y="3216240"/>
            <a:ext cx="76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拼成边长分别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三角形。如果拼成等边三角形可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小棒接起来，再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小棒拼成边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三角形。也可以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小棒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小棒拼成边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等边三角形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拼成等边三角形的方法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三角形稳定性的应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画出锐角三角形的三条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画出直角三角形和钝角三角形的三条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谁的篱笆围法更加牢固？为什么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4"/>
          <p:cNvSpPr/>
          <p:nvPr/>
        </p:nvSpPr>
        <p:spPr>
          <a:xfrm>
            <a:off x="1565280" y="4444920"/>
            <a:ext cx="58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明明的篱笆围法更加牢固，因为明明围的篱笆呈三角形，三角形具有稳定性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5" name="Picture 12" descr=""/>
          <p:cNvPicPr/>
          <p:nvPr/>
        </p:nvPicPr>
        <p:blipFill>
          <a:blip r:embed="rId2"/>
          <a:stretch/>
        </p:blipFill>
        <p:spPr>
          <a:xfrm>
            <a:off x="1619280" y="2260440"/>
            <a:ext cx="53532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10"/>
          <p:cNvSpPr/>
          <p:nvPr/>
        </p:nvSpPr>
        <p:spPr>
          <a:xfrm>
            <a:off x="954000" y="1341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画出三角形中各条边上的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1655640" y="2168640"/>
            <a:ext cx="4579920" cy="17510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"/>
          <p:cNvPicPr/>
          <p:nvPr/>
        </p:nvPicPr>
        <p:blipFill>
          <a:blip r:embed="rId2"/>
          <a:stretch/>
        </p:blipFill>
        <p:spPr>
          <a:xfrm>
            <a:off x="1608120" y="3897360"/>
            <a:ext cx="519588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0"/>
          <p:cNvSpPr/>
          <p:nvPr/>
        </p:nvSpPr>
        <p:spPr>
          <a:xfrm>
            <a:off x="954000" y="126828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画出下面三角形中各底边上的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0" name="Picture 11" descr=""/>
          <p:cNvPicPr/>
          <p:nvPr/>
        </p:nvPicPr>
        <p:blipFill>
          <a:blip r:embed="rId1"/>
          <a:stretch/>
        </p:blipFill>
        <p:spPr>
          <a:xfrm>
            <a:off x="1511280" y="2241720"/>
            <a:ext cx="4329000" cy="20509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2" descr=""/>
          <p:cNvPicPr/>
          <p:nvPr/>
        </p:nvPicPr>
        <p:blipFill>
          <a:blip r:embed="rId2"/>
          <a:stretch/>
        </p:blipFill>
        <p:spPr>
          <a:xfrm>
            <a:off x="1800360" y="4400640"/>
            <a:ext cx="40654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3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4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7" name="矩形 19"/>
          <p:cNvSpPr/>
          <p:nvPr/>
        </p:nvSpPr>
        <p:spPr>
          <a:xfrm>
            <a:off x="954000" y="1484280"/>
            <a:ext cx="721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下图中各有多少个三角形？数一数，填一填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2"/>
          <a:stretch/>
        </p:blipFill>
        <p:spPr>
          <a:xfrm>
            <a:off x="1693800" y="2327400"/>
            <a:ext cx="5756400" cy="12808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3"/>
          <a:stretch/>
        </p:blipFill>
        <p:spPr>
          <a:xfrm>
            <a:off x="3678120" y="4314960"/>
            <a:ext cx="1787760" cy="1490400"/>
          </a:xfrm>
          <a:prstGeom prst="rect">
            <a:avLst/>
          </a:prstGeom>
          <a:ln w="0">
            <a:noFill/>
          </a:ln>
        </p:spPr>
      </p:pic>
      <p:sp>
        <p:nvSpPr>
          <p:cNvPr id="1020" name="矩形 10"/>
          <p:cNvSpPr/>
          <p:nvPr/>
        </p:nvSpPr>
        <p:spPr>
          <a:xfrm>
            <a:off x="971640" y="371628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1" name="矩形 11"/>
          <p:cNvSpPr/>
          <p:nvPr/>
        </p:nvSpPr>
        <p:spPr>
          <a:xfrm>
            <a:off x="2857680" y="371628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12"/>
          <p:cNvSpPr/>
          <p:nvPr/>
        </p:nvSpPr>
        <p:spPr>
          <a:xfrm>
            <a:off x="4729320" y="373680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13"/>
          <p:cNvSpPr/>
          <p:nvPr/>
        </p:nvSpPr>
        <p:spPr>
          <a:xfrm>
            <a:off x="3002040" y="591336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角形三条边之间的关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5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1026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27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29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1030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1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33" name="TextBox 4"/>
          <p:cNvSpPr/>
          <p:nvPr/>
        </p:nvSpPr>
        <p:spPr>
          <a:xfrm>
            <a:off x="4176720" y="1736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巧手小工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多边形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5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求第三条边的长度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计算等腰三角形的周长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三边关系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7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1038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39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40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矩形 10"/>
          <p:cNvSpPr/>
          <p:nvPr/>
        </p:nvSpPr>
        <p:spPr>
          <a:xfrm>
            <a:off x="934920" y="1420920"/>
            <a:ext cx="72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填空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三角形中，一条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另一条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那么第三条边长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整厘米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果一个三角形的两条边长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那么第三条边最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最短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整厘米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2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3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4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7" name="矩形 14"/>
          <p:cNvSpPr/>
          <p:nvPr/>
        </p:nvSpPr>
        <p:spPr>
          <a:xfrm>
            <a:off x="2771640" y="2560680"/>
            <a:ext cx="63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8" name="矩形 9"/>
          <p:cNvSpPr/>
          <p:nvPr/>
        </p:nvSpPr>
        <p:spPr>
          <a:xfrm>
            <a:off x="576360" y="417348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9" name="矩形 10"/>
          <p:cNvSpPr/>
          <p:nvPr/>
        </p:nvSpPr>
        <p:spPr>
          <a:xfrm>
            <a:off x="3236760" y="4184640"/>
            <a:ext cx="63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48:59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