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398F-5291-4DE8-A7C1-1EB0A01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D16CB-AF47-4586-947E-35086EC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31268-F2F9-4B17-AA64-A9E5CD8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2DD7-B667-407C-86C2-39E97BA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EC1D-5ED8-43A0-85B0-FFF9955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410C-E7BC-4DD9-82A2-5B29329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6B10-E445-4060-A032-18C44DF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0F74E-7D08-4664-950A-A4611553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36683-1C60-4FAF-8733-8E49821F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12761-D4FB-4034-8B3A-504E7529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0B974-DEBD-4EFF-BD39-ED505E0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0E733-2BB8-403B-8C14-13192404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5F4B8-AF26-4DAB-9921-376AF6F3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D004-1833-4DC5-89CB-7D73AC4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2D1B8-5268-4410-92D0-5821F1EF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9DD7C-1174-407C-BCA8-6AF66CE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E8FD-1C54-48D8-A025-8D61DFE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55788-D217-4B6B-9B99-B9DDB60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3A5B-2950-48A5-BC0C-D7921BA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B3FB-797D-4474-88A8-33D4CCC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0DA8-4FBB-49C9-B37E-AFBDD33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2A7AA-A2F9-40DE-9623-04AD073E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C107A-005D-40C3-9AC4-1C7877EF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1BE4-A8A7-4DAD-B0F0-066A0F5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8D71-87B9-4A76-B8AA-670A9035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45C5-0201-4EAA-BD4A-7C231E87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F6C44-319C-4D34-B878-D1EDFCC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9B00A-4DDD-49CD-8DBE-6736F29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AAA85-DA25-46FA-B0D3-432640C5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0D42-AFAB-49A0-8E51-0C94A89F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E5A-EE27-4481-9751-5BD7851C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534C7-EEA6-4DEC-B925-ADFCE9B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7837F-A793-4DA0-AE75-D670A000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7134D-AE24-4B8D-9335-289EA982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A6774-DD8A-48E0-B164-B54BB3B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3DEE3-538E-4325-A124-142C4042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E81C7-4F1D-48E2-B5B7-FBDEDF6C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C7D4C-088B-4099-B742-C28B3AF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03FA5-A328-4575-A356-52DBB20A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80F1-619F-41E4-8187-BE4A20A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1E74-775B-4AE3-AC94-4157741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239-59ED-467A-B8DF-5CFE808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6100A-85C0-40C2-AF0C-5F1CEF5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12E36-B66B-4E62-AA76-ADA30B4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52B0C-EEE9-4EC2-86DD-E95ECF09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A5D0-F9D7-4E1A-BB70-A8ACF927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C2CE6-FDA9-4780-8D2C-E9141284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E9FA8-19B0-489D-94DE-927951D2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1AE7-EE08-43D3-849A-FECD2ABA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E08CE-92CD-47BF-8DFB-37C99100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31792-57D2-4321-9E06-4D25956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F3F71-EDAC-425F-A719-528DBDA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260-1E27-4661-A25B-D1AA628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4755D-B37A-453F-95D6-799FC90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BA7BF-E57D-4CE5-B32D-536BC77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149D-B9E2-4A41-B37C-F91DF38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CF1B-1B00-4613-B08D-CA284A6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BE62F-7E2A-40F0-9ABC-1445C0E2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BA6A0-8DB8-4427-BF4E-34495BC8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4B851-9BA3-42D1-96B9-DF624D3F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E9634-2C02-4116-B5CC-D642F2A9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53DC3-F063-4EE3-9E1A-937E2AE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B8631-128A-433A-9C7C-9D4FB57F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BC2-42CE-4827-84E7-1F0A538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A9E42-9CB0-4470-B6DF-7F9D2624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90388-AE9F-4BC4-9297-0AB1E27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45A32-D2A3-4468-B76D-E0859F5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0A8C9-AC6B-4639-BEFA-4AF7031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EF1DA-8003-4DC2-BFC6-3884F16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339D2-84B3-4D17-BF4A-620A51D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7C5D6-A14D-4DF7-AE6C-FDDD04B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67239-BDB3-4D08-AA51-3062622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88843-B6E5-4BEF-95E1-A0A1A798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B7414-6D50-46B1-B092-0059312A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62C-822A-4BE7-83D0-C0FC21A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28B5E-E370-4944-B8F5-0F62396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7B49B-A05B-4F17-9B48-DEBC3EF1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F4C5A-D0CA-4C50-9BD0-DA133EB5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3D304-84C2-4FAC-B6EE-0B00DA7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204A6-BFA2-4206-B57E-33371B8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83E9E-1085-463A-BBF2-874FDCB1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8600B-A70F-4F45-883B-B114ED2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7A62F-CA3D-4FCE-9224-F3B4BC1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71DCD-1AEC-46F8-BD11-74512A01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7AA7E-BA58-4E41-90E6-87DF1DC7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3D9-9689-4FD6-A160-BC49B5A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70B22-7055-46D8-B6E7-1D3D7F0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07542-0133-451D-AA6A-0558AC6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C179A-DE3C-4E47-9E8C-91E7B17C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475CE-D1D1-4FBE-A6B3-AD9DA82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4D413-D25B-40FA-AD76-8539D9C2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38860-E40A-458D-8B4F-ED70D453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962BE-2139-4A97-B8A8-C1EF14E3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336D9-0295-445C-84DD-88F2378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7590E-8724-43D2-82A8-F2E86AD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C2FBC-CD9E-4AF8-9EF0-49FE07B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38F-C48C-4EC0-965C-8AE165E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3F50B-192A-406A-B293-ADBFD20E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006A1-87DA-4C75-99DF-15FA3C7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E0AE9-E28F-49F7-A15E-37DF969F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F5C10-01FC-4B5B-81C6-8A321FF3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67D6A-C2FE-4B77-BFC1-8960788B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AC808-D75C-4558-A36F-26983B3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2FD79-BEC9-4A00-AA80-2ACA2772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712C7-3201-4007-A5A7-2707EC9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6AC21-8E7A-45A2-871F-B1E123AC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D2AF2-16A1-400C-A77A-5E83A69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9AB-EA2C-4D3C-B841-B88F379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068D0-1914-4DC7-8EB7-7D955E5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FECBF-83AC-4C4D-8529-9BEBEE2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567CD-1064-4C04-B209-61541AFF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42467-8C7E-4421-B5FB-32D53E54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06B36-16A8-4F30-8C53-08000C0D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1A859-9E91-4C7E-AF78-8F3688A3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464BE-E5E6-4AC0-834E-57BD896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34617-F02B-4AA7-9F71-AAEC179F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AAC09-7E84-472E-B42D-A2881F4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B9BEC-D6C7-48F1-9F04-E845997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058-8D10-48BF-9881-DFF5FFE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59649-66BF-4552-910B-D57C9A49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139B1-0ECD-4583-846B-E2F7FCC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D98C5-86F3-4860-B18F-D632152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C1BD4-199B-4A58-8D60-01E112D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01AC9-8C04-4529-8BC4-3505945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CC96E-EB0D-4906-B35A-EFAD2D42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499A6-3CCD-406D-937D-9EC466A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A19C3-917D-4944-BD4B-7D5D98D9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C5D27-EF2F-4B58-9CDF-4E3F1327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98D4D-85F0-4247-BE1A-5C95827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C43-32CA-422A-899D-13B77D36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7655A-0EDB-4961-A2C0-AD9BFDE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8C8B7-24C3-4E87-ABAD-2E274A41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3DE0A-181E-46B1-AE88-06C38CA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43383-DC17-444E-AB47-15588C9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CDE1E-8D38-431F-B663-130E5B8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DE0FD-2F04-4702-9CB0-30936DB7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F2157-FC3A-43F8-850A-834B1616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05EC4-7DE7-4175-AD56-8A6D6E4C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9A95E-420B-4075-A1F7-C66CF123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282E1-77AC-40DE-856B-A68A8023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849-E601-4405-AB35-FC7A451A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E3E43-90C4-48CB-8123-C6BC64FE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94F66-CDF9-42D2-B466-DD0408FA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739CB-9AD5-477D-8572-FFDDBC3C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37727-640B-47A3-BEE6-08E2F1C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DF697-54B2-4139-A4B2-240F547B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1997A-AA57-4512-8D6F-84C1EE2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BC897-5B9D-4E1E-8166-0036DDF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7BC61-EFA3-4A43-9A9E-CA943D84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60CF8-9B4F-4124-9D6C-2373FB46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379E9-AC28-41FA-AFF6-12CB9826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EE3-A014-446E-B3B9-0834CC36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4DEE1-EC45-455D-9F14-5365F11C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EBA82-3FF4-4427-BDF6-1B8353D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6256A-C0B8-4067-BF0A-6169171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36826-2F12-4D39-A074-E5CC075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8EE9C-BF8E-4D89-B7DC-DC02E4C6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81A4C-DF50-4B64-8855-167058B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672A4-7BC0-4963-B941-81F8311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DF8DF-7F0D-4779-B826-4BAA4FE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39869-7038-4321-8558-38FAAAE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53E2E-C67A-4AF2-AEBA-B7D8139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8A4-6B45-4D58-9F06-FAC93DFF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37873-4878-4694-AD86-9460C13F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92880-840E-4990-9364-CD06F4D6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551DE-3D3C-489C-8733-1A4A39AE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C3312-30FD-41DD-AA23-A6B2AD99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B4211-7DAD-4F1F-AE0C-EAFFA3B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416F0-B7C3-4548-BBEB-E387CFC6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73578-8AE3-4967-A697-559D4C41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D7562-439D-4263-951A-1C95B15B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F3A50-CF74-43E4-9568-7285A358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39823-E5A6-4606-9085-246F28F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63F5-0974-4B11-A74F-A9046503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AC8F7-2C6B-465E-8BEA-B90630C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F2D64-8C3A-412C-9F51-F463E45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D71C2-5BFB-431C-A5BB-1A62385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48AF8-8524-49CA-94C3-CD2C42A8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77ECC-F520-4DBF-A2BE-2904FD07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E55D6-6F1E-4317-B6D3-99F0E3A0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6AFF9-CE40-4ED4-B6E6-DEB0F50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191C72-995E-42C8-8B63-2BD33E5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4AFE0-F084-43B5-B4CF-45CD6B6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88E311-BD66-456F-9289-5DFB3EC9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3F7-37AC-4975-BBB5-B261F9C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20440-19D9-4257-AD8C-636FCC3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A5131E-D3E9-4485-B04E-8935058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E18307-3D48-404E-944F-A88AB4D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EBDE1B-E178-43F6-9A0D-2E28635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835AA-E1E9-4BDE-944B-B1A1279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3B75A-5053-453F-812E-22368D99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35FC4-D6C0-4817-B456-D8BE8AEF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BFD4FD-2DD9-4900-AEE6-50914C6F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5BEB37-3374-43D1-8273-646FDE0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ED2F6-7A7F-48A6-9DEE-CFEAAD93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4DC-AD36-4425-8028-C3676BA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02511-AA59-43D2-A39F-C49A37F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68EB0-63BA-4792-A555-10A8116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DAB80-A38E-4DAF-8F38-5BA0E2B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2FD41-B27E-47C8-ABF4-A268E16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00FE7-417D-4FD1-9423-40AF29E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3EEC3-5DB0-46E1-AF58-E12ACAC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7A148-409D-43E1-94AD-3779304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5CE94-4ACF-4C43-8109-F09559BF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C34137-20A7-45B0-BCEA-3F327D97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261D-5B09-489F-BC8A-09A563F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3C13-BECE-4740-9DB7-B6499E8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0B0-6D03-4290-9C6A-7964D67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2BB-0998-4F1D-9330-77303C9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F5E1-CB33-404F-8187-61D3552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3C33-302B-4EE4-97F2-95D097B6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819-CFAD-424C-A36C-F0166A6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A67C-5A26-4682-A489-633EA4B6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865A-238A-43A9-A6DF-8CB08674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EE38-CBDD-4B23-BE46-F26D9CB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3AF1-7CF3-44A0-A33B-1D4FA26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BB89-25E4-4347-9882-3268F88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EAB5-62F2-4819-932A-4BC81E0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F842-A243-4487-90D9-3DEC494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F648-EAF3-4A86-9251-3CA33FA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CFF9-7074-43D9-83F0-7B12FB3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D6BB-1D6B-4751-A2F6-1BB5410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93B9-BE3A-4CD8-8036-29032E92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3733-4D21-4144-A5AD-A0089DD0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6C8B-DA37-44F1-9DB2-97991CC4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AC45-E543-48B1-B873-FFB1D545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B3BB-7900-4991-BAE5-F1A6B98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C708-DD10-4711-AB1E-8F91063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858C-E8E0-4199-96E7-C892870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348A-72BC-406B-BDE3-8A78E0C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5E15-4E89-4230-BE23-8BCBCBCE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E881-3D55-4D7B-87BC-B3455F5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1C0D-148C-4ED8-AE1C-D4C62A0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2ED1-9A47-4BB3-A27A-D2364BE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5C5F-6E17-4D0B-9CB0-DAF70B84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13C6-2C43-481D-8A9C-8046A74B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B24F-2AC0-45AA-9D2D-91B2ACDE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1B18-5612-4897-BF29-09273EAD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FCB17-26D8-4989-9356-F32DB26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6312-1190-4123-B2FB-A28790B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4151-0243-42D1-B8CE-35FF5D5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05CB-E834-43DC-9852-1F93DAF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C423-21C8-4121-BD03-FFEF644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AF63F-1580-41E3-9108-4ECCCD4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49E5-A363-477A-A221-F0CDC40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75C8-E423-4984-9BE0-BAC9706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ABDB-0BA8-493A-A1A3-19EAFF6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9B13-DC9D-4E30-B026-5867147F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32B2-A926-4D49-AFCF-F4FA5A88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099C3-956C-498B-A4B5-BC829A57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C81C-8F13-4D4F-85A0-C8CFD2ED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0880-1509-4384-89DA-19340E7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0DCF3-23E9-40EB-9A85-85C7F7DD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020BD-90A6-45EE-9A81-FB75B6C5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F2D67-6653-40F8-95D0-C04B2190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00C7-BAB2-45F4-BC06-3CF1D79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EBE2-83FC-412D-AC8C-DF58DD6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7209-60FC-4804-949E-75A2865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215D-DCEC-4D74-AA36-49A34733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13F1-E652-4120-B415-BB2C1F5F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34D6-81DA-47C4-8E0A-F50E1F8C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7529-CB9A-43EE-98F7-35222969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15104-31E6-4E8D-82E4-A536682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9DB9-00CC-41C9-8FFC-9185C6C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77AC-3153-4A81-9D34-A587CB75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B3C3-B286-47FD-AE8C-0CAF862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F1F7-0058-4FA9-907D-317A6E6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8528A-B7E9-4A09-8709-8B86529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A8E4D-43A6-4DB1-93C5-7030737B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56FF-07EB-48F2-AE8A-C0CE4DD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A6EA-CB25-4009-9365-9FBDB47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3676-3A42-421F-9E9D-1F8CBA4A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A8B2-88B1-40E5-9EF8-5BD359D5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2D6B-1ABF-41DD-BC45-B3C1E90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7313C-8861-494E-A974-D2EF343D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BA40B-D95A-492A-8530-15D010F4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F4A6-D702-4662-8129-17C8050D8DC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055-E2C6-417B-9657-39EFFB6E4D8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2F1D-F106-40A6-8734-FECC824B72F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5940-E4C3-4701-B340-7347F20F75E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9FE8-CCD3-4EBF-8982-D006DB9EEC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58F7-2AB9-42F5-8985-7B73919E00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176-02B3-402A-983E-A7F32E7DF4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35F-AC04-47EF-B484-3406609E1A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2095-DB25-4B1E-8D81-BBF856A4E2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5E5-E262-437C-BE76-55F2F6D331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D5F3-7C87-4BFF-A992-83EA38F5CB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516-B263-47FA-B37A-0081B3C419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426-3749-4FDA-ADB7-19EC28D6C9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480-551F-433A-BC12-D666F38532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EBB-23C3-42B0-89DB-F947F65BD0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7FD-D72B-43F1-89C6-31491487C2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C31F-6F1A-4807-8180-9F3113BC90C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BF23-4DE8-41BB-ADBE-9F32E1F3129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334-034E-41FC-9F2B-9ECEA437EFF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3634-45A3-4AFE-BADD-85FE7687864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2A6-78B8-4F92-B579-50CC7684EAC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54A5-5977-4086-8204-20040F6A6C9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71E-1A95-4DE9-A4C4-5F4880905D0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器的认识及应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1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泰山古树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计算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矩形 10"/>
          <p:cNvSpPr/>
          <p:nvPr/>
        </p:nvSpPr>
        <p:spPr>
          <a:xfrm>
            <a:off x="954000" y="1268280"/>
            <a:ext cx="79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用计算器算出         里是几，根据规律再继续写两道算式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9999÷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111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222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3333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4" name="矩形 1"/>
          <p:cNvSpPr/>
          <p:nvPr/>
        </p:nvSpPr>
        <p:spPr>
          <a:xfrm flipH="1">
            <a:off x="3605040" y="1413000"/>
            <a:ext cx="46224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5" name="矩形 24"/>
          <p:cNvSpPr/>
          <p:nvPr/>
        </p:nvSpPr>
        <p:spPr>
          <a:xfrm>
            <a:off x="1319040" y="285264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6" name="矩形 1"/>
          <p:cNvSpPr/>
          <p:nvPr/>
        </p:nvSpPr>
        <p:spPr>
          <a:xfrm flipH="1">
            <a:off x="1619280" y="2997360"/>
            <a:ext cx="46368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7" name="矩形 1"/>
          <p:cNvSpPr/>
          <p:nvPr/>
        </p:nvSpPr>
        <p:spPr>
          <a:xfrm flipH="1">
            <a:off x="1619280" y="3573360"/>
            <a:ext cx="463680" cy="4352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8" name="矩形 1"/>
          <p:cNvSpPr/>
          <p:nvPr/>
        </p:nvSpPr>
        <p:spPr>
          <a:xfrm flipH="1">
            <a:off x="3063240" y="3573360"/>
            <a:ext cx="463320" cy="4352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9" name="矩形 1"/>
          <p:cNvSpPr/>
          <p:nvPr/>
        </p:nvSpPr>
        <p:spPr>
          <a:xfrm flipH="1">
            <a:off x="3058560" y="2997360"/>
            <a:ext cx="46332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0" name="矩形 30"/>
          <p:cNvSpPr/>
          <p:nvPr/>
        </p:nvSpPr>
        <p:spPr>
          <a:xfrm>
            <a:off x="2752560" y="285264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1" name="矩形 31"/>
          <p:cNvSpPr/>
          <p:nvPr/>
        </p:nvSpPr>
        <p:spPr>
          <a:xfrm>
            <a:off x="1332000" y="346248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2" name="矩形 32"/>
          <p:cNvSpPr/>
          <p:nvPr/>
        </p:nvSpPr>
        <p:spPr>
          <a:xfrm>
            <a:off x="2771640" y="34624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矩形 6"/>
          <p:cNvSpPr/>
          <p:nvPr/>
        </p:nvSpPr>
        <p:spPr>
          <a:xfrm>
            <a:off x="1943280" y="4076640"/>
            <a:ext cx="59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5⇒1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41⇒48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⇒1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31⇒36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68⇒11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1⇒144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45⇒12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921⇒42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24⇒733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4" name="矩形 10"/>
          <p:cNvSpPr/>
          <p:nvPr/>
        </p:nvSpPr>
        <p:spPr>
          <a:xfrm>
            <a:off x="954000" y="1268280"/>
            <a:ext cx="74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你知道什么叫“回文数”吗？任选一个数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按照下面的方法计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6    1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1    6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6    11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回文数。根据下面的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能得到它们的回文数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85" name="Picture 10" descr=""/>
          <p:cNvPicPr/>
          <p:nvPr/>
        </p:nvPicPr>
        <p:blipFill>
          <a:blip r:embed="rId1"/>
          <a:stretch/>
        </p:blipFill>
        <p:spPr>
          <a:xfrm>
            <a:off x="5683320" y="197316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0" descr=""/>
          <p:cNvPicPr/>
          <p:nvPr/>
        </p:nvPicPr>
        <p:blipFill>
          <a:blip r:embed="rId2"/>
          <a:stretch/>
        </p:blipFill>
        <p:spPr>
          <a:xfrm>
            <a:off x="7488360" y="197316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0" descr=""/>
          <p:cNvPicPr/>
          <p:nvPr/>
        </p:nvPicPr>
        <p:blipFill>
          <a:blip r:embed="rId3"/>
          <a:stretch/>
        </p:blipFill>
        <p:spPr>
          <a:xfrm>
            <a:off x="2932200" y="2508120"/>
            <a:ext cx="457200" cy="3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矩形 10"/>
          <p:cNvSpPr/>
          <p:nvPr/>
        </p:nvSpPr>
        <p:spPr>
          <a:xfrm>
            <a:off x="954000" y="1268280"/>
            <a:ext cx="74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小明发现月历表上框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数的和与最中间的数有一定规律，按这个规律，如果月历表框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数的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数各是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89" name="Picture 2" descr="Z-1"/>
          <p:cNvPicPr/>
          <p:nvPr/>
        </p:nvPicPr>
        <p:blipFill>
          <a:blip r:embed="rId1"/>
          <a:stretch/>
        </p:blipFill>
        <p:spPr>
          <a:xfrm>
            <a:off x="1698480" y="3327480"/>
            <a:ext cx="6005520" cy="29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矩形 3"/>
          <p:cNvSpPr/>
          <p:nvPr/>
        </p:nvSpPr>
        <p:spPr>
          <a:xfrm>
            <a:off x="1135080" y="1881360"/>
            <a:ext cx="703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数分别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点拨：通过计算可以得到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数的和是最中间数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倍，由此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到最中间的数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前、后两个数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相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从而可求出前、后两个数分别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上、下两个数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相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从而可求出上、下两个数分别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9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9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9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9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6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任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一个数字，将这个数字先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再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0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多选几个数字试试，看结果有什么规律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7" name="矩形 14"/>
          <p:cNvSpPr/>
          <p:nvPr/>
        </p:nvSpPr>
        <p:spPr>
          <a:xfrm>
            <a:off x="1309680" y="3303720"/>
            <a:ext cx="650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×3×370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1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×3×370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2222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×3×370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5555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规律：通过计算得出，选用数字几，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结果就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个数字几组成的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灵活运用计算器进行计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计算器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484280"/>
            <a:ext cx="72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先用计算器算一算，再连一连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70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39×15                              1870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3)×28                           59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136÷(77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9)                     4144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71×(4840÷55)                         3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直接连接符 3"/>
          <p:cNvSpPr/>
          <p:nvPr/>
        </p:nvSpPr>
        <p:spPr>
          <a:xfrm>
            <a:off x="3564000" y="2744640"/>
            <a:ext cx="1979640" cy="1440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直接连接符 18"/>
          <p:cNvSpPr/>
          <p:nvPr/>
        </p:nvSpPr>
        <p:spPr>
          <a:xfrm flipV="1">
            <a:off x="3564000" y="2744640"/>
            <a:ext cx="1979640" cy="720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直接连接符 20"/>
          <p:cNvSpPr/>
          <p:nvPr/>
        </p:nvSpPr>
        <p:spPr>
          <a:xfrm flipV="1">
            <a:off x="3656160" y="3465360"/>
            <a:ext cx="1887480" cy="703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直接连接符 22"/>
          <p:cNvSpPr/>
          <p:nvPr/>
        </p:nvSpPr>
        <p:spPr>
          <a:xfrm>
            <a:off x="4103640" y="4889520"/>
            <a:ext cx="1420920" cy="735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直接连接符 24"/>
          <p:cNvSpPr/>
          <p:nvPr/>
        </p:nvSpPr>
        <p:spPr>
          <a:xfrm flipV="1">
            <a:off x="3780000" y="5013360"/>
            <a:ext cx="1744560" cy="668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0"/>
          <p:cNvSpPr/>
          <p:nvPr/>
        </p:nvSpPr>
        <p:spPr>
          <a:xfrm>
            <a:off x="954000" y="1484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在                    里填上适当的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计算器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90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1"/>
          <p:cNvSpPr/>
          <p:nvPr/>
        </p:nvSpPr>
        <p:spPr>
          <a:xfrm flipH="1">
            <a:off x="2013840" y="1625760"/>
            <a:ext cx="145404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4"/>
          <p:cNvSpPr/>
          <p:nvPr/>
        </p:nvSpPr>
        <p:spPr>
          <a:xfrm flipH="1">
            <a:off x="2741040" y="2697120"/>
            <a:ext cx="1454040" cy="4366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5"/>
          <p:cNvSpPr/>
          <p:nvPr/>
        </p:nvSpPr>
        <p:spPr>
          <a:xfrm flipH="1">
            <a:off x="5061960" y="2689200"/>
            <a:ext cx="145404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3" name="Picture 4" descr=""/>
          <p:cNvPicPr/>
          <p:nvPr/>
        </p:nvPicPr>
        <p:blipFill>
          <a:blip r:embed="rId1"/>
          <a:stretch/>
        </p:blipFill>
        <p:spPr>
          <a:xfrm>
            <a:off x="2055960" y="2565360"/>
            <a:ext cx="612720" cy="4604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5" descr=""/>
          <p:cNvPicPr/>
          <p:nvPr/>
        </p:nvPicPr>
        <p:blipFill>
          <a:blip r:embed="rId2"/>
          <a:stretch/>
        </p:blipFill>
        <p:spPr>
          <a:xfrm>
            <a:off x="4357800" y="2600280"/>
            <a:ext cx="609480" cy="4334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6" descr=""/>
          <p:cNvPicPr/>
          <p:nvPr/>
        </p:nvPicPr>
        <p:blipFill>
          <a:blip r:embed="rId3"/>
          <a:stretch/>
        </p:blipFill>
        <p:spPr>
          <a:xfrm>
            <a:off x="1604880" y="3284640"/>
            <a:ext cx="627120" cy="485640"/>
          </a:xfrm>
          <a:prstGeom prst="rect">
            <a:avLst/>
          </a:prstGeom>
          <a:ln w="0">
            <a:noFill/>
          </a:ln>
        </p:spPr>
      </p:pic>
      <p:sp>
        <p:nvSpPr>
          <p:cNvPr id="1016" name="矩形 11"/>
          <p:cNvSpPr/>
          <p:nvPr/>
        </p:nvSpPr>
        <p:spPr>
          <a:xfrm flipH="1">
            <a:off x="2339280" y="3425760"/>
            <a:ext cx="145404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7" name="Picture 9" descr=""/>
          <p:cNvPicPr/>
          <p:nvPr/>
        </p:nvPicPr>
        <p:blipFill>
          <a:blip r:embed="rId4"/>
          <a:stretch/>
        </p:blipFill>
        <p:spPr>
          <a:xfrm>
            <a:off x="3889440" y="3336840"/>
            <a:ext cx="611280" cy="425520"/>
          </a:xfrm>
          <a:prstGeom prst="rect">
            <a:avLst/>
          </a:prstGeom>
          <a:ln w="0">
            <a:noFill/>
          </a:ln>
        </p:spPr>
      </p:pic>
      <p:sp>
        <p:nvSpPr>
          <p:cNvPr id="1018" name="矩形 14"/>
          <p:cNvSpPr/>
          <p:nvPr/>
        </p:nvSpPr>
        <p:spPr>
          <a:xfrm flipH="1">
            <a:off x="4643280" y="3421080"/>
            <a:ext cx="1454400" cy="4348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9" name="Picture 10" descr=""/>
          <p:cNvPicPr/>
          <p:nvPr/>
        </p:nvPicPr>
        <p:blipFill>
          <a:blip r:embed="rId5"/>
          <a:stretch/>
        </p:blipFill>
        <p:spPr>
          <a:xfrm>
            <a:off x="2376360" y="4257720"/>
            <a:ext cx="633600" cy="431640"/>
          </a:xfrm>
          <a:prstGeom prst="rect">
            <a:avLst/>
          </a:prstGeom>
          <a:ln w="0">
            <a:noFill/>
          </a:ln>
        </p:spPr>
      </p:pic>
      <p:sp>
        <p:nvSpPr>
          <p:cNvPr id="1020" name="矩形 16"/>
          <p:cNvSpPr/>
          <p:nvPr/>
        </p:nvSpPr>
        <p:spPr>
          <a:xfrm flipH="1">
            <a:off x="3136320" y="4325760"/>
            <a:ext cx="1454040" cy="4352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1" name="Picture 11" descr=""/>
          <p:cNvPicPr/>
          <p:nvPr/>
        </p:nvPicPr>
        <p:blipFill>
          <a:blip r:embed="rId6"/>
          <a:stretch/>
        </p:blipFill>
        <p:spPr>
          <a:xfrm>
            <a:off x="4716360" y="4195800"/>
            <a:ext cx="554040" cy="385560"/>
          </a:xfrm>
          <a:prstGeom prst="rect">
            <a:avLst/>
          </a:prstGeom>
          <a:ln w="0">
            <a:noFill/>
          </a:ln>
        </p:spPr>
      </p:pic>
      <p:sp>
        <p:nvSpPr>
          <p:cNvPr id="1022" name="矩形 18"/>
          <p:cNvSpPr/>
          <p:nvPr/>
        </p:nvSpPr>
        <p:spPr>
          <a:xfrm flipH="1">
            <a:off x="5349240" y="4329000"/>
            <a:ext cx="1454040" cy="43524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19"/>
          <p:cNvSpPr/>
          <p:nvPr/>
        </p:nvSpPr>
        <p:spPr>
          <a:xfrm>
            <a:off x="2895480" y="256068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4976 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20"/>
          <p:cNvSpPr/>
          <p:nvPr/>
        </p:nvSpPr>
        <p:spPr>
          <a:xfrm>
            <a:off x="5272200" y="256536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5" name="矩形 21"/>
          <p:cNvSpPr/>
          <p:nvPr/>
        </p:nvSpPr>
        <p:spPr>
          <a:xfrm>
            <a:off x="2484360" y="331776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22"/>
          <p:cNvSpPr/>
          <p:nvPr/>
        </p:nvSpPr>
        <p:spPr>
          <a:xfrm>
            <a:off x="4911840" y="332100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23"/>
          <p:cNvSpPr/>
          <p:nvPr/>
        </p:nvSpPr>
        <p:spPr>
          <a:xfrm>
            <a:off x="3327480" y="421632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矩形 24"/>
          <p:cNvSpPr/>
          <p:nvPr/>
        </p:nvSpPr>
        <p:spPr>
          <a:xfrm>
            <a:off x="5580000" y="422100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83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矩形 10"/>
          <p:cNvSpPr/>
          <p:nvPr/>
        </p:nvSpPr>
        <p:spPr>
          <a:xfrm>
            <a:off x="954000" y="11606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下面是某餐车第一季度的营业额统计表，请利用计算器把表格填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0" name="Picture 5" descr=""/>
          <p:cNvPicPr/>
          <p:nvPr/>
        </p:nvPicPr>
        <p:blipFill>
          <a:blip r:embed="rId1"/>
          <a:stretch/>
        </p:blipFill>
        <p:spPr>
          <a:xfrm>
            <a:off x="1380960" y="2589120"/>
            <a:ext cx="6382080" cy="33242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5"/>
          <p:cNvSpPr/>
          <p:nvPr/>
        </p:nvSpPr>
        <p:spPr>
          <a:xfrm>
            <a:off x="6280200" y="335772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9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6"/>
          <p:cNvSpPr/>
          <p:nvPr/>
        </p:nvSpPr>
        <p:spPr>
          <a:xfrm>
            <a:off x="2932200" y="396864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14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7"/>
          <p:cNvSpPr/>
          <p:nvPr/>
        </p:nvSpPr>
        <p:spPr>
          <a:xfrm>
            <a:off x="4624560" y="457668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19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8"/>
          <p:cNvSpPr/>
          <p:nvPr/>
        </p:nvSpPr>
        <p:spPr>
          <a:xfrm>
            <a:off x="2935440" y="518940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067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5" name="矩形 9"/>
          <p:cNvSpPr/>
          <p:nvPr/>
        </p:nvSpPr>
        <p:spPr>
          <a:xfrm>
            <a:off x="4643280" y="518940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849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6" name="矩形 11"/>
          <p:cNvSpPr/>
          <p:nvPr/>
        </p:nvSpPr>
        <p:spPr>
          <a:xfrm>
            <a:off x="6351480" y="519264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17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38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39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2" name="矩形 19"/>
          <p:cNvSpPr/>
          <p:nvPr/>
        </p:nvSpPr>
        <p:spPr>
          <a:xfrm>
            <a:off x="954000" y="1484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数字任意组成一个两位数和一个三位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重复数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先用计算器求出它们的积，再与你的同学比一比，谁的积大谁获胜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3" name="矩形 14"/>
          <p:cNvSpPr/>
          <p:nvPr/>
        </p:nvSpPr>
        <p:spPr>
          <a:xfrm>
            <a:off x="1295280" y="3968640"/>
            <a:ext cx="650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我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3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74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同学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72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616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7460&lt;26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　同学获胜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计算器探索规律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5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1046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7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49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1050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51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53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1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泰山古树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计算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4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5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计算器探索出规律并根据探索的规律做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计算器解决规律性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7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1058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59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60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矩形 10"/>
          <p:cNvSpPr/>
          <p:nvPr/>
        </p:nvSpPr>
        <p:spPr>
          <a:xfrm>
            <a:off x="954000" y="1268280"/>
            <a:ext cx="793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先用计算器计算，再按规律直接写得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3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34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用计算，根据上面的规律直接写出下面各题的得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345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3456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34567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62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63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64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6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6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7" name="矩形 12"/>
          <p:cNvSpPr/>
          <p:nvPr/>
        </p:nvSpPr>
        <p:spPr>
          <a:xfrm>
            <a:off x="2843280" y="238428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2995560" y="295596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0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9" name="矩形 14"/>
          <p:cNvSpPr/>
          <p:nvPr/>
        </p:nvSpPr>
        <p:spPr>
          <a:xfrm>
            <a:off x="3147840" y="349560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0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0" name="矩形 15"/>
          <p:cNvSpPr/>
          <p:nvPr/>
        </p:nvSpPr>
        <p:spPr>
          <a:xfrm>
            <a:off x="3832200" y="457668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10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1" name="矩形 16"/>
          <p:cNvSpPr/>
          <p:nvPr/>
        </p:nvSpPr>
        <p:spPr>
          <a:xfrm>
            <a:off x="3851280" y="512136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110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2" name="矩形 17"/>
          <p:cNvSpPr/>
          <p:nvPr/>
        </p:nvSpPr>
        <p:spPr>
          <a:xfrm>
            <a:off x="3800520" y="56991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11110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12:37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