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wmf" ContentType="image/x-wmf"/>
  <Override PartName="/ppt/media/image4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CA0-B531-4F44-A784-3E13FF40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98F-5A26-46A2-8CF9-13B88A7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37B-B53D-4F01-BAD9-838E53B4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562-6AC6-48CA-9EE1-8D9C0B98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6C41-5648-4F37-B073-C17D10E3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B74-E0AC-4477-B0C6-94F8847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2C8B-D16F-4E8A-8144-A123B6F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DA12-977E-4018-A3BF-F3182F6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8C1C-DA46-4E08-B4C0-370C632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3A00-85EE-445C-9EC8-F9960BF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F97-8F73-40F7-86E8-44BF452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38D-AE31-4766-A325-3E38BC9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010E-A513-4D5F-AA03-C739DA3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0C20-0D30-4BA9-8303-CC73643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8325-55D9-4387-B88A-8253B1D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FA6C-908C-4B72-AB7A-C0642860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BE59-5B7D-4CF8-BE5B-4BEF5427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FF4-2C8A-4413-A62F-B750F8F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D3A-6703-4BBA-8B30-D3D67FA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626-3F5F-4EE2-A7B1-FBD6A66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7C9-55FF-4E1F-AA42-FDC0D888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942-F7DF-4663-9F63-4EC05B3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35D-E033-4C91-BC6C-5508329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EF6-6EFC-499D-BC88-67C7535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15C-0DAF-4FCC-873A-099A7E032F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36F-93C1-451D-985E-88C9C158B2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84" name="标题 1"/>
          <p:cNvSpPr/>
          <p:nvPr/>
        </p:nvSpPr>
        <p:spPr>
          <a:xfrm>
            <a:off x="7286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观察物体  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203640" y="5514840"/>
            <a:ext cx="1655640" cy="368280"/>
            <a:chOff x="3203640" y="5514840"/>
            <a:chExt cx="1655640" cy="368280"/>
          </a:xfrm>
        </p:grpSpPr>
        <p:pic>
          <p:nvPicPr>
            <p:cNvPr id="86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62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2"/>
            <p:cNvSpPr/>
            <p:nvPr/>
          </p:nvSpPr>
          <p:spPr>
            <a:xfrm>
              <a:off x="3637080" y="55148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回顾反思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89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自主练习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0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0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92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合作探究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3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3"/>
          <p:cNvGrpSpPr/>
          <p:nvPr/>
        </p:nvGrpSpPr>
        <p:grpSpPr>
          <a:xfrm>
            <a:off x="482760" y="3530520"/>
            <a:ext cx="2044080" cy="371520"/>
            <a:chOff x="482760" y="3530520"/>
            <a:chExt cx="2044080" cy="371520"/>
          </a:xfrm>
        </p:grpSpPr>
        <p:sp>
          <p:nvSpPr>
            <p:cNvPr id="95" name="Text Box 9"/>
            <p:cNvSpPr/>
            <p:nvPr/>
          </p:nvSpPr>
          <p:spPr>
            <a:xfrm>
              <a:off x="871200" y="353052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情境导入 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6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4492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1187280" y="2444760"/>
            <a:ext cx="1439640" cy="912600"/>
            <a:chOff x="1187280" y="2444760"/>
            <a:chExt cx="1439640" cy="912600"/>
          </a:xfrm>
        </p:grpSpPr>
        <p:grpSp>
          <p:nvGrpSpPr>
            <p:cNvPr id="301" name="Group 6"/>
            <p:cNvGrpSpPr/>
            <p:nvPr/>
          </p:nvGrpSpPr>
          <p:grpSpPr>
            <a:xfrm>
              <a:off x="1187280" y="2827080"/>
              <a:ext cx="1439640" cy="530280"/>
              <a:chOff x="1187280" y="2827080"/>
              <a:chExt cx="1439640" cy="530280"/>
            </a:xfrm>
          </p:grpSpPr>
          <p:sp>
            <p:nvSpPr>
              <p:cNvPr id="302" name="AutoShape 7"/>
              <p:cNvSpPr/>
              <p:nvPr/>
            </p:nvSpPr>
            <p:spPr>
              <a:xfrm>
                <a:off x="1187280" y="2830320"/>
                <a:ext cx="572040" cy="5270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AutoShape 8"/>
              <p:cNvSpPr/>
              <p:nvPr/>
            </p:nvSpPr>
            <p:spPr>
              <a:xfrm>
                <a:off x="1617840" y="2830320"/>
                <a:ext cx="573120" cy="5270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AutoShape 9"/>
              <p:cNvSpPr/>
              <p:nvPr/>
            </p:nvSpPr>
            <p:spPr>
              <a:xfrm>
                <a:off x="2055240" y="2827080"/>
                <a:ext cx="571680" cy="5270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5" name="AutoShape 10"/>
            <p:cNvSpPr/>
            <p:nvPr/>
          </p:nvSpPr>
          <p:spPr>
            <a:xfrm>
              <a:off x="1614240" y="2444760"/>
              <a:ext cx="572040" cy="5270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5435640" y="2427120"/>
            <a:ext cx="1441080" cy="1002960"/>
            <a:chOff x="5435640" y="2427120"/>
            <a:chExt cx="1441080" cy="1002960"/>
          </a:xfrm>
        </p:grpSpPr>
        <p:sp>
          <p:nvSpPr>
            <p:cNvPr id="307" name="AutoShape 12"/>
            <p:cNvSpPr/>
            <p:nvPr/>
          </p:nvSpPr>
          <p:spPr>
            <a:xfrm>
              <a:off x="5435640" y="2856960"/>
              <a:ext cx="570960" cy="5731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8" name="AutoShape 13"/>
            <p:cNvSpPr/>
            <p:nvPr/>
          </p:nvSpPr>
          <p:spPr>
            <a:xfrm>
              <a:off x="5865480" y="2856960"/>
              <a:ext cx="570960" cy="5731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AutoShape 14"/>
            <p:cNvSpPr/>
            <p:nvPr/>
          </p:nvSpPr>
          <p:spPr>
            <a:xfrm>
              <a:off x="6302160" y="2851920"/>
              <a:ext cx="570600" cy="57420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AutoShape 15"/>
            <p:cNvSpPr/>
            <p:nvPr/>
          </p:nvSpPr>
          <p:spPr>
            <a:xfrm>
              <a:off x="6305760" y="2427120"/>
              <a:ext cx="570960" cy="5731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3419640" y="2449440"/>
            <a:ext cx="1368000" cy="980640"/>
            <a:chOff x="3419640" y="2449440"/>
            <a:chExt cx="1368000" cy="980640"/>
          </a:xfrm>
        </p:grpSpPr>
        <p:grpSp>
          <p:nvGrpSpPr>
            <p:cNvPr id="312" name="Group 17"/>
            <p:cNvGrpSpPr/>
            <p:nvPr/>
          </p:nvGrpSpPr>
          <p:grpSpPr>
            <a:xfrm>
              <a:off x="3419640" y="2858040"/>
              <a:ext cx="1368000" cy="572040"/>
              <a:chOff x="3419640" y="2858040"/>
              <a:chExt cx="1368000" cy="572040"/>
            </a:xfrm>
          </p:grpSpPr>
          <p:sp>
            <p:nvSpPr>
              <p:cNvPr id="313" name="AutoShape 18"/>
              <p:cNvSpPr/>
              <p:nvPr/>
            </p:nvSpPr>
            <p:spPr>
              <a:xfrm>
                <a:off x="3419640" y="2860560"/>
                <a:ext cx="54216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AutoShape 19"/>
              <p:cNvSpPr/>
              <p:nvPr/>
            </p:nvSpPr>
            <p:spPr>
              <a:xfrm>
                <a:off x="3828960" y="2860560"/>
                <a:ext cx="54252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5" name="AutoShape 20"/>
              <p:cNvSpPr/>
              <p:nvPr/>
            </p:nvSpPr>
            <p:spPr>
              <a:xfrm>
                <a:off x="4245480" y="2858040"/>
                <a:ext cx="54216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6" name="AutoShape 21"/>
            <p:cNvSpPr/>
            <p:nvPr/>
          </p:nvSpPr>
          <p:spPr>
            <a:xfrm>
              <a:off x="3419640" y="2449440"/>
              <a:ext cx="542160" cy="5684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7" name="Text Box 24"/>
          <p:cNvSpPr/>
          <p:nvPr/>
        </p:nvSpPr>
        <p:spPr>
          <a:xfrm>
            <a:off x="971640" y="1374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摆一摆，再从前面、侧面、上面看一看，你有什么发现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579600" y="13622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26"/>
          <p:cNvSpPr/>
          <p:nvPr/>
        </p:nvSpPr>
        <p:spPr>
          <a:xfrm>
            <a:off x="6948360" y="3213000"/>
            <a:ext cx="1871640" cy="863640"/>
          </a:xfrm>
          <a:prstGeom prst="wedgeRoundRectCallout">
            <a:avLst>
              <a:gd name="adj1" fmla="val 23791"/>
              <a:gd name="adj2" fmla="val 461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从上面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0" name="Group 22"/>
          <p:cNvGrpSpPr/>
          <p:nvPr/>
        </p:nvGrpSpPr>
        <p:grpSpPr>
          <a:xfrm>
            <a:off x="1187280" y="3967200"/>
            <a:ext cx="1297080" cy="442800"/>
            <a:chOff x="1187280" y="3967200"/>
            <a:chExt cx="1297080" cy="442800"/>
          </a:xfrm>
        </p:grpSpPr>
        <p:sp>
          <p:nvSpPr>
            <p:cNvPr id="321" name="Rectangle 23"/>
            <p:cNvSpPr/>
            <p:nvPr/>
          </p:nvSpPr>
          <p:spPr>
            <a:xfrm>
              <a:off x="1619640" y="3967200"/>
              <a:ext cx="43488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1187280" y="3967200"/>
              <a:ext cx="43236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2052000" y="3967200"/>
              <a:ext cx="43236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3419640" y="3967200"/>
            <a:ext cx="1296360" cy="442800"/>
            <a:chOff x="3419640" y="3967200"/>
            <a:chExt cx="1296360" cy="442800"/>
          </a:xfrm>
        </p:grpSpPr>
        <p:sp>
          <p:nvSpPr>
            <p:cNvPr id="325" name="Rectangle 23"/>
            <p:cNvSpPr/>
            <p:nvPr/>
          </p:nvSpPr>
          <p:spPr>
            <a:xfrm>
              <a:off x="3851640" y="3967200"/>
              <a:ext cx="43488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6" name="Rectangle 24"/>
            <p:cNvSpPr/>
            <p:nvPr/>
          </p:nvSpPr>
          <p:spPr>
            <a:xfrm>
              <a:off x="3419640" y="3967200"/>
              <a:ext cx="43200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Rectangle 25"/>
            <p:cNvSpPr/>
            <p:nvPr/>
          </p:nvSpPr>
          <p:spPr>
            <a:xfrm>
              <a:off x="4284000" y="3967200"/>
              <a:ext cx="43200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8" name="Group 22"/>
          <p:cNvGrpSpPr/>
          <p:nvPr/>
        </p:nvGrpSpPr>
        <p:grpSpPr>
          <a:xfrm>
            <a:off x="5364000" y="3967200"/>
            <a:ext cx="1297080" cy="442800"/>
            <a:chOff x="5364000" y="3967200"/>
            <a:chExt cx="1297080" cy="442800"/>
          </a:xfrm>
        </p:grpSpPr>
        <p:sp>
          <p:nvSpPr>
            <p:cNvPr id="329" name="Rectangle 23"/>
            <p:cNvSpPr/>
            <p:nvPr/>
          </p:nvSpPr>
          <p:spPr>
            <a:xfrm>
              <a:off x="5796360" y="3967200"/>
              <a:ext cx="43488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Rectangle 24"/>
            <p:cNvSpPr/>
            <p:nvPr/>
          </p:nvSpPr>
          <p:spPr>
            <a:xfrm>
              <a:off x="5364000" y="3967200"/>
              <a:ext cx="43236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6228720" y="3967200"/>
              <a:ext cx="432360" cy="442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2" name="Text Box 23"/>
          <p:cNvSpPr/>
          <p:nvPr/>
        </p:nvSpPr>
        <p:spPr>
          <a:xfrm>
            <a:off x="1547640" y="3343320"/>
            <a:ext cx="5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805200" y="3414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869080" y="3414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6"/>
          <p:cNvSpPr/>
          <p:nvPr/>
        </p:nvSpPr>
        <p:spPr>
          <a:xfrm>
            <a:off x="7093080" y="3832200"/>
            <a:ext cx="1871640" cy="863640"/>
          </a:xfrm>
          <a:prstGeom prst="wedgeRoundRectCallout">
            <a:avLst>
              <a:gd name="adj1" fmla="val 23791"/>
              <a:gd name="adj2" fmla="val 461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形状相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9640" y="112536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别是从哪个位置看到的？用线连一连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9" name="Picture 14" descr=""/>
          <p:cNvPicPr/>
          <p:nvPr/>
        </p:nvPicPr>
        <p:blipFill>
          <a:blip r:embed="rId1"/>
          <a:srcRect l="14357" t="19721" r="6723" b="25552"/>
          <a:stretch/>
        </p:blipFill>
        <p:spPr>
          <a:xfrm>
            <a:off x="1403280" y="2205000"/>
            <a:ext cx="6335640" cy="1295280"/>
          </a:xfrm>
          <a:prstGeom prst="rect">
            <a:avLst/>
          </a:prstGeom>
          <a:ln w="0">
            <a:noFill/>
          </a:ln>
        </p:spPr>
      </p:pic>
      <p:sp>
        <p:nvSpPr>
          <p:cNvPr id="340" name="Line 16"/>
          <p:cNvSpPr/>
          <p:nvPr/>
        </p:nvSpPr>
        <p:spPr>
          <a:xfrm>
            <a:off x="5508720" y="3284640"/>
            <a:ext cx="11509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4211640" y="3284640"/>
            <a:ext cx="11509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Line 18"/>
          <p:cNvSpPr/>
          <p:nvPr/>
        </p:nvSpPr>
        <p:spPr>
          <a:xfrm flipH="1">
            <a:off x="4059000" y="3174840"/>
            <a:ext cx="244764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708360" y="4114800"/>
            <a:ext cx="792360" cy="431640"/>
          </a:xfrm>
          <a:prstGeom prst="rect">
            <a:avLst/>
          </a:prstGeom>
          <a:solidFill>
            <a:srgbClr val="ffff99">
              <a:alpha val="5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上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4983120" y="4102200"/>
            <a:ext cx="792360" cy="431640"/>
          </a:xfrm>
          <a:prstGeom prst="rect">
            <a:avLst/>
          </a:prstGeom>
          <a:solidFill>
            <a:srgbClr val="ffff99">
              <a:alpha val="5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前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6186600" y="4089240"/>
            <a:ext cx="792000" cy="432000"/>
          </a:xfrm>
          <a:prstGeom prst="rect">
            <a:avLst/>
          </a:prstGeom>
          <a:solidFill>
            <a:srgbClr val="ffff99">
              <a:alpha val="5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侧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3"/>
          <p:cNvPicPr/>
          <p:nvPr/>
        </p:nvPicPr>
        <p:blipFill>
          <a:blip r:embed="rId1"/>
          <a:stretch/>
        </p:blipFill>
        <p:spPr>
          <a:xfrm>
            <a:off x="1042920" y="2133720"/>
            <a:ext cx="6697800" cy="31780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39640" y="112536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摆一摆，看一看，分别是从哪个方向看到的？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3587760" y="306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5100480" y="306864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侧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461280" y="3068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前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5006880" y="48340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左侧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584520" y="4799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前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6435720" y="479592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8" name="Picture 4" descr="6"/>
          <p:cNvPicPr/>
          <p:nvPr/>
        </p:nvPicPr>
        <p:blipFill>
          <a:blip r:embed="rId1"/>
          <a:stretch/>
        </p:blipFill>
        <p:spPr>
          <a:xfrm>
            <a:off x="1692360" y="2205000"/>
            <a:ext cx="4608360" cy="3824280"/>
          </a:xfrm>
          <a:prstGeom prst="rect">
            <a:avLst/>
          </a:prstGeom>
          <a:ln w="0">
            <a:noFill/>
          </a:ln>
        </p:spPr>
      </p:pic>
      <p:sp>
        <p:nvSpPr>
          <p:cNvPr id="359" name="Line 5"/>
          <p:cNvSpPr/>
          <p:nvPr/>
        </p:nvSpPr>
        <p:spPr>
          <a:xfrm>
            <a:off x="2433600" y="5084640"/>
            <a:ext cx="792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3635280" y="5057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5796000" y="5157720"/>
            <a:ext cx="144360" cy="32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Line 8"/>
          <p:cNvSpPr/>
          <p:nvPr/>
        </p:nvSpPr>
        <p:spPr>
          <a:xfrm flipV="1">
            <a:off x="2556000" y="5157720"/>
            <a:ext cx="1944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539640" y="112536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别是从哪个方向看到的？连一连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9640" y="1197000"/>
            <a:ext cx="3424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看一看，填一填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7" name="Picture 4" descr="4"/>
          <p:cNvPicPr/>
          <p:nvPr/>
        </p:nvPicPr>
        <p:blipFill>
          <a:blip r:embed="rId1"/>
          <a:stretch/>
        </p:blipFill>
        <p:spPr>
          <a:xfrm>
            <a:off x="900000" y="2133720"/>
            <a:ext cx="6624720" cy="41749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5324400" y="39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5609520" y="39290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5887080" y="39337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5580000" y="4653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386320" y="5423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5722560" y="54133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39640" y="105264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7" name="TextBox 68"/>
          <p:cNvSpPr/>
          <p:nvPr/>
        </p:nvSpPr>
        <p:spPr>
          <a:xfrm>
            <a:off x="1357200" y="4824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25+4=29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（棵）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5"/>
          <p:cNvPicPr/>
          <p:nvPr/>
        </p:nvPicPr>
        <p:blipFill>
          <a:blip r:embed="rId2"/>
          <a:stretch/>
        </p:blipFill>
        <p:spPr>
          <a:xfrm>
            <a:off x="1547640" y="1989000"/>
            <a:ext cx="5904000" cy="35658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8"/>
          <p:cNvSpPr/>
          <p:nvPr/>
        </p:nvSpPr>
        <p:spPr>
          <a:xfrm>
            <a:off x="5580000" y="2924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4846680" y="4457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8" name="Picture 3" descr="2006713152750106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2006713105946479"/>
          <p:cNvPicPr/>
          <p:nvPr/>
        </p:nvPicPr>
        <p:blipFill>
          <a:blip r:embed="rId2"/>
          <a:stretch/>
        </p:blipFill>
        <p:spPr>
          <a:xfrm>
            <a:off x="0" y="4221000"/>
            <a:ext cx="5292720" cy="2659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84360" y="1700280"/>
            <a:ext cx="44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看成岭侧成峰，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远近高低各不同。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11280" y="515772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72436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个同学从不同的方向观察一组物体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184720" cy="3106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05" name="Text Box 14"/>
          <p:cNvSpPr/>
          <p:nvPr/>
        </p:nvSpPr>
        <p:spPr>
          <a:xfrm>
            <a:off x="5770440" y="306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个同学看到的是什么形状的图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1619280" y="1773360"/>
            <a:ext cx="2592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796000" y="184464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8"/>
          <p:cNvSpPr/>
          <p:nvPr/>
        </p:nvSpPr>
        <p:spPr>
          <a:xfrm>
            <a:off x="611280" y="3789360"/>
            <a:ext cx="8064360" cy="2521080"/>
          </a:xfrm>
          <a:prstGeom prst="foldedCorner">
            <a:avLst>
              <a:gd name="adj" fmla="val 12500"/>
            </a:avLst>
          </a:prstGeom>
          <a:solidFill>
            <a:srgbClr val="ff6600">
              <a:alpha val="24000"/>
            </a:srgbClr>
          </a:solidFill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1" name="Group 36"/>
          <p:cNvGrpSpPr/>
          <p:nvPr/>
        </p:nvGrpSpPr>
        <p:grpSpPr>
          <a:xfrm>
            <a:off x="1476360" y="2133720"/>
            <a:ext cx="4175280" cy="758880"/>
            <a:chOff x="1476360" y="2133720"/>
            <a:chExt cx="4175280" cy="758880"/>
          </a:xfrm>
        </p:grpSpPr>
        <p:sp>
          <p:nvSpPr>
            <p:cNvPr id="112" name="Rectangle 5"/>
            <p:cNvSpPr/>
            <p:nvPr/>
          </p:nvSpPr>
          <p:spPr>
            <a:xfrm>
              <a:off x="1476360" y="2494080"/>
              <a:ext cx="32400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1800360" y="2494080"/>
              <a:ext cx="32364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1800360" y="2133720"/>
              <a:ext cx="32364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3348000" y="2133720"/>
              <a:ext cx="360360" cy="379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348000" y="2513160"/>
              <a:ext cx="360360" cy="379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5256360" y="2349720"/>
              <a:ext cx="39528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4861080" y="2349720"/>
              <a:ext cx="39528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971640" y="1341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几幅图分别是谁从哪个方向看到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03280" cy="430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684360" y="3789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6804000" y="1413000"/>
            <a:ext cx="1368000" cy="1366200"/>
            <a:chOff x="6804000" y="1413000"/>
            <a:chExt cx="1368000" cy="1366200"/>
          </a:xfrm>
        </p:grpSpPr>
        <p:sp>
          <p:nvSpPr>
            <p:cNvPr id="123" name="AutoShape 6"/>
            <p:cNvSpPr/>
            <p:nvPr/>
          </p:nvSpPr>
          <p:spPr>
            <a:xfrm>
              <a:off x="6804000" y="199872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AutoShape 7"/>
            <p:cNvSpPr/>
            <p:nvPr/>
          </p:nvSpPr>
          <p:spPr>
            <a:xfrm>
              <a:off x="7401240" y="199872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7401240" y="141300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6" name="Text Box 14"/>
          <p:cNvSpPr/>
          <p:nvPr/>
        </p:nvSpPr>
        <p:spPr>
          <a:xfrm>
            <a:off x="826920" y="544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物体时，要选择最佳的观察角度（眼睛要与被观察面平视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7" name="Group 49"/>
          <p:cNvGrpSpPr/>
          <p:nvPr/>
        </p:nvGrpSpPr>
        <p:grpSpPr>
          <a:xfrm>
            <a:off x="755640" y="4348080"/>
            <a:ext cx="7848720" cy="474840"/>
            <a:chOff x="755640" y="4348080"/>
            <a:chExt cx="7848720" cy="474840"/>
          </a:xfrm>
        </p:grpSpPr>
        <p:sp>
          <p:nvSpPr>
            <p:cNvPr id="128" name="Text Box 14"/>
            <p:cNvSpPr/>
            <p:nvPr/>
          </p:nvSpPr>
          <p:spPr>
            <a:xfrm>
              <a:off x="755640" y="4348080"/>
              <a:ext cx="7848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三个人一组，先利用老师提供的学具（立方体木块）摆成         ，再交换观察位置从不同的角度进行观察，并把每次看到的图形画下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7667640" y="4419360"/>
              <a:ext cx="360360" cy="358560"/>
              <a:chOff x="7667640" y="4419360"/>
              <a:chExt cx="360360" cy="358560"/>
            </a:xfrm>
          </p:grpSpPr>
          <p:sp>
            <p:nvSpPr>
              <p:cNvPr id="130" name="AutoShape 6"/>
              <p:cNvSpPr/>
              <p:nvPr/>
            </p:nvSpPr>
            <p:spPr>
              <a:xfrm>
                <a:off x="7667640" y="4573080"/>
                <a:ext cx="203400" cy="204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1" name="AutoShape 7"/>
              <p:cNvSpPr/>
              <p:nvPr/>
            </p:nvSpPr>
            <p:spPr>
              <a:xfrm>
                <a:off x="7824600" y="4573080"/>
                <a:ext cx="203400" cy="204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2" name="AutoShape 8"/>
              <p:cNvSpPr/>
              <p:nvPr/>
            </p:nvSpPr>
            <p:spPr>
              <a:xfrm>
                <a:off x="7824600" y="4419360"/>
                <a:ext cx="203400" cy="204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3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5" name="Picture 3" descr="四下_页面_078"/>
          <p:cNvPicPr/>
          <p:nvPr/>
        </p:nvPicPr>
        <p:blipFill>
          <a:blip r:embed="rId1"/>
          <a:srcRect l="10415" t="5320" r="18099" b="0"/>
          <a:stretch/>
        </p:blipFill>
        <p:spPr>
          <a:xfrm>
            <a:off x="2411280" y="1844640"/>
            <a:ext cx="3024360" cy="23241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979640" y="4292640"/>
            <a:ext cx="647280" cy="720720"/>
            <a:chOff x="1979640" y="4292640"/>
            <a:chExt cx="647280" cy="720720"/>
          </a:xfrm>
        </p:grpSpPr>
        <p:sp>
          <p:nvSpPr>
            <p:cNvPr id="137" name="Rectangle 5"/>
            <p:cNvSpPr/>
            <p:nvPr/>
          </p:nvSpPr>
          <p:spPr>
            <a:xfrm>
              <a:off x="1979640" y="4653000"/>
              <a:ext cx="32364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2303280" y="4653000"/>
              <a:ext cx="32364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2303280" y="4292640"/>
              <a:ext cx="32364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4211640" y="4292640"/>
            <a:ext cx="360360" cy="758880"/>
            <a:chOff x="4211640" y="4292640"/>
            <a:chExt cx="360360" cy="758880"/>
          </a:xfrm>
        </p:grpSpPr>
        <p:sp>
          <p:nvSpPr>
            <p:cNvPr id="141" name="Rectangle 9"/>
            <p:cNvSpPr/>
            <p:nvPr/>
          </p:nvSpPr>
          <p:spPr>
            <a:xfrm>
              <a:off x="4211640" y="4292640"/>
              <a:ext cx="360360" cy="379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11640" y="4672080"/>
              <a:ext cx="360360" cy="379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6229440" y="4508640"/>
            <a:ext cx="790560" cy="360360"/>
            <a:chOff x="6229440" y="4508640"/>
            <a:chExt cx="790560" cy="360360"/>
          </a:xfrm>
        </p:grpSpPr>
        <p:sp>
          <p:nvSpPr>
            <p:cNvPr id="144" name="Rectangle 12"/>
            <p:cNvSpPr/>
            <p:nvPr/>
          </p:nvSpPr>
          <p:spPr>
            <a:xfrm>
              <a:off x="6624720" y="4508640"/>
              <a:ext cx="39528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6229440" y="4508640"/>
              <a:ext cx="395280" cy="360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1979640" y="4970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前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038480" y="4986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侧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227640" y="4900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上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9" name="Picture 20" descr="110_078"/>
          <p:cNvPicPr/>
          <p:nvPr/>
        </p:nvPicPr>
        <p:blipFill>
          <a:blip r:embed="rId2"/>
          <a:stretch/>
        </p:blipFill>
        <p:spPr>
          <a:xfrm>
            <a:off x="2800440" y="2449440"/>
            <a:ext cx="534960" cy="903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100"/>
          <p:cNvPicPr/>
          <p:nvPr/>
        </p:nvPicPr>
        <p:blipFill>
          <a:blip r:embed="rId3"/>
          <a:stretch/>
        </p:blipFill>
        <p:spPr>
          <a:xfrm>
            <a:off x="3836880" y="1844640"/>
            <a:ext cx="617760" cy="765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222"/>
          <p:cNvPicPr/>
          <p:nvPr/>
        </p:nvPicPr>
        <p:blipFill>
          <a:blip r:embed="rId4"/>
          <a:stretch/>
        </p:blipFill>
        <p:spPr>
          <a:xfrm>
            <a:off x="3808440" y="3054240"/>
            <a:ext cx="70308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503280" cy="430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"/>
          <p:cNvSpPr/>
          <p:nvPr/>
        </p:nvSpPr>
        <p:spPr>
          <a:xfrm>
            <a:off x="900000" y="1268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几幅图分别是谁从哪个方向看到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042920" y="3803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观察结果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104 L -0.20903 0.32508 E">
                                      <p:cBhvr>
                                        <p:cTn id="6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68 -0.02798 L 0.06232 0.2763 E">
                                      <p:cBhvr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06358E-006 L 0.25937 0.26937 E">
                                      <p:cBhvr>
                                        <p:cTn id="8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3"/>
          <p:cNvSpPr/>
          <p:nvPr/>
        </p:nvSpPr>
        <p:spPr>
          <a:xfrm>
            <a:off x="6156360" y="3357720"/>
            <a:ext cx="2303280" cy="20890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476360" y="1916280"/>
            <a:ext cx="4175280" cy="758160"/>
            <a:chOff x="1476360" y="1916280"/>
            <a:chExt cx="4175280" cy="758160"/>
          </a:xfrm>
        </p:grpSpPr>
        <p:sp>
          <p:nvSpPr>
            <p:cNvPr id="158" name="Rectangle 5"/>
            <p:cNvSpPr/>
            <p:nvPr/>
          </p:nvSpPr>
          <p:spPr>
            <a:xfrm>
              <a:off x="1476360" y="2276280"/>
              <a:ext cx="324000" cy="360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800360" y="2276280"/>
              <a:ext cx="323640" cy="360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800360" y="1916280"/>
              <a:ext cx="323640" cy="360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3348000" y="1916280"/>
              <a:ext cx="360360" cy="379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3348000" y="2295360"/>
              <a:ext cx="360360" cy="379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5256360" y="2131920"/>
              <a:ext cx="395280" cy="360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4861080" y="2131920"/>
              <a:ext cx="395280" cy="360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5" name="Text Box 14"/>
          <p:cNvSpPr/>
          <p:nvPr/>
        </p:nvSpPr>
        <p:spPr>
          <a:xfrm>
            <a:off x="971640" y="1341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几幅图分别是谁从哪个方向看到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03280" cy="4302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5"/>
          <p:cNvGrpSpPr/>
          <p:nvPr/>
        </p:nvGrpSpPr>
        <p:grpSpPr>
          <a:xfrm>
            <a:off x="6804000" y="1413000"/>
            <a:ext cx="1368000" cy="1366200"/>
            <a:chOff x="6804000" y="1413000"/>
            <a:chExt cx="1368000" cy="1366200"/>
          </a:xfrm>
        </p:grpSpPr>
        <p:sp>
          <p:nvSpPr>
            <p:cNvPr id="168" name="AutoShape 6"/>
            <p:cNvSpPr/>
            <p:nvPr/>
          </p:nvSpPr>
          <p:spPr>
            <a:xfrm>
              <a:off x="6804000" y="199872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7401240" y="199872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7401240" y="1413000"/>
              <a:ext cx="770760" cy="78048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684360" y="278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观察结果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1098720" y="4726080"/>
            <a:ext cx="2016000" cy="647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从前面看到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835280" y="3718080"/>
            <a:ext cx="720720" cy="791640"/>
            <a:chOff x="1835280" y="3718080"/>
            <a:chExt cx="720720" cy="791640"/>
          </a:xfrm>
        </p:grpSpPr>
        <p:sp>
          <p:nvSpPr>
            <p:cNvPr id="174" name="Rectangle 11"/>
            <p:cNvSpPr/>
            <p:nvPr/>
          </p:nvSpPr>
          <p:spPr>
            <a:xfrm>
              <a:off x="1835280" y="4115160"/>
              <a:ext cx="360360" cy="39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195640" y="4115160"/>
              <a:ext cx="360360" cy="39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2195640" y="3718080"/>
              <a:ext cx="360360" cy="397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4356000" y="3646440"/>
            <a:ext cx="432000" cy="792000"/>
            <a:chOff x="4356000" y="3646440"/>
            <a:chExt cx="432000" cy="792000"/>
          </a:xfrm>
        </p:grpSpPr>
        <p:sp>
          <p:nvSpPr>
            <p:cNvPr id="178" name="Rectangle 15"/>
            <p:cNvSpPr/>
            <p:nvPr/>
          </p:nvSpPr>
          <p:spPr>
            <a:xfrm>
              <a:off x="4356000" y="3646440"/>
              <a:ext cx="432000" cy="397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4356000" y="4043520"/>
              <a:ext cx="432000" cy="39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0" name="Group 17"/>
          <p:cNvGrpSpPr/>
          <p:nvPr/>
        </p:nvGrpSpPr>
        <p:grpSpPr>
          <a:xfrm>
            <a:off x="6804000" y="3789360"/>
            <a:ext cx="863280" cy="431640"/>
            <a:chOff x="6804000" y="3789360"/>
            <a:chExt cx="863280" cy="431640"/>
          </a:xfrm>
        </p:grpSpPr>
        <p:sp>
          <p:nvSpPr>
            <p:cNvPr id="181" name="Rectangle 18"/>
            <p:cNvSpPr/>
            <p:nvPr/>
          </p:nvSpPr>
          <p:spPr>
            <a:xfrm>
              <a:off x="7235640" y="3789360"/>
              <a:ext cx="431640" cy="43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6804000" y="3789360"/>
              <a:ext cx="431640" cy="43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3" name="AutoShape 3"/>
          <p:cNvSpPr/>
          <p:nvPr/>
        </p:nvSpPr>
        <p:spPr>
          <a:xfrm>
            <a:off x="3571920" y="4726080"/>
            <a:ext cx="2016000" cy="647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从侧面看到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224760" y="4759200"/>
            <a:ext cx="2016000" cy="64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从上面看到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1042920" y="3357720"/>
            <a:ext cx="2233800" cy="20890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3564000" y="3357720"/>
            <a:ext cx="2303280" cy="20890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1332000" y="5589720"/>
            <a:ext cx="5904000" cy="647640"/>
          </a:xfrm>
          <a:prstGeom prst="rect">
            <a:avLst/>
          </a:prstGeom>
          <a:solidFill>
            <a:srgbClr val="ff99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观察方向不同，观察到的图形也不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89" name="sheng5.mp3" descr=""/>
          <p:cNvPicPr/>
          <p:nvPr/>
        </p:nvPicPr>
        <p:blipFill>
          <a:blip r:embed="rId3"/>
          <a:stretch/>
        </p:blipFill>
        <p:spPr>
          <a:xfrm>
            <a:off x="867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69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1042920" y="2422440"/>
            <a:ext cx="1830240" cy="1201680"/>
            <a:chOff x="1042920" y="2422440"/>
            <a:chExt cx="1830240" cy="1201680"/>
          </a:xfrm>
        </p:grpSpPr>
        <p:grpSp>
          <p:nvGrpSpPr>
            <p:cNvPr id="192" name="Group 7"/>
            <p:cNvGrpSpPr/>
            <p:nvPr/>
          </p:nvGrpSpPr>
          <p:grpSpPr>
            <a:xfrm>
              <a:off x="1042920" y="2925720"/>
              <a:ext cx="1830240" cy="698400"/>
              <a:chOff x="1042920" y="2925720"/>
              <a:chExt cx="1830240" cy="698400"/>
            </a:xfrm>
          </p:grpSpPr>
          <p:sp>
            <p:nvSpPr>
              <p:cNvPr id="193" name="AutoShape 8"/>
              <p:cNvSpPr/>
              <p:nvPr/>
            </p:nvSpPr>
            <p:spPr>
              <a:xfrm>
                <a:off x="1042920" y="2930400"/>
                <a:ext cx="727200" cy="6937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4" name="AutoShape 9"/>
              <p:cNvSpPr/>
              <p:nvPr/>
            </p:nvSpPr>
            <p:spPr>
              <a:xfrm>
                <a:off x="1590480" y="2930400"/>
                <a:ext cx="727200" cy="6937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5" name="AutoShape 10"/>
              <p:cNvSpPr/>
              <p:nvPr/>
            </p:nvSpPr>
            <p:spPr>
              <a:xfrm>
                <a:off x="2146320" y="2925720"/>
                <a:ext cx="726840" cy="6937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96" name="AutoShape 11"/>
            <p:cNvSpPr/>
            <p:nvPr/>
          </p:nvSpPr>
          <p:spPr>
            <a:xfrm>
              <a:off x="1585800" y="2422440"/>
              <a:ext cx="727200" cy="693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6194520" y="2349360"/>
            <a:ext cx="1834560" cy="1214280"/>
            <a:chOff x="6194520" y="2349360"/>
            <a:chExt cx="1834560" cy="1214280"/>
          </a:xfrm>
        </p:grpSpPr>
        <p:sp>
          <p:nvSpPr>
            <p:cNvPr id="198" name="AutoShape 13"/>
            <p:cNvSpPr/>
            <p:nvPr/>
          </p:nvSpPr>
          <p:spPr>
            <a:xfrm>
              <a:off x="6194520" y="2869920"/>
              <a:ext cx="726840" cy="693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>
              <a:off x="6741720" y="2869920"/>
              <a:ext cx="726840" cy="693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AutoShape 15"/>
            <p:cNvSpPr/>
            <p:nvPr/>
          </p:nvSpPr>
          <p:spPr>
            <a:xfrm>
              <a:off x="7297560" y="2865240"/>
              <a:ext cx="726480" cy="693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AutoShape 16"/>
            <p:cNvSpPr/>
            <p:nvPr/>
          </p:nvSpPr>
          <p:spPr>
            <a:xfrm>
              <a:off x="7302240" y="2349360"/>
              <a:ext cx="726840" cy="693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3708360" y="2387520"/>
            <a:ext cx="1800000" cy="1223280"/>
            <a:chOff x="3708360" y="2387520"/>
            <a:chExt cx="1800000" cy="1223280"/>
          </a:xfrm>
        </p:grpSpPr>
        <p:grpSp>
          <p:nvGrpSpPr>
            <p:cNvPr id="203" name="Group 18"/>
            <p:cNvGrpSpPr/>
            <p:nvPr/>
          </p:nvGrpSpPr>
          <p:grpSpPr>
            <a:xfrm>
              <a:off x="3708360" y="2897280"/>
              <a:ext cx="1800000" cy="713520"/>
              <a:chOff x="3708360" y="2897280"/>
              <a:chExt cx="1800000" cy="713520"/>
            </a:xfrm>
          </p:grpSpPr>
          <p:sp>
            <p:nvSpPr>
              <p:cNvPr id="204" name="AutoShape 19"/>
              <p:cNvSpPr/>
              <p:nvPr/>
            </p:nvSpPr>
            <p:spPr>
              <a:xfrm>
                <a:off x="3708360" y="2901960"/>
                <a:ext cx="715320" cy="708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5" name="AutoShape 20"/>
              <p:cNvSpPr/>
              <p:nvPr/>
            </p:nvSpPr>
            <p:spPr>
              <a:xfrm>
                <a:off x="4246920" y="2901960"/>
                <a:ext cx="721440" cy="708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" name="AutoShape 21"/>
              <p:cNvSpPr/>
              <p:nvPr/>
            </p:nvSpPr>
            <p:spPr>
              <a:xfrm>
                <a:off x="4793400" y="2897280"/>
                <a:ext cx="714960" cy="7088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7" name="AutoShape 22"/>
            <p:cNvSpPr/>
            <p:nvPr/>
          </p:nvSpPr>
          <p:spPr>
            <a:xfrm>
              <a:off x="3708360" y="2387520"/>
              <a:ext cx="715320" cy="70920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8" name="Text Box 23"/>
          <p:cNvSpPr/>
          <p:nvPr/>
        </p:nvSpPr>
        <p:spPr>
          <a:xfrm>
            <a:off x="1671480" y="3701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4289400" y="37018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6797520" y="3630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900000" y="1341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摆一摆，再从前面、侧面和上面看一看，你有什么发现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541440" y="13622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2"/>
          <p:cNvSpPr/>
          <p:nvPr/>
        </p:nvSpPr>
        <p:spPr>
          <a:xfrm>
            <a:off x="539640" y="4292640"/>
            <a:ext cx="8209080" cy="2232000"/>
          </a:xfrm>
          <a:prstGeom prst="foldedCorner">
            <a:avLst>
              <a:gd name="adj" fmla="val 12500"/>
            </a:avLst>
          </a:prstGeom>
          <a:solidFill>
            <a:srgbClr val="ff6600">
              <a:alpha val="31000"/>
            </a:srgbClr>
          </a:solidFill>
          <a:ln w="126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611280" y="4869000"/>
            <a:ext cx="813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小组为单位，先利用老师提供的学具（立方体木块）摆出图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①②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，再从不同的位置进行观察，并把每次看到的图形画下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84360" y="5769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观察物体时，要选择最佳的观察角度（眼睛要平视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11280" y="4416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1042920" y="2276640"/>
            <a:ext cx="1506600" cy="1058040"/>
            <a:chOff x="1042920" y="2276640"/>
            <a:chExt cx="1506600" cy="1058040"/>
          </a:xfrm>
        </p:grpSpPr>
        <p:grpSp>
          <p:nvGrpSpPr>
            <p:cNvPr id="221" name="Group 6"/>
            <p:cNvGrpSpPr/>
            <p:nvPr/>
          </p:nvGrpSpPr>
          <p:grpSpPr>
            <a:xfrm>
              <a:off x="1042920" y="2719800"/>
              <a:ext cx="1506600" cy="614880"/>
              <a:chOff x="1042920" y="2719800"/>
              <a:chExt cx="1506600" cy="61488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1042920" y="2723760"/>
                <a:ext cx="598320" cy="6109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>
                <a:off x="1493640" y="2723760"/>
                <a:ext cx="598320" cy="6109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4" name="AutoShape 9"/>
              <p:cNvSpPr/>
              <p:nvPr/>
            </p:nvSpPr>
            <p:spPr>
              <a:xfrm>
                <a:off x="1951200" y="2719800"/>
                <a:ext cx="598320" cy="6109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25" name="AutoShape 10"/>
            <p:cNvSpPr/>
            <p:nvPr/>
          </p:nvSpPr>
          <p:spPr>
            <a:xfrm>
              <a:off x="1488600" y="2276640"/>
              <a:ext cx="598320" cy="6109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6" name="Group 11"/>
          <p:cNvGrpSpPr/>
          <p:nvPr/>
        </p:nvGrpSpPr>
        <p:grpSpPr>
          <a:xfrm>
            <a:off x="5940360" y="2205000"/>
            <a:ext cx="1510920" cy="1069560"/>
            <a:chOff x="5940360" y="2205000"/>
            <a:chExt cx="1510920" cy="1069560"/>
          </a:xfrm>
        </p:grpSpPr>
        <p:sp>
          <p:nvSpPr>
            <p:cNvPr id="227" name="AutoShape 12"/>
            <p:cNvSpPr/>
            <p:nvPr/>
          </p:nvSpPr>
          <p:spPr>
            <a:xfrm>
              <a:off x="5940360" y="2663640"/>
              <a:ext cx="598680" cy="6109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>
              <a:off x="6391080" y="2663640"/>
              <a:ext cx="598680" cy="6109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6849000" y="2659320"/>
              <a:ext cx="599760" cy="6109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>
              <a:off x="6852600" y="2205000"/>
              <a:ext cx="598680" cy="6109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3492360" y="2274840"/>
            <a:ext cx="1506600" cy="1055160"/>
            <a:chOff x="3492360" y="2274840"/>
            <a:chExt cx="1506600" cy="1055160"/>
          </a:xfrm>
        </p:grpSpPr>
        <p:grpSp>
          <p:nvGrpSpPr>
            <p:cNvPr id="232" name="Group 17"/>
            <p:cNvGrpSpPr/>
            <p:nvPr/>
          </p:nvGrpSpPr>
          <p:grpSpPr>
            <a:xfrm>
              <a:off x="3492360" y="2714400"/>
              <a:ext cx="1506600" cy="615600"/>
              <a:chOff x="3492360" y="2714400"/>
              <a:chExt cx="1506600" cy="615600"/>
            </a:xfrm>
          </p:grpSpPr>
          <p:sp>
            <p:nvSpPr>
              <p:cNvPr id="233" name="AutoShape 18"/>
              <p:cNvSpPr/>
              <p:nvPr/>
            </p:nvSpPr>
            <p:spPr>
              <a:xfrm>
                <a:off x="3492360" y="2718360"/>
                <a:ext cx="598320" cy="6116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4" name="AutoShape 19"/>
              <p:cNvSpPr/>
              <p:nvPr/>
            </p:nvSpPr>
            <p:spPr>
              <a:xfrm>
                <a:off x="3943080" y="2718360"/>
                <a:ext cx="598320" cy="6116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5" name="AutoShape 20"/>
              <p:cNvSpPr/>
              <p:nvPr/>
            </p:nvSpPr>
            <p:spPr>
              <a:xfrm>
                <a:off x="4400640" y="2714400"/>
                <a:ext cx="598320" cy="61164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6" name="AutoShape 21"/>
            <p:cNvSpPr/>
            <p:nvPr/>
          </p:nvSpPr>
          <p:spPr>
            <a:xfrm>
              <a:off x="3492360" y="2274840"/>
              <a:ext cx="598320" cy="6116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1042920" y="2405160"/>
            <a:ext cx="1363320" cy="950400"/>
            <a:chOff x="1042920" y="2405160"/>
            <a:chExt cx="1363320" cy="950400"/>
          </a:xfrm>
        </p:grpSpPr>
        <p:grpSp>
          <p:nvGrpSpPr>
            <p:cNvPr id="238" name="Group 23"/>
            <p:cNvGrpSpPr/>
            <p:nvPr/>
          </p:nvGrpSpPr>
          <p:grpSpPr>
            <a:xfrm>
              <a:off x="1042920" y="2880360"/>
              <a:ext cx="1363320" cy="475200"/>
              <a:chOff x="1042920" y="2880360"/>
              <a:chExt cx="1363320" cy="475200"/>
            </a:xfrm>
          </p:grpSpPr>
          <p:sp>
            <p:nvSpPr>
              <p:cNvPr id="239" name="Rectangle 24"/>
              <p:cNvSpPr/>
              <p:nvPr/>
            </p:nvSpPr>
            <p:spPr>
              <a:xfrm>
                <a:off x="1497240" y="2880360"/>
                <a:ext cx="457200" cy="4752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0" name="Rectangle 25"/>
              <p:cNvSpPr/>
              <p:nvPr/>
            </p:nvSpPr>
            <p:spPr>
              <a:xfrm>
                <a:off x="1042920" y="2880360"/>
                <a:ext cx="454320" cy="4752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1951920" y="2880360"/>
                <a:ext cx="454320" cy="4752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2" name="Rectangle 27"/>
            <p:cNvSpPr/>
            <p:nvPr/>
          </p:nvSpPr>
          <p:spPr>
            <a:xfrm>
              <a:off x="1497240" y="2405160"/>
              <a:ext cx="457200" cy="476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3" name="Group 28"/>
          <p:cNvGrpSpPr/>
          <p:nvPr/>
        </p:nvGrpSpPr>
        <p:grpSpPr>
          <a:xfrm>
            <a:off x="3492360" y="2405160"/>
            <a:ext cx="1363320" cy="950400"/>
            <a:chOff x="3492360" y="2405160"/>
            <a:chExt cx="1363320" cy="950400"/>
          </a:xfrm>
        </p:grpSpPr>
        <p:sp>
          <p:nvSpPr>
            <p:cNvPr id="244" name="Rectangle 29"/>
            <p:cNvSpPr/>
            <p:nvPr/>
          </p:nvSpPr>
          <p:spPr>
            <a:xfrm>
              <a:off x="3946680" y="2881800"/>
              <a:ext cx="457200" cy="473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3492360" y="2405160"/>
              <a:ext cx="454320" cy="476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4401360" y="2881800"/>
              <a:ext cx="454320" cy="473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3492360" y="2881800"/>
              <a:ext cx="454320" cy="473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8" name="Group 33"/>
          <p:cNvGrpSpPr/>
          <p:nvPr/>
        </p:nvGrpSpPr>
        <p:grpSpPr>
          <a:xfrm>
            <a:off x="5940360" y="2349360"/>
            <a:ext cx="1361880" cy="951120"/>
            <a:chOff x="5940360" y="2349360"/>
            <a:chExt cx="1361880" cy="951120"/>
          </a:xfrm>
        </p:grpSpPr>
        <p:sp>
          <p:nvSpPr>
            <p:cNvPr id="249" name="Rectangle 34"/>
            <p:cNvSpPr/>
            <p:nvPr/>
          </p:nvSpPr>
          <p:spPr>
            <a:xfrm>
              <a:off x="6848280" y="2349360"/>
              <a:ext cx="453960" cy="476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0" name="Group 35"/>
            <p:cNvGrpSpPr/>
            <p:nvPr/>
          </p:nvGrpSpPr>
          <p:grpSpPr>
            <a:xfrm>
              <a:off x="5940360" y="2824920"/>
              <a:ext cx="1361880" cy="475560"/>
              <a:chOff x="5940360" y="2824920"/>
              <a:chExt cx="1361880" cy="475560"/>
            </a:xfrm>
          </p:grpSpPr>
          <p:sp>
            <p:nvSpPr>
              <p:cNvPr id="251" name="Rectangle 36"/>
              <p:cNvSpPr/>
              <p:nvPr/>
            </p:nvSpPr>
            <p:spPr>
              <a:xfrm>
                <a:off x="6394320" y="2824920"/>
                <a:ext cx="455400" cy="475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2" name="Rectangle 37"/>
              <p:cNvSpPr/>
              <p:nvPr/>
            </p:nvSpPr>
            <p:spPr>
              <a:xfrm>
                <a:off x="5940360" y="2824920"/>
                <a:ext cx="453960" cy="475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3" name="Rectangle 38"/>
              <p:cNvSpPr/>
              <p:nvPr/>
            </p:nvSpPr>
            <p:spPr>
              <a:xfrm>
                <a:off x="6848280" y="2824920"/>
                <a:ext cx="453960" cy="475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54" name="AutoShape 64"/>
          <p:cNvSpPr/>
          <p:nvPr/>
        </p:nvSpPr>
        <p:spPr>
          <a:xfrm>
            <a:off x="1403280" y="5373720"/>
            <a:ext cx="2089080" cy="431640"/>
          </a:xfrm>
          <a:prstGeom prst="wedgeRoundRectCallout">
            <a:avLst>
              <a:gd name="adj1" fmla="val -44041"/>
              <a:gd name="adj2" fmla="val 143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从前面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67"/>
          <p:cNvSpPr/>
          <p:nvPr/>
        </p:nvSpPr>
        <p:spPr>
          <a:xfrm>
            <a:off x="754200" y="1341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摆一摆，再从前面、侧面和上面看一看，你有什么发现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3"/>
          <p:cNvSpPr/>
          <p:nvPr/>
        </p:nvSpPr>
        <p:spPr>
          <a:xfrm>
            <a:off x="1619280" y="34146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3954600" y="3414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6448320" y="33415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64"/>
          <p:cNvSpPr/>
          <p:nvPr/>
        </p:nvSpPr>
        <p:spPr>
          <a:xfrm>
            <a:off x="2673360" y="5373720"/>
            <a:ext cx="3384720" cy="431640"/>
          </a:xfrm>
          <a:prstGeom prst="wedgeRoundRectCallout">
            <a:avLst>
              <a:gd name="adj1" fmla="val -44041"/>
              <a:gd name="adj2" fmla="val 143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形状不相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4719 L -0.00382 0.23618 E">
                                      <p:cBhvr>
                                        <p:cTn id="16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1152E-006 L 3.61111E-006 0.24127 E">
                                      <p:cBhvr>
                                        <p:cTn id="17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3 L 0.004 0.24427 E">
                                      <p:cBhvr>
                                        <p:cTn id="17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究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1187280" y="2487600"/>
            <a:ext cx="1512720" cy="984960"/>
            <a:chOff x="1187280" y="2487600"/>
            <a:chExt cx="1512720" cy="984960"/>
          </a:xfrm>
        </p:grpSpPr>
        <p:grpSp>
          <p:nvGrpSpPr>
            <p:cNvPr id="265" name="Group 6"/>
            <p:cNvGrpSpPr/>
            <p:nvPr/>
          </p:nvGrpSpPr>
          <p:grpSpPr>
            <a:xfrm>
              <a:off x="1187280" y="2900160"/>
              <a:ext cx="1512720" cy="572400"/>
              <a:chOff x="1187280" y="2900160"/>
              <a:chExt cx="1512720" cy="572400"/>
            </a:xfrm>
          </p:grpSpPr>
          <p:sp>
            <p:nvSpPr>
              <p:cNvPr id="266" name="AutoShape 7"/>
              <p:cNvSpPr/>
              <p:nvPr/>
            </p:nvSpPr>
            <p:spPr>
              <a:xfrm>
                <a:off x="1187280" y="2902680"/>
                <a:ext cx="602280" cy="56988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1639800" y="2902680"/>
                <a:ext cx="603720" cy="56988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8" name="AutoShape 9"/>
              <p:cNvSpPr/>
              <p:nvPr/>
            </p:nvSpPr>
            <p:spPr>
              <a:xfrm>
                <a:off x="2097720" y="2900160"/>
                <a:ext cx="602280" cy="56988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69" name="AutoShape 10"/>
            <p:cNvSpPr/>
            <p:nvPr/>
          </p:nvSpPr>
          <p:spPr>
            <a:xfrm>
              <a:off x="1635840" y="2487600"/>
              <a:ext cx="598320" cy="5677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5435640" y="2487600"/>
            <a:ext cx="1512360" cy="1007640"/>
            <a:chOff x="5435640" y="2487600"/>
            <a:chExt cx="1512360" cy="1007640"/>
          </a:xfrm>
        </p:grpSpPr>
        <p:sp>
          <p:nvSpPr>
            <p:cNvPr id="271" name="AutoShape 12"/>
            <p:cNvSpPr/>
            <p:nvPr/>
          </p:nvSpPr>
          <p:spPr>
            <a:xfrm>
              <a:off x="5435640" y="2919600"/>
              <a:ext cx="600480" cy="5756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5885640" y="2919600"/>
              <a:ext cx="600480" cy="5756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>
              <a:off x="6345000" y="2915640"/>
              <a:ext cx="600480" cy="5756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6347520" y="2487600"/>
              <a:ext cx="600480" cy="5756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419640" y="2487600"/>
            <a:ext cx="1441440" cy="980640"/>
            <a:chOff x="3419640" y="2487600"/>
            <a:chExt cx="1441440" cy="980640"/>
          </a:xfrm>
        </p:grpSpPr>
        <p:grpSp>
          <p:nvGrpSpPr>
            <p:cNvPr id="276" name="Group 17"/>
            <p:cNvGrpSpPr/>
            <p:nvPr/>
          </p:nvGrpSpPr>
          <p:grpSpPr>
            <a:xfrm>
              <a:off x="3419640" y="2896200"/>
              <a:ext cx="1441440" cy="572040"/>
              <a:chOff x="3419640" y="2896200"/>
              <a:chExt cx="1441440" cy="572040"/>
            </a:xfrm>
          </p:grpSpPr>
          <p:sp>
            <p:nvSpPr>
              <p:cNvPr id="277" name="AutoShape 18"/>
              <p:cNvSpPr/>
              <p:nvPr/>
            </p:nvSpPr>
            <p:spPr>
              <a:xfrm>
                <a:off x="3419640" y="2898720"/>
                <a:ext cx="57240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8" name="AutoShape 19"/>
              <p:cNvSpPr/>
              <p:nvPr/>
            </p:nvSpPr>
            <p:spPr>
              <a:xfrm>
                <a:off x="3850560" y="2898720"/>
                <a:ext cx="57132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9" name="AutoShape 20"/>
              <p:cNvSpPr/>
              <p:nvPr/>
            </p:nvSpPr>
            <p:spPr>
              <a:xfrm>
                <a:off x="4288680" y="2896200"/>
                <a:ext cx="572400" cy="569520"/>
              </a:xfrm>
              <a:prstGeom prst="cube">
                <a:avLst>
                  <a:gd name="adj" fmla="val 25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80" name="AutoShape 21"/>
            <p:cNvSpPr/>
            <p:nvPr/>
          </p:nvSpPr>
          <p:spPr>
            <a:xfrm>
              <a:off x="3419640" y="2487600"/>
              <a:ext cx="572400" cy="56844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1" name="Text Box 36"/>
          <p:cNvSpPr/>
          <p:nvPr/>
        </p:nvSpPr>
        <p:spPr>
          <a:xfrm>
            <a:off x="915840" y="1374840"/>
            <a:ext cx="822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摆一摆，再从前面、侧面、上面看一看，你有什么发现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579600" y="13622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39"/>
          <p:cNvSpPr/>
          <p:nvPr/>
        </p:nvSpPr>
        <p:spPr>
          <a:xfrm>
            <a:off x="6804000" y="4073400"/>
            <a:ext cx="1871640" cy="863640"/>
          </a:xfrm>
          <a:prstGeom prst="wedgeRoundRectCallout">
            <a:avLst>
              <a:gd name="adj1" fmla="val 23791"/>
              <a:gd name="adj2" fmla="val 461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从侧面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4" name="Group 22"/>
          <p:cNvGrpSpPr/>
          <p:nvPr/>
        </p:nvGrpSpPr>
        <p:grpSpPr>
          <a:xfrm>
            <a:off x="1619280" y="4325760"/>
            <a:ext cx="502920" cy="974520"/>
            <a:chOff x="1619280" y="4325760"/>
            <a:chExt cx="502920" cy="974520"/>
          </a:xfrm>
        </p:grpSpPr>
        <p:sp>
          <p:nvSpPr>
            <p:cNvPr id="285" name="Rectangle 23"/>
            <p:cNvSpPr/>
            <p:nvPr/>
          </p:nvSpPr>
          <p:spPr>
            <a:xfrm>
              <a:off x="1619280" y="4806000"/>
              <a:ext cx="50292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Rectangle 24"/>
            <p:cNvSpPr/>
            <p:nvPr/>
          </p:nvSpPr>
          <p:spPr>
            <a:xfrm>
              <a:off x="1619280" y="4325760"/>
              <a:ext cx="50292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7" name="Group 22"/>
          <p:cNvGrpSpPr/>
          <p:nvPr/>
        </p:nvGrpSpPr>
        <p:grpSpPr>
          <a:xfrm>
            <a:off x="5867280" y="4325760"/>
            <a:ext cx="502920" cy="974520"/>
            <a:chOff x="5867280" y="4325760"/>
            <a:chExt cx="502920" cy="974520"/>
          </a:xfrm>
        </p:grpSpPr>
        <p:sp>
          <p:nvSpPr>
            <p:cNvPr id="288" name="Rectangle 23"/>
            <p:cNvSpPr/>
            <p:nvPr/>
          </p:nvSpPr>
          <p:spPr>
            <a:xfrm>
              <a:off x="5867280" y="4806000"/>
              <a:ext cx="50292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867280" y="4325760"/>
              <a:ext cx="50292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0" name="Group 22"/>
          <p:cNvGrpSpPr/>
          <p:nvPr/>
        </p:nvGrpSpPr>
        <p:grpSpPr>
          <a:xfrm>
            <a:off x="3780000" y="4325760"/>
            <a:ext cx="502560" cy="974520"/>
            <a:chOff x="3780000" y="4325760"/>
            <a:chExt cx="502560" cy="974520"/>
          </a:xfrm>
        </p:grpSpPr>
        <p:sp>
          <p:nvSpPr>
            <p:cNvPr id="291" name="Rectangle 23"/>
            <p:cNvSpPr/>
            <p:nvPr/>
          </p:nvSpPr>
          <p:spPr>
            <a:xfrm>
              <a:off x="3780000" y="4806000"/>
              <a:ext cx="50256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Rectangle 24"/>
            <p:cNvSpPr/>
            <p:nvPr/>
          </p:nvSpPr>
          <p:spPr>
            <a:xfrm>
              <a:off x="3780000" y="4325760"/>
              <a:ext cx="502560" cy="494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3" name="Text Box 23"/>
          <p:cNvSpPr/>
          <p:nvPr/>
        </p:nvSpPr>
        <p:spPr>
          <a:xfrm>
            <a:off x="1539720" y="34243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3809880" y="34243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6041880" y="34354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39"/>
          <p:cNvSpPr/>
          <p:nvPr/>
        </p:nvSpPr>
        <p:spPr>
          <a:xfrm>
            <a:off x="6959520" y="4581360"/>
            <a:ext cx="1871640" cy="863640"/>
          </a:xfrm>
          <a:prstGeom prst="wedgeRoundRectCallout">
            <a:avLst>
              <a:gd name="adj1" fmla="val 23791"/>
              <a:gd name="adj2" fmla="val 461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形状相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8:22:45Z</dcterms:created>
  <dc:creator>Administrator</dc:creator>
  <dc:description/>
  <cp:keywords>青岛版数学</cp:keywords>
  <dc:language>en-US</dc:language>
  <cp:lastModifiedBy>微软用户</cp:lastModifiedBy>
  <dcterms:modified xsi:type="dcterms:W3CDTF">2015-10-21T07:17:47Z</dcterms:modified>
  <cp:revision>55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