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7.jpeg" ContentType="image/jpe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15A-1C30-43C1-A06C-D0B3BA54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0F1-8321-4F13-B140-709E87ED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654-5D99-45E5-917E-29579F03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6DE-8D94-414E-A158-303D0A45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18A-FE7C-4F9F-9EE5-6E8DD865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8C4-89D3-4D0C-B707-8B49AC4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208-2BA1-4F6E-8DBC-D71D299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D19-AE54-4635-8F8B-A31EEFFB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F54-30C5-40B4-8E2D-BFD8FBFF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216-6F1F-4BF6-BBE0-45BB89D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F1A-740D-4231-971F-743307BD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5C8-3AD5-41B4-888E-5EA1FF73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22B7-3929-4DF5-B2BE-B53E47A9C21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500040" y="1530360"/>
            <a:ext cx="839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运用乘法交换律、结合律进行简便计算</a:t>
            </a:r>
            <a:endParaRPr b="0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4" name="Group 19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45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12">
              <a:hlinkClick r:id="" action="ppaction://hlinkshowjump?jump=lastslide"/>
            </p:cNvPr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7" name="Group 18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48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49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7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51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2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20"/>
          <p:cNvGrpSpPr/>
          <p:nvPr/>
        </p:nvGrpSpPr>
        <p:grpSpPr>
          <a:xfrm>
            <a:off x="482760" y="3529080"/>
            <a:ext cx="2044080" cy="401040"/>
            <a:chOff x="482760" y="3529080"/>
            <a:chExt cx="2044080" cy="401040"/>
          </a:xfrm>
        </p:grpSpPr>
        <p:sp>
          <p:nvSpPr>
            <p:cNvPr id="54" name="Text Box 9"/>
            <p:cNvSpPr/>
            <p:nvPr/>
          </p:nvSpPr>
          <p:spPr>
            <a:xfrm>
              <a:off x="871200" y="35290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5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7300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468360" y="1341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20"/>
          <p:cNvGrpSpPr/>
          <p:nvPr/>
        </p:nvGrpSpPr>
        <p:grpSpPr>
          <a:xfrm>
            <a:off x="1403280" y="1413000"/>
            <a:ext cx="5257800" cy="2087280"/>
            <a:chOff x="1403280" y="1413000"/>
            <a:chExt cx="5257800" cy="2087280"/>
          </a:xfrm>
        </p:grpSpPr>
        <p:pic>
          <p:nvPicPr>
            <p:cNvPr id="209" name="Picture 15" descr="4B(3%QM)SCZQ6HJS~V%7~CD"/>
            <p:cNvPicPr/>
            <p:nvPr/>
          </p:nvPicPr>
          <p:blipFill>
            <a:blip r:embed="rId2"/>
            <a:srcRect l="0" t="0" r="56027" b="0"/>
            <a:stretch/>
          </p:blipFill>
          <p:spPr>
            <a:xfrm>
              <a:off x="1403280" y="1413000"/>
              <a:ext cx="2697480" cy="208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10" name="AutoShape 19"/>
            <p:cNvSpPr/>
            <p:nvPr/>
          </p:nvSpPr>
          <p:spPr>
            <a:xfrm>
              <a:off x="4032000" y="1784880"/>
              <a:ext cx="2629080" cy="991440"/>
            </a:xfrm>
            <a:prstGeom prst="wedgeEllipseCallout">
              <a:avLst>
                <a:gd name="adj1" fmla="val -56439"/>
                <a:gd name="adj2" fmla="val 40898"/>
              </a:avLst>
            </a:prstGeom>
            <a:solidFill>
              <a:srgbClr val="99cc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全线长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</a:rPr>
                <a:t>25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米，每天开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个来回。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1" name="Rectangle 21"/>
          <p:cNvSpPr/>
          <p:nvPr/>
        </p:nvSpPr>
        <p:spPr>
          <a:xfrm>
            <a:off x="4211640" y="2924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这辆车每天行驶多少千米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2843280" y="364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5×5×2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627280" y="42051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25×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5×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627280" y="47815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25×1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2556000" y="5300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2556000" y="5877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这辆车每天行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0"/>
          <p:cNvSpPr/>
          <p:nvPr/>
        </p:nvSpPr>
        <p:spPr>
          <a:xfrm>
            <a:off x="468360" y="1268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算一算，想一想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8" name="Picture 22" descr="RYR66B@[5~8OY]K@5FAHP5V"/>
          <p:cNvPicPr/>
          <p:nvPr/>
        </p:nvPicPr>
        <p:blipFill>
          <a:blip r:embed="rId1"/>
          <a:stretch/>
        </p:blipFill>
        <p:spPr>
          <a:xfrm>
            <a:off x="539640" y="1844640"/>
            <a:ext cx="7920000" cy="2376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2"/>
          <p:cNvSpPr/>
          <p:nvPr/>
        </p:nvSpPr>
        <p:spPr>
          <a:xfrm>
            <a:off x="395280" y="443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你有发现了什么规律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900000" y="55897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</a:rPr>
              <a:t>用字母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表示：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ɑ÷b÷c=ɑ÷(b×c)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38"/>
          <p:cNvSpPr/>
          <p:nvPr/>
        </p:nvSpPr>
        <p:spPr>
          <a:xfrm>
            <a:off x="1187280" y="2565360"/>
            <a:ext cx="64800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3203640" y="2565360"/>
            <a:ext cx="64764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40"/>
          <p:cNvSpPr/>
          <p:nvPr/>
        </p:nvSpPr>
        <p:spPr>
          <a:xfrm>
            <a:off x="5148360" y="2565360"/>
            <a:ext cx="64764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41"/>
          <p:cNvSpPr/>
          <p:nvPr/>
        </p:nvSpPr>
        <p:spPr>
          <a:xfrm>
            <a:off x="7093080" y="2565360"/>
            <a:ext cx="64764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1187280" y="3730680"/>
            <a:ext cx="64800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43"/>
          <p:cNvSpPr/>
          <p:nvPr/>
        </p:nvSpPr>
        <p:spPr>
          <a:xfrm>
            <a:off x="3203640" y="3730680"/>
            <a:ext cx="64764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5176800" y="3730680"/>
            <a:ext cx="64764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 Box 45"/>
          <p:cNvSpPr/>
          <p:nvPr/>
        </p:nvSpPr>
        <p:spPr>
          <a:xfrm>
            <a:off x="7121520" y="3730680"/>
            <a:ext cx="64764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46"/>
          <p:cNvSpPr/>
          <p:nvPr/>
        </p:nvSpPr>
        <p:spPr>
          <a:xfrm>
            <a:off x="234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47"/>
          <p:cNvSpPr/>
          <p:nvPr/>
        </p:nvSpPr>
        <p:spPr>
          <a:xfrm>
            <a:off x="630072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 Box 48"/>
          <p:cNvSpPr/>
          <p:nvPr/>
        </p:nvSpPr>
        <p:spPr>
          <a:xfrm>
            <a:off x="2340000" y="3141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630072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568440" y="501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一个数连续除以两个数，等于这个数除以两个除数的积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7"/>
          <p:cNvSpPr/>
          <p:nvPr/>
        </p:nvSpPr>
        <p:spPr>
          <a:xfrm>
            <a:off x="1189080" y="229068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80÷5÷2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3708360" y="2276640"/>
            <a:ext cx="1727280" cy="64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00÷4÷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6419880" y="4135320"/>
            <a:ext cx="247320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20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×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2"/>
          <p:cNvSpPr/>
          <p:nvPr/>
        </p:nvSpPr>
        <p:spPr>
          <a:xfrm>
            <a:off x="468360" y="1268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算一算，想一想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042920" y="1773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用刚才发现的规律计算下面各题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1201680" y="4133880"/>
            <a:ext cx="2146320" cy="64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40÷45÷2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3637080" y="4076640"/>
            <a:ext cx="252072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800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0×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AutoShape 16"/>
          <p:cNvSpPr/>
          <p:nvPr/>
        </p:nvSpPr>
        <p:spPr>
          <a:xfrm>
            <a:off x="6416640" y="2276640"/>
            <a:ext cx="208908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70÷4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AutoShape 18"/>
          <p:cNvSpPr/>
          <p:nvPr/>
        </p:nvSpPr>
        <p:spPr>
          <a:xfrm>
            <a:off x="1044720" y="275112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380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5×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1044720" y="318276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380÷10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1058760" y="3614760"/>
            <a:ext cx="251964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3535200" y="2709720"/>
            <a:ext cx="251964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200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4×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3535200" y="3141720"/>
            <a:ext cx="251964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200÷20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AutoShape 23"/>
          <p:cNvSpPr/>
          <p:nvPr/>
        </p:nvSpPr>
        <p:spPr>
          <a:xfrm>
            <a:off x="3549600" y="357336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AutoShape 24"/>
          <p:cNvSpPr/>
          <p:nvPr/>
        </p:nvSpPr>
        <p:spPr>
          <a:xfrm>
            <a:off x="6286680" y="278136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270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9÷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AutoShape 25"/>
          <p:cNvSpPr/>
          <p:nvPr/>
        </p:nvSpPr>
        <p:spPr>
          <a:xfrm>
            <a:off x="6286680" y="321300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30÷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AutoShape 26"/>
          <p:cNvSpPr/>
          <p:nvPr/>
        </p:nvSpPr>
        <p:spPr>
          <a:xfrm>
            <a:off x="6300720" y="3645000"/>
            <a:ext cx="251928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AutoShape 27"/>
          <p:cNvSpPr/>
          <p:nvPr/>
        </p:nvSpPr>
        <p:spPr>
          <a:xfrm>
            <a:off x="1044720" y="4726080"/>
            <a:ext cx="251928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540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45×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AutoShape 28"/>
          <p:cNvSpPr/>
          <p:nvPr/>
        </p:nvSpPr>
        <p:spPr>
          <a:xfrm>
            <a:off x="1044720" y="515772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540÷90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AutoShape 29"/>
          <p:cNvSpPr/>
          <p:nvPr/>
        </p:nvSpPr>
        <p:spPr>
          <a:xfrm>
            <a:off x="1058760" y="5589720"/>
            <a:ext cx="251964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AutoShape 32"/>
          <p:cNvSpPr/>
          <p:nvPr/>
        </p:nvSpPr>
        <p:spPr>
          <a:xfrm>
            <a:off x="3621240" y="544500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3635280" y="458136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800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8÷20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AutoShape 34"/>
          <p:cNvSpPr/>
          <p:nvPr/>
        </p:nvSpPr>
        <p:spPr>
          <a:xfrm>
            <a:off x="3635280" y="501336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100÷20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AutoShape 35"/>
          <p:cNvSpPr/>
          <p:nvPr/>
        </p:nvSpPr>
        <p:spPr>
          <a:xfrm>
            <a:off x="6286680" y="465300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420÷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7÷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AutoShape 36"/>
          <p:cNvSpPr/>
          <p:nvPr/>
        </p:nvSpPr>
        <p:spPr>
          <a:xfrm>
            <a:off x="6286680" y="508464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60÷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AutoShape 37"/>
          <p:cNvSpPr/>
          <p:nvPr/>
        </p:nvSpPr>
        <p:spPr>
          <a:xfrm>
            <a:off x="6300720" y="5516640"/>
            <a:ext cx="251928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460440" y="14842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比一比谁算得快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5" name="Picture 8" descr=")C}4(0TBUXF487~7{GAUBS4"/>
          <p:cNvPicPr/>
          <p:nvPr/>
        </p:nvPicPr>
        <p:blipFill>
          <a:blip r:embed="rId1"/>
          <a:stretch/>
        </p:blipFill>
        <p:spPr>
          <a:xfrm>
            <a:off x="34920" y="2351160"/>
            <a:ext cx="9109080" cy="2949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3089880" y="4554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90200" y="4626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237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7769880" y="462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9" descr="S6~ZT8_D47ANN61XS8[C`QA"/>
          <p:cNvPicPr/>
          <p:nvPr/>
        </p:nvPicPr>
        <p:blipFill>
          <a:blip r:embed="rId1"/>
          <a:stretch/>
        </p:blipFill>
        <p:spPr>
          <a:xfrm>
            <a:off x="4788000" y="476280"/>
            <a:ext cx="4105080" cy="2435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ITI91JL}3{I)58(6TWV5QYA"/>
          <p:cNvPicPr/>
          <p:nvPr/>
        </p:nvPicPr>
        <p:blipFill>
          <a:blip r:embed="rId2"/>
          <a:stretch/>
        </p:blipFill>
        <p:spPr>
          <a:xfrm>
            <a:off x="539640" y="2924280"/>
            <a:ext cx="5688000" cy="9619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2"/>
          <p:cNvSpPr/>
          <p:nvPr/>
        </p:nvSpPr>
        <p:spPr>
          <a:xfrm>
            <a:off x="468360" y="1341360"/>
            <a:ext cx="431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计划把球场铺上皮， 为此专门收集了下面一些 信息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395280" y="400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如果让你来选择，你打算铺哪一种草皮呢？为什么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6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1"/>
          <p:cNvSpPr/>
          <p:nvPr/>
        </p:nvSpPr>
        <p:spPr>
          <a:xfrm>
            <a:off x="466560" y="5877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如果铺你所选的草皮，需要花多少钱呢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1042920" y="44845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选马尼拉草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虽然价格贵，但美观、耐踩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存活期长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971640" y="5013360"/>
            <a:ext cx="723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选普通草的：虽然不太美观、不耐踩、存活不期长，但价格便宜不少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S6~ZT8_D47ANN61XS8[C`QA"/>
          <p:cNvPicPr/>
          <p:nvPr/>
        </p:nvPicPr>
        <p:blipFill>
          <a:blip r:embed="rId1"/>
          <a:stretch/>
        </p:blipFill>
        <p:spPr>
          <a:xfrm>
            <a:off x="4788000" y="476280"/>
            <a:ext cx="4105080" cy="243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ITI91JL}3{I)58(6TWV5QYA"/>
          <p:cNvPicPr/>
          <p:nvPr/>
        </p:nvPicPr>
        <p:blipFill>
          <a:blip r:embed="rId2"/>
          <a:stretch/>
        </p:blipFill>
        <p:spPr>
          <a:xfrm>
            <a:off x="539640" y="2924280"/>
            <a:ext cx="5688000" cy="9619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468360" y="1341360"/>
            <a:ext cx="431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计划把球场铺上皮， 为此专门收集了下面一些 信息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4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395280" y="3933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如果铺你所选的草皮，需要花多少钱呢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6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482760" y="44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选马尼拉草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2066760" y="43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0×40×15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199548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70×(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5×4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1995480" y="522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70×600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1995480" y="56754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42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4211640" y="44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选普通草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710320" y="43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0×40×6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5580000" y="4840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40×7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×6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5580000" y="5273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4200×6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5580000" y="5689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5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1347840" y="6156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答：选马尼拉草需要花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42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5292720" y="6165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答：选普通草需要花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252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C(KRXYY2V(_L4TY(HKV)Y7"/>
          <p:cNvPicPr/>
          <p:nvPr/>
        </p:nvPicPr>
        <p:blipFill>
          <a:blip r:embed="rId1"/>
          <a:stretch/>
        </p:blipFill>
        <p:spPr>
          <a:xfrm>
            <a:off x="684360" y="1341360"/>
            <a:ext cx="6337080" cy="251928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5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1116000" y="5157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这个图书室一共有多少本书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42920" y="4005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每个书架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层。平均每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本书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36560" y="5734080"/>
            <a:ext cx="590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这些信息 ，你能提出什么问题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588000" y="3573360"/>
            <a:ext cx="136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258920" y="189000"/>
            <a:ext cx="208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1042920" y="1484280"/>
            <a:ext cx="266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042920" y="4581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个书架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773600" y="1541520"/>
            <a:ext cx="2160720" cy="865080"/>
          </a:xfrm>
          <a:prstGeom prst="wedgeEllipseCallout">
            <a:avLst>
              <a:gd name="adj1" fmla="val -27518"/>
              <a:gd name="adj2" fmla="val 683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个书架。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AutoShape 22"/>
          <p:cNvSpPr/>
          <p:nvPr/>
        </p:nvSpPr>
        <p:spPr>
          <a:xfrm>
            <a:off x="971640" y="1484280"/>
            <a:ext cx="2665440" cy="981000"/>
          </a:xfrm>
          <a:prstGeom prst="wedgeEllipseCallout">
            <a:avLst>
              <a:gd name="adj1" fmla="val 34157"/>
              <a:gd name="adj2" fmla="val 52912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每个书架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层，平均每层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12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本书。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1187280" y="148428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4716360" y="148428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1332000" y="1484280"/>
            <a:ext cx="180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003640" y="141300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1116000" y="450864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539640" y="549360"/>
            <a:ext cx="3240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10"/>
          <p:cNvGrpSpPr/>
          <p:nvPr/>
        </p:nvGrpSpPr>
        <p:grpSpPr>
          <a:xfrm>
            <a:off x="611280" y="1413000"/>
            <a:ext cx="6553080" cy="459720"/>
            <a:chOff x="611280" y="1413000"/>
            <a:chExt cx="6553080" cy="459720"/>
          </a:xfrm>
        </p:grpSpPr>
        <p:pic>
          <p:nvPicPr>
            <p:cNvPr id="76" name="Picture 9" descr=""/>
            <p:cNvPicPr/>
            <p:nvPr/>
          </p:nvPicPr>
          <p:blipFill>
            <a:blip r:embed="rId2"/>
            <a:stretch/>
          </p:blipFill>
          <p:spPr>
            <a:xfrm>
              <a:off x="611280" y="1413000"/>
              <a:ext cx="50328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9"/>
            <p:cNvSpPr/>
            <p:nvPr/>
          </p:nvSpPr>
          <p:spPr>
            <a:xfrm>
              <a:off x="1187640" y="1413000"/>
              <a:ext cx="59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这个图书室一共有多少本书？</a:t>
              </a:r>
              <a:endParaRPr b="0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8" name="Group 131"/>
          <p:cNvGrpSpPr/>
          <p:nvPr/>
        </p:nvGrpSpPr>
        <p:grpSpPr>
          <a:xfrm>
            <a:off x="2268360" y="2205000"/>
            <a:ext cx="4680000" cy="1008000"/>
            <a:chOff x="2268360" y="2205000"/>
            <a:chExt cx="4680000" cy="1008000"/>
          </a:xfrm>
        </p:grpSpPr>
        <p:sp>
          <p:nvSpPr>
            <p:cNvPr id="79" name="Text Box 111"/>
            <p:cNvSpPr/>
            <p:nvPr/>
          </p:nvSpPr>
          <p:spPr>
            <a:xfrm>
              <a:off x="2268360" y="2205000"/>
              <a:ext cx="4680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</a:rPr>
                <a:t>125×6×8=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         (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本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)  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0" name="Rectangle 49"/>
            <p:cNvSpPr/>
            <p:nvPr/>
          </p:nvSpPr>
          <p:spPr>
            <a:xfrm>
              <a:off x="4572000" y="2276280"/>
              <a:ext cx="792000" cy="474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81" name="Picture 37" descr="蓝色按钮"/>
          <p:cNvPicPr/>
          <p:nvPr/>
        </p:nvPicPr>
        <p:blipFill>
          <a:blip r:embed="rId3"/>
          <a:stretch/>
        </p:blipFill>
        <p:spPr>
          <a:xfrm>
            <a:off x="449280" y="62690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8"/>
          <p:cNvSpPr/>
          <p:nvPr/>
        </p:nvSpPr>
        <p:spPr>
          <a:xfrm>
            <a:off x="93600" y="606420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一般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3" name="Picture 40" descr="蓝色按钮"/>
          <p:cNvPicPr/>
          <p:nvPr/>
        </p:nvPicPr>
        <p:blipFill>
          <a:blip r:embed="rId4"/>
          <a:stretch/>
        </p:blipFill>
        <p:spPr>
          <a:xfrm>
            <a:off x="1332000" y="6237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1"/>
          <p:cNvSpPr/>
          <p:nvPr/>
        </p:nvSpPr>
        <p:spPr>
          <a:xfrm>
            <a:off x="1352160" y="6021360"/>
            <a:ext cx="4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简算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6" descr="蓝色按钮"/>
          <p:cNvPicPr/>
          <p:nvPr/>
        </p:nvPicPr>
        <p:blipFill>
          <a:blip r:embed="rId5"/>
          <a:stretch/>
        </p:blipFill>
        <p:spPr>
          <a:xfrm>
            <a:off x="224784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7"/>
          <p:cNvSpPr/>
          <p:nvPr/>
        </p:nvSpPr>
        <p:spPr>
          <a:xfrm>
            <a:off x="2017440" y="60134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9640" y="549360"/>
            <a:ext cx="3240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4"/>
          <p:cNvGrpSpPr/>
          <p:nvPr/>
        </p:nvGrpSpPr>
        <p:grpSpPr>
          <a:xfrm>
            <a:off x="611280" y="1413000"/>
            <a:ext cx="6553080" cy="459720"/>
            <a:chOff x="611280" y="1413000"/>
            <a:chExt cx="6553080" cy="459720"/>
          </a:xfrm>
        </p:grpSpPr>
        <p:pic>
          <p:nvPicPr>
            <p:cNvPr id="90" name="Picture 9" descr=""/>
            <p:cNvPicPr/>
            <p:nvPr/>
          </p:nvPicPr>
          <p:blipFill>
            <a:blip r:embed="rId2"/>
            <a:stretch/>
          </p:blipFill>
          <p:spPr>
            <a:xfrm>
              <a:off x="611280" y="1413000"/>
              <a:ext cx="50328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1187640" y="1413000"/>
              <a:ext cx="59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这个图书室一共有多少本书？</a:t>
              </a:r>
              <a:endParaRPr b="0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2" name="Text Box 8"/>
          <p:cNvSpPr/>
          <p:nvPr/>
        </p:nvSpPr>
        <p:spPr>
          <a:xfrm>
            <a:off x="2340000" y="227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25×6×8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979640" y="3068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= 750×8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979640" y="38466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6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本）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771640" y="4724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这个图书室一共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本书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225000" y="6019920"/>
            <a:ext cx="692640" cy="709560"/>
            <a:chOff x="225000" y="6019920"/>
            <a:chExt cx="692640" cy="709560"/>
          </a:xfrm>
        </p:grpSpPr>
        <p:pic>
          <p:nvPicPr>
            <p:cNvPr id="97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37"/>
            <p:cNvSpPr/>
            <p:nvPr/>
          </p:nvSpPr>
          <p:spPr>
            <a:xfrm>
              <a:off x="225000" y="60199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9" name="Text Box 16"/>
          <p:cNvSpPr/>
          <p:nvPr/>
        </p:nvSpPr>
        <p:spPr>
          <a:xfrm>
            <a:off x="4356000" y="234792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4211640" y="3068640"/>
            <a:ext cx="3313080" cy="64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同级运算  从左到右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9640" y="549360"/>
            <a:ext cx="3240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611280" y="1341360"/>
            <a:ext cx="6553080" cy="459720"/>
            <a:chOff x="611280" y="1341360"/>
            <a:chExt cx="6553080" cy="459720"/>
          </a:xfrm>
        </p:grpSpPr>
        <p:pic>
          <p:nvPicPr>
            <p:cNvPr id="103" name="Picture 9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50328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6"/>
            <p:cNvSpPr/>
            <p:nvPr/>
          </p:nvSpPr>
          <p:spPr>
            <a:xfrm>
              <a:off x="1187640" y="1341360"/>
              <a:ext cx="59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这个图书室一共有多少本书？</a:t>
              </a:r>
              <a:endParaRPr b="0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1332000" y="3240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125×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258920" y="38592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1000×6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332000" y="45068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050920" y="52275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这个图书室一共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本书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547640" y="24908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25×6×8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1979280" y="1916280"/>
            <a:ext cx="1152720" cy="720720"/>
            <a:chOff x="1979280" y="1916280"/>
            <a:chExt cx="1152720" cy="720720"/>
          </a:xfrm>
        </p:grpSpPr>
        <p:sp>
          <p:nvSpPr>
            <p:cNvPr id="111" name="Line 13"/>
            <p:cNvSpPr/>
            <p:nvPr/>
          </p:nvSpPr>
          <p:spPr>
            <a:xfrm flipH="1">
              <a:off x="1979280" y="2275200"/>
              <a:ext cx="576360" cy="28872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2556000" y="2275200"/>
              <a:ext cx="576000" cy="36180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266920" y="1916280"/>
              <a:ext cx="792360" cy="337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4" name="Text Box 19"/>
          <p:cNvSpPr/>
          <p:nvPr/>
        </p:nvSpPr>
        <p:spPr>
          <a:xfrm>
            <a:off x="4211640" y="2060640"/>
            <a:ext cx="446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想一想，在计算时，运用了什么运算律？它的作用是什么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5" name="Group 20"/>
          <p:cNvGrpSpPr/>
          <p:nvPr/>
        </p:nvGrpSpPr>
        <p:grpSpPr>
          <a:xfrm>
            <a:off x="225000" y="6019920"/>
            <a:ext cx="692640" cy="709560"/>
            <a:chOff x="225000" y="6019920"/>
            <a:chExt cx="692640" cy="709560"/>
          </a:xfrm>
        </p:grpSpPr>
        <p:pic>
          <p:nvPicPr>
            <p:cNvPr id="116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37"/>
            <p:cNvSpPr/>
            <p:nvPr/>
          </p:nvSpPr>
          <p:spPr>
            <a:xfrm>
              <a:off x="225000" y="60199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8" name="Text Box 25"/>
          <p:cNvSpPr/>
          <p:nvPr/>
        </p:nvSpPr>
        <p:spPr>
          <a:xfrm>
            <a:off x="3995640" y="3716280"/>
            <a:ext cx="424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运用乘法交换律和结合律，可以进行简便计算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1619280" y="3716280"/>
            <a:ext cx="1152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549360"/>
            <a:ext cx="3240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174680" y="3762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25×4×12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174680" y="4336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100×12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174680" y="48402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187280" y="55897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一共花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547640" y="3141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5×12×4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185760" y="6019920"/>
            <a:ext cx="687240" cy="709560"/>
            <a:chOff x="185760" y="6019920"/>
            <a:chExt cx="687240" cy="709560"/>
          </a:xfrm>
        </p:grpSpPr>
        <p:pic>
          <p:nvPicPr>
            <p:cNvPr id="129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1360" y="62978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7"/>
            <p:cNvSpPr/>
            <p:nvPr/>
          </p:nvSpPr>
          <p:spPr>
            <a:xfrm>
              <a:off x="185760" y="601992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换</a:t>
              </a:r>
              <a:endParaRPr b="0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1" name="Rectangle 16"/>
          <p:cNvSpPr/>
          <p:nvPr/>
        </p:nvSpPr>
        <p:spPr>
          <a:xfrm>
            <a:off x="755640" y="164052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一套</a:t>
            </a:r>
            <a:r>
              <a:rPr b="1" lang="pt-BR" sz="24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十万个为什么</a:t>
            </a:r>
            <a:r>
              <a:rPr b="1" lang="pt-BR" sz="24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本，每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，王老师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套，一共花了多少元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2612880" cy="16480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7"/>
          <p:cNvGrpSpPr/>
          <p:nvPr/>
        </p:nvGrpSpPr>
        <p:grpSpPr>
          <a:xfrm>
            <a:off x="1122840" y="6021360"/>
            <a:ext cx="738360" cy="709560"/>
            <a:chOff x="1122840" y="6021360"/>
            <a:chExt cx="738360" cy="709560"/>
          </a:xfrm>
        </p:grpSpPr>
        <p:pic>
          <p:nvPicPr>
            <p:cNvPr id="134" name="Picture 36" descr="蓝色按钮"/>
            <p:cNvPicPr/>
            <p:nvPr/>
          </p:nvPicPr>
          <p:blipFill>
            <a:blip r:embed="rId4"/>
            <a:stretch/>
          </p:blipFill>
          <p:spPr>
            <a:xfrm>
              <a:off x="1378080" y="62992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37"/>
            <p:cNvSpPr/>
            <p:nvPr/>
          </p:nvSpPr>
          <p:spPr>
            <a:xfrm>
              <a:off x="1122840" y="6021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结</a:t>
              </a:r>
              <a:endParaRPr b="0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6" name="Text Box 30"/>
          <p:cNvSpPr/>
          <p:nvPr/>
        </p:nvSpPr>
        <p:spPr>
          <a:xfrm>
            <a:off x="5278320" y="374652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12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5×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5278320" y="4321080"/>
            <a:ext cx="29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12×10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5278320" y="482436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292720" y="55897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一共花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580000" y="3141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2×25×4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1258920" y="602136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3276720" y="426564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37"/>
          <p:cNvSpPr/>
          <p:nvPr/>
        </p:nvSpPr>
        <p:spPr>
          <a:xfrm>
            <a:off x="324000" y="621036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1258920" y="621036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39"/>
          <p:cNvSpPr/>
          <p:nvPr/>
        </p:nvSpPr>
        <p:spPr>
          <a:xfrm>
            <a:off x="3276720" y="4697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乘法交换律和结合律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40"/>
          <p:cNvSpPr/>
          <p:nvPr/>
        </p:nvSpPr>
        <p:spPr>
          <a:xfrm>
            <a:off x="7451640" y="4976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乘法结合律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N0P1CY~406_AJUK[S[6V$0"/>
          <p:cNvPicPr/>
          <p:nvPr/>
        </p:nvPicPr>
        <p:blipFill>
          <a:blip r:embed="rId1"/>
          <a:srcRect l="0" t="22234" r="0" b="0"/>
          <a:stretch/>
        </p:blipFill>
        <p:spPr>
          <a:xfrm>
            <a:off x="468360" y="2492280"/>
            <a:ext cx="8294760" cy="15098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"/>
          <p:cNvGrpSpPr/>
          <p:nvPr/>
        </p:nvGrpSpPr>
        <p:grpSpPr>
          <a:xfrm>
            <a:off x="1206360" y="3294000"/>
            <a:ext cx="2421720" cy="539640"/>
            <a:chOff x="1206360" y="3294000"/>
            <a:chExt cx="2421720" cy="539640"/>
          </a:xfrm>
        </p:grpSpPr>
        <p:sp>
          <p:nvSpPr>
            <p:cNvPr id="149" name="Text Box 4"/>
            <p:cNvSpPr/>
            <p:nvPr/>
          </p:nvSpPr>
          <p:spPr>
            <a:xfrm>
              <a:off x="1206360" y="3313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Text Box 5"/>
            <p:cNvSpPr/>
            <p:nvPr/>
          </p:nvSpPr>
          <p:spPr>
            <a:xfrm>
              <a:off x="2188440" y="3294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3020760" y="330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2" name="Group 7"/>
          <p:cNvGrpSpPr/>
          <p:nvPr/>
        </p:nvGrpSpPr>
        <p:grpSpPr>
          <a:xfrm>
            <a:off x="5614560" y="3292560"/>
            <a:ext cx="2436120" cy="522000"/>
            <a:chOff x="5614560" y="3292560"/>
            <a:chExt cx="2436120" cy="522000"/>
          </a:xfrm>
        </p:grpSpPr>
        <p:sp>
          <p:nvSpPr>
            <p:cNvPr id="153" name="Text Box 8"/>
            <p:cNvSpPr/>
            <p:nvPr/>
          </p:nvSpPr>
          <p:spPr>
            <a:xfrm>
              <a:off x="5614560" y="3292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6580800" y="3292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43360" y="3294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2243880" y="1536840"/>
            <a:ext cx="30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将下列各组的三个数填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中，使计算简便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1"/>
          <p:cNvSpPr/>
          <p:nvPr/>
        </p:nvSpPr>
        <p:spPr>
          <a:xfrm>
            <a:off x="611280" y="134136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怎样简便就怎样算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964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77"/>
          <p:cNvSpPr/>
          <p:nvPr/>
        </p:nvSpPr>
        <p:spPr>
          <a:xfrm>
            <a:off x="1258920" y="4076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6×17×5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79"/>
          <p:cNvSpPr/>
          <p:nvPr/>
        </p:nvSpPr>
        <p:spPr>
          <a:xfrm>
            <a:off x="513396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4×51×25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80"/>
          <p:cNvSpPr/>
          <p:nvPr/>
        </p:nvSpPr>
        <p:spPr>
          <a:xfrm>
            <a:off x="1332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3×5×2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 Box 81"/>
          <p:cNvSpPr/>
          <p:nvPr/>
        </p:nvSpPr>
        <p:spPr>
          <a:xfrm>
            <a:off x="5003640" y="400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×13×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3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82"/>
          <p:cNvSpPr/>
          <p:nvPr/>
        </p:nvSpPr>
        <p:spPr>
          <a:xfrm>
            <a:off x="1042920" y="2521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23×(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5×2)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83"/>
          <p:cNvSpPr/>
          <p:nvPr/>
        </p:nvSpPr>
        <p:spPr>
          <a:xfrm>
            <a:off x="1044720" y="30402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23×1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84"/>
          <p:cNvSpPr/>
          <p:nvPr/>
        </p:nvSpPr>
        <p:spPr>
          <a:xfrm>
            <a:off x="1042920" y="35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85"/>
          <p:cNvSpPr/>
          <p:nvPr/>
        </p:nvSpPr>
        <p:spPr>
          <a:xfrm>
            <a:off x="4929120" y="2478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4×2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×51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86"/>
          <p:cNvSpPr/>
          <p:nvPr/>
        </p:nvSpPr>
        <p:spPr>
          <a:xfrm>
            <a:off x="4930920" y="299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100×51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932360" y="342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510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 Box 89"/>
          <p:cNvSpPr/>
          <p:nvPr/>
        </p:nvSpPr>
        <p:spPr>
          <a:xfrm>
            <a:off x="1041480" y="46386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=(6×5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×17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90"/>
          <p:cNvSpPr/>
          <p:nvPr/>
        </p:nvSpPr>
        <p:spPr>
          <a:xfrm>
            <a:off x="1042920" y="51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30×17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 Box 91"/>
          <p:cNvSpPr/>
          <p:nvPr/>
        </p:nvSpPr>
        <p:spPr>
          <a:xfrm>
            <a:off x="1041480" y="56181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 Box 92"/>
          <p:cNvSpPr/>
          <p:nvPr/>
        </p:nvSpPr>
        <p:spPr>
          <a:xfrm>
            <a:off x="4641840" y="4638600"/>
            <a:ext cx="33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(2×5)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(13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</a:rPr>
              <a:t>×3)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 Box 93"/>
          <p:cNvSpPr/>
          <p:nvPr/>
        </p:nvSpPr>
        <p:spPr>
          <a:xfrm>
            <a:off x="4643280" y="51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10×39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 Box 94"/>
          <p:cNvSpPr/>
          <p:nvPr/>
        </p:nvSpPr>
        <p:spPr>
          <a:xfrm>
            <a:off x="4641840" y="56181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39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120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2"/>
          <p:cNvSpPr/>
          <p:nvPr/>
        </p:nvSpPr>
        <p:spPr>
          <a:xfrm>
            <a:off x="592200" y="121608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怎样计算简便呢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450720" y="3646440"/>
            <a:ext cx="3564000" cy="1511280"/>
          </a:xfrm>
          <a:custGeom>
            <a:avLst/>
            <a:gdLst>
              <a:gd name="textAreaLeft" fmla="*/ 817920 w 3564000"/>
              <a:gd name="textAreaRight" fmla="*/ 2746080 w 3564000"/>
              <a:gd name="textAreaTop" fmla="*/ 346680 h 1511280"/>
              <a:gd name="textAreaBottom" fmla="*/ 11646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25×24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5362560" y="3718080"/>
            <a:ext cx="3276720" cy="1511280"/>
          </a:xfrm>
          <a:custGeom>
            <a:avLst/>
            <a:gdLst>
              <a:gd name="textAreaLeft" fmla="*/ 752040 w 3276720"/>
              <a:gd name="textAreaRight" fmla="*/ 2524680 w 3276720"/>
              <a:gd name="textAreaTop" fmla="*/ 346680 h 1511280"/>
              <a:gd name="textAreaBottom" fmla="*/ 11646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5×32×1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312840" y="510840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25× )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Rectangle 33"/>
          <p:cNvSpPr/>
          <p:nvPr/>
        </p:nvSpPr>
        <p:spPr>
          <a:xfrm>
            <a:off x="4194000" y="2852640"/>
            <a:ext cx="23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4305960" y="5238720"/>
            <a:ext cx="42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5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1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3889440" y="285912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AutoShape 23"/>
          <p:cNvSpPr/>
          <p:nvPr/>
        </p:nvSpPr>
        <p:spPr>
          <a:xfrm>
            <a:off x="2916360" y="1413000"/>
            <a:ext cx="3456000" cy="1511280"/>
          </a:xfrm>
          <a:custGeom>
            <a:avLst/>
            <a:gdLst>
              <a:gd name="textAreaLeft" fmla="*/ 793080 w 3456000"/>
              <a:gd name="textAreaRight" fmla="*/ 2662920 w 3456000"/>
              <a:gd name="textAreaTop" fmla="*/ 346680 h 1511280"/>
              <a:gd name="textAreaBottom" fmla="*/ 11646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2×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3981240" y="2349360"/>
            <a:ext cx="662040" cy="648000"/>
            <a:chOff x="3981240" y="2349360"/>
            <a:chExt cx="662040" cy="648000"/>
          </a:xfrm>
        </p:grpSpPr>
        <p:sp>
          <p:nvSpPr>
            <p:cNvPr id="188" name="Line 36"/>
            <p:cNvSpPr/>
            <p:nvPr/>
          </p:nvSpPr>
          <p:spPr>
            <a:xfrm flipH="1">
              <a:off x="3981240" y="2349360"/>
              <a:ext cx="304920" cy="58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4286520" y="2349360"/>
              <a:ext cx="356760" cy="64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0" name="Group 39"/>
          <p:cNvGrpSpPr/>
          <p:nvPr/>
        </p:nvGrpSpPr>
        <p:grpSpPr>
          <a:xfrm>
            <a:off x="2344320" y="4610160"/>
            <a:ext cx="937080" cy="603360"/>
            <a:chOff x="2344320" y="4610160"/>
            <a:chExt cx="937080" cy="603360"/>
          </a:xfrm>
        </p:grpSpPr>
        <p:sp>
          <p:nvSpPr>
            <p:cNvPr id="191" name="Line 40"/>
            <p:cNvSpPr/>
            <p:nvPr/>
          </p:nvSpPr>
          <p:spPr>
            <a:xfrm flipH="1">
              <a:off x="2344320" y="4610160"/>
              <a:ext cx="431640" cy="54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Line 41"/>
            <p:cNvSpPr/>
            <p:nvPr/>
          </p:nvSpPr>
          <p:spPr>
            <a:xfrm>
              <a:off x="2776320" y="4610160"/>
              <a:ext cx="505080" cy="60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3" name="Text Box 42"/>
          <p:cNvSpPr/>
          <p:nvPr/>
        </p:nvSpPr>
        <p:spPr>
          <a:xfrm>
            <a:off x="1979640" y="511488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43"/>
          <p:cNvSpPr/>
          <p:nvPr/>
        </p:nvSpPr>
        <p:spPr>
          <a:xfrm>
            <a:off x="5520240" y="52322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× 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5" name="Group 47"/>
          <p:cNvGrpSpPr/>
          <p:nvPr/>
        </p:nvGrpSpPr>
        <p:grpSpPr>
          <a:xfrm>
            <a:off x="5724000" y="4726080"/>
            <a:ext cx="1368720" cy="647640"/>
            <a:chOff x="5724000" y="4726080"/>
            <a:chExt cx="1368720" cy="647640"/>
          </a:xfrm>
        </p:grpSpPr>
        <p:sp>
          <p:nvSpPr>
            <p:cNvPr id="196" name="Line 45"/>
            <p:cNvSpPr/>
            <p:nvPr/>
          </p:nvSpPr>
          <p:spPr>
            <a:xfrm flipH="1">
              <a:off x="5724000" y="4726080"/>
              <a:ext cx="120708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" name="Line 46"/>
            <p:cNvSpPr/>
            <p:nvPr/>
          </p:nvSpPr>
          <p:spPr>
            <a:xfrm>
              <a:off x="6931440" y="4726080"/>
              <a:ext cx="161280" cy="58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 Box 49"/>
          <p:cNvSpPr/>
          <p:nvPr/>
        </p:nvSpPr>
        <p:spPr>
          <a:xfrm>
            <a:off x="539640" y="558972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1000×3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 Box 50"/>
          <p:cNvSpPr/>
          <p:nvPr/>
        </p:nvSpPr>
        <p:spPr>
          <a:xfrm>
            <a:off x="539640" y="596412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3924360" y="56912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100×100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3951360" y="60642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0000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3537000" y="32702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3×10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3564000" y="36291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2:31:16Z</dcterms:created>
  <dc:creator>Lenovo</dc:creator>
  <dc:description/>
  <cp:keywords>青岛版数学</cp:keywords>
  <dc:language>en-US</dc:language>
  <cp:lastModifiedBy>微软用户</cp:lastModifiedBy>
  <dcterms:modified xsi:type="dcterms:W3CDTF">2015-10-23T02:55:58Z</dcterms:modified>
  <cp:revision>27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