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8.gif" ContentType="image/gif"/>
  <Override PartName="/ppt/media/image5.gif" ContentType="image/gif"/>
  <Override PartName="/ppt/media/image28.gif" ContentType="image/gif"/>
  <Override PartName="/ppt/media/chimes.wav" ContentType="audio/x-wav"/>
  <Override PartName="/ppt/media/image10.png" ContentType="image/png"/>
  <Override PartName="/ppt/media/image1.jpeg" ContentType="image/jpeg"/>
  <Override PartName="/ppt/media/image7.png" ContentType="image/png"/>
  <Override PartName="/ppt/media/image27.gif" ContentType="image/gif"/>
  <Override PartName="/ppt/media/image9.gif" ContentType="image/gif"/>
  <Override PartName="/ppt/media/image3.jpeg" ContentType="image/jpeg"/>
  <Override PartName="/ppt/media/image11.png" ContentType="image/png"/>
  <Override PartName="/ppt/media/image12.jpeg" ContentType="image/jpeg"/>
  <Override PartName="/ppt/media/image15.gif" ContentType="image/gif"/>
  <Override PartName="/ppt/media/image16.gif" ContentType="image/gif"/>
  <Override PartName="/ppt/media/image17.gif" ContentType="image/gif"/>
  <Override PartName="/ppt/media/smile2.wav" ContentType="audio/x-wav"/>
  <Override PartName="/ppt/media/image18.gif" ContentType="image/gif"/>
  <Override PartName="/ppt/media/image13.png" ContentType="image/png"/>
  <Override PartName="/ppt/media/image20.gif" ContentType="image/gif"/>
  <Override PartName="/ppt/media/image19.gif" ContentType="image/gif"/>
  <Override PartName="/ppt/media/image21.gif" ContentType="image/gif"/>
  <Override PartName="/ppt/media/image14.png" ContentType="image/png"/>
  <Override PartName="/ppt/media/image23.gif" ContentType="image/gif"/>
  <Override PartName="/ppt/media/image24.gif" ContentType="image/gif"/>
  <Override PartName="/ppt/media/image25.gif" ContentType="image/gif"/>
  <Override PartName="/ppt/media/image6.jpeg" ContentType="image/jpe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33B-87E9-4397-919C-ED3F1631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A86-FD3E-4C44-B400-99F59227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9D9-74C9-4F06-BB6A-6A911F6B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71F-52CA-4F5C-8F8C-B3176BFE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6CF-02AB-4B66-B2A3-13015938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D14-6F36-40DD-AA7A-4589E2E9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D85-847D-4346-B60A-9AF45AEF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495-235C-4349-AC68-2127473A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4D0-6970-4772-83E3-A04A0324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B8E-492B-4BA5-9D40-EE48FD8F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4E0-EFE1-4D67-A32B-0BA81D3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B83-EBA5-4DEB-B4EE-1D3B8C0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F53-1233-4548-A8AD-6888A1EAAB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" Target="slide7.xml"/><Relationship Id="rId5" Type="http://schemas.openxmlformats.org/officeDocument/2006/relationships/image" Target="../media/image3.jpeg"/><Relationship Id="rId6" Type="http://schemas.openxmlformats.org/officeDocument/2006/relationships/slide" Target="slide8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2.png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smile2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066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沪教牛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0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年级下册英语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3505320"/>
            <a:ext cx="7086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Unit 2 Different noises 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71640" y="18900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间宁静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灰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英国木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268280"/>
            <a:ext cx="860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________   ________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   ________  hou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836640"/>
            <a:ext cx="1440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836640"/>
            <a:ext cx="934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836640"/>
            <a:ext cx="935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836640"/>
            <a:ext cx="43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1197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qu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1203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rit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2060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woo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42670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077320" cy="6057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5448240"/>
            <a:ext cx="1719360" cy="1409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238880" y="4114800"/>
            <a:ext cx="1067040" cy="903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3505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elephant is so gi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429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hen is li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19320" y="114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is 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the tall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the tw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77320" y="2819520"/>
            <a:ext cx="863640" cy="64764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6094440"/>
            <a:ext cx="863640" cy="64764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1447920" cy="3819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43000" y="2819520"/>
            <a:ext cx="99072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 get up 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a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six o’clo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 go swimming 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on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nday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 prepare my lessons 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he even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2895480" cy="1836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19605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2895480" y="3809880"/>
            <a:ext cx="2819520" cy="1828800"/>
            <a:chOff x="2895480" y="3809880"/>
            <a:chExt cx="2819520" cy="1828800"/>
          </a:xfrm>
        </p:grpSpPr>
        <p:sp>
          <p:nvSpPr>
            <p:cNvPr id="125" name=""/>
            <p:cNvSpPr/>
            <p:nvPr/>
          </p:nvSpPr>
          <p:spPr>
            <a:xfrm>
              <a:off x="2895480" y="3809880"/>
              <a:ext cx="2819520" cy="1828800"/>
            </a:xfrm>
            <a:prstGeom prst="rect">
              <a:avLst/>
            </a:prstGeom>
            <a:solidFill>
              <a:srgbClr val="258b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352680" y="4114800"/>
              <a:ext cx="21337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Sunday</a:t>
              </a:r>
              <a:endPara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34640" y="1628640"/>
            <a:ext cx="81090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708360" y="2349360"/>
          <a:ext cx="5435640" cy="425520"/>
        </p:xfrm>
        <a:graphic>
          <a:graphicData uri="http://schemas.openxmlformats.org/drawingml/2006/table">
            <a:tbl>
              <a:tblPr/>
              <a:tblGrid>
                <a:gridCol w="5435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read the newspaper </a:t>
                      </a: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at</a:t>
                      </a: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eakfas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129680" y="1988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ock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40120" y="1988280"/>
            <a:ext cx="39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The film starts </a:t>
            </a:r>
            <a:r>
              <a:rPr b="1" lang="zh-CN" sz="2000" spc="-1" strike="noStrike">
                <a:solidFill>
                  <a:srgbClr val="a50021"/>
                </a:solidFill>
                <a:latin typeface="Verdana"/>
              </a:rPr>
              <a:t>a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six o'clock.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97000" y="227556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lti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97000" y="25995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estiv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457440" y="2590920"/>
          <a:ext cx="5762520" cy="517320"/>
        </p:xfrm>
        <a:graphic>
          <a:graphicData uri="http://schemas.openxmlformats.org/drawingml/2006/table">
            <a:tbl>
              <a:tblPr/>
              <a:tblGrid>
                <a:gridCol w="576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ople give presents </a:t>
                      </a: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Verdana"/>
                          <a:ea typeface="Times New Roman"/>
                        </a:rPr>
                        <a:t>at</a:t>
                      </a: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ristmas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187280" y="2889360"/>
          <a:ext cx="1152360" cy="395280"/>
        </p:xfrm>
        <a:graphic>
          <a:graphicData uri="http://schemas.openxmlformats.org/drawingml/2006/table">
            <a:tbl>
              <a:tblPr/>
              <a:tblGrid>
                <a:gridCol w="1152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635280" y="2924280"/>
          <a:ext cx="5762880" cy="699840"/>
        </p:xfrm>
        <a:graphic>
          <a:graphicData uri="http://schemas.openxmlformats.org/drawingml/2006/table">
            <a:tbl>
              <a:tblPr/>
              <a:tblGrid>
                <a:gridCol w="57628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e started learning French </a:t>
                      </a:r>
                      <a:r>
                        <a:rPr b="1" lang="zh-CN" sz="22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t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4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58440" y="3213000"/>
            <a:ext cx="10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44720" y="3716280"/>
          <a:ext cx="2879640" cy="39528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s of the da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116000" y="4724280"/>
          <a:ext cx="1944720" cy="39528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ea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780000" y="3716280"/>
          <a:ext cx="5832360" cy="1224000"/>
        </p:xfrm>
        <a:graphic>
          <a:graphicData uri="http://schemas.openxmlformats.org/drawingml/2006/table">
            <a:tbl>
              <a:tblPr/>
              <a:tblGrid>
                <a:gridCol w="5832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ane's party is </a:t>
                      </a: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Verdana"/>
                          <a:ea typeface="Times New Roman"/>
                        </a:rPr>
                        <a:t>in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the evening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634680" y="5114880"/>
            <a:ext cx="9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42920" y="5465880"/>
          <a:ext cx="1195560" cy="395280"/>
        </p:xfrm>
        <a:graphic>
          <a:graphicData uri="http://schemas.openxmlformats.org/drawingml/2006/table">
            <a:tbl>
              <a:tblPr/>
              <a:tblGrid>
                <a:gridCol w="1195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y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889440" y="5465880"/>
          <a:ext cx="5651280" cy="699840"/>
        </p:xfrm>
        <a:graphic>
          <a:graphicData uri="http://schemas.openxmlformats.org/drawingml/2006/table">
            <a:tbl>
              <a:tblPr/>
              <a:tblGrid>
                <a:gridCol w="5651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 start school </a:t>
                      </a: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Verdana"/>
                          <a:ea typeface="Times New Roman"/>
                        </a:rPr>
                        <a:t>on</a:t>
                      </a: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nday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1042920" y="41115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n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24280" y="440064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076640"/>
            <a:ext cx="50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ristmas is </a:t>
            </a: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Dec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4437000"/>
            <a:ext cx="53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Canada, it is very cold </a:t>
            </a: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in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7440" y="4772160"/>
            <a:ext cx="32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vid was born </a:t>
            </a: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990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4680" y="578016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4320" y="5805360"/>
            <a:ext cx="41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holiday starts </a:t>
            </a: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5th July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145404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475920"/>
            <a:ext cx="8001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at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the weekend    </a:t>
            </a: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at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16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o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the morning of the 18th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o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my birthday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o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a winter da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o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a summer  even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o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Tuesday morn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March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Summer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ff"/>
                </a:solidFill>
                <a:latin typeface="Arial"/>
              </a:rPr>
              <a:t>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December 1986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391520" y="4932360"/>
            <a:ext cx="1752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2013120"/>
            <a:ext cx="896472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t's a holiday (1) ______ Wednes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ric's birthday is (2)_____6th Octo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I'm going to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see th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doctor (3)___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' dock this aftern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I always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ak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Eddie for a walk (4)_______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v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e have a long holiday (5)_____Octo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8480" y="1989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39280" y="25146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37200" y="297180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96200" y="403848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53200" y="495288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1039680" cy="955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56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8th Oc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a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W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He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what I wil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do during the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week of November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wil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go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Reading club (1)______Tuesday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Friday. Our club meeting start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_____four o’clock(3)_____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afternoon and finishes(4)_____f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I will play volleyball (5)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Wednes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91080" y="43434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34720" y="32767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49120" y="52578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9400" y="426708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75080" y="480060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773080" cy="898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1981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0010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 Thursday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 to Kitty'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at (6)_____the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y's birthday is(7)_____ 2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so we will have a b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y. It is Eddie's birthday (8)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day. I will take him for a l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!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soo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67000" y="106668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34920" y="2666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34720" y="16002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962520" cy="2881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324480" y="5334120"/>
            <a:ext cx="1123920" cy="1133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791320" y="480060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257800" y="533412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267080" y="5105520"/>
            <a:ext cx="1762200" cy="1514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086520" y="5257800"/>
            <a:ext cx="17622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play basketball 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on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.T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ame starts ____four o‘cloc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._____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ter we go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nema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aturday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do my homewor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he even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likes to eat chocolate eggs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birthday is _____Dece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istmas is _____25th Dece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39280" y="18288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91520" y="3429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24880" y="60199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24400" y="541008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62480" y="396252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6280" y="281952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65800" y="449568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27160" y="236232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655640" cy="1454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562720" y="3049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46821E-006 C -0.13056 -0.00278 -0.28525 0.03052 -0.40486 -0.00833 C -0.47101 -0.00393 -0.53716 0.00231 -0.6033 0.00231 E">
                                      <p:cBhvr>
                                        <p:cTn id="70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33920" y="228600"/>
            <a:ext cx="2286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f73"/>
                </a:solidFill>
                <a:latin typeface="Times New Roman"/>
              </a:rPr>
              <a:t>知识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200400"/>
            <a:ext cx="25146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过去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1676520"/>
            <a:ext cx="7596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676520"/>
            <a:ext cx="304920" cy="75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352680"/>
            <a:ext cx="30492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638680"/>
            <a:ext cx="30492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2819520" y="1523880"/>
            <a:ext cx="1600200" cy="4572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2819520" y="3124080"/>
            <a:ext cx="1523880" cy="45720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2819520" y="5410080"/>
            <a:ext cx="1600200" cy="457200"/>
          </a:xfrm>
          <a:prstGeom prst="flowChartTerminator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用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600200"/>
            <a:ext cx="719280" cy="270000"/>
          </a:xfrm>
          <a:prstGeom prst="rightArrow">
            <a:avLst>
              <a:gd name="adj1" fmla="val 50000"/>
              <a:gd name="adj2" fmla="val 666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200400"/>
            <a:ext cx="719280" cy="270000"/>
          </a:xfrm>
          <a:prstGeom prst="rightArrow">
            <a:avLst>
              <a:gd name="adj1" fmla="val 50000"/>
              <a:gd name="adj2" fmla="val 666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562720"/>
            <a:ext cx="719280" cy="269640"/>
          </a:xfrm>
          <a:prstGeom prst="rightArrow">
            <a:avLst>
              <a:gd name="adj1" fmla="val 50000"/>
              <a:gd name="adj2" fmla="val 66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1371600"/>
            <a:ext cx="29718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动词的过去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362320"/>
            <a:ext cx="3048120" cy="2209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、表示过去某个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间发生的动作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存在的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、表示过去经常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反复发生的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4952880"/>
            <a:ext cx="304812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64d"/>
                </a:solidFill>
                <a:latin typeface="Times New Roman"/>
              </a:rPr>
              <a:t>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64d"/>
                </a:solidFill>
                <a:latin typeface="Times New Roman"/>
              </a:rPr>
              <a:t>last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64d"/>
                </a:solidFill>
                <a:latin typeface="Times New Roman"/>
              </a:rPr>
              <a:t>in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64d"/>
                </a:solidFill>
                <a:latin typeface="Times New Roman"/>
              </a:rPr>
              <a:t>two day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66640" y="333360"/>
            <a:ext cx="857736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We always go home_____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 We will go to watch a football mat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September 12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 We will star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7 :00. Don't be late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. It is very cold_____ December in ou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 There is a concert (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乐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______ the evening of April 3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. The famous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名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singer will come to Shanghai_____ Tues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.______Christmas, children don't go to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. Do you often go to school______ six______ the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18000" y="26028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89280" y="167652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21440" y="426708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7320" y="12193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15400" y="3809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8960" y="213372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49320" y="25909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60880" y="472428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9200" y="472428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981080" y="1981080"/>
            <a:ext cx="5486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Goodbye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894760"/>
            <a:ext cx="2133360" cy="10159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过去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2056320"/>
            <a:ext cx="15559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0000" y="4270680"/>
            <a:ext cx="10951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664d"/>
                </a:solidFill>
                <a:latin typeface="Times New Roman"/>
              </a:rPr>
              <a:t>不规则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2952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3300"/>
          </a:solidFill>
          <a:ln w="9360">
            <a:solidFill>
              <a:srgbClr val="e366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95800" y="1146240"/>
            <a:ext cx="546480" cy="459720"/>
          </a:xfrm>
          <a:prstGeom prst="rect">
            <a:avLst/>
          </a:prstGeom>
          <a:solidFill>
            <a:srgbClr val="9992bc"/>
          </a:solidFill>
          <a:ln w="9360">
            <a:solidFill>
              <a:srgbClr val="e366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ec6c"/>
                </a:solidFill>
                <a:latin typeface="Times New Roman"/>
              </a:rPr>
              <a:t>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71760" y="2899080"/>
            <a:ext cx="546480" cy="459720"/>
          </a:xfrm>
          <a:prstGeom prst="rect">
            <a:avLst/>
          </a:prstGeom>
          <a:solidFill>
            <a:srgbClr val="9992bc"/>
          </a:solidFill>
          <a:ln w="9360">
            <a:solidFill>
              <a:srgbClr val="e366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ec6c"/>
                </a:solidFill>
                <a:latin typeface="Times New Roman"/>
              </a:rPr>
              <a:t>读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10280" y="1295280"/>
            <a:ext cx="503280" cy="26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62920" y="2971800"/>
            <a:ext cx="503280" cy="263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19520" y="2362320"/>
            <a:ext cx="304560" cy="2133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8120" y="609480"/>
            <a:ext cx="33526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规则动词过去式的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295280"/>
            <a:ext cx="1905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成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1295280"/>
            <a:ext cx="23623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2760" y="1870200"/>
            <a:ext cx="693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一般在动词原形末尾加–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          look        look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y        play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rt        start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结尾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动词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 d                 live         live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ope       hope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         use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2240" y="415620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末尾只有一个辅音字母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读闭音节词，先双写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辅音字母，再加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433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46520" y="4156200"/>
            <a:ext cx="22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       stop</a:t>
            </a:r>
            <a:r>
              <a:rPr b="0" lang="en-US" sz="2400" spc="-1" strike="noStrike">
                <a:solidFill>
                  <a:srgbClr val="44ec6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       plan</a:t>
            </a:r>
            <a:r>
              <a:rPr b="0" lang="en-US" sz="2400" spc="-1" strike="noStrike">
                <a:solidFill>
                  <a:srgbClr val="44ec6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        trip</a:t>
            </a:r>
            <a:r>
              <a:rPr b="0" lang="en-US" sz="2400" spc="-1" strike="noStrike">
                <a:solidFill>
                  <a:srgbClr val="44ec6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41008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结尾是“辅音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y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动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变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再加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360" y="5486400"/>
            <a:ext cx="2105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    stud</a:t>
            </a:r>
            <a:r>
              <a:rPr b="0" lang="en-US" sz="2400" spc="-1" strike="noStrike">
                <a:solidFill>
                  <a:srgbClr val="44ec6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y     carr</a:t>
            </a:r>
            <a:r>
              <a:rPr b="0" lang="en-US" sz="2400" spc="-1" strike="noStrike">
                <a:solidFill>
                  <a:srgbClr val="44ec6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50328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3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54400" y="1289880"/>
            <a:ext cx="2230200" cy="1015920"/>
          </a:xfrm>
          <a:prstGeom prst="rect">
            <a:avLst/>
          </a:prstGeom>
          <a:solidFill>
            <a:srgbClr val="44e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清念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/t/ ,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元浊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/d/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/t/ /d/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之后念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/i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06960" y="536760"/>
            <a:ext cx="2196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规则动词词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-ed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读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514600"/>
            <a:ext cx="838188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清念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/t/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，即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ed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在清辅音后面念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/t/ ,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例：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finished  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passed    c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元浊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/d/ ,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即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ed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在元音，浊辅音后面念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/d/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例：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borrowed  enj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called        moved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/t/  /d/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之后念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/id/ ,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即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ed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在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/t/ /d/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音后面念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/i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例：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wanted     sho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needed     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6172200"/>
            <a:ext cx="50328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61640" y="822960"/>
            <a:ext cx="1807200" cy="649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规则动词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01000" y="990720"/>
            <a:ext cx="503280" cy="263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1600200"/>
            <a:ext cx="35053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ive        Past 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 is               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                   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               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                b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                 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                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                   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                  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1600200"/>
            <a:ext cx="3581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ive         Pas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                 c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               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                    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                 d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                  d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                  d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                      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                    f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00400" y="308160"/>
            <a:ext cx="20383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    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9907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、表示过去某个时间发生的动作或存在的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He was here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I got up at six thirty yesterday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My father was at work yesterday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Did you have a good time last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19112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3664d"/>
                </a:solidFill>
                <a:latin typeface="Times New Roman"/>
              </a:rPr>
              <a:t>、表示过去经常或反复发生的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My father often went to work by bus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n I was a child, I often listened to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3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3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3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3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81280" y="670680"/>
            <a:ext cx="2514600" cy="649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常用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523880"/>
            <a:ext cx="75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37f9"/>
                </a:solidFill>
                <a:latin typeface="Times New Roman"/>
              </a:rPr>
              <a:t>常与一般过去时态连用的时间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09680"/>
            <a:ext cx="7375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terday morning (afternoon, evening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night   (week, month, year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ays ago,    a week ago,     three years ag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0,  (in 1998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503280" cy="26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15440" y="537120"/>
            <a:ext cx="2581560" cy="520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ffff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RAC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371600"/>
            <a:ext cx="7786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改写句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Lucy did her homework at home.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（改否定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Lucy _______ _______ her homework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He found some meat in the fridge.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（变一般疑问句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______ he _____ ______ meat in the frid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She stayed there </a:t>
            </a:r>
            <a:r>
              <a:rPr b="0" lang="zh-CN" sz="2400" spc="-1" strike="noStrike" u="sng">
                <a:solidFill>
                  <a:srgbClr val="003300"/>
                </a:solidFill>
                <a:uFillTx/>
                <a:latin typeface="Times New Roman"/>
              </a:rPr>
              <a:t>for a week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（对划线部分提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______ ______ _____ she _____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There was some orange in the cup.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（变一般疑问句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_____ there _____ orange in the cu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9120" y="2382840"/>
            <a:ext cx="66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didn’t       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Did            find     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How      long       did           s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Was            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32520" y="5942880"/>
            <a:ext cx="2544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’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at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3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3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mil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5T02:23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