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6.gif" ContentType="image/gif"/>
  <Override PartName="/ppt/media/image19.png" ContentType="image/png"/>
  <Override PartName="/ppt/media/image25.jpeg" ContentType="image/jpeg"/>
  <Override PartName="/ppt/media/image24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7.jpeg" ContentType="image/jpeg"/>
  <Override PartName="/ppt/media/image31.jpeg" ContentType="image/jpeg"/>
  <Override PartName="/ppt/media/image34.png" ContentType="image/png"/>
  <Override PartName="/ppt/media/image6.gif" ContentType="image/gif"/>
  <Override PartName="/ppt/media/image35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9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47.gif" ContentType="image/gif"/>
  <Override PartName="/ppt/media/image44.png" ContentType="image/png"/>
  <Override PartName="/ppt/media/image13.jpeg" ContentType="image/jpeg"/>
  <Override PartName="/ppt/media/image23.png" ContentType="image/png"/>
  <Override PartName="/ppt/media/image12.png" ContentType="image/png"/>
  <Override PartName="/ppt/media/image11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4.gif" ContentType="image/gif"/>
  <Override PartName="/ppt/media/image10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91E-562F-4637-93EB-29437880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589-DCA1-4592-891E-DC1EB97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8A1-F360-4A72-BE81-5A44D016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B98-7537-456A-B242-70A66CA3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A3B-A34A-40CB-853A-5B53A368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193-41E6-43EB-8D9F-DE95092D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F4B-0E18-414B-B752-DA6DACD9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181-2AB4-4EAC-AFC8-A3DCE2F7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F10-2067-4383-876C-CAA32320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2CB-96D2-4803-A78E-0C7836D5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F5F-06E3-4F87-A9B1-001BFAFA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9F7-553B-414C-BDCA-5CF89CB7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81AA-9B4B-42B8-A9C7-55507DA61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3.jpeg"/><Relationship Id="rId9" Type="http://schemas.openxmlformats.org/officeDocument/2006/relationships/image" Target="../media/image12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jpe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jpeg"/><Relationship Id="rId16" Type="http://schemas.openxmlformats.org/officeDocument/2006/relationships/image" Target="../media/image26.gif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28.png"/><Relationship Id="rId7" Type="http://schemas.openxmlformats.org/officeDocument/2006/relationships/image" Target="../media/image18.png"/><Relationship Id="rId8" Type="http://schemas.openxmlformats.org/officeDocument/2006/relationships/image" Target="../media/image28.png"/><Relationship Id="rId9" Type="http://schemas.openxmlformats.org/officeDocument/2006/relationships/image" Target="../media/image29.jpeg"/><Relationship Id="rId10" Type="http://schemas.openxmlformats.org/officeDocument/2006/relationships/image" Target="../media/image30.pn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21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22.jpe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9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38.png"/><Relationship Id="rId9" Type="http://schemas.openxmlformats.org/officeDocument/2006/relationships/image" Target="../media/image15.png"/><Relationship Id="rId10" Type="http://schemas.openxmlformats.org/officeDocument/2006/relationships/image" Target="../media/image30.pn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21.png"/><Relationship Id="rId14" Type="http://schemas.openxmlformats.org/officeDocument/2006/relationships/image" Target="../media/image3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39.png"/><Relationship Id="rId20" Type="http://schemas.openxmlformats.org/officeDocument/2006/relationships/image" Target="../media/image41.jpeg"/><Relationship Id="rId21" Type="http://schemas.openxmlformats.org/officeDocument/2006/relationships/image" Target="../media/image42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image" Target="../media/image39.png"/><Relationship Id="rId28" Type="http://schemas.openxmlformats.org/officeDocument/2006/relationships/image" Target="../media/image35.png"/><Relationship Id="rId29" Type="http://schemas.openxmlformats.org/officeDocument/2006/relationships/image" Target="../media/image7.gi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8.png"/><Relationship Id="rId4" Type="http://schemas.openxmlformats.org/officeDocument/2006/relationships/image" Target="../media/image18.png"/><Relationship Id="rId5" Type="http://schemas.openxmlformats.org/officeDocument/2006/relationships/image" Target="../media/image39.png"/><Relationship Id="rId6" Type="http://schemas.openxmlformats.org/officeDocument/2006/relationships/image" Target="../media/image24.png"/><Relationship Id="rId7" Type="http://schemas.openxmlformats.org/officeDocument/2006/relationships/image" Target="../media/image3.png"/><Relationship Id="rId8" Type="http://schemas.openxmlformats.org/officeDocument/2006/relationships/image" Target="../media/image45.png"/><Relationship Id="rId9" Type="http://schemas.openxmlformats.org/officeDocument/2006/relationships/image" Target="../media/image33.png"/><Relationship Id="rId10" Type="http://schemas.openxmlformats.org/officeDocument/2006/relationships/image" Target="../media/image42.png"/><Relationship Id="rId11" Type="http://schemas.openxmlformats.org/officeDocument/2006/relationships/image" Target="../media/image12.png"/><Relationship Id="rId12" Type="http://schemas.openxmlformats.org/officeDocument/2006/relationships/image" Target="../media/image46.jpeg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052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沪教牛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版五年级英语下册课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3068640"/>
            <a:ext cx="6400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Unit 2 Favourite toy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908000" y="3500280"/>
            <a:ext cx="2884680" cy="2951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2050920" y="1413000"/>
            <a:ext cx="64231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Ｔ</a:t>
            </a: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hank you !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1148040" cy="166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46429" b="18633"/>
          <a:stretch/>
        </p:blipFill>
        <p:spPr>
          <a:xfrm>
            <a:off x="2590920" y="0"/>
            <a:ext cx="1523880" cy="157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19320" y="2666880"/>
            <a:ext cx="164628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523880" y="4114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162920" y="380880"/>
            <a:ext cx="1527120" cy="13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066680" y="4757760"/>
            <a:ext cx="1197000" cy="210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rcRect l="6969" t="3583" r="12402" b="3583"/>
          <a:stretch/>
        </p:blipFill>
        <p:spPr>
          <a:xfrm>
            <a:off x="4648320" y="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823160" y="167652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rcRect l="5543" t="17103" r="5543" b="14583"/>
          <a:stretch/>
        </p:blipFill>
        <p:spPr>
          <a:xfrm>
            <a:off x="2590920" y="5486400"/>
            <a:ext cx="220968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4952880" y="4800600"/>
            <a:ext cx="1828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981080" y="1828800"/>
            <a:ext cx="6248520" cy="2882880"/>
            <a:chOff x="1981080" y="1828800"/>
            <a:chExt cx="6248520" cy="2882880"/>
          </a:xfrm>
        </p:grpSpPr>
        <p:sp>
          <p:nvSpPr>
            <p:cNvPr id="54" name=""/>
            <p:cNvSpPr/>
            <p:nvPr/>
          </p:nvSpPr>
          <p:spPr>
            <a:xfrm>
              <a:off x="1981080" y="182880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Times New Roman"/>
                </a:rPr>
                <a:t>Talk about your favourite to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2680" y="289548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t is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243828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My favourite toy is a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335268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t can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373392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t has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2680" y="419112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 like it very much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6400800" y="28195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2971800"/>
            <a:ext cx="1676520" cy="182880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828800"/>
              <a:gd name="textAreaBottom" fmla="*/ 1720440 h 1828800"/>
            </a:gdLst>
            <a:ahLst/>
            <a:rect l="textAreaLeft" t="textAreaTop" r="textAreaRight" b="textAreaBottom"/>
            <a:pathLst>
              <a:path w="21600" h="23562">
                <a:moveTo>
                  <a:pt x="0" y="0"/>
                </a:moveTo>
                <a:lnTo>
                  <a:pt x="21600" y="0"/>
                </a:lnTo>
                <a:lnTo>
                  <a:pt x="21600" y="23562"/>
                </a:lnTo>
                <a:lnTo>
                  <a:pt x="0" y="23562"/>
                </a:lnTo>
                <a:close/>
              </a:path>
              <a:path fill="lightenLess" w="21600" h="235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2">
                <a:moveTo>
                  <a:pt x="21600" y="0"/>
                </a:moveTo>
                <a:lnTo>
                  <a:pt x="21600" y="23562"/>
                </a:lnTo>
                <a:lnTo>
                  <a:pt x="20200" y="22162"/>
                </a:lnTo>
                <a:lnTo>
                  <a:pt x="20200" y="1400"/>
                </a:lnTo>
                <a:close/>
              </a:path>
              <a:path fill="darkenLess" w="21600" h="23562">
                <a:moveTo>
                  <a:pt x="21600" y="23562"/>
                </a:moveTo>
                <a:lnTo>
                  <a:pt x="0" y="23562"/>
                </a:lnTo>
                <a:lnTo>
                  <a:pt x="1400" y="22162"/>
                </a:lnTo>
                <a:lnTo>
                  <a:pt x="20200" y="22162"/>
                </a:lnTo>
                <a:close/>
              </a:path>
              <a:path fill="lighten" w="21600" h="23562">
                <a:moveTo>
                  <a:pt x="0" y="235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68580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00400" y="411480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inosau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95280" y="2438280"/>
            <a:ext cx="2819160" cy="1657440"/>
            <a:chOff x="1295280" y="2438280"/>
            <a:chExt cx="2819160" cy="165744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057040" y="2438280"/>
              <a:ext cx="20574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1295280" y="2610000"/>
              <a:ext cx="1434960" cy="14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200400" y="51814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inosaur</a:t>
            </a:r>
            <a:r>
              <a:rPr b="1" lang="en-US" sz="6600" spc="-1" strike="noStrike">
                <a:solidFill>
                  <a:srgbClr val="6600ff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1148040" cy="1668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0" t="0" r="46429" b="18633"/>
          <a:stretch/>
        </p:blipFill>
        <p:spPr>
          <a:xfrm>
            <a:off x="2590920" y="0"/>
            <a:ext cx="1523880" cy="157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19320" y="2666880"/>
            <a:ext cx="164628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523880" y="4114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162920" y="380880"/>
            <a:ext cx="1527120" cy="13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066680" y="4757760"/>
            <a:ext cx="1197000" cy="210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rcRect l="6969" t="3583" r="12402" b="3583"/>
          <a:stretch/>
        </p:blipFill>
        <p:spPr>
          <a:xfrm>
            <a:off x="4648320" y="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7823160" y="167652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rcRect l="5543" t="17103" r="5543" b="14583"/>
          <a:stretch/>
        </p:blipFill>
        <p:spPr>
          <a:xfrm>
            <a:off x="2590920" y="5486400"/>
            <a:ext cx="2209680" cy="1104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4952880" y="4800600"/>
            <a:ext cx="1828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981080" y="1828800"/>
            <a:ext cx="6248520" cy="2882880"/>
            <a:chOff x="1981080" y="1828800"/>
            <a:chExt cx="6248520" cy="2882880"/>
          </a:xfrm>
        </p:grpSpPr>
        <p:sp>
          <p:nvSpPr>
            <p:cNvPr id="79" name=""/>
            <p:cNvSpPr/>
            <p:nvPr/>
          </p:nvSpPr>
          <p:spPr>
            <a:xfrm>
              <a:off x="1981080" y="182880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Times New Roman"/>
                </a:rPr>
                <a:t>Talk about your favourite to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289548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t is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2680" y="243828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My favourite toy is a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335268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t can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73392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t has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52680" y="419112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 like it very much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6324480" y="28954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44197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report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Which is the favourite toy in your gro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33720" y="762120"/>
          <a:ext cx="6592680" cy="358128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  <a:gridCol w="1981440"/>
                <a:gridCol w="1334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old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cy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ob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nosa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 txBox="1"/>
          <p:nvPr/>
        </p:nvSpPr>
        <p:spPr>
          <a:xfrm rot="19674600">
            <a:off x="-380520" y="685440"/>
            <a:ext cx="219528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Times New Roman"/>
              </a:rPr>
              <a:t>Do a survey: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181480"/>
            <a:ext cx="84582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n our group, a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the favourite toy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371600" y="380880"/>
            <a:ext cx="2133720" cy="1892520"/>
            <a:chOff x="1371600" y="380880"/>
            <a:chExt cx="2133720" cy="18925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371600" y="533520"/>
              <a:ext cx="14860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2514600" y="380880"/>
              <a:ext cx="990720" cy="189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762120" y="2743200"/>
            <a:ext cx="2730240" cy="1496880"/>
            <a:chOff x="762120" y="2743200"/>
            <a:chExt cx="2730240" cy="149688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1676520" y="2743200"/>
              <a:ext cx="181584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762120" y="2895480"/>
              <a:ext cx="1981080" cy="13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762120" y="4876920"/>
            <a:ext cx="1523880" cy="1676160"/>
            <a:chOff x="762120" y="4876920"/>
            <a:chExt cx="1523880" cy="1676160"/>
          </a:xfrm>
        </p:grpSpPr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838440" y="4876920"/>
              <a:ext cx="1447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762120" y="541008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362320" y="4419720"/>
            <a:ext cx="2819160" cy="1657080"/>
            <a:chOff x="2362320" y="4419720"/>
            <a:chExt cx="2819160" cy="1657080"/>
          </a:xfrm>
        </p:grpSpPr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3124080" y="4419720"/>
              <a:ext cx="205740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2362320" y="4591080"/>
              <a:ext cx="1434960" cy="143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5105520" y="4495680"/>
            <a:ext cx="2403360" cy="2133720"/>
            <a:chOff x="5105520" y="4495680"/>
            <a:chExt cx="2403360" cy="2133720"/>
          </a:xfrm>
        </p:grpSpPr>
        <p:pic>
          <p:nvPicPr>
            <p:cNvPr id="104" name="" descr=""/>
            <p:cNvPicPr/>
            <p:nvPr/>
          </p:nvPicPr>
          <p:blipFill>
            <a:blip r:embed="rId10"/>
            <a:stretch/>
          </p:blipFill>
          <p:spPr>
            <a:xfrm>
              <a:off x="5105520" y="4495680"/>
              <a:ext cx="142236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1"/>
            <a:stretch/>
          </p:blipFill>
          <p:spPr>
            <a:xfrm>
              <a:off x="5867640" y="4618080"/>
              <a:ext cx="1641240" cy="201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6781680" y="380880"/>
            <a:ext cx="1778040" cy="1712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7772400" y="320040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010280" y="3352680"/>
            <a:ext cx="1141560" cy="138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rcRect l="0" t="0" r="26931" b="0"/>
          <a:stretch/>
        </p:blipFill>
        <p:spPr>
          <a:xfrm>
            <a:off x="7467480" y="5256360"/>
            <a:ext cx="1447920" cy="1601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4038480" y="380880"/>
            <a:ext cx="12938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5105520" y="304920"/>
            <a:ext cx="868320" cy="152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286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… do you 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2971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bo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0"/>
            <a:ext cx="2666880" cy="2438280"/>
          </a:xfrm>
          <a:prstGeom prst="ellipse">
            <a:avLst/>
          </a:prstGeom>
          <a:noFill/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724280"/>
            <a:ext cx="1905120" cy="1828800"/>
          </a:xfrm>
          <a:prstGeom prst="ellipse">
            <a:avLst/>
          </a:prstGeom>
          <a:noFill/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590920"/>
            <a:ext cx="2819520" cy="1828800"/>
          </a:xfrm>
          <a:prstGeom prst="ellipse">
            <a:avLst/>
          </a:prstGeom>
          <a:noFill/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2819160" cy="2514600"/>
          </a:xfrm>
          <a:prstGeom prst="ellipse">
            <a:avLst/>
          </a:prstGeom>
          <a:noFill/>
          <a:ln w="127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191120"/>
            <a:ext cx="2209680" cy="243828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5029200"/>
            <a:ext cx="1828800" cy="1828800"/>
          </a:xfrm>
          <a:prstGeom prst="ellipse">
            <a:avLst/>
          </a:prstGeom>
          <a:noFill/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0"/>
            <a:ext cx="2209680" cy="2133720"/>
          </a:xfrm>
          <a:prstGeom prst="ellipse">
            <a:avLst/>
          </a:prstGeom>
          <a:noFill/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0"/>
            <a:ext cx="2666880" cy="2286000"/>
          </a:xfrm>
          <a:prstGeom prst="ellipse">
            <a:avLst/>
          </a:prstGeom>
          <a:noFill/>
          <a:ln w="127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2895480"/>
            <a:ext cx="2209680" cy="2057400"/>
          </a:xfrm>
          <a:prstGeom prst="ellipse">
            <a:avLst/>
          </a:prstGeom>
          <a:noFill/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Which…do you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1752480" cy="10033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762120" y="2895480"/>
            <a:ext cx="2730240" cy="1496880"/>
            <a:chOff x="762120" y="2895480"/>
            <a:chExt cx="2730240" cy="1496880"/>
          </a:xfrm>
        </p:grpSpPr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1676520" y="2895480"/>
              <a:ext cx="181584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762120" y="3047760"/>
              <a:ext cx="1981080" cy="134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819520" y="4724280"/>
            <a:ext cx="1752480" cy="1014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295280" y="44197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1371600" y="5562720"/>
            <a:ext cx="1600200" cy="92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2743200" y="548640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3352680" y="2870280"/>
            <a:ext cx="19814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257800" y="4343400"/>
            <a:ext cx="3441600" cy="2286000"/>
            <a:chOff x="5257800" y="4343400"/>
            <a:chExt cx="3441600" cy="2286000"/>
          </a:xfrm>
        </p:grpSpPr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7696080" y="4952880"/>
              <a:ext cx="10033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1"/>
            <a:stretch/>
          </p:blipFill>
          <p:spPr>
            <a:xfrm>
              <a:off x="6705720" y="5029200"/>
              <a:ext cx="10159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2"/>
            <a:stretch/>
          </p:blipFill>
          <p:spPr>
            <a:xfrm>
              <a:off x="5257800" y="5257800"/>
              <a:ext cx="10969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3"/>
            <a:stretch/>
          </p:blipFill>
          <p:spPr>
            <a:xfrm>
              <a:off x="7086600" y="4419720"/>
              <a:ext cx="1144440" cy="14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4"/>
            <a:stretch/>
          </p:blipFill>
          <p:spPr>
            <a:xfrm>
              <a:off x="6019920" y="4343400"/>
              <a:ext cx="10159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15"/>
          <a:srcRect l="0" t="0" r="26931" b="0"/>
          <a:stretch/>
        </p:blipFill>
        <p:spPr>
          <a:xfrm>
            <a:off x="7765920" y="228600"/>
            <a:ext cx="1378080" cy="1523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6"/>
          <a:srcRect l="0" t="0" r="26931" b="0"/>
          <a:stretch/>
        </p:blipFill>
        <p:spPr>
          <a:xfrm>
            <a:off x="6400800" y="0"/>
            <a:ext cx="1447920" cy="1601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7"/>
          <a:stretch/>
        </p:blipFill>
        <p:spPr>
          <a:xfrm>
            <a:off x="6781680" y="2057400"/>
            <a:ext cx="1778040" cy="1712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8"/>
          <a:stretch/>
        </p:blipFill>
        <p:spPr>
          <a:xfrm>
            <a:off x="7996320" y="2133720"/>
            <a:ext cx="1147680" cy="166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9"/>
          <a:stretch/>
        </p:blipFill>
        <p:spPr>
          <a:xfrm>
            <a:off x="6629400" y="304812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0"/>
          <a:stretch/>
        </p:blipFill>
        <p:spPr>
          <a:xfrm>
            <a:off x="7543800" y="2971800"/>
            <a:ext cx="681120" cy="99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1"/>
          <a:stretch/>
        </p:blipFill>
        <p:spPr>
          <a:xfrm>
            <a:off x="3505320" y="1676520"/>
            <a:ext cx="1141200" cy="1384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2"/>
          <a:stretch/>
        </p:blipFill>
        <p:spPr>
          <a:xfrm>
            <a:off x="5638680" y="1828800"/>
            <a:ext cx="1141560" cy="1384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3"/>
          <a:stretch/>
        </p:blipFill>
        <p:spPr>
          <a:xfrm>
            <a:off x="4343400" y="1523880"/>
            <a:ext cx="1141560" cy="138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4"/>
          <a:stretch/>
        </p:blipFill>
        <p:spPr>
          <a:xfrm>
            <a:off x="4876920" y="1828800"/>
            <a:ext cx="1141200" cy="1384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5"/>
          <a:stretch/>
        </p:blipFill>
        <p:spPr>
          <a:xfrm>
            <a:off x="5181480" y="2666880"/>
            <a:ext cx="1141560" cy="1384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9320" y="9144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I like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Dotum"/>
              </a:rPr>
              <a:t>all 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1304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91120" y="2286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Which…do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680" y="228600"/>
            <a:ext cx="2895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9966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Arial"/>
              </a:rPr>
              <a:t>Try your best:</a:t>
            </a:r>
            <a:endParaRPr b="1" lang="en-US" sz="4800" spc="1" strike="noStrike">
              <a:ln w="12600">
                <a:solidFill>
                  <a:srgbClr val="9966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8380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I like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bo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all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080" y="1295280"/>
            <a:ext cx="2730240" cy="1496880"/>
            <a:chOff x="838080" y="1295280"/>
            <a:chExt cx="2730240" cy="149688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1752480" y="1295280"/>
              <a:ext cx="181584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838080" y="1447560"/>
              <a:ext cx="1981080" cy="134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895480" y="3048120"/>
            <a:ext cx="19814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762120" y="4952880"/>
            <a:ext cx="1523880" cy="1676160"/>
            <a:chOff x="762120" y="4952880"/>
            <a:chExt cx="1523880" cy="167616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838440" y="4952880"/>
              <a:ext cx="1447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7"/>
            <a:stretch/>
          </p:blipFill>
          <p:spPr>
            <a:xfrm>
              <a:off x="762120" y="548604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457200" y="3200400"/>
            <a:ext cx="148608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1828800" y="3200400"/>
            <a:ext cx="990720" cy="189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8140680" y="5181480"/>
            <a:ext cx="1003320" cy="1511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6934320" y="533412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5867280" y="548640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543800" y="5181480"/>
            <a:ext cx="1144440" cy="1401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6477120" y="502920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4343400" y="5486400"/>
            <a:ext cx="890640" cy="1079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6"/>
          <a:stretch/>
        </p:blipFill>
        <p:spPr>
          <a:xfrm>
            <a:off x="5029200" y="5486400"/>
            <a:ext cx="890640" cy="107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3276720" y="5257800"/>
            <a:ext cx="1218960" cy="1057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8"/>
          <a:stretch/>
        </p:blipFill>
        <p:spPr>
          <a:xfrm>
            <a:off x="2209680" y="5800680"/>
            <a:ext cx="121932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9"/>
          <a:stretch/>
        </p:blipFill>
        <p:spPr>
          <a:xfrm>
            <a:off x="2438280" y="5257800"/>
            <a:ext cx="1219320" cy="1057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0"/>
          <a:stretch/>
        </p:blipFill>
        <p:spPr>
          <a:xfrm>
            <a:off x="7529400" y="3048120"/>
            <a:ext cx="1614600" cy="955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1"/>
          <a:stretch/>
        </p:blipFill>
        <p:spPr>
          <a:xfrm>
            <a:off x="7696080" y="4038480"/>
            <a:ext cx="1096920" cy="941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2"/>
          <a:stretch/>
        </p:blipFill>
        <p:spPr>
          <a:xfrm>
            <a:off x="3733920" y="1219320"/>
            <a:ext cx="1574640" cy="1071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3"/>
          <a:stretch/>
        </p:blipFill>
        <p:spPr>
          <a:xfrm>
            <a:off x="3505320" y="1752480"/>
            <a:ext cx="1676160" cy="1140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4"/>
          <a:stretch/>
        </p:blipFill>
        <p:spPr>
          <a:xfrm>
            <a:off x="5943600" y="2666880"/>
            <a:ext cx="1101600" cy="1257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5"/>
          <a:stretch/>
        </p:blipFill>
        <p:spPr>
          <a:xfrm>
            <a:off x="4952880" y="2666880"/>
            <a:ext cx="1193760" cy="152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6"/>
          <a:stretch/>
        </p:blipFill>
        <p:spPr>
          <a:xfrm>
            <a:off x="5105520" y="1752480"/>
            <a:ext cx="1612800" cy="1295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7"/>
          <a:stretch/>
        </p:blipFill>
        <p:spPr>
          <a:xfrm>
            <a:off x="3429000" y="5934240"/>
            <a:ext cx="1066680" cy="923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8"/>
          <a:srcRect l="0" t="0" r="26931" b="0"/>
          <a:stretch/>
        </p:blipFill>
        <p:spPr>
          <a:xfrm>
            <a:off x="8040600" y="1752480"/>
            <a:ext cx="1103400" cy="122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9"/>
          <a:stretch/>
        </p:blipFill>
        <p:spPr>
          <a:xfrm>
            <a:off x="6705720" y="1676520"/>
            <a:ext cx="65088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0"/>
          <a:stretch/>
        </p:blipFill>
        <p:spPr>
          <a:xfrm>
            <a:off x="7010280" y="1447920"/>
            <a:ext cx="60804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1"/>
          <a:stretch/>
        </p:blipFill>
        <p:spPr>
          <a:xfrm>
            <a:off x="7238880" y="1905120"/>
            <a:ext cx="608040" cy="1066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2"/>
          <a:stretch/>
        </p:blipFill>
        <p:spPr>
          <a:xfrm>
            <a:off x="7543800" y="1600200"/>
            <a:ext cx="608040" cy="1066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3"/>
          <a:stretch/>
        </p:blipFill>
        <p:spPr>
          <a:xfrm>
            <a:off x="4952880" y="4191120"/>
            <a:ext cx="1295640" cy="852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4"/>
          <a:stretch/>
        </p:blipFill>
        <p:spPr>
          <a:xfrm>
            <a:off x="6248520" y="419112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362320" y="914400"/>
            <a:ext cx="5486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Can I help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I want to buy some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Which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o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I like </a:t>
            </a: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bo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I like </a:t>
            </a: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all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Here you 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You’re wel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905120" y="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ake a dialogue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10280" y="5486400"/>
            <a:ext cx="1816200" cy="1128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295280" y="2438280"/>
            <a:ext cx="84960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990720" y="3429000"/>
            <a:ext cx="1447560" cy="838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rcRect l="0" t="0" r="37515" b="27937"/>
          <a:stretch/>
        </p:blipFill>
        <p:spPr>
          <a:xfrm>
            <a:off x="1066680" y="4267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1143000" y="5257800"/>
            <a:ext cx="8906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rcRect l="0" t="0" r="45465" b="19800"/>
          <a:stretch/>
        </p:blipFill>
        <p:spPr>
          <a:xfrm>
            <a:off x="79246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7467480" y="2133720"/>
            <a:ext cx="1447920" cy="1162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6705720" y="297180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7696080" y="3505320"/>
            <a:ext cx="1096920" cy="941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6248520" y="434340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1066680" y="1066680"/>
            <a:ext cx="1295640" cy="852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7162920" y="914400"/>
            <a:ext cx="608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7:41:59Z</dcterms:created>
  <dc:creator/>
  <dc:description/>
  <dc:language>en-US</dc:language>
  <cp:lastModifiedBy>ydz</cp:lastModifiedBy>
  <dcterms:modified xsi:type="dcterms:W3CDTF">2012-05-25T02:26:34Z</dcterms:modified>
  <cp:revision>31</cp:revision>
  <dc:subject/>
  <dc:title>PowerPoint 演示文稿</dc:title>
</cp:coreProperties>
</file>