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11.png" ContentType="image/png"/>
  <Override PartName="/ppt/media/image7.gif" ContentType="image/gif"/>
  <Override PartName="/ppt/media/image10.jpeg" ContentType="image/jpeg"/>
  <Override PartName="/ppt/media/image6.gif" ContentType="image/gif"/>
  <Override PartName="/ppt/media/image9.png" ContentType="image/png"/>
  <Override PartName="/ppt/media/image21.jpeg" ContentType="image/jpeg"/>
  <Override PartName="/ppt/media/image20.png" ContentType="image/png"/>
  <Override PartName="/ppt/media/image3.png" ContentType="image/png"/>
  <Override PartName="/ppt/media/image18.gif" ContentType="image/gif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2C3-A883-408E-8365-82CB80B5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447-C4F1-4C4D-9771-5DB8BD4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1B6-72F4-48A1-BE79-EB25541D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7B8-A6FE-438A-8451-16790D6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062-F033-4CD2-9806-2DABA7DA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9C0-719C-4281-96EC-C0712B5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7F0-D6FF-4F3C-9B0C-70709DD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D37-E4FD-4376-A69D-5ECD1E27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6EE-0677-467E-B10C-F27CB38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EC9-E0B0-4393-A7E4-D69671A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A3D-E371-4F0A-BAAE-3842FE1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D6B-22A9-4485-A914-14F6795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4A3-CF6D-4D31-A394-A3A4C71C5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image" Target="../media/image8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8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19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沪教牛津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版）五年级下册英语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3284640"/>
            <a:ext cx="392436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Use your eyes!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1371600" cy="164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1800360" cy="1133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628640"/>
            <a:ext cx="3168720" cy="1224000"/>
          </a:xfrm>
          <a:prstGeom prst="wedgeRoundRectCallout">
            <a:avLst>
              <a:gd name="adj1" fmla="val -33064"/>
              <a:gd name="adj2" fmla="val 69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,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ve got a ball. Please guess where i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3357720"/>
            <a:ext cx="2448000" cy="1079280"/>
          </a:xfrm>
          <a:prstGeom prst="wedgeRectCallout">
            <a:avLst>
              <a:gd name="adj1" fmla="val 11412"/>
              <a:gd name="adj2" fmla="val 105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s i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hind that bo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987640" y="3933720"/>
            <a:ext cx="1486080" cy="2190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495520" cy="256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724280"/>
            <a:ext cx="1368360" cy="11527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i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the that bo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1371600" cy="164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1800360" cy="113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628640"/>
            <a:ext cx="3168720" cy="1224000"/>
          </a:xfrm>
          <a:prstGeom prst="wedgeRoundRectCallout">
            <a:avLst>
              <a:gd name="adj1" fmla="val -33064"/>
              <a:gd name="adj2" fmla="val 69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ty ,you ar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mboo shoot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hind that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4005360"/>
            <a:ext cx="2449440" cy="718920"/>
          </a:xfrm>
          <a:prstGeom prst="wedgeRectCallout">
            <a:avLst>
              <a:gd name="adj1" fmla="val 54407"/>
              <a:gd name="adj2" fmla="val 151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ke up, kit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87640" y="3933720"/>
            <a:ext cx="1486080" cy="2190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495520" cy="256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5084640"/>
            <a:ext cx="1584360" cy="792360"/>
          </a:xfrm>
          <a:prstGeom prst="wedgeRectCallout">
            <a:avLst>
              <a:gd name="adj1" fmla="val -39476"/>
              <a:gd name="adj2" fmla="val 6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 am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1844640"/>
            <a:ext cx="54738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mework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k book and Grammar Practic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627280" y="1268280"/>
            <a:ext cx="4024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e you 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275200" cy="200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5493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932360" y="5857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427640" y="41497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012000" y="5857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227640" y="479736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780000" y="378936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364000" y="4365720"/>
            <a:ext cx="128304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149720"/>
            <a:ext cx="2303640" cy="647640"/>
          </a:xfrm>
          <a:prstGeom prst="wedgeRectCallout">
            <a:avLst>
              <a:gd name="adj1" fmla="val -23398"/>
              <a:gd name="adj2" fmla="val 138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067440"/>
            <a:ext cx="2016000" cy="790560"/>
          </a:xfrm>
          <a:prstGeom prst="wedgeRectCallout">
            <a:avLst>
              <a:gd name="adj1" fmla="val -7638"/>
              <a:gd name="adj2" fmla="val -119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y are gr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941720"/>
            <a:ext cx="2158920" cy="1151280"/>
          </a:xfrm>
          <a:prstGeom prst="wedgeRoundRectCallout">
            <a:avLst>
              <a:gd name="adj1" fmla="val -75662"/>
              <a:gd name="adj2" fmla="val 64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y are so 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684360" y="549360"/>
            <a:ext cx="2305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275200" cy="200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020000" y="5493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32360" y="5857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427640" y="41497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012000" y="5857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227640" y="479736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3780000" y="378936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5076720" y="4149720"/>
            <a:ext cx="128268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149720"/>
            <a:ext cx="2303640" cy="647640"/>
          </a:xfrm>
          <a:prstGeom prst="wedgeRectCallout">
            <a:avLst>
              <a:gd name="adj1" fmla="val -23398"/>
              <a:gd name="adj2" fmla="val 138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6067440"/>
            <a:ext cx="2016000" cy="790560"/>
          </a:xfrm>
          <a:prstGeom prst="wedgeRectCallout">
            <a:avLst>
              <a:gd name="adj1" fmla="val -7638"/>
              <a:gd name="adj2" fmla="val -119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y are gr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941720"/>
            <a:ext cx="2158920" cy="1151280"/>
          </a:xfrm>
          <a:prstGeom prst="wedgeRoundRectCallout">
            <a:avLst>
              <a:gd name="adj1" fmla="val -75662"/>
              <a:gd name="adj2" fmla="val 64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y are so 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84360" y="549360"/>
            <a:ext cx="2305080" cy="167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8360" y="2060640"/>
            <a:ext cx="3024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like gr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ant to ea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14 -0.02035 L -0.66597 -0.03099 E">
                                      <p:cBhvr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5.55042E-007 C 0.0092 0.02359 0.02709 0.02451 0.04462 0.03076 C 0.05452 0.03422 0.06407 0.03978 0.07396 0.04301 C 0.07552 0.0444 0.07674 0.04625 0.07848 0.04718 C 0.08143 0.04903 0.08768 0.05111 0.08768 0.05111 C 0.10087 0.0629 0.11684 0.06244 0.13073 0.07169 C 0.15157 0.0858 0.17309 0.09204 0.19549 0.10037 C 0.20955 0.10546 0.22275 0.1117 0.23698 0.11679 C 0.25851 0.12442 0.28264 0.12789 0.30469 0.13113 C 0.31806 0.13737 0.33368 0.13922 0.34775 0.14546 C 0.36302 0.1524 0.37726 0.16327 0.39236 0.16998 C 0.39514 0.17368 0.39896 0.17645 0.40157 0.18039 C 0.404 0.18409 0.40782 0.19264 0.40782 0.19264 C 0.41146 0.20744 0.4099 0.20074 0.41233 0.21299 C 0.41164 0.2241 0.41372 0.23658 0.4092 0.24583 C 0.40035 0.26364 0.37986 0.27567 0.36459 0.28076 C 0.36129 0.28376 0.35868 0.28816 0.35539 0.29093 C 0.33924 0.30458 0.33872 0.29949 0.31545 0.30111 C 0.30174 0.30712 0.31615 0.30134 0.28473 0.30527 C 0.27361 0.30666 0.26441 0.31475 0.25382 0.31753 C 0.24514 0.31984 0.23646 0.32169 0.22778 0.32377 C 0.22518 0.32447 0.21997 0.32585 0.21997 0.32585 C 0.21025 0.3247 0.19879 0.32053 0.18924 0.32377 C 0.18594 0.3284 0.1717 0.34135 0.16771 0.33603 E">
                                      <p:cBhvr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2884320" cy="1741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67560" y="4076640"/>
            <a:ext cx="741240" cy="160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317080" y="5560920"/>
            <a:ext cx="641160" cy="555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132000" y="3860640"/>
            <a:ext cx="762120" cy="152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708360" y="5157720"/>
            <a:ext cx="496800" cy="43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877080" y="5445000"/>
            <a:ext cx="425520" cy="36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71640" y="2637000"/>
            <a:ext cx="3095640" cy="792000"/>
          </a:xfrm>
          <a:prstGeom prst="wedgeRectCallout">
            <a:avLst>
              <a:gd name="adj1" fmla="val -31638"/>
              <a:gd name="adj2" fmla="val 88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at can you see,xiao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2492280"/>
            <a:ext cx="2087640" cy="1224000"/>
          </a:xfrm>
          <a:prstGeom prst="wedgeRoundRectCallout">
            <a:avLst>
              <a:gd name="adj1" fmla="val 14032"/>
              <a:gd name="adj2" fmla="val 87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 can see some rab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781360"/>
            <a:ext cx="2808360" cy="1152360"/>
          </a:xfrm>
          <a:prstGeom prst="wedgeRectCallout">
            <a:avLst>
              <a:gd name="adj1" fmla="val 42935"/>
              <a:gd name="adj2" fmla="val 7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 ,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y are not 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3357720"/>
            <a:ext cx="2376360" cy="1079280"/>
          </a:xfrm>
          <a:prstGeom prst="wedgeRoundRectCallout">
            <a:avLst>
              <a:gd name="adj1" fmla="val 49199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Yeah,they are just f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84360" y="260280"/>
            <a:ext cx="15033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67560" y="4076640"/>
            <a:ext cx="741240" cy="160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17080" y="5560920"/>
            <a:ext cx="641160" cy="555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762120" cy="152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987640" y="5464080"/>
            <a:ext cx="641520" cy="55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877080" y="5445000"/>
            <a:ext cx="425520" cy="36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2276640"/>
            <a:ext cx="3095640" cy="1152360"/>
          </a:xfrm>
          <a:prstGeom prst="wedgeRectCallout">
            <a:avLst>
              <a:gd name="adj1" fmla="val -31638"/>
              <a:gd name="adj2" fmla="val 76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,xiao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st of rabbits are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2492280"/>
            <a:ext cx="2087640" cy="1224000"/>
          </a:xfrm>
          <a:prstGeom prst="wedgeRoundRectCallout">
            <a:avLst>
              <a:gd name="adj1" fmla="val 14032"/>
              <a:gd name="adj2" fmla="val 87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Ha,there is just a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84360" y="260280"/>
            <a:ext cx="1503360" cy="15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684360" y="4005360"/>
            <a:ext cx="1563480" cy="261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5724360" y="4667400"/>
            <a:ext cx="209880" cy="18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2340000" y="532764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04903E-006 C 0.08282 0.00092 0.15921 0.00138 0.23994 0.00624 C 0.25539 0.01133 0.27014 0.01456 0.28612 0.01641 C 0.29844 0.02196 0.28559 0.01688 0.31233 0.02058 C 0.32882 0.02289 0.3448 0.02543 0.36146 0.02682 C 0.3849 0.03468 0.41129 0.03307 0.43525 0.03492 C 0.45157 0.04047 0.46945 0.03977 0.48612 0.04116 C 0.49844 0.04671 0.52344 0.04787 0.53698 0.04925 C 0.54827 0.05457 0.53612 0.04949 0.5599 0.05342 C 0.57744 0.05642 0.5948 0.06059 0.61233 0.06359 C 0.62188 0.06799 0.61528 0.06521 0.6323 0.06984 C 0.64115 0.07215 0.65139 0.07816 0.6599 0.08209 C 0.66494 0.08441 0.66875 0.08996 0.67379 0.09227 C 0.68039 0.10545 0.68178 0.10962 0.69375 0.11285 C 0.72153 0.13066 0.75209 0.13737 0.78004 0.15587 C 0.79046 0.16974 0.78559 0.16489 0.79375 0.17229 C 0.79983 0.18431 0.80105 0.18686 0.80313 0.20097 C 0.80521 0.25809 0.81077 0.31614 0.81077 0.37303 E">
                                      <p:cBhvr>
                                        <p:cTn id="73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197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916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are many kinds of fru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460520" cy="1195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3240000" cy="2433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39640" y="4653000"/>
            <a:ext cx="2884680" cy="1741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443640" y="4365720"/>
            <a:ext cx="2952720" cy="214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92360" y="3789360"/>
            <a:ext cx="3816360" cy="609480"/>
          </a:xfrm>
          <a:prstGeom prst="wedgeRectCallout">
            <a:avLst>
              <a:gd name="adj1" fmla="val -20217"/>
              <a:gd name="adj2" fmla="val 105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like pea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3716280"/>
            <a:ext cx="2664000" cy="576360"/>
          </a:xfrm>
          <a:prstGeom prst="wedgeRoundRectCallout">
            <a:avLst>
              <a:gd name="adj1" fmla="val -12037"/>
              <a:gd name="adj2" fmla="val 926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s,I like pe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87327E-006 C 0.00885 0.00462 0.01701 0.00739 0.02621 0.0104 C 0.02934 0.01133 0.03246 0.01271 0.03542 0.01433 C 0.0375 0.01549 0.03941 0.01757 0.04167 0.0185 C 0.05017 0.02196 0.06042 0.02451 0.06927 0.02659 C 0.07864 0.03492 0.06875 0.02728 0.08472 0.03283 C 0.09913 0.03769 0.11337 0.0444 0.12778 0.04925 C 0.13628 0.05203 0.13663 0.05041 0.14462 0.05342 C 0.15191 0.05619 0.15885 0.06059 0.16614 0.06359 C 0.18281 0.0703 0.20035 0.07377 0.21701 0.08001 C 0.22795 0.08394 0.23819 0.09065 0.2493 0.09435 C 0.25278 0.09666 0.2566 0.09782 0.26007 0.10036 C 0.27292 0.11008 0.25937 0.1043 0.27239 0.10869 C 0.28507 0.11725 0.29705 0.12789 0.3092 0.13737 C 0.31059 0.13852 0.31233 0.13852 0.31389 0.13945 C 0.31805 0.14199 0.32239 0.14407 0.32621 0.14754 C 0.33142 0.15217 0.33559 0.15749 0.34167 0.1598 C 0.35121 0.17992 0.33628 0.15078 0.35087 0.17021 C 0.35347 0.17368 0.35486 0.1783 0.35694 0.18246 C 0.35799 0.18455 0.36007 0.18848 0.36007 0.18848 C 0.3625 0.19796 0.36163 0.19264 0.36163 0.2049 E">
                                      <p:cBhvr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1800360" cy="146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3240000" cy="243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39640" y="4653000"/>
            <a:ext cx="2884680" cy="174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443640" y="4365720"/>
            <a:ext cx="2952720" cy="2146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3789360"/>
            <a:ext cx="3816360" cy="609480"/>
          </a:xfrm>
          <a:prstGeom prst="wedgeRectCallout">
            <a:avLst>
              <a:gd name="adj1" fmla="val -20217"/>
              <a:gd name="adj2" fmla="val 105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like b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3716280"/>
            <a:ext cx="2664000" cy="576360"/>
          </a:xfrm>
          <a:prstGeom prst="wedgeRoundRectCallout">
            <a:avLst>
              <a:gd name="adj1" fmla="val -12037"/>
              <a:gd name="adj2" fmla="val 926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ke bananas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5064 C 0.0691 0.08695 0.09236 0.11864 0.11962 0.14963 C 0.12969 0.16119 0.14149 0.16466 0.15174 0.1753 C 0.16979 0.19449 0.18785 0.20282 0.20694 0.216 C 0.21979 0.22479 0.20816 0.22178 0.22274 0.23427 C 0.2441 0.25208 0.21858 0.22062 0.24236 0.2456 C 0.2474 0.25046 0.2526 0.25555 0.25677 0.26387 C 0.25851 0.26757 0.25972 0.27197 0.26198 0.27451 C 0.2651 0.27821 0.2691 0.27914 0.27257 0.28191 C 0.2842 0.29232 0.29149 0.30434 0.30278 0.31891 C 0.31858 0.33926 0.33524 0.3543 0.35087 0.37419 C 0.36059 0.38644 0.3691 0.40356 0.37934 0.41443 C 0.38854 0.42391 0.4 0.43339 0.40955 0.4401 C 0.41424 0.44334 0.42378 0.4475 0.42378 0.44796 C 0.43108 0.45791 0.43854 0.45791 0.44687 0.46207 C 0.45104 0.47456 0.44913 0.46993 0.45226 0.4771 E">
                                      <p:cBhvr>
                                        <p:cTn id="12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1371600" cy="164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1800360" cy="1133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1628640"/>
            <a:ext cx="3168720" cy="1224000"/>
          </a:xfrm>
          <a:prstGeom prst="wedgeRoundRectCallout">
            <a:avLst>
              <a:gd name="adj1" fmla="val -33064"/>
              <a:gd name="adj2" fmla="val 69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,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ve got a ball. Please guess where i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357720"/>
            <a:ext cx="2448000" cy="1079280"/>
          </a:xfrm>
          <a:prstGeom prst="wedgeRectCallout">
            <a:avLst>
              <a:gd name="adj1" fmla="val 11412"/>
              <a:gd name="adj2" fmla="val 105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s i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hind that bo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987640" y="3933720"/>
            <a:ext cx="1486080" cy="219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49552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44:48Z</dcterms:created>
  <dc:creator>hx-jsj</dc:creator>
  <dc:description/>
  <dc:language>en-US</dc:language>
  <cp:lastModifiedBy>ydz</cp:lastModifiedBy>
  <dcterms:modified xsi:type="dcterms:W3CDTF">2012-05-25T02:27:01Z</dcterms:modified>
  <cp:revision>63</cp:revision>
  <dc:subject/>
  <dc:title>PowerPoint 演示文稿</dc:title>
</cp:coreProperties>
</file>