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5E2-C01D-4C91-B8DE-153EB5EBCC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7C9-27D7-4B86-870C-BC51388808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7685-FAD7-4A2D-843C-3490671480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3A2-9D60-4E23-B43C-D5ED361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7BE-E4A4-44FB-AEDD-58F59A6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6BF-919E-46BE-983E-8FBA1BE3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FE4-3BB3-45D6-BE8D-52D2EC06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BE70-7BAD-4972-B217-49E20062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2C6A-F569-4072-A930-F5DBBBE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9FAB-EFF4-4453-8575-B27A96B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8FC4-99FD-4A4F-8E87-397BED3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4075-CFFD-405F-BEAC-5CBB0F21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5240-1CED-48A3-8DDB-3063DBE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A2C5-2D39-4E85-88F2-6D1702C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073-F9E9-4A0C-8280-EF8D3B3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F8C-1069-4C9E-85FB-720C44F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F3A8-5FB9-4CAB-BF40-BDC94E0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8E1C-F64A-4708-8DEC-AA5F8123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E073-DBA4-4C93-BA77-2FC53330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B4AE-52D2-4166-AEEE-3C4AC28B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6A-0488-4B49-B622-A55EA216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6EB-6B94-420D-A8D6-8EA6580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7A0-7274-484A-9909-48C11CB2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2DB-572B-46FB-886A-4F294BB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F59-C6B4-42DB-903C-8032C23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7D9-12C1-4839-8B68-2EDA407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902-A549-412B-89BE-622F300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520C-B053-4497-8AC7-891913BB335A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5976-49EC-4779-BAA2-3126AA31D52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8782-EE3E-4549-B6A2-B4A95DB699A0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AED0-5FCB-47D5-BD87-DB31007F0AA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3"/>
          <p:cNvSpPr/>
          <p:nvPr/>
        </p:nvSpPr>
        <p:spPr>
          <a:xfrm>
            <a:off x="1476360" y="2143080"/>
            <a:ext cx="64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理与应用 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Box 14"/>
          <p:cNvSpPr/>
          <p:nvPr/>
        </p:nvSpPr>
        <p:spPr>
          <a:xfrm>
            <a:off x="714240" y="736560"/>
            <a:ext cx="7929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记录了一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公共汽车全程载客数量的情况。（正数为上车人数，负数为下车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60"/>
          <p:cNvSpPr/>
          <p:nvPr/>
        </p:nvSpPr>
        <p:spPr>
          <a:xfrm>
            <a:off x="1928880" y="54291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站驶向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站时，车上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0040" y="2357280"/>
          <a:ext cx="8143920" cy="2492640"/>
        </p:xfrm>
        <a:graphic>
          <a:graphicData uri="http://schemas.openxmlformats.org/drawingml/2006/table">
            <a:tbl>
              <a:tblPr/>
              <a:tblGrid>
                <a:gridCol w="814320"/>
                <a:gridCol w="814320"/>
                <a:gridCol w="729000"/>
                <a:gridCol w="785520"/>
                <a:gridCol w="928800"/>
                <a:gridCol w="857160"/>
                <a:gridCol w="771480"/>
                <a:gridCol w="814680"/>
                <a:gridCol w="771480"/>
                <a:gridCol w="857160"/>
              </a:tblGrid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站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山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间停靠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育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、下车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6" name="TextBox 14"/>
          <p:cNvSpPr/>
          <p:nvPr/>
        </p:nvSpPr>
        <p:spPr>
          <a:xfrm>
            <a:off x="1000080" y="4861080"/>
            <a:ext cx="7143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站驶向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站时，车上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Box 14"/>
          <p:cNvSpPr/>
          <p:nvPr/>
        </p:nvSpPr>
        <p:spPr>
          <a:xfrm>
            <a:off x="714240" y="736560"/>
            <a:ext cx="7929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记录了一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公共汽车全程载客数量的情况。（正数为上车人数，负数为下车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60"/>
          <p:cNvSpPr/>
          <p:nvPr/>
        </p:nvSpPr>
        <p:spPr>
          <a:xfrm>
            <a:off x="1857240" y="5477040"/>
            <a:ext cx="59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站驶向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站时，车上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500040" y="2357280"/>
          <a:ext cx="8143920" cy="2492640"/>
        </p:xfrm>
        <a:graphic>
          <a:graphicData uri="http://schemas.openxmlformats.org/drawingml/2006/table">
            <a:tbl>
              <a:tblPr/>
              <a:tblGrid>
                <a:gridCol w="814320"/>
                <a:gridCol w="814320"/>
                <a:gridCol w="729000"/>
                <a:gridCol w="785520"/>
                <a:gridCol w="928800"/>
                <a:gridCol w="857160"/>
                <a:gridCol w="771480"/>
                <a:gridCol w="814680"/>
                <a:gridCol w="771480"/>
                <a:gridCol w="857160"/>
              </a:tblGrid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站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山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间停靠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育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、下车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0" name="TextBox 14"/>
          <p:cNvSpPr/>
          <p:nvPr/>
        </p:nvSpPr>
        <p:spPr>
          <a:xfrm>
            <a:off x="714240" y="4861080"/>
            <a:ext cx="742968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站驶向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站时，车上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4"/>
          <p:cNvSpPr/>
          <p:nvPr/>
        </p:nvSpPr>
        <p:spPr>
          <a:xfrm>
            <a:off x="714240" y="736560"/>
            <a:ext cx="7929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记录了一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公共汽车全程载客数量的情况。（正数为上车人数，负数为下车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60"/>
          <p:cNvSpPr/>
          <p:nvPr/>
        </p:nvSpPr>
        <p:spPr>
          <a:xfrm>
            <a:off x="1357200" y="55483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交车到达体育馆时，车上还剩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500040" y="2357280"/>
          <a:ext cx="8143920" cy="2492640"/>
        </p:xfrm>
        <a:graphic>
          <a:graphicData uri="http://schemas.openxmlformats.org/drawingml/2006/table">
            <a:tbl>
              <a:tblPr/>
              <a:tblGrid>
                <a:gridCol w="814320"/>
                <a:gridCol w="814320"/>
                <a:gridCol w="729000"/>
                <a:gridCol w="785520"/>
                <a:gridCol w="928800"/>
                <a:gridCol w="857160"/>
                <a:gridCol w="771480"/>
                <a:gridCol w="814680"/>
                <a:gridCol w="771480"/>
                <a:gridCol w="857160"/>
              </a:tblGrid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站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山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间停靠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育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、下车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4" name="TextBox 14"/>
          <p:cNvSpPr/>
          <p:nvPr/>
        </p:nvSpPr>
        <p:spPr>
          <a:xfrm>
            <a:off x="714240" y="4861080"/>
            <a:ext cx="5857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你还能提出哪些数学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14"/>
          <p:cNvSpPr/>
          <p:nvPr/>
        </p:nvSpPr>
        <p:spPr>
          <a:xfrm>
            <a:off x="857160" y="863640"/>
            <a:ext cx="747072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这一单元里，我们学习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61"/>
          <p:cNvSpPr/>
          <p:nvPr/>
        </p:nvSpPr>
        <p:spPr>
          <a:xfrm>
            <a:off x="1785960" y="2548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61"/>
          <p:cNvSpPr/>
          <p:nvPr/>
        </p:nvSpPr>
        <p:spPr>
          <a:xfrm>
            <a:off x="1785960" y="4691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左大括号 46"/>
          <p:cNvSpPr/>
          <p:nvPr/>
        </p:nvSpPr>
        <p:spPr>
          <a:xfrm>
            <a:off x="2571840" y="1809720"/>
            <a:ext cx="428400" cy="2048040"/>
          </a:xfrm>
          <a:custGeom>
            <a:avLst/>
            <a:gdLst>
              <a:gd name="textAreaLeft" fmla="*/ 273600 w 428400"/>
              <a:gd name="textAreaRight" fmla="*/ 428760 w 428400"/>
              <a:gd name="textAreaTop" fmla="*/ 92160 h 2048040"/>
              <a:gd name="textAreaBottom" fmla="*/ 1955880 h 20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5"/>
                  <a:pt x="10800" y="3109"/>
                </a:cubicBezTo>
                <a:lnTo>
                  <a:pt x="10800" y="7691"/>
                </a:lnTo>
                <a:cubicBezTo>
                  <a:pt x="10800" y="9246"/>
                  <a:pt x="5400" y="10800"/>
                  <a:pt x="0" y="10800"/>
                </a:cubicBezTo>
                <a:cubicBezTo>
                  <a:pt x="5400" y="10800"/>
                  <a:pt x="10800" y="12355"/>
                  <a:pt x="10800" y="13909"/>
                </a:cubicBezTo>
                <a:lnTo>
                  <a:pt x="10800" y="18491"/>
                </a:lnTo>
                <a:cubicBezTo>
                  <a:pt x="10800" y="200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61"/>
          <p:cNvSpPr/>
          <p:nvPr/>
        </p:nvSpPr>
        <p:spPr>
          <a:xfrm>
            <a:off x="2928960" y="15717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61"/>
          <p:cNvSpPr/>
          <p:nvPr/>
        </p:nvSpPr>
        <p:spPr>
          <a:xfrm>
            <a:off x="3000240" y="25480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61"/>
          <p:cNvSpPr/>
          <p:nvPr/>
        </p:nvSpPr>
        <p:spPr>
          <a:xfrm>
            <a:off x="2928960" y="34765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负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左大括号 51"/>
          <p:cNvSpPr/>
          <p:nvPr/>
        </p:nvSpPr>
        <p:spPr>
          <a:xfrm rot="10800000">
            <a:off x="4214880" y="1785600"/>
            <a:ext cx="428400" cy="111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92160 h 1119240"/>
              <a:gd name="textAreaBottom" fmla="*/ 1027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5"/>
                  <a:pt x="10800" y="5689"/>
                </a:cubicBezTo>
                <a:lnTo>
                  <a:pt x="10800" y="5111"/>
                </a:lnTo>
                <a:cubicBezTo>
                  <a:pt x="10800" y="7956"/>
                  <a:pt x="5400" y="10800"/>
                  <a:pt x="0" y="10800"/>
                </a:cubicBezTo>
                <a:cubicBezTo>
                  <a:pt x="5400" y="10800"/>
                  <a:pt x="10800" y="13645"/>
                  <a:pt x="10800" y="16489"/>
                </a:cubicBezTo>
                <a:lnTo>
                  <a:pt x="10800" y="15911"/>
                </a:lnTo>
                <a:cubicBezTo>
                  <a:pt x="10800" y="187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61"/>
          <p:cNvSpPr/>
          <p:nvPr/>
        </p:nvSpPr>
        <p:spPr>
          <a:xfrm>
            <a:off x="4572000" y="2023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左大括号 53"/>
          <p:cNvSpPr/>
          <p:nvPr/>
        </p:nvSpPr>
        <p:spPr>
          <a:xfrm>
            <a:off x="5786280" y="1762200"/>
            <a:ext cx="428760" cy="10476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2160 h 1047600"/>
              <a:gd name="textAreaBottom" fmla="*/ 955440 h 104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37"/>
                  <a:pt x="10800" y="6074"/>
                </a:cubicBezTo>
                <a:lnTo>
                  <a:pt x="10800" y="4726"/>
                </a:lnTo>
                <a:cubicBezTo>
                  <a:pt x="10800" y="7763"/>
                  <a:pt x="5400" y="10800"/>
                  <a:pt x="0" y="10800"/>
                </a:cubicBezTo>
                <a:cubicBezTo>
                  <a:pt x="5400" y="10800"/>
                  <a:pt x="10800" y="13837"/>
                  <a:pt x="10800" y="16874"/>
                </a:cubicBezTo>
                <a:lnTo>
                  <a:pt x="10800" y="15526"/>
                </a:lnTo>
                <a:cubicBezTo>
                  <a:pt x="10800" y="185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61"/>
          <p:cNvSpPr/>
          <p:nvPr/>
        </p:nvSpPr>
        <p:spPr>
          <a:xfrm>
            <a:off x="6143760" y="15717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61"/>
          <p:cNvSpPr/>
          <p:nvPr/>
        </p:nvSpPr>
        <p:spPr>
          <a:xfrm>
            <a:off x="6143760" y="2428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左大括号 56"/>
          <p:cNvSpPr/>
          <p:nvPr/>
        </p:nvSpPr>
        <p:spPr>
          <a:xfrm>
            <a:off x="2571840" y="4452840"/>
            <a:ext cx="428400" cy="1047960"/>
          </a:xfrm>
          <a:custGeom>
            <a:avLst/>
            <a:gdLst>
              <a:gd name="textAreaLeft" fmla="*/ 273600 w 428400"/>
              <a:gd name="textAreaRight" fmla="*/ 428760 w 428400"/>
              <a:gd name="textAreaTop" fmla="*/ 92160 h 1047960"/>
              <a:gd name="textAreaBottom" fmla="*/ 955800 h 10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37"/>
                  <a:pt x="10800" y="6074"/>
                </a:cubicBezTo>
                <a:lnTo>
                  <a:pt x="10800" y="4726"/>
                </a:lnTo>
                <a:cubicBezTo>
                  <a:pt x="10800" y="7763"/>
                  <a:pt x="5400" y="10800"/>
                  <a:pt x="0" y="10800"/>
                </a:cubicBezTo>
                <a:cubicBezTo>
                  <a:pt x="5400" y="10800"/>
                  <a:pt x="10800" y="13837"/>
                  <a:pt x="10800" y="16874"/>
                </a:cubicBezTo>
                <a:lnTo>
                  <a:pt x="10800" y="15526"/>
                </a:lnTo>
                <a:cubicBezTo>
                  <a:pt x="10800" y="185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61"/>
          <p:cNvSpPr/>
          <p:nvPr/>
        </p:nvSpPr>
        <p:spPr>
          <a:xfrm>
            <a:off x="2928960" y="42624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61"/>
          <p:cNvSpPr/>
          <p:nvPr/>
        </p:nvSpPr>
        <p:spPr>
          <a:xfrm>
            <a:off x="2928960" y="511956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61"/>
          <p:cNvSpPr/>
          <p:nvPr/>
        </p:nvSpPr>
        <p:spPr>
          <a:xfrm>
            <a:off x="3929040" y="428616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的数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左大括号 60"/>
          <p:cNvSpPr/>
          <p:nvPr/>
        </p:nvSpPr>
        <p:spPr>
          <a:xfrm>
            <a:off x="3786120" y="5000760"/>
            <a:ext cx="357120" cy="880920"/>
          </a:xfrm>
          <a:custGeom>
            <a:avLst/>
            <a:gdLst>
              <a:gd name="textAreaLeft" fmla="*/ 228240 w 357120"/>
              <a:gd name="textAreaRight" fmla="*/ 357480 w 357120"/>
              <a:gd name="textAreaTop" fmla="*/ 76680 h 880920"/>
              <a:gd name="textAreaBottom" fmla="*/ 804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14"/>
                  <a:pt x="10800" y="6027"/>
                </a:cubicBezTo>
                <a:lnTo>
                  <a:pt x="10800" y="4773"/>
                </a:lnTo>
                <a:cubicBezTo>
                  <a:pt x="10800" y="7787"/>
                  <a:pt x="5400" y="10800"/>
                  <a:pt x="0" y="10800"/>
                </a:cubicBezTo>
                <a:cubicBezTo>
                  <a:pt x="5400" y="10800"/>
                  <a:pt x="10800" y="13814"/>
                  <a:pt x="10800" y="16827"/>
                </a:cubicBezTo>
                <a:lnTo>
                  <a:pt x="10800" y="15573"/>
                </a:lnTo>
                <a:cubicBezTo>
                  <a:pt x="10800" y="1858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61"/>
          <p:cNvSpPr/>
          <p:nvPr/>
        </p:nvSpPr>
        <p:spPr>
          <a:xfrm>
            <a:off x="4071960" y="48578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61"/>
          <p:cNvSpPr/>
          <p:nvPr/>
        </p:nvSpPr>
        <p:spPr>
          <a:xfrm>
            <a:off x="4071960" y="55720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63"/>
          <p:cNvSpPr/>
          <p:nvPr/>
        </p:nvSpPr>
        <p:spPr>
          <a:xfrm>
            <a:off x="4929120" y="48578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素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61"/>
          <p:cNvSpPr/>
          <p:nvPr/>
        </p:nvSpPr>
        <p:spPr>
          <a:xfrm>
            <a:off x="4929120" y="55720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解素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Box 14"/>
          <p:cNvSpPr/>
          <p:nvPr/>
        </p:nvSpPr>
        <p:spPr>
          <a:xfrm>
            <a:off x="214200" y="500040"/>
            <a:ext cx="8929800" cy="5357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自然数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）是素数，（            ）是合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）是奇数，（            ）是偶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既是偶数又是素数，（  ）既是奇数又是合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因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（                  ）整除，所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（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60"/>
          <p:cNvSpPr/>
          <p:nvPr/>
        </p:nvSpPr>
        <p:spPr>
          <a:xfrm>
            <a:off x="1143000" y="23036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60"/>
          <p:cNvSpPr/>
          <p:nvPr/>
        </p:nvSpPr>
        <p:spPr>
          <a:xfrm>
            <a:off x="5500800" y="22543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60"/>
          <p:cNvSpPr/>
          <p:nvPr/>
        </p:nvSpPr>
        <p:spPr>
          <a:xfrm>
            <a:off x="1071720" y="316080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60"/>
          <p:cNvSpPr/>
          <p:nvPr/>
        </p:nvSpPr>
        <p:spPr>
          <a:xfrm>
            <a:off x="5929200" y="31608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1285920" y="4017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60"/>
          <p:cNvSpPr/>
          <p:nvPr/>
        </p:nvSpPr>
        <p:spPr>
          <a:xfrm>
            <a:off x="5643720" y="4017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60"/>
          <p:cNvSpPr/>
          <p:nvPr/>
        </p:nvSpPr>
        <p:spPr>
          <a:xfrm>
            <a:off x="3786120" y="48751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60"/>
          <p:cNvSpPr/>
          <p:nvPr/>
        </p:nvSpPr>
        <p:spPr>
          <a:xfrm>
            <a:off x="3571920" y="53038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14"/>
          <p:cNvSpPr/>
          <p:nvPr/>
        </p:nvSpPr>
        <p:spPr>
          <a:xfrm>
            <a:off x="142920" y="923760"/>
            <a:ext cx="8715240" cy="4833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数中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（       ）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（          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有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算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5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规定盈利为正，某公司去年亏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记为（       ）元，今年盈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60"/>
          <p:cNvSpPr/>
          <p:nvPr/>
        </p:nvSpPr>
        <p:spPr>
          <a:xfrm>
            <a:off x="928800" y="34923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素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60"/>
          <p:cNvSpPr/>
          <p:nvPr/>
        </p:nvSpPr>
        <p:spPr>
          <a:xfrm>
            <a:off x="1643040" y="43498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60"/>
          <p:cNvSpPr/>
          <p:nvPr/>
        </p:nvSpPr>
        <p:spPr>
          <a:xfrm>
            <a:off x="928800" y="476244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60"/>
          <p:cNvSpPr/>
          <p:nvPr/>
        </p:nvSpPr>
        <p:spPr>
          <a:xfrm>
            <a:off x="2000160" y="219060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60"/>
          <p:cNvSpPr/>
          <p:nvPr/>
        </p:nvSpPr>
        <p:spPr>
          <a:xfrm>
            <a:off x="5929200" y="2214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60"/>
          <p:cNvSpPr/>
          <p:nvPr/>
        </p:nvSpPr>
        <p:spPr>
          <a:xfrm>
            <a:off x="2571840" y="2643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14"/>
          <p:cNvSpPr/>
          <p:nvPr/>
        </p:nvSpPr>
        <p:spPr>
          <a:xfrm>
            <a:off x="500040" y="642960"/>
            <a:ext cx="8215200" cy="32598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先读一读下面的数，再把它们填入对应的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   0   20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数             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60"/>
          <p:cNvSpPr/>
          <p:nvPr/>
        </p:nvSpPr>
        <p:spPr>
          <a:xfrm>
            <a:off x="1285920" y="385776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圆角矩形 3"/>
          <p:cNvSpPr/>
          <p:nvPr/>
        </p:nvSpPr>
        <p:spPr>
          <a:xfrm>
            <a:off x="1071720" y="3500280"/>
            <a:ext cx="3000240" cy="135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"/>
          <p:cNvSpPr/>
          <p:nvPr/>
        </p:nvSpPr>
        <p:spPr>
          <a:xfrm>
            <a:off x="4500720" y="3500280"/>
            <a:ext cx="3286080" cy="135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60"/>
          <p:cNvSpPr/>
          <p:nvPr/>
        </p:nvSpPr>
        <p:spPr>
          <a:xfrm>
            <a:off x="4500720" y="391644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14"/>
          <p:cNvSpPr/>
          <p:nvPr/>
        </p:nvSpPr>
        <p:spPr>
          <a:xfrm>
            <a:off x="571680" y="1047600"/>
            <a:ext cx="800100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先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素因数，再写出两个因数相乘积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式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＝（   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60"/>
          <p:cNvSpPr/>
          <p:nvPr/>
        </p:nvSpPr>
        <p:spPr>
          <a:xfrm>
            <a:off x="1582560" y="2762280"/>
            <a:ext cx="62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×2×5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60"/>
          <p:cNvSpPr/>
          <p:nvPr/>
        </p:nvSpPr>
        <p:spPr>
          <a:xfrm>
            <a:off x="1285920" y="20620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      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0"/>
          <p:cNvSpPr/>
          <p:nvPr/>
        </p:nvSpPr>
        <p:spPr>
          <a:xfrm>
            <a:off x="4357800" y="204804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   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14"/>
          <p:cNvSpPr/>
          <p:nvPr/>
        </p:nvSpPr>
        <p:spPr>
          <a:xfrm>
            <a:off x="1071720" y="857160"/>
            <a:ext cx="6572160" cy="4045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横线上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×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×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60"/>
          <p:cNvSpPr/>
          <p:nvPr/>
        </p:nvSpPr>
        <p:spPr>
          <a:xfrm>
            <a:off x="2857680" y="192888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60"/>
          <p:cNvSpPr/>
          <p:nvPr/>
        </p:nvSpPr>
        <p:spPr>
          <a:xfrm>
            <a:off x="3367080" y="257184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60"/>
          <p:cNvSpPr/>
          <p:nvPr/>
        </p:nvSpPr>
        <p:spPr>
          <a:xfrm>
            <a:off x="4000680" y="326232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60"/>
          <p:cNvSpPr/>
          <p:nvPr/>
        </p:nvSpPr>
        <p:spPr>
          <a:xfrm>
            <a:off x="4224240" y="3857760"/>
            <a:ext cx="9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"/>
          <p:cNvGraphicFramePr/>
          <p:nvPr/>
        </p:nvGraphicFramePr>
        <p:xfrm>
          <a:off x="642960" y="2357280"/>
          <a:ext cx="7715160" cy="1463760"/>
        </p:xfrm>
        <a:graphic>
          <a:graphicData uri="http://schemas.openxmlformats.org/drawingml/2006/table">
            <a:tbl>
              <a:tblPr/>
              <a:tblGrid>
                <a:gridCol w="1542960"/>
                <a:gridCol w="1542960"/>
                <a:gridCol w="1543320"/>
                <a:gridCol w="1542960"/>
                <a:gridCol w="15429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童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少儿科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智力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故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7" name="TextBox 14"/>
          <p:cNvSpPr/>
          <p:nvPr/>
        </p:nvSpPr>
        <p:spPr>
          <a:xfrm>
            <a:off x="714240" y="1360440"/>
            <a:ext cx="7715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各种图书分别能平均分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60"/>
          <p:cNvSpPr/>
          <p:nvPr/>
        </p:nvSpPr>
        <p:spPr>
          <a:xfrm>
            <a:off x="1071720" y="442908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童话书、智力游戏书、故事书能平均分给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4"/>
          <p:cNvSpPr/>
          <p:nvPr/>
        </p:nvSpPr>
        <p:spPr>
          <a:xfrm>
            <a:off x="714240" y="736560"/>
            <a:ext cx="7929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记录了一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公共汽车全程载客数量的情况。（正数为上车人数，负数为下车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60"/>
          <p:cNvSpPr/>
          <p:nvPr/>
        </p:nvSpPr>
        <p:spPr>
          <a:xfrm>
            <a:off x="1357200" y="54291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间各停靠站上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，下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，共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500040" y="2357280"/>
          <a:ext cx="8143920" cy="2492640"/>
        </p:xfrm>
        <a:graphic>
          <a:graphicData uri="http://schemas.openxmlformats.org/drawingml/2006/table">
            <a:tbl>
              <a:tblPr/>
              <a:tblGrid>
                <a:gridCol w="814320"/>
                <a:gridCol w="814320"/>
                <a:gridCol w="729000"/>
                <a:gridCol w="785520"/>
                <a:gridCol w="928800"/>
                <a:gridCol w="857160"/>
                <a:gridCol w="771480"/>
                <a:gridCol w="814680"/>
                <a:gridCol w="771480"/>
                <a:gridCol w="857160"/>
              </a:tblGrid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站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山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间停靠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育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、下车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2" name="TextBox 14"/>
          <p:cNvSpPr/>
          <p:nvPr/>
        </p:nvSpPr>
        <p:spPr>
          <a:xfrm>
            <a:off x="1000080" y="4861080"/>
            <a:ext cx="7143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中间各停靠站上、下车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2:54Z</dcterms:modified>
  <cp:revision>1</cp:revision>
  <dc:subject/>
  <dc:title/>
</cp:coreProperties>
</file>