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A5D-3AD1-4369-ABF6-8B0D8FED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78C8-5473-493C-9ED9-C924F028E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F58-12CF-4255-8F6E-245D5443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C60-5B26-44FD-AFC4-1F0678281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A14-0327-488E-AE80-75104C6BE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0D2-7ADE-4540-9403-743BFB2C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21E-0365-4D97-ACA1-707BA943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0AE7-8970-456C-9312-6C8C66989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6D2F-9081-4985-9F9D-177FEBE7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263-793D-450B-866E-9841A30A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739-17E9-4AA4-9FD9-21F7AED0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0F7-FF6B-4AFE-A79E-4FDA03FA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EFEA-74AA-4D34-B363-A14A22F1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9194-E9B2-47A3-9BA1-3B58ABF1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98C-8E7E-465C-93B0-83490FDF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899-5637-4AE0-91AB-01C3D248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A40-4903-47C0-B204-B0F574A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16B-CBB9-4BAF-A83B-251679F5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FE5-FED0-4198-B1E5-807C9D27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D33-A822-46A8-A0DF-329415AA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912A-FBED-485A-8E52-B40A67F9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EDB0-B4BF-49C9-96CD-401EC39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A795-A740-4E13-99A1-C1365C0E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F337-AAA6-40E2-8134-0AC746B8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F9C3-778A-466D-A4AE-57CEB60C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77B-FBC1-4ACA-91ED-008DC26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B7A-F122-4D78-9ED3-93BEFA2D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D3E9-285B-4EFB-92EF-27FC8B9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1EF-DCA9-42A1-8129-5795ED6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057-D8BF-4A81-89FB-AF9FCDB6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BC96-783F-41EB-9743-AADEC9EA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AC7-95D0-41C4-880B-CB4D911B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CBEF-109E-432C-A55C-33C8CB45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FAB0-8841-47EE-A2BD-4959DEC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3638-5EEF-4465-A9DE-4F98DC2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B0A9-C9D3-4BA1-9933-349155C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4B92-36F7-489E-A0B6-1755BFFC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76E-3E65-4B02-A9F6-B9DFB42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CC7B-21B0-410B-ACFF-0A996A9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C495-509A-46AF-9BFF-04567F4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33DD-09F8-46F2-85F7-FB314C1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EC30-B8E6-4A0D-8E3C-6A5E1C4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5D97-28D8-4626-9127-27D33C5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29C5-1D8C-4372-B228-92DE9C89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CA23-16C9-4334-8DB3-E2DDC795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858D-7C3B-4277-BDFF-579B49ED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DED7-9EB8-470C-B52B-EC5CFD1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0FE9-5CD1-4EEC-8332-DAD22BC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267-466F-44C3-9F78-CBE30891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B891-D700-490E-8822-DFC2E4A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BEA2-2B0C-4ED2-8039-54AB831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F500-EFD2-47A7-851B-96FB1928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41BA-B2EF-43A3-93B6-45DC588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7A79-49C2-4B22-973B-4F26C5B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157B-4B90-4A00-BCD7-AF95343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BB33-4D7A-42A3-975A-6C190B48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5F34-0F3D-4B2E-A1D5-30E1A463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56B6-2479-464C-8A69-81164C2B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4B53-F4EC-45B0-927A-6D086A0C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718-E0A2-4ECF-95C1-68AC237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C841-0CD7-43BD-9DF4-4A455CB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BDEAD-3426-4CF8-8CEE-AF295078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6483-CEFA-4A9D-B7C5-9452AB47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AA62-9FF3-47F6-A7C6-7AEBC83A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825E-4DC7-4A9E-ADBB-FC63CD72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1DEC8-4DB3-4464-9AA1-373DE89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1BF8-9F8B-45A9-9EA2-0F72849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535D-C584-47EC-8C3A-671204F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99CA-B536-49B0-82BF-B1F1588B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1BE5-D746-4907-8A14-A11A4F81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F99-15BB-43D7-AFB8-7477BF39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461B-1B9F-4F04-B101-DBC2CCF0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43D2-1DB9-43A0-81EA-FDA0F384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AFC2-2AE9-4166-A2A0-2E2D68D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CAB0-B889-45B9-8ACE-57A93B3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49FC-FC55-4D93-8147-564BD9E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9298-E5D9-48A9-ADDE-77C74DE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B66E-07C4-402E-A433-7B60B80E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ADE1-4B2C-45F4-A8F4-E71E32B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33023-CE1E-4641-A7E4-72DEABD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FF45-82B1-40A6-B514-A55619D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CD3-4CFA-4FE9-8D3A-A4F3DBA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073A-FE3B-4657-B662-62BA5608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2971-45DD-4487-8587-C4D485F6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5A47-EF78-406F-8617-5EC36803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8190-A4F2-477C-B852-7068C462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EE5A-CD1D-49D7-A36D-12C92ED4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F2FAE-68C8-4DEB-A0B4-0A308629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FBC7-24DA-46A4-A50F-8411475C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E160-B002-49C0-A03C-36040C0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FD34E-FB42-4F1B-BA2B-D09D2C3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71F1-3DA7-46DF-99E2-6B7FEE6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4D7-D376-49DF-B742-730448A3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D28F-D9C4-4AF2-9ED9-0FFBEE1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31715-55E0-47EB-A8A2-30A4823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A609-2ECC-49FC-A624-968766C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7F22-F355-4BD8-A591-6FC2D247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FC083-008B-464D-A0B3-458B81D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7B2F-6050-4692-8030-39ACDE24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559B-5CBD-44BD-87D9-1A8043C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9ED9-347A-4B0B-A54F-85CC0BA9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2C59-06F9-40CA-A01F-56CB6E87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3DEDE-EA4B-4DD4-8FDD-0035D8C3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7DD-41F0-44F4-8AE9-117BE0B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14F6B-85B2-45AB-8250-AB447CE1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A363-4FF6-413B-BBE5-0A40502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32086-8621-4C54-BD7C-4861A51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DFCED-96A3-4B37-BBF7-F72C2E6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447B-2A76-44F7-8FBC-546AC42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8551F-7A03-4B13-AD15-465EA767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10845-BFBA-4114-A5DF-FC153A25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64F-4DF0-4C3B-9B87-71445B21253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任意多边形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直接连接符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e8f0f4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8f0f4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e8f0f4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629F-18C9-45DA-B124-ABB3BD4B2DD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燕尾形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DE9-5067-485D-AA92-C29B59E574C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341-884B-437D-8116-9A373D054E6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3619-D103-4BE2-8D84-2CB8B282220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06E-14D1-4D53-81E6-52FF460B6B0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CE4-14F7-4EDA-BBC1-1C05C11E749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直角三角形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直接连接符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燕尾形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色圃中小学教育网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http://www.lspjy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6834-590E-4BFB-A9CB-5A6601D3106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7"/>
          <p:cNvSpPr/>
          <p:nvPr/>
        </p:nvSpPr>
        <p:spPr>
          <a:xfrm>
            <a:off x="2071800" y="300024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64646"/>
                </a:solidFill>
                <a:latin typeface="宋体"/>
              </a:rPr>
              <a:t>自然数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11" descr="a5"/>
          <p:cNvPicPr/>
          <p:nvPr/>
        </p:nvPicPr>
        <p:blipFill>
          <a:blip r:embed="rId2"/>
          <a:stretch/>
        </p:blipFill>
        <p:spPr>
          <a:xfrm>
            <a:off x="6424560" y="3809880"/>
            <a:ext cx="2328840" cy="24386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12"/>
          <p:cNvSpPr/>
          <p:nvPr/>
        </p:nvSpPr>
        <p:spPr>
          <a:xfrm>
            <a:off x="425520" y="1643040"/>
            <a:ext cx="856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下面哪些数是自然数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    723    0    42.1    6.666    1800    ﹣2.53    0.0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36"/>
          <p:cNvSpPr/>
          <p:nvPr/>
        </p:nvSpPr>
        <p:spPr>
          <a:xfrm>
            <a:off x="481680" y="435780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然数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2786040" y="8571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第二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2" descr="ds知识应用"/>
          <p:cNvPicPr/>
          <p:nvPr/>
        </p:nvPicPr>
        <p:blipFill>
          <a:blip r:embed="rId3"/>
          <a:stretch/>
        </p:blipFill>
        <p:spPr>
          <a:xfrm>
            <a:off x="642960" y="85716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07"/>
          <p:cNvSpPr/>
          <p:nvPr/>
        </p:nvSpPr>
        <p:spPr>
          <a:xfrm>
            <a:off x="1323720" y="1428840"/>
            <a:ext cx="7099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填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小的自然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接在它后面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自然数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三个连续的自然数，已知中间一个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那么其他两个自然数分别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"/>
          <p:cNvSpPr/>
          <p:nvPr/>
        </p:nvSpPr>
        <p:spPr>
          <a:xfrm>
            <a:off x="5441400" y="386064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4"/>
          <p:cNvSpPr/>
          <p:nvPr/>
        </p:nvSpPr>
        <p:spPr>
          <a:xfrm>
            <a:off x="321732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5"/>
          <p:cNvSpPr/>
          <p:nvPr/>
        </p:nvSpPr>
        <p:spPr>
          <a:xfrm>
            <a:off x="4289040" y="185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7384320" y="378936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" descr="ds知识应用"/>
          <p:cNvPicPr/>
          <p:nvPr/>
        </p:nvPicPr>
        <p:blipFill>
          <a:blip r:embed="rId2"/>
          <a:stretch/>
        </p:blipFill>
        <p:spPr>
          <a:xfrm>
            <a:off x="428760" y="85716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07"/>
          <p:cNvSpPr/>
          <p:nvPr/>
        </p:nvSpPr>
        <p:spPr>
          <a:xfrm>
            <a:off x="1479960" y="2071800"/>
            <a:ext cx="675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的自然数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们的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们的和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个连续自然数的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三个自然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5"/>
          <p:cNvSpPr/>
          <p:nvPr/>
        </p:nvSpPr>
        <p:spPr>
          <a:xfrm>
            <a:off x="4542120" y="2000160"/>
            <a:ext cx="39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04"/>
          <p:cNvSpPr/>
          <p:nvPr/>
        </p:nvSpPr>
        <p:spPr>
          <a:xfrm>
            <a:off x="3074760" y="2571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5"/>
          <p:cNvSpPr/>
          <p:nvPr/>
        </p:nvSpPr>
        <p:spPr>
          <a:xfrm>
            <a:off x="6932160" y="25718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5"/>
          <p:cNvSpPr/>
          <p:nvPr/>
        </p:nvSpPr>
        <p:spPr>
          <a:xfrm>
            <a:off x="3717720" y="400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05"/>
          <p:cNvSpPr/>
          <p:nvPr/>
        </p:nvSpPr>
        <p:spPr>
          <a:xfrm>
            <a:off x="2074680" y="4068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5"/>
          <p:cNvSpPr/>
          <p:nvPr/>
        </p:nvSpPr>
        <p:spPr>
          <a:xfrm>
            <a:off x="5360760" y="400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C:\Users\Administrator\Desktop\OKHO8P9FV9_RYPDC$@2V}V3.png"/>
          <p:cNvPicPr/>
          <p:nvPr/>
        </p:nvPicPr>
        <p:blipFill>
          <a:blip r:embed="rId1"/>
          <a:stretch/>
        </p:blipFill>
        <p:spPr>
          <a:xfrm>
            <a:off x="468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矩形 4"/>
          <p:cNvSpPr/>
          <p:nvPr/>
        </p:nvSpPr>
        <p:spPr>
          <a:xfrm>
            <a:off x="3000240" y="1000080"/>
            <a:ext cx="2643480" cy="714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课堂小结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圆角矩形 4"/>
          <p:cNvSpPr/>
          <p:nvPr/>
        </p:nvSpPr>
        <p:spPr>
          <a:xfrm>
            <a:off x="714240" y="1857240"/>
            <a:ext cx="7929720" cy="45720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7"/>
          <p:cNvSpPr/>
          <p:nvPr/>
        </p:nvSpPr>
        <p:spPr>
          <a:xfrm>
            <a:off x="1143000" y="21430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然数是无限的，最小的自然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没有最大的自然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78"/>
          <p:cNvSpPr/>
          <p:nvPr/>
        </p:nvSpPr>
        <p:spPr>
          <a:xfrm>
            <a:off x="1467360" y="3500280"/>
            <a:ext cx="661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我国第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代身份证号码有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8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位数字。前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位是行政区划分码，第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至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4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为是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生日期码，第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5,16</a:t>
            </a: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位是顺序码，第</a:t>
            </a:r>
            <a:r>
              <a:rPr b="1" lang="en-US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位是性别码，最后一位是效验码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44"/>
          <p:cNvGrpSpPr/>
          <p:nvPr/>
        </p:nvGrpSpPr>
        <p:grpSpPr>
          <a:xfrm>
            <a:off x="285840" y="4286160"/>
            <a:ext cx="2038320" cy="2271960"/>
            <a:chOff x="285840" y="4286160"/>
            <a:chExt cx="2038320" cy="2271960"/>
          </a:xfrm>
        </p:grpSpPr>
        <p:pic>
          <p:nvPicPr>
            <p:cNvPr id="444" name="Picture 140" descr="slide0005_image033"/>
            <p:cNvPicPr/>
            <p:nvPr/>
          </p:nvPicPr>
          <p:blipFill>
            <a:blip r:embed="rId1"/>
            <a:stretch/>
          </p:blipFill>
          <p:spPr>
            <a:xfrm>
              <a:off x="285840" y="4286160"/>
              <a:ext cx="203832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143"/>
            <p:cNvSpPr/>
            <p:nvPr/>
          </p:nvSpPr>
          <p:spPr>
            <a:xfrm>
              <a:off x="990000" y="470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150"/>
          <p:cNvSpPr/>
          <p:nvPr/>
        </p:nvSpPr>
        <p:spPr>
          <a:xfrm>
            <a:off x="1906920" y="1357200"/>
            <a:ext cx="599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知道自然数可以表示什么吗？用线把左右连接起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序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量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亚得了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编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计算结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家的邮政编码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8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4" descr="C:\Users\Administrator\AppData\Roaming\Tencent\Users\1433793736\QQ\WinTemp\RichOle\`ELDPG3T}K]@ZP7T%2L$Q4D.png"/>
          <p:cNvPicPr/>
          <p:nvPr/>
        </p:nvPicPr>
        <p:blipFill>
          <a:blip r:embed="rId2"/>
          <a:stretch/>
        </p:blipFill>
        <p:spPr>
          <a:xfrm>
            <a:off x="785880" y="928800"/>
            <a:ext cx="1933560" cy="466560"/>
          </a:xfrm>
          <a:prstGeom prst="rect">
            <a:avLst/>
          </a:prstGeom>
          <a:ln w="0">
            <a:noFill/>
          </a:ln>
        </p:spPr>
      </p:pic>
      <p:sp>
        <p:nvSpPr>
          <p:cNvPr id="448" name="直接连接符 23"/>
          <p:cNvSpPr/>
          <p:nvPr/>
        </p:nvSpPr>
        <p:spPr>
          <a:xfrm>
            <a:off x="1428840" y="2357280"/>
            <a:ext cx="142884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直接连接符 28"/>
          <p:cNvSpPr/>
          <p:nvPr/>
        </p:nvSpPr>
        <p:spPr>
          <a:xfrm>
            <a:off x="1500120" y="2857680"/>
            <a:ext cx="14288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直接连接符 31"/>
          <p:cNvSpPr/>
          <p:nvPr/>
        </p:nvSpPr>
        <p:spPr>
          <a:xfrm>
            <a:off x="1571760" y="3357720"/>
            <a:ext cx="207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直接连接符 34"/>
          <p:cNvSpPr/>
          <p:nvPr/>
        </p:nvSpPr>
        <p:spPr>
          <a:xfrm flipV="1">
            <a:off x="2857680" y="2642760"/>
            <a:ext cx="14256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49"/>
          <p:cNvSpPr/>
          <p:nvPr/>
        </p:nvSpPr>
        <p:spPr>
          <a:xfrm>
            <a:off x="372528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Times New Roman"/>
              </a:rPr>
              <a:t>观看星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49"/>
          <p:cNvSpPr/>
          <p:nvPr/>
        </p:nvSpPr>
        <p:spPr>
          <a:xfrm>
            <a:off x="2071800" y="60008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Times New Roman"/>
              </a:rPr>
              <a:t>星星的个数数不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9" descr="C:\Users\Administrator\AppData\Roaming\Tencent\Users\1433793736\QQ\WinTemp\RichOle\L1_MVU7)U4PI}S]MZ(@P_4W.png"/>
          <p:cNvPicPr/>
          <p:nvPr/>
        </p:nvPicPr>
        <p:blipFill>
          <a:blip r:embed="rId1"/>
          <a:stretch/>
        </p:blipFill>
        <p:spPr>
          <a:xfrm>
            <a:off x="928800" y="1571760"/>
            <a:ext cx="7277040" cy="4132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4"/>
          <p:cNvSpPr/>
          <p:nvPr/>
        </p:nvSpPr>
        <p:spPr>
          <a:xfrm>
            <a:off x="1500120" y="164304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数一数下面的体育用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33"/>
          <p:cNvSpPr/>
          <p:nvPr/>
        </p:nvSpPr>
        <p:spPr>
          <a:xfrm>
            <a:off x="1041840" y="4286160"/>
            <a:ext cx="39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34"/>
          <p:cNvSpPr/>
          <p:nvPr/>
        </p:nvSpPr>
        <p:spPr>
          <a:xfrm>
            <a:off x="894600" y="4857840"/>
            <a:ext cx="61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42960" y="55720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也没有时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也是自然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2786040" y="1071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认识个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6" descr="C:\Users\IBM\Pictures\big_ab436564dfb329746807337f9f496eb8.gif"/>
          <p:cNvPicPr/>
          <p:nvPr/>
        </p:nvPicPr>
        <p:blipFill>
          <a:blip r:embed="rId2"/>
          <a:stretch/>
        </p:blipFill>
        <p:spPr>
          <a:xfrm>
            <a:off x="1214280" y="2286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:\Users\IBM\Pictures\big_ab436564dfb329746807337f9f496eb8.gif"/>
          <p:cNvPicPr/>
          <p:nvPr/>
        </p:nvPicPr>
        <p:blipFill>
          <a:blip r:embed="rId3"/>
          <a:stretch/>
        </p:blipFill>
        <p:spPr>
          <a:xfrm>
            <a:off x="2071800" y="2286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C:\Users\IBM\Pictures\big_ab436564dfb329746807337f9f496eb8.gif"/>
          <p:cNvPicPr/>
          <p:nvPr/>
        </p:nvPicPr>
        <p:blipFill>
          <a:blip r:embed="rId4"/>
          <a:stretch/>
        </p:blipFill>
        <p:spPr>
          <a:xfrm>
            <a:off x="2857680" y="228600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6" descr="C:\Users\IBM\Pictures\big_ab436564dfb329746807337f9f496eb8.gif"/>
          <p:cNvPicPr/>
          <p:nvPr/>
        </p:nvPicPr>
        <p:blipFill>
          <a:blip r:embed="rId5"/>
          <a:stretch/>
        </p:blipFill>
        <p:spPr>
          <a:xfrm>
            <a:off x="1643040" y="3000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6" descr="C:\Users\IBM\Pictures\big_ab436564dfb329746807337f9f496eb8.gif"/>
          <p:cNvPicPr/>
          <p:nvPr/>
        </p:nvPicPr>
        <p:blipFill>
          <a:blip r:embed="rId6"/>
          <a:stretch/>
        </p:blipFill>
        <p:spPr>
          <a:xfrm>
            <a:off x="2500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1" descr="C:\Users\IBM\Pictures\33.png"/>
          <p:cNvPicPr/>
          <p:nvPr/>
        </p:nvPicPr>
        <p:blipFill>
          <a:blip r:embed="rId7"/>
          <a:stretch/>
        </p:blipFill>
        <p:spPr>
          <a:xfrm>
            <a:off x="4857840" y="2428920"/>
            <a:ext cx="2324160" cy="1092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1" descr="C:\Users\IBM\Pictures\33.png"/>
          <p:cNvPicPr/>
          <p:nvPr/>
        </p:nvPicPr>
        <p:blipFill>
          <a:blip r:embed="rId8"/>
          <a:stretch/>
        </p:blipFill>
        <p:spPr>
          <a:xfrm>
            <a:off x="6000840" y="2428920"/>
            <a:ext cx="2324160" cy="1092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1" descr="C:\Users\IBM\Pictures\33.png"/>
          <p:cNvPicPr/>
          <p:nvPr/>
        </p:nvPicPr>
        <p:blipFill>
          <a:blip r:embed="rId9"/>
          <a:stretch/>
        </p:blipFill>
        <p:spPr>
          <a:xfrm>
            <a:off x="4857840" y="2979720"/>
            <a:ext cx="232416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1" descr="C:\Users\IBM\Pictures\33.png"/>
          <p:cNvPicPr/>
          <p:nvPr/>
        </p:nvPicPr>
        <p:blipFill>
          <a:blip r:embed="rId10"/>
          <a:stretch/>
        </p:blipFill>
        <p:spPr>
          <a:xfrm>
            <a:off x="6000840" y="3000240"/>
            <a:ext cx="2324160" cy="1092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2786040" y="1071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认识顺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0" y="2571840"/>
            <a:ext cx="90010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4"/>
          <p:cNvSpPr/>
          <p:nvPr/>
        </p:nvSpPr>
        <p:spPr>
          <a:xfrm>
            <a:off x="500040" y="15001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们在数物体时，用来表示物体个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叫自然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28760" y="30718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然数可以用来表示物体的个数，也可以用来表示物体的顺序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28760" y="46432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然数都是整数。最小的自然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非零自然数的单位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自然数的个数是无限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3071880" y="571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认识顺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" descr="ds新知学习"/>
          <p:cNvPicPr/>
          <p:nvPr/>
        </p:nvPicPr>
        <p:blipFill>
          <a:blip r:embed="rId1"/>
          <a:stretch/>
        </p:blipFill>
        <p:spPr>
          <a:xfrm>
            <a:off x="500040" y="571680"/>
            <a:ext cx="1692360" cy="525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4"/>
          <p:cNvSpPr/>
          <p:nvPr/>
        </p:nvSpPr>
        <p:spPr>
          <a:xfrm>
            <a:off x="500040" y="11430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一说，下面的数中，哪些表示顺序？哪些表示个数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500040" y="257184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强强家的门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，聪聪家所在的小区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人家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500040" y="40719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同学排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，迪迪排在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" descr="ds新知学习"/>
          <p:cNvPicPr/>
          <p:nvPr/>
        </p:nvPicPr>
        <p:blipFill>
          <a:blip r:embed="rId1"/>
          <a:stretch/>
        </p:blipFill>
        <p:spPr>
          <a:xfrm>
            <a:off x="500040" y="571680"/>
            <a:ext cx="1692360" cy="525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714240" y="142884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强强家的门牌号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聪聪家所在的小区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人家。它们都是个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714240" y="32148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个数，排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顺序，迪迪排在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是顺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4"/>
          <p:cNvSpPr/>
          <p:nvPr/>
        </p:nvSpPr>
        <p:spPr>
          <a:xfrm>
            <a:off x="3571920" y="928800"/>
            <a:ext cx="2714760" cy="7858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归纳小结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圆角矩形 5"/>
          <p:cNvSpPr/>
          <p:nvPr/>
        </p:nvSpPr>
        <p:spPr>
          <a:xfrm>
            <a:off x="1500120" y="2286000"/>
            <a:ext cx="7000920" cy="3357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1857240" y="25002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然数是无限的，最小的自然是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没有最大的自然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49"/>
          <p:cNvSpPr/>
          <p:nvPr/>
        </p:nvSpPr>
        <p:spPr>
          <a:xfrm>
            <a:off x="285840" y="3000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面的连续五个自然数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49"/>
          <p:cNvSpPr/>
          <p:nvPr/>
        </p:nvSpPr>
        <p:spPr>
          <a:xfrm>
            <a:off x="1651680" y="1785960"/>
            <a:ext cx="58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把自然数从小到大排列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前面的一个数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面的一个数是（   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2" descr="ds知识应用"/>
          <p:cNvPicPr/>
          <p:nvPr/>
        </p:nvPicPr>
        <p:blipFill>
          <a:blip r:embed="rId1"/>
          <a:stretch/>
        </p:blipFill>
        <p:spPr>
          <a:xfrm>
            <a:off x="428760" y="8571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49"/>
          <p:cNvSpPr/>
          <p:nvPr/>
        </p:nvSpPr>
        <p:spPr>
          <a:xfrm>
            <a:off x="1181160" y="350028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49"/>
          <p:cNvSpPr/>
          <p:nvPr/>
        </p:nvSpPr>
        <p:spPr>
          <a:xfrm>
            <a:off x="718200" y="2214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49"/>
          <p:cNvSpPr/>
          <p:nvPr/>
        </p:nvSpPr>
        <p:spPr>
          <a:xfrm>
            <a:off x="5505480" y="22050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2428920" y="1071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第一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7:09:54Z</dcterms:created>
  <dc:creator/>
  <dc:description/>
  <cp:keywords/>
  <dc:language>en-US</dc:language>
  <cp:lastModifiedBy/>
  <dcterms:modified xsi:type="dcterms:W3CDTF">2017-12-21T14:03:26Z</dcterms:modified>
  <cp:revision>1</cp:revision>
  <dc:subject/>
  <dc:title/>
</cp:coreProperties>
</file>