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1A6-0320-4F15-8EA8-8F5131A5B5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4C5E-C0D0-4109-9347-C3727C7A87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F5BB-4ACA-4A8A-AD76-E69F932743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4B5-8382-49C5-91C8-387EDBE3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3D8-6743-4E58-9B1D-E9C87350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E27-0340-409F-AD1F-575B9548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294-308F-4AB2-BBA2-4055C4A1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E274-5CF2-41E0-86D7-EA153BB1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84B-ADCA-4270-8905-FC241BCC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5775-3B09-4C72-B318-F8E09E94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B3F8-5392-4BAD-BB93-DD140D87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4F63-E9AD-4ABF-BA04-B08AC7E9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AC5A-E29A-475B-BDAC-152E5CFE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30ED-DF60-4502-92E8-F83318FC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F64-E77F-4574-A5FB-D5B24A7F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C436-93D3-47A5-8AF8-7AF81A4E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A997-28A8-4750-889F-496BAF0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C65A-2BCC-4BED-AAC3-5CE6651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3979-F098-436E-80BD-438F33F5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64EC-87CC-4403-B14D-B1436D6C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B86-10B2-4F61-B972-DF1DE202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2E3-9B9C-4E81-8E01-263A8C46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4FC-20A9-4962-ACFD-BD5F12AD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84C-39ED-4C67-9EBF-CCF6EFA9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E67-60C6-4E23-A1AB-6CD74C5F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672-BB80-4E91-BDAC-65BD0499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6DA-F523-4111-A2DD-71EBBB9D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5B56-C01B-4CBA-ACDF-26411E32D0F6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08A7-8EFD-443D-90D3-86A47F22C7A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DB4D-BE21-4EF6-8F8A-081B31F8AC97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7F51-D429-4A24-B4A6-4C14973528C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3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整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8"/>
          <p:cNvSpPr/>
          <p:nvPr/>
        </p:nvSpPr>
        <p:spPr>
          <a:xfrm>
            <a:off x="1785960" y="5003640"/>
            <a:ext cx="3571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1357200" y="428760"/>
            <a:ext cx="6357960" cy="48315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÷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÷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÷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÷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÷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9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9÷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÷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÷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3000240" y="932040"/>
            <a:ext cx="1214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8"/>
          <p:cNvSpPr/>
          <p:nvPr/>
        </p:nvSpPr>
        <p:spPr>
          <a:xfrm>
            <a:off x="5857920" y="928800"/>
            <a:ext cx="1928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……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3071880" y="1574640"/>
            <a:ext cx="1214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8"/>
          <p:cNvSpPr/>
          <p:nvPr/>
        </p:nvSpPr>
        <p:spPr>
          <a:xfrm>
            <a:off x="5929200" y="1571760"/>
            <a:ext cx="1928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……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8"/>
          <p:cNvSpPr/>
          <p:nvPr/>
        </p:nvSpPr>
        <p:spPr>
          <a:xfrm>
            <a:off x="3071880" y="2217600"/>
            <a:ext cx="1214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5929200" y="2214720"/>
            <a:ext cx="1928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……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3071880" y="2789280"/>
            <a:ext cx="1214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5929200" y="2786040"/>
            <a:ext cx="1928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……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3143160" y="3432240"/>
            <a:ext cx="1214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6072120" y="3503520"/>
            <a:ext cx="1928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……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8"/>
          <p:cNvSpPr/>
          <p:nvPr/>
        </p:nvSpPr>
        <p:spPr>
          <a:xfrm>
            <a:off x="3143160" y="4146480"/>
            <a:ext cx="1214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6000840" y="4146480"/>
            <a:ext cx="1928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……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左大括号 113"/>
          <p:cNvSpPr/>
          <p:nvPr/>
        </p:nvSpPr>
        <p:spPr>
          <a:xfrm rot="16200000">
            <a:off x="2535840" y="3893040"/>
            <a:ext cx="357480" cy="2143080"/>
          </a:xfrm>
          <a:custGeom>
            <a:avLst/>
            <a:gdLst>
              <a:gd name="textAreaLeft" fmla="*/ 228600 w 357480"/>
              <a:gd name="textAreaRight" fmla="*/ 357840 w 357480"/>
              <a:gd name="textAreaTop" fmla="*/ 74160 h 2143080"/>
              <a:gd name="textAreaBottom" fmla="*/ 20689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7"/>
                  <a:pt x="10800" y="2394"/>
                </a:cubicBezTo>
                <a:lnTo>
                  <a:pt x="10800" y="8406"/>
                </a:lnTo>
                <a:cubicBezTo>
                  <a:pt x="10800" y="9603"/>
                  <a:pt x="5400" y="10800"/>
                  <a:pt x="0" y="10800"/>
                </a:cubicBezTo>
                <a:cubicBezTo>
                  <a:pt x="5400" y="10800"/>
                  <a:pt x="10800" y="11997"/>
                  <a:pt x="10800" y="13194"/>
                </a:cubicBezTo>
                <a:lnTo>
                  <a:pt x="10800" y="19206"/>
                </a:lnTo>
                <a:cubicBezTo>
                  <a:pt x="10800" y="20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8"/>
          <p:cNvSpPr/>
          <p:nvPr/>
        </p:nvSpPr>
        <p:spPr>
          <a:xfrm>
            <a:off x="2249640" y="5000760"/>
            <a:ext cx="15001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无余数除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左大括号 130"/>
          <p:cNvSpPr/>
          <p:nvPr/>
        </p:nvSpPr>
        <p:spPr>
          <a:xfrm rot="16200000">
            <a:off x="5929200" y="3571560"/>
            <a:ext cx="357480" cy="2786040"/>
          </a:xfrm>
          <a:custGeom>
            <a:avLst/>
            <a:gdLst>
              <a:gd name="textAreaLeft" fmla="*/ 228600 w 357480"/>
              <a:gd name="textAreaRight" fmla="*/ 357840 w 357480"/>
              <a:gd name="textAreaTop" fmla="*/ 74160 h 2786040"/>
              <a:gd name="textAreaBottom" fmla="*/ 27118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1"/>
                  <a:pt x="10800" y="1842"/>
                </a:cubicBezTo>
                <a:lnTo>
                  <a:pt x="10800" y="8958"/>
                </a:lnTo>
                <a:cubicBezTo>
                  <a:pt x="10800" y="9879"/>
                  <a:pt x="5400" y="10800"/>
                  <a:pt x="0" y="10800"/>
                </a:cubicBezTo>
                <a:cubicBezTo>
                  <a:pt x="5400" y="10800"/>
                  <a:pt x="10800" y="11721"/>
                  <a:pt x="10800" y="12642"/>
                </a:cubicBezTo>
                <a:lnTo>
                  <a:pt x="10800" y="19758"/>
                </a:lnTo>
                <a:cubicBezTo>
                  <a:pt x="10800" y="206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8"/>
          <p:cNvSpPr/>
          <p:nvPr/>
        </p:nvSpPr>
        <p:spPr>
          <a:xfrm>
            <a:off x="5429160" y="4976640"/>
            <a:ext cx="1500120" cy="1163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余数除不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8"/>
          <p:cNvSpPr/>
          <p:nvPr/>
        </p:nvSpPr>
        <p:spPr>
          <a:xfrm>
            <a:off x="1500120" y="4500720"/>
            <a:ext cx="6215040" cy="1687680"/>
          </a:xfrm>
          <a:prstGeom prst="roundRect">
            <a:avLst>
              <a:gd name="adj" fmla="val 3178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商是整数而没有余数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可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，也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3625920" y="928800"/>
            <a:ext cx="22320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8"/>
          <p:cNvSpPr/>
          <p:nvPr/>
        </p:nvSpPr>
        <p:spPr>
          <a:xfrm>
            <a:off x="1500120" y="4594320"/>
            <a:ext cx="6357960" cy="1687680"/>
          </a:xfrm>
          <a:prstGeom prst="roundRect">
            <a:avLst>
              <a:gd name="adj" fmla="val 3178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商是整数而有余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我们可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3214800" y="915840"/>
            <a:ext cx="29480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8"/>
          <p:cNvSpPr/>
          <p:nvPr/>
        </p:nvSpPr>
        <p:spPr>
          <a:xfrm>
            <a:off x="3714840" y="4071960"/>
            <a:ext cx="5000400" cy="1687680"/>
          </a:xfrm>
          <a:prstGeom prst="roundRect">
            <a:avLst>
              <a:gd name="adj" fmla="val 317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以整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所得的商是整数，余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就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2786040" cy="4373640"/>
          </a:xfrm>
          <a:prstGeom prst="rect">
            <a:avLst/>
          </a:prstGeom>
          <a:ln w="0">
            <a:noFill/>
          </a:ln>
        </p:spPr>
      </p:pic>
      <p:sp>
        <p:nvSpPr>
          <p:cNvPr id="564" name="TextBox 8"/>
          <p:cNvSpPr/>
          <p:nvPr/>
        </p:nvSpPr>
        <p:spPr>
          <a:xfrm>
            <a:off x="3857760" y="2071800"/>
            <a:ext cx="4787640" cy="639360"/>
          </a:xfrm>
          <a:prstGeom prst="roundRect">
            <a:avLst>
              <a:gd name="adj" fmla="val 3178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被除数和除数都是整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"/>
          <p:cNvSpPr/>
          <p:nvPr/>
        </p:nvSpPr>
        <p:spPr>
          <a:xfrm>
            <a:off x="3857760" y="2717640"/>
            <a:ext cx="4787640" cy="639360"/>
          </a:xfrm>
          <a:prstGeom prst="roundRect">
            <a:avLst>
              <a:gd name="adj" fmla="val 3178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商是整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3857760" y="3360600"/>
            <a:ext cx="4787640" cy="639360"/>
          </a:xfrm>
          <a:prstGeom prst="roundRect">
            <a:avLst>
              <a:gd name="adj" fmla="val 3178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商后没有余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714240" y="1071720"/>
            <a:ext cx="8143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个数能被第二个数整除需要满足什么条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14"/>
          <p:cNvSpPr/>
          <p:nvPr/>
        </p:nvSpPr>
        <p:spPr>
          <a:xfrm>
            <a:off x="785880" y="1000080"/>
            <a:ext cx="792936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÷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（   ）能被（   ）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14"/>
          <p:cNvGrpSpPr/>
          <p:nvPr/>
        </p:nvGrpSpPr>
        <p:grpSpPr>
          <a:xfrm>
            <a:off x="3786120" y="1120680"/>
            <a:ext cx="3000600" cy="1112760"/>
            <a:chOff x="3786120" y="1120680"/>
            <a:chExt cx="3000600" cy="1112760"/>
          </a:xfrm>
        </p:grpSpPr>
        <p:sp>
          <p:nvSpPr>
            <p:cNvPr id="570" name="TextBox 8"/>
            <p:cNvSpPr/>
            <p:nvPr/>
          </p:nvSpPr>
          <p:spPr>
            <a:xfrm>
              <a:off x="3786120" y="1120680"/>
              <a:ext cx="928800" cy="1112760"/>
            </a:xfrm>
            <a:custGeom>
              <a:avLst/>
              <a:gdLst>
                <a:gd name="textAreaLeft" fmla="*/ 86400 w 928800"/>
                <a:gd name="textAreaRight" fmla="*/ 842400 w 928800"/>
                <a:gd name="textAreaTop" fmla="*/ 86400 h 1112760"/>
                <a:gd name="textAreaBottom" fmla="*/ 1026360 h 1112760"/>
              </a:gdLst>
              <a:ahLst/>
              <a:rect l="textAreaLeft" t="textAreaTop" r="textAreaRight" b="textAreaBottom"/>
              <a:pathLst>
                <a:path w="21600" h="25876">
                  <a:moveTo>
                    <a:pt x="6866" y="0"/>
                  </a:moveTo>
                  <a:arcTo wR="6866" hR="6866" stAng="16200000" swAng="-5400000"/>
                  <a:lnTo>
                    <a:pt x="0" y="19010"/>
                  </a:lnTo>
                  <a:arcTo wR="6866" hR="6866" stAng="10800000" swAng="-5400000"/>
                  <a:lnTo>
                    <a:pt x="14734" y="25876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8"/>
            <p:cNvSpPr/>
            <p:nvPr/>
          </p:nvSpPr>
          <p:spPr>
            <a:xfrm>
              <a:off x="5857920" y="1123560"/>
              <a:ext cx="92880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Box 14"/>
          <p:cNvSpPr/>
          <p:nvPr/>
        </p:nvSpPr>
        <p:spPr>
          <a:xfrm>
            <a:off x="714240" y="1549440"/>
            <a:ext cx="792972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,9,4,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几个数中，选择两个说一说它们的整除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8"/>
          <p:cNvSpPr/>
          <p:nvPr/>
        </p:nvSpPr>
        <p:spPr>
          <a:xfrm>
            <a:off x="3286080" y="2857680"/>
            <a:ext cx="30006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8"/>
          <p:cNvSpPr/>
          <p:nvPr/>
        </p:nvSpPr>
        <p:spPr>
          <a:xfrm>
            <a:off x="3286080" y="3286080"/>
            <a:ext cx="30006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8"/>
          <p:cNvSpPr/>
          <p:nvPr/>
        </p:nvSpPr>
        <p:spPr>
          <a:xfrm>
            <a:off x="3286080" y="3714840"/>
            <a:ext cx="30006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3286080" y="4146480"/>
            <a:ext cx="30006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14"/>
          <p:cNvSpPr/>
          <p:nvPr/>
        </p:nvSpPr>
        <p:spPr>
          <a:xfrm>
            <a:off x="500040" y="716040"/>
            <a:ext cx="828684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被哪些数整除？你能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小正方形拼成的长方体来表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"/>
          <p:cNvSpPr/>
          <p:nvPr/>
        </p:nvSpPr>
        <p:spPr>
          <a:xfrm>
            <a:off x="2143080" y="2075040"/>
            <a:ext cx="4572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2635200" y="3643200"/>
          <a:ext cx="1079640" cy="1800360"/>
        </p:xfrm>
        <a:graphic>
          <a:graphicData uri="http://schemas.openxmlformats.org/drawingml/2006/table">
            <a:tbl>
              <a:tblPr/>
              <a:tblGrid>
                <a:gridCol w="360360"/>
                <a:gridCol w="358920"/>
                <a:gridCol w="360360"/>
              </a:tblGrid>
              <a:tr h="360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0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5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0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0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4500720" y="4214880"/>
          <a:ext cx="1836720" cy="109692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6840"/>
                <a:gridCol w="368280"/>
                <a:gridCol w="366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706400" y="2921040"/>
          <a:ext cx="5508720" cy="36504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840"/>
                <a:gridCol w="366480"/>
                <a:gridCol w="368640"/>
                <a:gridCol w="366480"/>
                <a:gridCol w="366840"/>
                <a:gridCol w="368280"/>
                <a:gridCol w="366480"/>
                <a:gridCol w="366840"/>
                <a:gridCol w="368280"/>
                <a:gridCol w="366840"/>
                <a:gridCol w="366480"/>
                <a:gridCol w="368640"/>
                <a:gridCol w="366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4"/>
          <p:cNvSpPr/>
          <p:nvPr/>
        </p:nvSpPr>
        <p:spPr>
          <a:xfrm>
            <a:off x="500040" y="700200"/>
            <a:ext cx="828684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看图说一说什么数能被什么数整除，什么数不能被什么数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8"/>
          <p:cNvSpPr/>
          <p:nvPr/>
        </p:nvSpPr>
        <p:spPr>
          <a:xfrm>
            <a:off x="4214880" y="2146320"/>
            <a:ext cx="32148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2286000" y="2357280"/>
          <a:ext cx="1836720" cy="73188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480"/>
                <a:gridCol w="368280"/>
                <a:gridCol w="366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2286000" y="3089160"/>
          <a:ext cx="1468440" cy="73188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480"/>
                <a:gridCol w="366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7440" y="4025880"/>
          <a:ext cx="1101960" cy="36504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2286000" y="4392720"/>
          <a:ext cx="1836720" cy="36504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480"/>
                <a:gridCol w="368280"/>
                <a:gridCol w="366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2286000" y="4749840"/>
          <a:ext cx="2203560" cy="36504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480"/>
                <a:gridCol w="366840"/>
                <a:gridCol w="368280"/>
                <a:gridCol w="366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89" name="TextBox 8"/>
          <p:cNvSpPr/>
          <p:nvPr/>
        </p:nvSpPr>
        <p:spPr>
          <a:xfrm>
            <a:off x="4214880" y="2643120"/>
            <a:ext cx="32148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8"/>
          <p:cNvSpPr/>
          <p:nvPr/>
        </p:nvSpPr>
        <p:spPr>
          <a:xfrm>
            <a:off x="4357800" y="4218120"/>
            <a:ext cx="32144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14"/>
          <p:cNvSpPr/>
          <p:nvPr/>
        </p:nvSpPr>
        <p:spPr>
          <a:xfrm>
            <a:off x="500040" y="700200"/>
            <a:ext cx="828684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看图说一说什么数能被什么数整除，什么数不能被什么数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8"/>
          <p:cNvSpPr/>
          <p:nvPr/>
        </p:nvSpPr>
        <p:spPr>
          <a:xfrm>
            <a:off x="4929120" y="2071800"/>
            <a:ext cx="32148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778200" y="3137040"/>
          <a:ext cx="1079640" cy="2193840"/>
        </p:xfrm>
        <a:graphic>
          <a:graphicData uri="http://schemas.openxmlformats.org/drawingml/2006/table">
            <a:tbl>
              <a:tblPr/>
              <a:tblGrid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2295360" y="2422440"/>
          <a:ext cx="2570400" cy="36504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840"/>
                <a:gridCol w="366480"/>
                <a:gridCol w="366840"/>
                <a:gridCol w="368280"/>
                <a:gridCol w="366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595" name="TextBox 8"/>
          <p:cNvSpPr/>
          <p:nvPr/>
        </p:nvSpPr>
        <p:spPr>
          <a:xfrm>
            <a:off x="4929120" y="2496960"/>
            <a:ext cx="26431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4857840" y="3637080"/>
            <a:ext cx="26431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8"/>
          <p:cNvSpPr/>
          <p:nvPr/>
        </p:nvSpPr>
        <p:spPr>
          <a:xfrm>
            <a:off x="4857840" y="4068720"/>
            <a:ext cx="26431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29:45Z</dcterms:modified>
  <cp:revision>1</cp:revision>
  <dc:subject/>
  <dc:title/>
</cp:coreProperties>
</file>