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69D6-51E4-4773-B337-D668BFEB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3935-069C-4BC7-8289-1899FBF009CB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955C-A5CE-44A5-AA30-6B4DEE7C96A1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012-82FC-40A7-94EB-F95F64276373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9189-78EC-45B2-BD35-921A10FEF74D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1935-A22B-4D41-80BC-5A23B91E000D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288C-9C96-44E5-A7B3-6A84CFC05BA6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133D-2283-4F4E-A6C4-675CF2540384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056F-8797-47B3-84E6-7A76D9FB640F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B0A3-184E-4B13-A7D8-35923F3A9E60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1964-9D20-40CB-8D4E-33700AF41FDB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BEAD-794D-496F-A9D3-FC7A806F9760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FE5-0FF9-4A74-8E2A-9E29AA27E04C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D441-65E5-407C-993C-5EAE5A37996A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5296-6316-4F13-8FCE-3F34CFE0E6A4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3B2D-787D-40AE-AF7B-8E295A27AB74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A927-8339-486E-9854-0B32C4F8AC53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68E2-B1E5-4C05-B177-0415D629F36E}" type="slidenum">
              <a:rPr b="0" lang="en-US" sz="12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6EB-9AE0-4FAB-B503-8D23DAFC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D15-2E71-4DDD-BAB2-50C133E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D67-2973-4665-A1DD-CB9C6EBA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30B-C582-4560-9A72-70856FFA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481-8A91-42CC-A1E9-ED787B40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19D-0C49-4F88-A15D-E77FA82F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29B-46D5-4893-9D84-EC6D8ADE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BE0-6519-4830-A42C-19B1174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712-2849-4211-9D04-7287CF90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A19-DD8F-4EDA-8761-08BCBD6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D81-76AA-4935-8D5B-41B8728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02C-8535-4CD5-9D3C-27E7431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ec2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9728-9F46-4A7E-B950-C9E6A004217B}" type="slidenum">
              <a:rPr b="0" lang="en-US" sz="1400" spc="-1" strike="noStrike">
                <a:solidFill>
                  <a:srgbClr val="002ec2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714240" y="7858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2ec2"/>
                </a:solidFill>
                <a:latin typeface="宋体"/>
              </a:rPr>
              <a:t>浙教版课标 四年级数学下册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071800" y="300024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整   除</a:t>
            </a:r>
            <a:endParaRPr b="1" lang="en-US" sz="6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78"/>
          <p:cNvSpPr/>
          <p:nvPr/>
        </p:nvSpPr>
        <p:spPr>
          <a:xfrm>
            <a:off x="1902600" y="1785960"/>
            <a:ext cx="54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Text Box 378"/>
          <p:cNvSpPr/>
          <p:nvPr/>
        </p:nvSpPr>
        <p:spPr>
          <a:xfrm>
            <a:off x="2718000" y="2928960"/>
            <a:ext cx="398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几个数中，选择两个说一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它们的整除关系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8" name="Text Box 378"/>
          <p:cNvSpPr/>
          <p:nvPr/>
        </p:nvSpPr>
        <p:spPr>
          <a:xfrm>
            <a:off x="3863160" y="17859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</a:rPr>
              <a:t>240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9" name="Text Box 378"/>
          <p:cNvSpPr/>
          <p:nvPr/>
        </p:nvSpPr>
        <p:spPr>
          <a:xfrm>
            <a:off x="6219720" y="17859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</a:rPr>
              <a:t>40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0" name="Text Box 378"/>
          <p:cNvSpPr/>
          <p:nvPr/>
        </p:nvSpPr>
        <p:spPr>
          <a:xfrm>
            <a:off x="1473480" y="464328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36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能被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9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1" name="Text Box 378"/>
          <p:cNvSpPr/>
          <p:nvPr/>
        </p:nvSpPr>
        <p:spPr>
          <a:xfrm>
            <a:off x="4473720" y="464328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36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能被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2" name="Text Box 378"/>
          <p:cNvSpPr/>
          <p:nvPr/>
        </p:nvSpPr>
        <p:spPr>
          <a:xfrm>
            <a:off x="4545360" y="550080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12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能被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3" name="Text Box 378"/>
          <p:cNvSpPr/>
          <p:nvPr/>
        </p:nvSpPr>
        <p:spPr>
          <a:xfrm>
            <a:off x="1402200" y="5429160"/>
            <a:ext cx="19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36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能被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12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78"/>
          <p:cNvSpPr/>
          <p:nvPr/>
        </p:nvSpPr>
        <p:spPr>
          <a:xfrm>
            <a:off x="1546560" y="1357200"/>
            <a:ext cx="575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被哪些数整除？你能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小正方形拼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的长方形来表示吗？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5" name="Picture 2" descr="ds知识应用"/>
          <p:cNvPicPr/>
          <p:nvPr/>
        </p:nvPicPr>
        <p:blipFill>
          <a:blip r:embed="rId1"/>
          <a:stretch/>
        </p:blipFill>
        <p:spPr>
          <a:xfrm>
            <a:off x="500040" y="8571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78"/>
          <p:cNvSpPr/>
          <p:nvPr/>
        </p:nvSpPr>
        <p:spPr>
          <a:xfrm>
            <a:off x="966960" y="5357880"/>
            <a:ext cx="42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15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能被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15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85880" y="2571840"/>
          <a:ext cx="1643040" cy="1112760"/>
        </p:xfrm>
        <a:graphic>
          <a:graphicData uri="http://schemas.openxmlformats.org/drawingml/2006/table">
            <a:tbl>
              <a:tblPr/>
              <a:tblGrid>
                <a:gridCol w="328680"/>
                <a:gridCol w="328320"/>
                <a:gridCol w="328680"/>
                <a:gridCol w="328680"/>
                <a:gridCol w="328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643120" y="2714760"/>
          <a:ext cx="4786560" cy="365040"/>
        </p:xfrm>
        <a:graphic>
          <a:graphicData uri="http://schemas.openxmlformats.org/drawingml/2006/table">
            <a:tbl>
              <a:tblPr/>
              <a:tblGrid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476"/>
          <p:cNvSpPr/>
          <p:nvPr/>
        </p:nvSpPr>
        <p:spPr>
          <a:xfrm>
            <a:off x="3790800" y="3890880"/>
            <a:ext cx="19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5 ÷1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0" name="Text Box 477"/>
          <p:cNvSpPr/>
          <p:nvPr/>
        </p:nvSpPr>
        <p:spPr>
          <a:xfrm>
            <a:off x="3785760" y="45720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5×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1" name="Text Box 478"/>
          <p:cNvSpPr/>
          <p:nvPr/>
        </p:nvSpPr>
        <p:spPr>
          <a:xfrm>
            <a:off x="789840" y="39290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5 ÷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2" name="Text Box 479"/>
          <p:cNvSpPr/>
          <p:nvPr/>
        </p:nvSpPr>
        <p:spPr>
          <a:xfrm>
            <a:off x="784800" y="464328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5×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78"/>
          <p:cNvSpPr/>
          <p:nvPr/>
        </p:nvSpPr>
        <p:spPr>
          <a:xfrm>
            <a:off x="4138560" y="1571760"/>
            <a:ext cx="10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看图说一说什么数能被什么数整除，什么数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能被什么数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5" name="Text Box 378"/>
          <p:cNvSpPr/>
          <p:nvPr/>
        </p:nvSpPr>
        <p:spPr>
          <a:xfrm>
            <a:off x="1319040" y="5357880"/>
            <a:ext cx="22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6" name="Text Box 378"/>
          <p:cNvSpPr/>
          <p:nvPr/>
        </p:nvSpPr>
        <p:spPr>
          <a:xfrm>
            <a:off x="4643280" y="52862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7" name="Text Box 378"/>
          <p:cNvSpPr/>
          <p:nvPr/>
        </p:nvSpPr>
        <p:spPr>
          <a:xfrm>
            <a:off x="785880" y="58579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能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8" name="Text Box 378"/>
          <p:cNvSpPr/>
          <p:nvPr/>
        </p:nvSpPr>
        <p:spPr>
          <a:xfrm>
            <a:off x="4643280" y="58579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能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除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71680" y="2786040"/>
          <a:ext cx="2786040" cy="371520"/>
        </p:xfrm>
        <a:graphic>
          <a:graphicData uri="http://schemas.openxmlformats.org/drawingml/2006/table">
            <a:tbl>
              <a:tblPr/>
              <a:tblGrid>
                <a:gridCol w="347400"/>
                <a:gridCol w="349200"/>
                <a:gridCol w="347760"/>
                <a:gridCol w="349200"/>
                <a:gridCol w="347760"/>
                <a:gridCol w="347760"/>
                <a:gridCol w="349200"/>
                <a:gridCol w="3477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00040" y="3571920"/>
          <a:ext cx="1044720" cy="371520"/>
        </p:xfrm>
        <a:graphic>
          <a:graphicData uri="http://schemas.openxmlformats.org/drawingml/2006/table">
            <a:tbl>
              <a:tblPr/>
              <a:tblGrid>
                <a:gridCol w="347760"/>
                <a:gridCol w="349200"/>
                <a:gridCol w="3477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00040" y="3929040"/>
          <a:ext cx="1741680" cy="371520"/>
        </p:xfrm>
        <a:graphic>
          <a:graphicData uri="http://schemas.openxmlformats.org/drawingml/2006/table">
            <a:tbl>
              <a:tblPr/>
              <a:tblGrid>
                <a:gridCol w="347760"/>
                <a:gridCol w="349200"/>
                <a:gridCol w="347760"/>
                <a:gridCol w="349200"/>
                <a:gridCol w="3477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00040" y="4286160"/>
          <a:ext cx="2089080" cy="371520"/>
        </p:xfrm>
        <a:graphic>
          <a:graphicData uri="http://schemas.openxmlformats.org/drawingml/2006/table">
            <a:tbl>
              <a:tblPr/>
              <a:tblGrid>
                <a:gridCol w="347760"/>
                <a:gridCol w="349200"/>
                <a:gridCol w="347760"/>
                <a:gridCol w="347400"/>
                <a:gridCol w="349560"/>
                <a:gridCol w="347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43280" y="2571840"/>
          <a:ext cx="1357560" cy="222552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5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715080" y="2643120"/>
          <a:ext cx="1619280" cy="741600"/>
        </p:xfrm>
        <a:graphic>
          <a:graphicData uri="http://schemas.openxmlformats.org/drawingml/2006/table">
            <a:tbl>
              <a:tblPr/>
              <a:tblGrid>
                <a:gridCol w="324000"/>
                <a:gridCol w="323640"/>
                <a:gridCol w="324000"/>
                <a:gridCol w="323640"/>
                <a:gridCol w="324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715080" y="3402000"/>
          <a:ext cx="1295280" cy="741240"/>
        </p:xfrm>
        <a:graphic>
          <a:graphicData uri="http://schemas.openxmlformats.org/drawingml/2006/table">
            <a:tbl>
              <a:tblPr/>
              <a:tblGrid>
                <a:gridCol w="324000"/>
                <a:gridCol w="323640"/>
                <a:gridCol w="324000"/>
                <a:gridCol w="323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s知识应用"/>
          <p:cNvPicPr/>
          <p:nvPr/>
        </p:nvPicPr>
        <p:blipFill>
          <a:blip r:embed="rId1"/>
          <a:stretch/>
        </p:blipFill>
        <p:spPr>
          <a:xfrm>
            <a:off x="712800" y="790560"/>
            <a:ext cx="2573280" cy="73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8"/>
          <p:cNvSpPr/>
          <p:nvPr/>
        </p:nvSpPr>
        <p:spPr>
          <a:xfrm>
            <a:off x="3872880" y="185904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判断：下面的说法对吗？说明理由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8" name="Text Box 379"/>
          <p:cNvSpPr/>
          <p:nvPr/>
        </p:nvSpPr>
        <p:spPr>
          <a:xfrm>
            <a:off x="858960" y="2786040"/>
            <a:ext cx="6567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因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÷ 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余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任何自然数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9" name="Text Box 380"/>
          <p:cNvSpPr/>
          <p:nvPr/>
        </p:nvSpPr>
        <p:spPr>
          <a:xfrm>
            <a:off x="8332200" y="3429000"/>
            <a:ext cx="6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√ 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0" name="Text Box 381"/>
          <p:cNvSpPr/>
          <p:nvPr/>
        </p:nvSpPr>
        <p:spPr>
          <a:xfrm>
            <a:off x="8183520" y="27860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×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1" name="Text Box 382"/>
          <p:cNvSpPr/>
          <p:nvPr/>
        </p:nvSpPr>
        <p:spPr>
          <a:xfrm>
            <a:off x="8215200" y="40719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√ 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知识应用"/>
          <p:cNvPicPr/>
          <p:nvPr/>
        </p:nvPicPr>
        <p:blipFill>
          <a:blip r:embed="rId1"/>
          <a:stretch/>
        </p:blipFill>
        <p:spPr>
          <a:xfrm>
            <a:off x="712800" y="728640"/>
            <a:ext cx="2787480" cy="79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78"/>
          <p:cNvSpPr/>
          <p:nvPr/>
        </p:nvSpPr>
        <p:spPr>
          <a:xfrm>
            <a:off x="1686240" y="1785960"/>
            <a:ext cx="34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能被哪些数整除？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4" name="Text Box 378"/>
          <p:cNvSpPr/>
          <p:nvPr/>
        </p:nvSpPr>
        <p:spPr>
          <a:xfrm>
            <a:off x="1769760" y="28576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被哪些数整除：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5" name="Text Box 378"/>
          <p:cNvSpPr/>
          <p:nvPr/>
        </p:nvSpPr>
        <p:spPr>
          <a:xfrm>
            <a:off x="1769760" y="46432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被那些数整除：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6" name="Text Box 378"/>
          <p:cNvSpPr/>
          <p:nvPr/>
        </p:nvSpPr>
        <p:spPr>
          <a:xfrm>
            <a:off x="5072040" y="36432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Text Box 378"/>
          <p:cNvSpPr/>
          <p:nvPr/>
        </p:nvSpPr>
        <p:spPr>
          <a:xfrm>
            <a:off x="128592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Text Box 378"/>
          <p:cNvSpPr/>
          <p:nvPr/>
        </p:nvSpPr>
        <p:spPr>
          <a:xfrm>
            <a:off x="242892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9" name="Text Box 378"/>
          <p:cNvSpPr/>
          <p:nvPr/>
        </p:nvSpPr>
        <p:spPr>
          <a:xfrm>
            <a:off x="292896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0" name="Text Box 378"/>
          <p:cNvSpPr/>
          <p:nvPr/>
        </p:nvSpPr>
        <p:spPr>
          <a:xfrm>
            <a:off x="342900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Text Box 378"/>
          <p:cNvSpPr/>
          <p:nvPr/>
        </p:nvSpPr>
        <p:spPr>
          <a:xfrm>
            <a:off x="392904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Text Box 378"/>
          <p:cNvSpPr/>
          <p:nvPr/>
        </p:nvSpPr>
        <p:spPr>
          <a:xfrm>
            <a:off x="185724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3" name="Text Box 378"/>
          <p:cNvSpPr/>
          <p:nvPr/>
        </p:nvSpPr>
        <p:spPr>
          <a:xfrm>
            <a:off x="435780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4" name="Text Box 378"/>
          <p:cNvSpPr/>
          <p:nvPr/>
        </p:nvSpPr>
        <p:spPr>
          <a:xfrm>
            <a:off x="2071800" y="5429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Text Box 378"/>
          <p:cNvSpPr/>
          <p:nvPr/>
        </p:nvSpPr>
        <p:spPr>
          <a:xfrm>
            <a:off x="3214800" y="5429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Text Box 378"/>
          <p:cNvSpPr/>
          <p:nvPr/>
        </p:nvSpPr>
        <p:spPr>
          <a:xfrm>
            <a:off x="3714840" y="5429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7" name="Text Box 378"/>
          <p:cNvSpPr/>
          <p:nvPr/>
        </p:nvSpPr>
        <p:spPr>
          <a:xfrm>
            <a:off x="2571840" y="5429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144"/>
          <p:cNvGrpSpPr/>
          <p:nvPr/>
        </p:nvGrpSpPr>
        <p:grpSpPr>
          <a:xfrm>
            <a:off x="401760" y="3657600"/>
            <a:ext cx="2493720" cy="2971800"/>
            <a:chOff x="401760" y="3657600"/>
            <a:chExt cx="2493720" cy="2971800"/>
          </a:xfrm>
        </p:grpSpPr>
        <p:pic>
          <p:nvPicPr>
            <p:cNvPr id="160" name="Picture 140" descr="slide0005_image033"/>
            <p:cNvPicPr/>
            <p:nvPr/>
          </p:nvPicPr>
          <p:blipFill>
            <a:blip r:embed="rId2"/>
            <a:stretch/>
          </p:blipFill>
          <p:spPr>
            <a:xfrm>
              <a:off x="401760" y="3657600"/>
              <a:ext cx="24937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43"/>
            <p:cNvSpPr/>
            <p:nvPr/>
          </p:nvSpPr>
          <p:spPr>
            <a:xfrm>
              <a:off x="1227960" y="4205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楷体_GB2312"/>
                </a:rPr>
                <a:t>思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62" name="Text Box 150"/>
          <p:cNvSpPr/>
          <p:nvPr/>
        </p:nvSpPr>
        <p:spPr>
          <a:xfrm>
            <a:off x="3201120" y="1785960"/>
            <a:ext cx="306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能被一个数整除，同时又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倍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数。这个数可以是多少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Text Box 378"/>
          <p:cNvSpPr/>
          <p:nvPr/>
        </p:nvSpPr>
        <p:spPr>
          <a:xfrm>
            <a:off x="557208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4" name="Text Box 378"/>
          <p:cNvSpPr/>
          <p:nvPr/>
        </p:nvSpPr>
        <p:spPr>
          <a:xfrm>
            <a:off x="671508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21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5" name="Text Box 378"/>
          <p:cNvSpPr/>
          <p:nvPr/>
        </p:nvSpPr>
        <p:spPr>
          <a:xfrm>
            <a:off x="750096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42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6" name="Text Box 378"/>
          <p:cNvSpPr/>
          <p:nvPr/>
        </p:nvSpPr>
        <p:spPr>
          <a:xfrm>
            <a:off x="6143760" y="3643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黑体"/>
              </a:rPr>
              <a:t>、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7" name="Text Box 378"/>
          <p:cNvSpPr/>
          <p:nvPr/>
        </p:nvSpPr>
        <p:spPr>
          <a:xfrm>
            <a:off x="2967480" y="3643200"/>
            <a:ext cx="21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宋体"/>
              </a:rPr>
              <a:t>答</a:t>
            </a:r>
            <a:r>
              <a:rPr b="1" lang="en-US" sz="3200" spc="-1" strike="noStrike">
                <a:solidFill>
                  <a:srgbClr val="002ec2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2ec2"/>
                </a:solidFill>
                <a:latin typeface="宋体"/>
              </a:rPr>
              <a:t>这个数可以有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4"/>
          <p:cNvSpPr/>
          <p:nvPr/>
        </p:nvSpPr>
        <p:spPr>
          <a:xfrm>
            <a:off x="3786120" y="1000080"/>
            <a:ext cx="150012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堂小结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1500120" y="1714680"/>
            <a:ext cx="6215040" cy="35859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1643040" y="2786040"/>
            <a:ext cx="59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整数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除以整数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  <a:ea typeface="Times New Roman"/>
              </a:rPr>
              <a:t>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0)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，所得的商是整除，余数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，就说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能被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在小学里讲数的整除时，所说的数一般指非零自然数。非零自然数叫正整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429000" y="20718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整除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44"/>
          <p:cNvGrpSpPr/>
          <p:nvPr/>
        </p:nvGrpSpPr>
        <p:grpSpPr>
          <a:xfrm>
            <a:off x="285840" y="4214880"/>
            <a:ext cx="2038320" cy="2271600"/>
            <a:chOff x="285840" y="4214880"/>
            <a:chExt cx="2038320" cy="2271600"/>
          </a:xfrm>
        </p:grpSpPr>
        <p:pic>
          <p:nvPicPr>
            <p:cNvPr id="173" name="Picture 140" descr="slide0005_image033"/>
            <p:cNvPicPr/>
            <p:nvPr/>
          </p:nvPicPr>
          <p:blipFill>
            <a:blip r:embed="rId1"/>
            <a:stretch/>
          </p:blipFill>
          <p:spPr>
            <a:xfrm>
              <a:off x="285840" y="4214880"/>
              <a:ext cx="203832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43"/>
            <p:cNvSpPr/>
            <p:nvPr/>
          </p:nvSpPr>
          <p:spPr>
            <a:xfrm>
              <a:off x="928440" y="463320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思考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75" name="Text Box 150"/>
          <p:cNvSpPr/>
          <p:nvPr/>
        </p:nvSpPr>
        <p:spPr>
          <a:xfrm>
            <a:off x="3119400" y="1357200"/>
            <a:ext cx="3267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面补上三个数组成一个六位数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这个六位数能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6" name="Text Box 378"/>
          <p:cNvSpPr/>
          <p:nvPr/>
        </p:nvSpPr>
        <p:spPr>
          <a:xfrm>
            <a:off x="500040" y="2714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4510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Times New Roman"/>
              </a:rPr>
              <a:t>÷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8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7" name="Text Box 378"/>
          <p:cNvSpPr/>
          <p:nvPr/>
        </p:nvSpPr>
        <p:spPr>
          <a:xfrm>
            <a:off x="3714840" y="31431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57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7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i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Times New Roman"/>
              </a:rPr>
              <a:t>÷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8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8" name="Text Box 378"/>
          <p:cNvSpPr/>
          <p:nvPr/>
        </p:nvSpPr>
        <p:spPr>
          <a:xfrm>
            <a:off x="2500200" y="3571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7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Times New Roman"/>
              </a:rPr>
              <a:t>÷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8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9" name="Text Box 378"/>
          <p:cNvSpPr/>
          <p:nvPr/>
        </p:nvSpPr>
        <p:spPr>
          <a:xfrm>
            <a:off x="4357800" y="27147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575×78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7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Times New Roman"/>
              </a:rPr>
              <a:t>÷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8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0" name="Text Box 378"/>
          <p:cNvSpPr/>
          <p:nvPr/>
        </p:nvSpPr>
        <p:spPr>
          <a:xfrm>
            <a:off x="500040" y="22147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解：设补的三位数为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。则六位数表示为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451000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81" name="Picture 4" descr="C:\Users\Administrator\AppData\Roaming\Tencent\Users\1433793736\QQ\WinTemp\RichOle\`ELDPG3T}K]@ZP7T%2L$Q4D.png"/>
          <p:cNvPicPr/>
          <p:nvPr/>
        </p:nvPicPr>
        <p:blipFill>
          <a:blip r:embed="rId2"/>
          <a:stretch/>
        </p:blipFill>
        <p:spPr>
          <a:xfrm>
            <a:off x="785880" y="928800"/>
            <a:ext cx="1933560" cy="466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78"/>
          <p:cNvSpPr/>
          <p:nvPr/>
        </p:nvSpPr>
        <p:spPr>
          <a:xfrm>
            <a:off x="2500200" y="478620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7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Times New Roman"/>
              </a:rPr>
              <a:t>÷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8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3" name="Text Box 378"/>
          <p:cNvSpPr/>
          <p:nvPr/>
        </p:nvSpPr>
        <p:spPr>
          <a:xfrm>
            <a:off x="3643200" y="39290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7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8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4" name="Text Box 378"/>
          <p:cNvSpPr/>
          <p:nvPr/>
        </p:nvSpPr>
        <p:spPr>
          <a:xfrm>
            <a:off x="4572000" y="43578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8   (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显然不符合题意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5" name="Text Box 378"/>
          <p:cNvSpPr/>
          <p:nvPr/>
        </p:nvSpPr>
        <p:spPr>
          <a:xfrm>
            <a:off x="4572000" y="51436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9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6" name="Text Box 378"/>
          <p:cNvSpPr/>
          <p:nvPr/>
        </p:nvSpPr>
        <p:spPr>
          <a:xfrm>
            <a:off x="3643200" y="557208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这个三位数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9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7" name="Text Box 378"/>
          <p:cNvSpPr/>
          <p:nvPr/>
        </p:nvSpPr>
        <p:spPr>
          <a:xfrm>
            <a:off x="2786040" y="60008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即：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451791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  <a:ea typeface="Times New Roman"/>
              </a:rPr>
              <a:t>÷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78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577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s情境创设"/>
          <p:cNvPicPr/>
          <p:nvPr/>
        </p:nvPicPr>
        <p:blipFill>
          <a:blip r:embed="rId1"/>
          <a:stretch/>
        </p:blipFill>
        <p:spPr>
          <a:xfrm>
            <a:off x="714240" y="928800"/>
            <a:ext cx="2405160" cy="728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9"/>
          <p:cNvSpPr/>
          <p:nvPr/>
        </p:nvSpPr>
        <p:spPr>
          <a:xfrm>
            <a:off x="2299680" y="4786200"/>
            <a:ext cx="46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用来表示物体个数的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等等，叫做自然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" name="Text Box 149"/>
          <p:cNvSpPr/>
          <p:nvPr/>
        </p:nvSpPr>
        <p:spPr>
          <a:xfrm>
            <a:off x="3424680" y="25002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数、小数、分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" name="Text Box 149"/>
          <p:cNvSpPr/>
          <p:nvPr/>
        </p:nvSpPr>
        <p:spPr>
          <a:xfrm>
            <a:off x="3151800" y="3571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自然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49"/>
          <p:cNvSpPr/>
          <p:nvPr/>
        </p:nvSpPr>
        <p:spPr>
          <a:xfrm>
            <a:off x="3810960" y="928800"/>
            <a:ext cx="404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方格里涂颜色，要求每种颜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色方格的个数相同，有哪些涂法吗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5" name="Picture 2" descr="ds新知学习"/>
          <p:cNvPicPr/>
          <p:nvPr/>
        </p:nvPicPr>
        <p:blipFill>
          <a:blip r:embed="rId1"/>
          <a:stretch/>
        </p:blipFill>
        <p:spPr>
          <a:xfrm>
            <a:off x="214200" y="928800"/>
            <a:ext cx="2530440" cy="785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9"/>
          <p:cNvSpPr/>
          <p:nvPr/>
        </p:nvSpPr>
        <p:spPr>
          <a:xfrm>
            <a:off x="468720" y="4786200"/>
            <a:ext cx="15613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÷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2040" y="2071800"/>
          <a:ext cx="1803600" cy="259056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84360" y="2071800"/>
          <a:ext cx="5975280" cy="3017880"/>
        </p:xfrm>
        <a:graphic>
          <a:graphicData uri="http://schemas.openxmlformats.org/drawingml/2006/table">
            <a:tbl>
              <a:tblPr/>
              <a:tblGrid>
                <a:gridCol w="1992240"/>
                <a:gridCol w="1990800"/>
                <a:gridCol w="19922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一种颜色方格的个数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颜色种数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未涂颜色方格的个数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50"/>
          <p:cNvSpPr/>
          <p:nvPr/>
        </p:nvSpPr>
        <p:spPr>
          <a:xfrm>
            <a:off x="285840" y="5357880"/>
            <a:ext cx="76438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商是整数而没有余数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余数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），我们可以说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能被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整除，也能被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0" name="Text Box 151"/>
          <p:cNvSpPr/>
          <p:nvPr/>
        </p:nvSpPr>
        <p:spPr>
          <a:xfrm>
            <a:off x="5720040" y="4786200"/>
            <a:ext cx="15613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÷ 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49"/>
          <p:cNvSpPr/>
          <p:nvPr/>
        </p:nvSpPr>
        <p:spPr>
          <a:xfrm>
            <a:off x="3805200" y="928800"/>
            <a:ext cx="40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方格里涂颜色，要求每种颜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色方格的个数相同，有哪些涂法吗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2" name="Picture 2" descr="ds新知学习"/>
          <p:cNvPicPr/>
          <p:nvPr/>
        </p:nvPicPr>
        <p:blipFill>
          <a:blip r:embed="rId1"/>
          <a:stretch/>
        </p:blipFill>
        <p:spPr>
          <a:xfrm>
            <a:off x="214200" y="928800"/>
            <a:ext cx="2530440" cy="785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9"/>
          <p:cNvSpPr/>
          <p:nvPr/>
        </p:nvSpPr>
        <p:spPr>
          <a:xfrm>
            <a:off x="311760" y="4786200"/>
            <a:ext cx="23461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÷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2071800"/>
          <a:ext cx="1803240" cy="2590560"/>
        </p:xfrm>
        <a:graphic>
          <a:graphicData uri="http://schemas.openxmlformats.org/drawingml/2006/table">
            <a:tbl>
              <a:tblPr/>
              <a:tblGrid>
                <a:gridCol w="901440"/>
                <a:gridCol w="90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1368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ec2"/>
                      </a:solidFill>
                    </a:lnL>
                    <a:lnR w="1368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1368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484360" y="1916280"/>
          <a:ext cx="6264360" cy="301752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同一种颜色方格的个数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颜色种数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未涂颜色方格的个数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ec2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150"/>
          <p:cNvSpPr/>
          <p:nvPr/>
        </p:nvSpPr>
        <p:spPr>
          <a:xfrm>
            <a:off x="714240" y="5715000"/>
            <a:ext cx="76438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商是整数而有余数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余数不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，我们可以说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不能被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整除，也能被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7" name="Text Box 151"/>
          <p:cNvSpPr/>
          <p:nvPr/>
        </p:nvSpPr>
        <p:spPr>
          <a:xfrm>
            <a:off x="5776200" y="5065560"/>
            <a:ext cx="23461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÷ 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49"/>
          <p:cNvSpPr/>
          <p:nvPr/>
        </p:nvSpPr>
        <p:spPr>
          <a:xfrm>
            <a:off x="3661920" y="1000080"/>
            <a:ext cx="24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被哪些数整除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9" name="Picture 2" descr="ds新知学习"/>
          <p:cNvPicPr/>
          <p:nvPr/>
        </p:nvPicPr>
        <p:blipFill>
          <a:blip r:embed="rId1"/>
          <a:stretch/>
        </p:blipFill>
        <p:spPr>
          <a:xfrm>
            <a:off x="428760" y="928800"/>
            <a:ext cx="2357280" cy="731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0"/>
          <p:cNvSpPr/>
          <p:nvPr/>
        </p:nvSpPr>
        <p:spPr>
          <a:xfrm>
            <a:off x="2361960" y="2786040"/>
            <a:ext cx="13831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 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1" name="Text Box 156"/>
          <p:cNvSpPr/>
          <p:nvPr/>
        </p:nvSpPr>
        <p:spPr>
          <a:xfrm>
            <a:off x="2217960" y="5500800"/>
            <a:ext cx="129456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4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2" name="Text Box 151"/>
          <p:cNvSpPr/>
          <p:nvPr/>
        </p:nvSpPr>
        <p:spPr>
          <a:xfrm>
            <a:off x="4501080" y="2786040"/>
            <a:ext cx="13906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× 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3" name="Text Box 160"/>
          <p:cNvSpPr/>
          <p:nvPr/>
        </p:nvSpPr>
        <p:spPr>
          <a:xfrm>
            <a:off x="4428720" y="5500800"/>
            <a:ext cx="130248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×4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071800" y="1857240"/>
          <a:ext cx="4214880" cy="371520"/>
        </p:xfrm>
        <a:graphic>
          <a:graphicData uri="http://schemas.openxmlformats.org/drawingml/2006/table">
            <a:tbl>
              <a:tblPr/>
              <a:tblGrid>
                <a:gridCol w="527040"/>
                <a:gridCol w="527040"/>
                <a:gridCol w="527040"/>
                <a:gridCol w="527040"/>
                <a:gridCol w="525240"/>
                <a:gridCol w="527040"/>
                <a:gridCol w="527040"/>
                <a:gridCol w="527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71880" y="4071960"/>
          <a:ext cx="2071800" cy="74124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7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49"/>
          <p:cNvSpPr/>
          <p:nvPr/>
        </p:nvSpPr>
        <p:spPr>
          <a:xfrm>
            <a:off x="3661920" y="1000080"/>
            <a:ext cx="24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被哪些数整除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7" name="Picture 2" descr="ds新知学习"/>
          <p:cNvPicPr/>
          <p:nvPr/>
        </p:nvPicPr>
        <p:blipFill>
          <a:blip r:embed="rId1"/>
          <a:stretch/>
        </p:blipFill>
        <p:spPr>
          <a:xfrm>
            <a:off x="428760" y="928800"/>
            <a:ext cx="2357280" cy="731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4"/>
          <p:cNvSpPr/>
          <p:nvPr/>
        </p:nvSpPr>
        <p:spPr>
          <a:xfrm>
            <a:off x="703440" y="4286160"/>
            <a:ext cx="21679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 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9" name="Text Box 157"/>
          <p:cNvSpPr/>
          <p:nvPr/>
        </p:nvSpPr>
        <p:spPr>
          <a:xfrm>
            <a:off x="631440" y="5214960"/>
            <a:ext cx="1864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×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0" name="Text Box 159"/>
          <p:cNvSpPr/>
          <p:nvPr/>
        </p:nvSpPr>
        <p:spPr>
          <a:xfrm>
            <a:off x="6418440" y="4214880"/>
            <a:ext cx="21679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 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1" name="Text Box 152"/>
          <p:cNvSpPr/>
          <p:nvPr/>
        </p:nvSpPr>
        <p:spPr>
          <a:xfrm>
            <a:off x="3862080" y="4214880"/>
            <a:ext cx="13831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 4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2" name="Text Box 153"/>
          <p:cNvSpPr/>
          <p:nvPr/>
        </p:nvSpPr>
        <p:spPr>
          <a:xfrm>
            <a:off x="6417720" y="5143680"/>
            <a:ext cx="1864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5×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3" name="Text Box 160"/>
          <p:cNvSpPr/>
          <p:nvPr/>
        </p:nvSpPr>
        <p:spPr>
          <a:xfrm>
            <a:off x="3857040" y="5214960"/>
            <a:ext cx="130248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4×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85920" y="1785960"/>
          <a:ext cx="1262160" cy="741240"/>
        </p:xfrm>
        <a:graphic>
          <a:graphicData uri="http://schemas.openxmlformats.org/drawingml/2006/table">
            <a:tbl>
              <a:tblPr/>
              <a:tblGrid>
                <a:gridCol w="315720"/>
                <a:gridCol w="316080"/>
                <a:gridCol w="314280"/>
                <a:gridCol w="316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a5"/>
                      </a:solidFill>
                    </a:lnL>
                    <a:lnR w="5760">
                      <a:solidFill>
                        <a:srgbClr val="0026a5"/>
                      </a:solidFill>
                    </a:lnR>
                    <a:lnT w="5760">
                      <a:solidFill>
                        <a:srgbClr val="0026a5"/>
                      </a:solidFill>
                    </a:lnT>
                    <a:lnB w="5760">
                      <a:solidFill>
                        <a:srgbClr val="0026a5"/>
                      </a:solidFill>
                    </a:lnB>
                    <a:solidFill>
                      <a:srgbClr val="cbcd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285920" y="2500200"/>
          <a:ext cx="642960" cy="365400"/>
        </p:xfrm>
        <a:graphic>
          <a:graphicData uri="http://schemas.openxmlformats.org/drawingml/2006/table">
            <a:tbl>
              <a:tblPr/>
              <a:tblGrid>
                <a:gridCol w="322200"/>
                <a:gridCol w="3207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2ec2"/>
                      </a:solidFill>
                    </a:lnL>
                    <a:lnR w="5760">
                      <a:solidFill>
                        <a:srgbClr val="002ec2"/>
                      </a:solidFill>
                    </a:lnR>
                    <a:lnT w="5760">
                      <a:solidFill>
                        <a:srgbClr val="002ec2"/>
                      </a:solidFill>
                    </a:lnT>
                    <a:lnB w="5760">
                      <a:solidFill>
                        <a:srgbClr val="002ec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571920" y="1643040"/>
          <a:ext cx="857160" cy="2143080"/>
        </p:xfrm>
        <a:graphic>
          <a:graphicData uri="http://schemas.openxmlformats.org/drawingml/2006/table">
            <a:tbl>
              <a:tblPr/>
              <a:tblGrid>
                <a:gridCol w="428760"/>
                <a:gridCol w="428400"/>
              </a:tblGrid>
              <a:tr h="536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deee7e"/>
                      </a:solidFill>
                    </a:lnL>
                    <a:lnR w="5760">
                      <a:solidFill>
                        <a:srgbClr val="deee7e"/>
                      </a:solidFill>
                    </a:lnR>
                    <a:lnT w="5760">
                      <a:solidFill>
                        <a:srgbClr val="deee7e"/>
                      </a:solidFill>
                    </a:lnT>
                    <a:lnB w="5760">
                      <a:solidFill>
                        <a:srgbClr val="deee7e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215040" y="1500120"/>
          <a:ext cx="857160" cy="1096920"/>
        </p:xfrm>
        <a:graphic>
          <a:graphicData uri="http://schemas.openxmlformats.org/drawingml/2006/table">
            <a:tbl>
              <a:tblPr/>
              <a:tblGrid>
                <a:gridCol w="428760"/>
                <a:gridCol w="4284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215040" y="2571840"/>
          <a:ext cx="428760" cy="731880"/>
        </p:xfrm>
        <a:graphic>
          <a:graphicData uri="http://schemas.openxmlformats.org/drawingml/2006/table">
            <a:tbl>
              <a:tblPr/>
              <a:tblGrid>
                <a:gridCol w="4287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49"/>
          <p:cNvSpPr/>
          <p:nvPr/>
        </p:nvSpPr>
        <p:spPr>
          <a:xfrm>
            <a:off x="3978360" y="92880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被哪些数整除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0" name="Picture 2" descr="ds新知学习"/>
          <p:cNvPicPr/>
          <p:nvPr/>
        </p:nvPicPr>
        <p:blipFill>
          <a:blip r:embed="rId1"/>
          <a:stretch/>
        </p:blipFill>
        <p:spPr>
          <a:xfrm>
            <a:off x="500040" y="857160"/>
            <a:ext cx="2500200" cy="77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0"/>
          <p:cNvSpPr/>
          <p:nvPr/>
        </p:nvSpPr>
        <p:spPr>
          <a:xfrm>
            <a:off x="846360" y="4714920"/>
            <a:ext cx="21679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 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2" name="Text Box 154"/>
          <p:cNvSpPr/>
          <p:nvPr/>
        </p:nvSpPr>
        <p:spPr>
          <a:xfrm>
            <a:off x="969120" y="6000840"/>
            <a:ext cx="67453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能被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整除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不能被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3" name="Text Box 157"/>
          <p:cNvSpPr/>
          <p:nvPr/>
        </p:nvSpPr>
        <p:spPr>
          <a:xfrm>
            <a:off x="774000" y="5357880"/>
            <a:ext cx="1864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6×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4" name="Text Box 151"/>
          <p:cNvSpPr/>
          <p:nvPr/>
        </p:nvSpPr>
        <p:spPr>
          <a:xfrm>
            <a:off x="3845880" y="4714920"/>
            <a:ext cx="207936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5" name="Text Box 160"/>
          <p:cNvSpPr/>
          <p:nvPr/>
        </p:nvSpPr>
        <p:spPr>
          <a:xfrm>
            <a:off x="3774600" y="5357880"/>
            <a:ext cx="1864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7×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6" name="Picture 14" descr="C:\Users\Administrator\AppData\Roaming\Tencent\Users\1433793736\QQ\WinTemp\RichOle\220A8@VDC7NHX%~JB]U$JOG.png"/>
          <p:cNvPicPr/>
          <p:nvPr/>
        </p:nvPicPr>
        <p:blipFill>
          <a:blip r:embed="rId7"/>
          <a:stretch/>
        </p:blipFill>
        <p:spPr>
          <a:xfrm>
            <a:off x="1857240" y="1614600"/>
            <a:ext cx="5720040" cy="2976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51"/>
          <p:cNvSpPr/>
          <p:nvPr/>
        </p:nvSpPr>
        <p:spPr>
          <a:xfrm>
            <a:off x="6791040" y="4714920"/>
            <a:ext cx="13831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÷ 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8" name="Text Box 153"/>
          <p:cNvSpPr/>
          <p:nvPr/>
        </p:nvSpPr>
        <p:spPr>
          <a:xfrm>
            <a:off x="6786000" y="5429160"/>
            <a:ext cx="130248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8×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49"/>
          <p:cNvSpPr/>
          <p:nvPr/>
        </p:nvSpPr>
        <p:spPr>
          <a:xfrm>
            <a:off x="3915000" y="17146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ec2"/>
                </a:solidFill>
                <a:latin typeface="Times New Roman"/>
              </a:rPr>
              <a:t>整     除</a:t>
            </a:r>
            <a:endParaRPr b="1" lang="en-US" sz="40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0" name="Text Box 149"/>
          <p:cNvSpPr/>
          <p:nvPr/>
        </p:nvSpPr>
        <p:spPr>
          <a:xfrm>
            <a:off x="571680" y="32860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除以整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)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得的商是整数，余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就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被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除。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4"/>
          <p:cNvSpPr/>
          <p:nvPr/>
        </p:nvSpPr>
        <p:spPr>
          <a:xfrm>
            <a:off x="3643200" y="1071720"/>
            <a:ext cx="2500560" cy="71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课堂小结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2" name="圆角矩形 4"/>
          <p:cNvSpPr/>
          <p:nvPr/>
        </p:nvSpPr>
        <p:spPr>
          <a:xfrm>
            <a:off x="1500120" y="2143080"/>
            <a:ext cx="6215040" cy="3807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714680" y="3000240"/>
            <a:ext cx="592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整数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除以整数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≠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0)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，所得的商是整除，余数是</a:t>
            </a:r>
            <a:r>
              <a:rPr b="1" lang="en-US" sz="2800" spc="-1" strike="noStrike">
                <a:solidFill>
                  <a:srgbClr val="002ec2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，就说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能被</a:t>
            </a:r>
            <a:r>
              <a:rPr b="1" i="1" lang="en-US" sz="2800" spc="-1" strike="noStrike">
                <a:solidFill>
                  <a:srgbClr val="002ec2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整除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宋体"/>
              </a:rPr>
              <a:t>在小学里讲数的整除时，所说的数一般指非零自然数。非零自然数叫正整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3429000" y="2286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整  除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1:09:02Z</dcterms:created>
  <dc:creator/>
  <dc:description/>
  <cp:keywords/>
  <dc:language>en-US</dc:language>
  <cp:lastModifiedBy/>
  <dcterms:modified xsi:type="dcterms:W3CDTF">2017-12-21T14:04:31Z</dcterms:modified>
  <cp:revision>1</cp:revision>
  <dc:subject/>
  <dc:title/>
</cp:coreProperties>
</file>