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C69C-6BB9-48F8-AFB9-C777CE232A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A6BE-7202-4EA9-8DF2-A717BF54AE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1B7-6D5D-452E-9D7D-BF654FD180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CE0-2A5B-4B3F-AAE8-F828F1DD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E3B-BC8A-4000-89C5-2F4BAF6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E2F-2E3C-480C-BFE6-0D77CC8E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DB9-03AF-42E3-A143-FDBC3DF2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1D0-02D3-44C4-B68D-49F47E7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5772-615E-4EF9-A802-A8E731AA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B16-5A6D-4242-998E-A353524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FA4-839A-498A-B9B2-C105B6C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A458-E5DA-420C-B712-4C5D5A3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DC6-9AAA-41F2-94C7-59BB3311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1D51-55CC-4CC6-9346-8896DAA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940-5F70-4C42-902F-67C7153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8B0-18D4-40D4-A7AF-D8366885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45C4-2410-4032-8072-9F312DD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92F-1B01-4064-837E-2421C006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2CE3-A824-47CB-A1BA-7E8EB36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E9F-9703-48BE-8DF0-EE53370B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FA7-4C9B-4851-BBD9-5973675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3F1-840E-40B9-B87C-D1EBA35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F02-2A62-4E1E-A74C-6822EC8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5A6-7E3C-4F68-8951-590D0738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8B1-93DD-4535-B378-2C94573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5E5-AA6F-43E6-9CCE-4166A4C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310-2DFC-41C6-8B89-99F67B8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E5F-20D8-4402-9E4E-55697B547DFA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E23A-957D-453D-AD18-0437948F5EE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DFFA-9D1C-438E-8ACC-FC1BFA449BC1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B2E7-2ED2-4A09-8566-D1BF8D67E33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3"/>
          <p:cNvSpPr/>
          <p:nvPr/>
        </p:nvSpPr>
        <p:spPr>
          <a:xfrm>
            <a:off x="1643040" y="2143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倍数与因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Box 14"/>
          <p:cNvSpPr/>
          <p:nvPr/>
        </p:nvSpPr>
        <p:spPr>
          <a:xfrm>
            <a:off x="642960" y="1074600"/>
            <a:ext cx="7929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数的最大因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这个数的最小倍数是多少？说一说你是怎样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8"/>
          <p:cNvSpPr/>
          <p:nvPr/>
        </p:nvSpPr>
        <p:spPr>
          <a:xfrm>
            <a:off x="1143000" y="2190600"/>
            <a:ext cx="735804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的最大因数也是这个数的最小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4"/>
          <p:cNvSpPr/>
          <p:nvPr/>
        </p:nvSpPr>
        <p:spPr>
          <a:xfrm>
            <a:off x="928800" y="1928880"/>
            <a:ext cx="8358120" cy="48315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上面这些数中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                  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（                   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既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、又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1643040" y="3003480"/>
            <a:ext cx="664380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3214800" y="3646440"/>
            <a:ext cx="4286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1643040" y="4932360"/>
            <a:ext cx="2214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4"/>
          <p:cNvSpPr/>
          <p:nvPr/>
        </p:nvSpPr>
        <p:spPr>
          <a:xfrm>
            <a:off x="938160" y="1119240"/>
            <a:ext cx="7348680" cy="1687680"/>
          </a:xfrm>
          <a:prstGeom prst="roundRect">
            <a:avLst>
              <a:gd name="adj" fmla="val 31787"/>
            </a:avLst>
          </a:prstGeom>
          <a:solidFill>
            <a:srgbClr val="00b05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Box 14"/>
          <p:cNvSpPr/>
          <p:nvPr/>
        </p:nvSpPr>
        <p:spPr>
          <a:xfrm>
            <a:off x="428760" y="1000080"/>
            <a:ext cx="8001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若干张长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长方形纸片摆正方形。如果摆出的正方形的边长不超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你能摆出边长分别是多少的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8"/>
          <p:cNvSpPr/>
          <p:nvPr/>
        </p:nvSpPr>
        <p:spPr>
          <a:xfrm>
            <a:off x="1357200" y="300348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8"/>
          <p:cNvSpPr/>
          <p:nvPr/>
        </p:nvSpPr>
        <p:spPr>
          <a:xfrm>
            <a:off x="1357200" y="343224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8"/>
          <p:cNvSpPr/>
          <p:nvPr/>
        </p:nvSpPr>
        <p:spPr>
          <a:xfrm>
            <a:off x="1357200" y="386064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8"/>
          <p:cNvSpPr/>
          <p:nvPr/>
        </p:nvSpPr>
        <p:spPr>
          <a:xfrm>
            <a:off x="1357200" y="428940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8"/>
          <p:cNvSpPr/>
          <p:nvPr/>
        </p:nvSpPr>
        <p:spPr>
          <a:xfrm>
            <a:off x="1357200" y="471816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1357200" y="5146560"/>
            <a:ext cx="671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摆出边长可分别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8"/>
          <p:cNvSpPr/>
          <p:nvPr/>
        </p:nvSpPr>
        <p:spPr>
          <a:xfrm>
            <a:off x="1357200" y="1143000"/>
            <a:ext cx="6572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5"/>
          <p:cNvSpPr/>
          <p:nvPr/>
        </p:nvSpPr>
        <p:spPr>
          <a:xfrm>
            <a:off x="1071720" y="1285920"/>
            <a:ext cx="20160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2428920" y="4071960"/>
            <a:ext cx="51433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3929040" y="2048040"/>
            <a:ext cx="2062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6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2639880" y="22147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2997360" y="22147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3354480" y="22147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1574640" y="221148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1932120" y="221148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289240" y="221148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1574640" y="2781360"/>
            <a:ext cx="360360" cy="3585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932120" y="2781360"/>
            <a:ext cx="360360" cy="3585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2289240" y="2781360"/>
            <a:ext cx="360360" cy="3585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574640" y="31399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1932120" y="31399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2289240" y="3139920"/>
            <a:ext cx="360360" cy="360360"/>
          </a:xfrm>
          <a:prstGeom prst="rect">
            <a:avLst/>
          </a:prstGeom>
          <a:solidFill>
            <a:srgbClr val="95e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8"/>
          <p:cNvSpPr/>
          <p:nvPr/>
        </p:nvSpPr>
        <p:spPr>
          <a:xfrm>
            <a:off x="3929040" y="2789280"/>
            <a:ext cx="2062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5796000" y="2000160"/>
            <a:ext cx="2062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5786280" y="2432160"/>
            <a:ext cx="2062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8"/>
          <p:cNvSpPr/>
          <p:nvPr/>
        </p:nvSpPr>
        <p:spPr>
          <a:xfrm>
            <a:off x="5786280" y="2860560"/>
            <a:ext cx="2062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8"/>
          <p:cNvSpPr/>
          <p:nvPr/>
        </p:nvSpPr>
        <p:spPr>
          <a:xfrm>
            <a:off x="5796000" y="3289320"/>
            <a:ext cx="2062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8"/>
          <p:cNvSpPr/>
          <p:nvPr/>
        </p:nvSpPr>
        <p:spPr>
          <a:xfrm>
            <a:off x="785880" y="785880"/>
            <a:ext cx="4071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19"/>
          <p:cNvSpPr/>
          <p:nvPr/>
        </p:nvSpPr>
        <p:spPr>
          <a:xfrm>
            <a:off x="528480" y="996840"/>
            <a:ext cx="25740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8"/>
          <p:cNvSpPr/>
          <p:nvPr/>
        </p:nvSpPr>
        <p:spPr>
          <a:xfrm>
            <a:off x="1065240" y="1357200"/>
            <a:ext cx="7221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18     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9    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组合 25"/>
          <p:cNvGrpSpPr/>
          <p:nvPr/>
        </p:nvGrpSpPr>
        <p:grpSpPr>
          <a:xfrm>
            <a:off x="1643040" y="2646360"/>
            <a:ext cx="5857920" cy="1641600"/>
            <a:chOff x="1643040" y="2646360"/>
            <a:chExt cx="5857920" cy="1641600"/>
          </a:xfrm>
        </p:grpSpPr>
        <p:sp>
          <p:nvSpPr>
            <p:cNvPr id="688" name="椭圆 22"/>
            <p:cNvSpPr/>
            <p:nvPr/>
          </p:nvSpPr>
          <p:spPr>
            <a:xfrm>
              <a:off x="6643800" y="2646360"/>
              <a:ext cx="857160" cy="71424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23"/>
            <p:cNvSpPr/>
            <p:nvPr/>
          </p:nvSpPr>
          <p:spPr>
            <a:xfrm>
              <a:off x="1643040" y="2646360"/>
              <a:ext cx="857160" cy="71424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左中括号 24"/>
            <p:cNvSpPr/>
            <p:nvPr/>
          </p:nvSpPr>
          <p:spPr>
            <a:xfrm rot="16200000">
              <a:off x="4143960" y="1359360"/>
              <a:ext cx="927360" cy="4929480"/>
            </a:xfrm>
            <a:custGeom>
              <a:avLst/>
              <a:gdLst>
                <a:gd name="textAreaLeft" fmla="*/ 272520 w 927360"/>
                <a:gd name="textAreaRight" fmla="*/ 927720 w 927360"/>
                <a:gd name="textAreaTop" fmla="*/ 335160 h 4929480"/>
                <a:gd name="textAreaBottom" fmla="*/ 4594320 h 49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470"/>
                    <a:pt x="0" y="2939"/>
                  </a:cubicBezTo>
                  <a:lnTo>
                    <a:pt x="0" y="18661"/>
                  </a:lnTo>
                  <a:cubicBezTo>
                    <a:pt x="0" y="20131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Box 8"/>
          <p:cNvSpPr/>
          <p:nvPr/>
        </p:nvSpPr>
        <p:spPr>
          <a:xfrm>
            <a:off x="3071880" y="421812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4286160" y="421812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26"/>
          <p:cNvGrpSpPr/>
          <p:nvPr/>
        </p:nvGrpSpPr>
        <p:grpSpPr>
          <a:xfrm>
            <a:off x="2643120" y="2363760"/>
            <a:ext cx="3857760" cy="996840"/>
            <a:chOff x="2643120" y="2363760"/>
            <a:chExt cx="3857760" cy="996840"/>
          </a:xfrm>
        </p:grpSpPr>
        <p:sp>
          <p:nvSpPr>
            <p:cNvPr id="694" name="椭圆 28"/>
            <p:cNvSpPr/>
            <p:nvPr/>
          </p:nvSpPr>
          <p:spPr>
            <a:xfrm>
              <a:off x="2643120" y="2646360"/>
              <a:ext cx="857160" cy="71424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29"/>
            <p:cNvSpPr/>
            <p:nvPr/>
          </p:nvSpPr>
          <p:spPr>
            <a:xfrm>
              <a:off x="5643720" y="2646360"/>
              <a:ext cx="857160" cy="71424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左中括号 30"/>
            <p:cNvSpPr/>
            <p:nvPr/>
          </p:nvSpPr>
          <p:spPr>
            <a:xfrm rot="5400000">
              <a:off x="4429080" y="791640"/>
              <a:ext cx="285480" cy="3429360"/>
            </a:xfrm>
            <a:custGeom>
              <a:avLst/>
              <a:gdLst>
                <a:gd name="textAreaLeft" fmla="*/ 83880 w 285480"/>
                <a:gd name="textAreaRight" fmla="*/ 285840 w 285480"/>
                <a:gd name="textAreaTop" fmla="*/ 137880 h 3429360"/>
                <a:gd name="textAreaBottom" fmla="*/ 3291480 h 342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869"/>
                    <a:pt x="0" y="1737"/>
                  </a:cubicBezTo>
                  <a:lnTo>
                    <a:pt x="0" y="19863"/>
                  </a:lnTo>
                  <a:cubicBezTo>
                    <a:pt x="0" y="20732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Box 8"/>
          <p:cNvSpPr/>
          <p:nvPr/>
        </p:nvSpPr>
        <p:spPr>
          <a:xfrm>
            <a:off x="4214880" y="178920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27"/>
          <p:cNvGrpSpPr/>
          <p:nvPr/>
        </p:nvGrpSpPr>
        <p:grpSpPr>
          <a:xfrm>
            <a:off x="3643200" y="2646360"/>
            <a:ext cx="1857240" cy="1133640"/>
            <a:chOff x="3643200" y="2646360"/>
            <a:chExt cx="1857240" cy="1133640"/>
          </a:xfrm>
        </p:grpSpPr>
        <p:sp>
          <p:nvSpPr>
            <p:cNvPr id="699" name="椭圆 33"/>
            <p:cNvSpPr/>
            <p:nvPr/>
          </p:nvSpPr>
          <p:spPr>
            <a:xfrm>
              <a:off x="3643200" y="2646360"/>
              <a:ext cx="857160" cy="71460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34"/>
            <p:cNvSpPr/>
            <p:nvPr/>
          </p:nvSpPr>
          <p:spPr>
            <a:xfrm>
              <a:off x="4643280" y="2646360"/>
              <a:ext cx="857160" cy="714600"/>
            </a:xfrm>
            <a:prstGeom prst="ellipse">
              <a:avLst/>
            </a:prstGeom>
            <a:solidFill>
              <a:srgbClr val="95e3c3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左中括号 35"/>
            <p:cNvSpPr/>
            <p:nvPr/>
          </p:nvSpPr>
          <p:spPr>
            <a:xfrm rot="16200000">
              <a:off x="4433400" y="2998800"/>
              <a:ext cx="419040" cy="1143000"/>
            </a:xfrm>
            <a:custGeom>
              <a:avLst/>
              <a:gdLst>
                <a:gd name="textAreaLeft" fmla="*/ 123120 w 419040"/>
                <a:gd name="textAreaRight" fmla="*/ 419400 w 419040"/>
                <a:gd name="textAreaTop" fmla="*/ 118080 h 1143000"/>
                <a:gd name="textAreaBottom" fmla="*/ 10249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238"/>
                    <a:pt x="0" y="4475"/>
                  </a:cubicBezTo>
                  <a:lnTo>
                    <a:pt x="0" y="17125"/>
                  </a:lnTo>
                  <a:cubicBezTo>
                    <a:pt x="0" y="19363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Box 8"/>
          <p:cNvSpPr/>
          <p:nvPr/>
        </p:nvSpPr>
        <p:spPr>
          <a:xfrm>
            <a:off x="4286160" y="372096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2000160" y="4575240"/>
            <a:ext cx="5786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8"/>
          <p:cNvSpPr/>
          <p:nvPr/>
        </p:nvSpPr>
        <p:spPr>
          <a:xfrm>
            <a:off x="1285920" y="5000760"/>
            <a:ext cx="5786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71"/>
          <p:cNvSpPr/>
          <p:nvPr/>
        </p:nvSpPr>
        <p:spPr>
          <a:xfrm>
            <a:off x="1143000" y="5189400"/>
            <a:ext cx="71438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数的因数个数是有限的，其中最小的因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最大的因数是它本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8"/>
          <p:cNvSpPr/>
          <p:nvPr/>
        </p:nvSpPr>
        <p:spPr>
          <a:xfrm>
            <a:off x="1042920" y="1077840"/>
            <a:ext cx="3714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一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2"/>
          <p:cNvSpPr/>
          <p:nvPr/>
        </p:nvSpPr>
        <p:spPr>
          <a:xfrm>
            <a:off x="785880" y="1289160"/>
            <a:ext cx="25704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000160" y="2928960"/>
            <a:ext cx="62866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有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405080" y="1857240"/>
          <a:ext cx="609588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0" name="TextBox 8"/>
          <p:cNvSpPr/>
          <p:nvPr/>
        </p:nvSpPr>
        <p:spPr>
          <a:xfrm>
            <a:off x="2000160" y="3432240"/>
            <a:ext cx="3500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能写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8"/>
          <p:cNvSpPr/>
          <p:nvPr/>
        </p:nvSpPr>
        <p:spPr>
          <a:xfrm>
            <a:off x="642960" y="1073160"/>
            <a:ext cx="836460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自然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，一共有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2"/>
          <p:cNvSpPr/>
          <p:nvPr/>
        </p:nvSpPr>
        <p:spPr>
          <a:xfrm>
            <a:off x="357120" y="1284120"/>
            <a:ext cx="25740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1071720" y="2071800"/>
            <a:ext cx="792936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间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是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"/>
          <p:cNvSpPr/>
          <p:nvPr/>
        </p:nvSpPr>
        <p:spPr>
          <a:xfrm>
            <a:off x="1000080" y="3048120"/>
            <a:ext cx="5857920" cy="1687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间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是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71"/>
          <p:cNvSpPr/>
          <p:nvPr/>
        </p:nvSpPr>
        <p:spPr>
          <a:xfrm>
            <a:off x="1214280" y="4927680"/>
            <a:ext cx="7000920" cy="733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何一个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8"/>
          <p:cNvSpPr/>
          <p:nvPr/>
        </p:nvSpPr>
        <p:spPr>
          <a:xfrm>
            <a:off x="1143000" y="4218120"/>
            <a:ext cx="3286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找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1285920" y="785880"/>
            <a:ext cx="7215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自然数中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几个？怎样计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 2"/>
          <p:cNvSpPr/>
          <p:nvPr/>
        </p:nvSpPr>
        <p:spPr>
          <a:xfrm>
            <a:off x="1028880" y="1068480"/>
            <a:ext cx="25704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2214720" y="1643040"/>
            <a:ext cx="5072040" cy="2212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     13×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5     13×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3071880" y="3503520"/>
            <a:ext cx="3857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8"/>
          <p:cNvSpPr/>
          <p:nvPr/>
        </p:nvSpPr>
        <p:spPr>
          <a:xfrm>
            <a:off x="2714760" y="3503520"/>
            <a:ext cx="41432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71"/>
          <p:cNvSpPr/>
          <p:nvPr/>
        </p:nvSpPr>
        <p:spPr>
          <a:xfrm>
            <a:off x="1000080" y="4214880"/>
            <a:ext cx="7500960" cy="733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数的倍数个数是无限的、其中最小的倍数是它本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14"/>
          <p:cNvSpPr/>
          <p:nvPr/>
        </p:nvSpPr>
        <p:spPr>
          <a:xfrm>
            <a:off x="357120" y="571680"/>
            <a:ext cx="9072720" cy="4045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算式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    2×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    4×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最小的因数是（  ）、最大的因数是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（               ）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2857680" y="2289240"/>
            <a:ext cx="3071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8"/>
          <p:cNvSpPr/>
          <p:nvPr/>
        </p:nvSpPr>
        <p:spPr>
          <a:xfrm>
            <a:off x="3929040" y="2932200"/>
            <a:ext cx="642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7429680" y="2932200"/>
            <a:ext cx="1071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1785960" y="3575160"/>
            <a:ext cx="3286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14"/>
          <p:cNvSpPr/>
          <p:nvPr/>
        </p:nvSpPr>
        <p:spPr>
          <a:xfrm>
            <a:off x="1000080" y="1143000"/>
            <a:ext cx="7858080" cy="1687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×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与（  ）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（  ）与（  ）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"/>
          <p:cNvSpPr/>
          <p:nvPr/>
        </p:nvSpPr>
        <p:spPr>
          <a:xfrm>
            <a:off x="1500120" y="1646280"/>
            <a:ext cx="2643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2214720" y="2071800"/>
            <a:ext cx="192852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14"/>
          <p:cNvSpPr/>
          <p:nvPr/>
        </p:nvSpPr>
        <p:spPr>
          <a:xfrm>
            <a:off x="928800" y="928800"/>
            <a:ext cx="7715160" cy="2473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数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（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8"/>
          <p:cNvSpPr/>
          <p:nvPr/>
        </p:nvSpPr>
        <p:spPr>
          <a:xfrm>
            <a:off x="3214800" y="1838160"/>
            <a:ext cx="3500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3214800" y="2481120"/>
            <a:ext cx="350028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1:12Z</dcterms:modified>
  <cp:revision>1</cp:revision>
  <dc:subject/>
  <dc:title/>
</cp:coreProperties>
</file>