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67B6-4F20-4A4F-8FA5-9B7FA54ED0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3934-5C41-45C7-8748-C8189D9B6C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B117-541F-42FB-A00A-3473A0A398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7A9-FA2C-4E19-AC0A-0B9B40C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CCB-1039-4CC6-B8C7-3ED9400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30-A512-45D4-9A8B-3C1A6E48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598-BFC6-4814-964D-D19FD317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DC0A-EBD7-4842-93B9-216235FE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B23-CA3D-4D34-9068-91701B50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A45-D3D4-4D7E-9BC3-5BDD4AA1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0BB5-0375-4F20-93C7-B333EC29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1A9C-2BB1-44F2-A005-2ED0A49F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15CC-3045-41FB-8509-D0316A74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5B6F-A813-4589-BF08-287076D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7DC-89B9-482C-8942-DC2F946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5329-59BC-42FE-AD4B-6AFAD3A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094C-78E9-4200-912F-C4B1B66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83B0-A137-47E9-839D-C81C267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7F85-BAED-4AC5-B411-073A62C1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BEC3-EBAC-4BC8-94C9-9E029946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31F-DF65-4716-81CE-10B75BB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36C-0C78-454D-8E94-338CA260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520-9E60-48FC-82AF-C5B8F51D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CF6-B584-429E-9E12-4CA0CD2D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515-5F07-4A2B-A3BF-4509720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5F7-587B-4A3C-989C-1FBE66A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584-6429-44CC-AEF6-B1C9843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C26-46A6-4E4C-8172-61EEBB96EF3B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5E7-2E62-4E9C-B293-5D8241D1E7F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B80-2416-4E98-8546-9154D42CA1BD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03D-82EC-40F5-A0E3-AC95B8CC877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解素因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14"/>
          <p:cNvSpPr/>
          <p:nvPr/>
        </p:nvSpPr>
        <p:spPr>
          <a:xfrm>
            <a:off x="857160" y="976320"/>
            <a:ext cx="7358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出三组成倍数关系的数，并将它们分解素因数。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2500200" y="2190600"/>
            <a:ext cx="4857840" cy="22122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3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2×3×3×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2"/>
          <p:cNvSpPr/>
          <p:nvPr/>
        </p:nvSpPr>
        <p:spPr>
          <a:xfrm>
            <a:off x="1255680" y="4176720"/>
            <a:ext cx="3079800" cy="1631880"/>
          </a:xfrm>
          <a:prstGeom prst="ellipse">
            <a:avLst/>
          </a:prstGeom>
          <a:solidFill>
            <a:srgbClr val="e7ffe7">
              <a:alpha val="90000"/>
            </a:srgbClr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3"/>
          <p:cNvSpPr/>
          <p:nvPr/>
        </p:nvSpPr>
        <p:spPr>
          <a:xfrm>
            <a:off x="4992840" y="4176720"/>
            <a:ext cx="3079440" cy="1631880"/>
          </a:xfrm>
          <a:prstGeom prst="ellipse">
            <a:avLst/>
          </a:prstGeom>
          <a:solidFill>
            <a:srgbClr val="fff3d5">
              <a:alpha val="90000"/>
            </a:srgbClr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39640" y="984240"/>
            <a:ext cx="828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546a"/>
                </a:solidFill>
                <a:latin typeface="黑体"/>
                <a:ea typeface="黑体"/>
              </a:rPr>
              <a:t>下面各数中哪些是素数，哪些是合数？分别填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546a"/>
                </a:solidFill>
                <a:latin typeface="黑体"/>
                <a:ea typeface="黑体"/>
              </a:rPr>
              <a:t>指定的圈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497320" y="372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546a"/>
                </a:solidFill>
                <a:latin typeface="黑体"/>
                <a:ea typeface="黑体"/>
              </a:rPr>
              <a:t>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133640" y="235260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124000" y="235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3060720" y="235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3995640" y="235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932360" y="235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1"/>
          <p:cNvSpPr/>
          <p:nvPr/>
        </p:nvSpPr>
        <p:spPr>
          <a:xfrm>
            <a:off x="5867280" y="23526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2"/>
          <p:cNvSpPr/>
          <p:nvPr/>
        </p:nvSpPr>
        <p:spPr>
          <a:xfrm>
            <a:off x="6804000" y="235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7740720" y="235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4"/>
          <p:cNvSpPr/>
          <p:nvPr/>
        </p:nvSpPr>
        <p:spPr>
          <a:xfrm>
            <a:off x="1133640" y="300024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5"/>
          <p:cNvSpPr/>
          <p:nvPr/>
        </p:nvSpPr>
        <p:spPr>
          <a:xfrm>
            <a:off x="2124000" y="300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3060720" y="300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995640" y="300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4932360" y="300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5867280" y="30002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6804000" y="300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7740720" y="300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黑体"/>
                <a:ea typeface="黑体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2"/>
          <p:cNvSpPr/>
          <p:nvPr/>
        </p:nvSpPr>
        <p:spPr>
          <a:xfrm>
            <a:off x="6234480" y="3722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546a"/>
                </a:solidFill>
                <a:latin typeface="黑体"/>
                <a:ea typeface="黑体"/>
              </a:rPr>
              <a:t>合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5.92593E-006 L 0.44895 0.31505 E">
                                      <p:cBhvr>
                                        <p:cTn id="6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-0.06441 0.31968 E">
                                      <p:cBhvr>
                                        <p:cTn id="10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0.10035 0.3051 E">
                                      <p:cBhvr>
                                        <p:cTn id="1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L 0.19253 0.30556 E">
                                      <p:cBhvr>
                                        <p:cTn id="18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23299 0.31389 E">
                                      <p:cBhvr>
                                        <p:cTn id="22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0.25746 0.33635 E">
                                      <p:cBhvr>
                                        <p:cTn id="26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L -0.56198 0.39074 E">
                                      <p:cBhvr>
                                        <p:cTn id="30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-0.15313 0.29514 E">
                                      <p:cBhvr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0.13594 0.29305 E">
                                      <p:cBhvr>
                                        <p:cTn id="38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L 0.52761 0.19954 E">
                                      <p:cBhvr>
                                        <p:cTn id="42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23924 0.29907 E">
                                      <p:cBhvr>
                                        <p:cTn id="46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10834 0.30231 E">
                                      <p:cBhvr>
                                        <p:cTn id="50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0.09653 0.29028 E">
                                      <p:cBhvr>
                                        <p:cTn id="54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L 0.05591 0.28611 E">
                                      <p:cBhvr>
                                        <p:cTn id="5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0.01006 0.2875 E">
                                      <p:cBhvr>
                                        <p:cTn id="6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03976 0.25602 E">
                                      <p:cBhvr>
                                        <p:cTn id="66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8"/>
          <p:cNvSpPr/>
          <p:nvPr/>
        </p:nvSpPr>
        <p:spPr>
          <a:xfrm>
            <a:off x="1428840" y="1146240"/>
            <a:ext cx="66434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成几个素数相乘的形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4"/>
          <p:cNvSpPr/>
          <p:nvPr/>
        </p:nvSpPr>
        <p:spPr>
          <a:xfrm>
            <a:off x="1863720" y="2143080"/>
            <a:ext cx="5494320" cy="1119240"/>
          </a:xfrm>
          <a:prstGeom prst="wedgeRoundRectCallout">
            <a:avLst>
              <a:gd name="adj1" fmla="val -49902"/>
              <a:gd name="adj2" fmla="val -2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成两个数相乘的形式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×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4"/>
          <p:cNvSpPr/>
          <p:nvPr/>
        </p:nvSpPr>
        <p:spPr>
          <a:xfrm>
            <a:off x="1863720" y="1857240"/>
            <a:ext cx="5494320" cy="1441440"/>
          </a:xfrm>
          <a:prstGeom prst="wedgeRoundRectCallout">
            <a:avLst>
              <a:gd name="adj1" fmla="val -49902"/>
              <a:gd name="adj2" fmla="val -100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素数，不需要再分解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合数，需要再进行分解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4335480" y="3448080"/>
            <a:ext cx="649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3929040" y="428616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4857840" y="428616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4500720" y="5286240"/>
            <a:ext cx="377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5421240" y="5280120"/>
            <a:ext cx="436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6"/>
          <p:cNvGrpSpPr/>
          <p:nvPr/>
        </p:nvGrpSpPr>
        <p:grpSpPr>
          <a:xfrm>
            <a:off x="4143240" y="4071960"/>
            <a:ext cx="882360" cy="285840"/>
            <a:chOff x="4143240" y="4071960"/>
            <a:chExt cx="882360" cy="285840"/>
          </a:xfrm>
        </p:grpSpPr>
        <p:sp>
          <p:nvSpPr>
            <p:cNvPr id="611" name="Line 9"/>
            <p:cNvSpPr/>
            <p:nvPr/>
          </p:nvSpPr>
          <p:spPr>
            <a:xfrm flipH="1">
              <a:off x="4143240" y="4071960"/>
              <a:ext cx="371520" cy="285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1"/>
            <p:cNvSpPr/>
            <p:nvPr/>
          </p:nvSpPr>
          <p:spPr>
            <a:xfrm>
              <a:off x="4701240" y="4071960"/>
              <a:ext cx="324360" cy="285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27"/>
          <p:cNvGrpSpPr/>
          <p:nvPr/>
        </p:nvGrpSpPr>
        <p:grpSpPr>
          <a:xfrm>
            <a:off x="4697280" y="4929120"/>
            <a:ext cx="874440" cy="376200"/>
            <a:chOff x="4697280" y="4929120"/>
            <a:chExt cx="874440" cy="376200"/>
          </a:xfrm>
        </p:grpSpPr>
        <p:sp>
          <p:nvSpPr>
            <p:cNvPr id="614" name="Line 10"/>
            <p:cNvSpPr/>
            <p:nvPr/>
          </p:nvSpPr>
          <p:spPr>
            <a:xfrm>
              <a:off x="5249880" y="4929120"/>
              <a:ext cx="32184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 flipH="1">
              <a:off x="4697280" y="4929120"/>
              <a:ext cx="27648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8"/>
          <p:cNvSpPr/>
          <p:nvPr/>
        </p:nvSpPr>
        <p:spPr>
          <a:xfrm>
            <a:off x="1498680" y="1054080"/>
            <a:ext cx="7272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成几个素数相乘的形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1239840" y="1523880"/>
            <a:ext cx="69134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可以把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分解成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然后再进行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2193840" y="2533680"/>
            <a:ext cx="649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787400" y="337176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2720880" y="337176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2359080" y="4371840"/>
            <a:ext cx="377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279600" y="4365720"/>
            <a:ext cx="436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6"/>
          <p:cNvGrpSpPr/>
          <p:nvPr/>
        </p:nvGrpSpPr>
        <p:grpSpPr>
          <a:xfrm>
            <a:off x="2001960" y="3157560"/>
            <a:ext cx="882000" cy="285840"/>
            <a:chOff x="2001960" y="3157560"/>
            <a:chExt cx="882000" cy="285840"/>
          </a:xfrm>
        </p:grpSpPr>
        <p:sp>
          <p:nvSpPr>
            <p:cNvPr id="624" name="Line 9"/>
            <p:cNvSpPr/>
            <p:nvPr/>
          </p:nvSpPr>
          <p:spPr>
            <a:xfrm flipH="1">
              <a:off x="2001960" y="3157560"/>
              <a:ext cx="371520" cy="285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"/>
            <p:cNvSpPr/>
            <p:nvPr/>
          </p:nvSpPr>
          <p:spPr>
            <a:xfrm>
              <a:off x="2559600" y="3157560"/>
              <a:ext cx="324360" cy="285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7"/>
          <p:cNvGrpSpPr/>
          <p:nvPr/>
        </p:nvGrpSpPr>
        <p:grpSpPr>
          <a:xfrm>
            <a:off x="2555640" y="4014720"/>
            <a:ext cx="874440" cy="376200"/>
            <a:chOff x="2555640" y="4014720"/>
            <a:chExt cx="874440" cy="376200"/>
          </a:xfrm>
        </p:grpSpPr>
        <p:sp>
          <p:nvSpPr>
            <p:cNvPr id="627" name="Line 10"/>
            <p:cNvSpPr/>
            <p:nvPr/>
          </p:nvSpPr>
          <p:spPr>
            <a:xfrm>
              <a:off x="3108240" y="4014720"/>
              <a:ext cx="32184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2"/>
            <p:cNvSpPr/>
            <p:nvPr/>
          </p:nvSpPr>
          <p:spPr>
            <a:xfrm flipH="1">
              <a:off x="2555640" y="4014720"/>
              <a:ext cx="27612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3"/>
          <p:cNvSpPr/>
          <p:nvPr/>
        </p:nvSpPr>
        <p:spPr>
          <a:xfrm>
            <a:off x="5881680" y="2494080"/>
            <a:ext cx="649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5475240" y="333216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04040" y="333216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046920" y="4332240"/>
            <a:ext cx="377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967440" y="4325760"/>
            <a:ext cx="43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5689440" y="3117960"/>
            <a:ext cx="882360" cy="285480"/>
            <a:chOff x="5689440" y="3117960"/>
            <a:chExt cx="882360" cy="285480"/>
          </a:xfrm>
        </p:grpSpPr>
        <p:sp>
          <p:nvSpPr>
            <p:cNvPr id="635" name="Line 9"/>
            <p:cNvSpPr/>
            <p:nvPr/>
          </p:nvSpPr>
          <p:spPr>
            <a:xfrm flipH="1">
              <a:off x="5689440" y="3117960"/>
              <a:ext cx="371520" cy="285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1"/>
            <p:cNvSpPr/>
            <p:nvPr/>
          </p:nvSpPr>
          <p:spPr>
            <a:xfrm>
              <a:off x="6247440" y="3117960"/>
              <a:ext cx="324360" cy="285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27"/>
          <p:cNvGrpSpPr/>
          <p:nvPr/>
        </p:nvGrpSpPr>
        <p:grpSpPr>
          <a:xfrm>
            <a:off x="6243480" y="3975120"/>
            <a:ext cx="874440" cy="376200"/>
            <a:chOff x="6243480" y="3975120"/>
            <a:chExt cx="874440" cy="376200"/>
          </a:xfrm>
        </p:grpSpPr>
        <p:sp>
          <p:nvSpPr>
            <p:cNvPr id="638" name="Line 10"/>
            <p:cNvSpPr/>
            <p:nvPr/>
          </p:nvSpPr>
          <p:spPr>
            <a:xfrm>
              <a:off x="6796080" y="3975120"/>
              <a:ext cx="32184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2"/>
            <p:cNvSpPr/>
            <p:nvPr/>
          </p:nvSpPr>
          <p:spPr>
            <a:xfrm flipH="1">
              <a:off x="6243480" y="3975120"/>
              <a:ext cx="27648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矩形 29"/>
          <p:cNvSpPr/>
          <p:nvPr/>
        </p:nvSpPr>
        <p:spPr>
          <a:xfrm>
            <a:off x="1450800" y="4976640"/>
            <a:ext cx="6121440" cy="9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论怎样分解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都能分解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素数相乘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5">
                                          <p:stCondLst>
                                            <p:cond delay="665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3">
                                          <p:stCondLst>
                                            <p:cond delay="132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8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4" fill="hold">
                                          <p:stCondLst>
                                            <p:cond delay="67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8" fill="hold">
                                          <p:stCondLst>
                                            <p:cond delay="1315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4" fill="hold">
                                          <p:stCondLst>
                                            <p:cond delay="1343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8" fill="hold">
                                          <p:stCondLst>
                                            <p:cond delay="1643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4" fill="hold">
                                          <p:stCondLst>
                                            <p:cond delay="1671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8" fill="hold">
                                          <p:stCondLst>
                                            <p:cond delay="18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4" fill="hold">
                                          <p:stCondLst>
                                            <p:cond delay="183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8"/>
          <p:cNvSpPr/>
          <p:nvPr/>
        </p:nvSpPr>
        <p:spPr>
          <a:xfrm>
            <a:off x="1143000" y="1006560"/>
            <a:ext cx="7272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成几个素数相乘的形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1531800" y="1428840"/>
            <a:ext cx="48974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可以用短除法进行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4"/>
          <p:cNvSpPr/>
          <p:nvPr/>
        </p:nvSpPr>
        <p:spPr>
          <a:xfrm>
            <a:off x="2436840" y="2068560"/>
            <a:ext cx="4464000" cy="1217520"/>
          </a:xfrm>
          <a:prstGeom prst="wedgeRoundRectCallout">
            <a:avLst>
              <a:gd name="adj1" fmla="val -49986"/>
              <a:gd name="adj2" fmla="val 270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要分解的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在短除号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4"/>
          <p:cNvSpPr/>
          <p:nvPr/>
        </p:nvSpPr>
        <p:spPr>
          <a:xfrm>
            <a:off x="2070000" y="2068560"/>
            <a:ext cx="5278680" cy="1077840"/>
          </a:xfrm>
          <a:prstGeom prst="wedgeRoundRectCallout">
            <a:avLst>
              <a:gd name="adj1" fmla="val -50060"/>
              <a:gd name="adj2" fmla="val 3311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中的素数去除，一般从最小的素数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2992320" y="328608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24"/>
          <p:cNvGrpSpPr/>
          <p:nvPr/>
        </p:nvGrpSpPr>
        <p:grpSpPr>
          <a:xfrm>
            <a:off x="2631960" y="3357720"/>
            <a:ext cx="1440000" cy="576000"/>
            <a:chOff x="2631960" y="3357720"/>
            <a:chExt cx="1440000" cy="576000"/>
          </a:xfrm>
        </p:grpSpPr>
        <p:sp>
          <p:nvSpPr>
            <p:cNvPr id="647" name="Line 20"/>
            <p:cNvSpPr/>
            <p:nvPr/>
          </p:nvSpPr>
          <p:spPr>
            <a:xfrm>
              <a:off x="2631960" y="3357720"/>
              <a:ext cx="0" cy="57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2631960" y="3933720"/>
              <a:ext cx="1440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19"/>
          <p:cNvSpPr/>
          <p:nvPr/>
        </p:nvSpPr>
        <p:spPr>
          <a:xfrm>
            <a:off x="1984320" y="3287880"/>
            <a:ext cx="64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84"/>
          <p:cNvGrpSpPr/>
          <p:nvPr/>
        </p:nvGrpSpPr>
        <p:grpSpPr>
          <a:xfrm>
            <a:off x="3876480" y="3287880"/>
            <a:ext cx="4538520" cy="520560"/>
            <a:chOff x="3876480" y="3287880"/>
            <a:chExt cx="4538520" cy="520560"/>
          </a:xfrm>
        </p:grpSpPr>
        <p:sp>
          <p:nvSpPr>
            <p:cNvPr id="651" name="Text Box 75"/>
            <p:cNvSpPr/>
            <p:nvPr/>
          </p:nvSpPr>
          <p:spPr>
            <a:xfrm>
              <a:off x="4709520" y="3287880"/>
              <a:ext cx="3705480" cy="520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去除，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素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6"/>
            <p:cNvSpPr/>
            <p:nvPr/>
          </p:nvSpPr>
          <p:spPr>
            <a:xfrm flipH="1">
              <a:off x="3876480" y="3503880"/>
              <a:ext cx="8326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AutoShape 24"/>
          <p:cNvSpPr/>
          <p:nvPr/>
        </p:nvSpPr>
        <p:spPr>
          <a:xfrm>
            <a:off x="2214720" y="2214720"/>
            <a:ext cx="4967280" cy="576000"/>
          </a:xfrm>
          <a:prstGeom prst="wedgeRoundRectCallout">
            <a:avLst>
              <a:gd name="adj1" fmla="val -50000"/>
              <a:gd name="adj2" fmla="val 31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到商是素数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6"/>
          <p:cNvSpPr/>
          <p:nvPr/>
        </p:nvSpPr>
        <p:spPr>
          <a:xfrm>
            <a:off x="2992320" y="4008600"/>
            <a:ext cx="64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7"/>
          <p:cNvSpPr/>
          <p:nvPr/>
        </p:nvSpPr>
        <p:spPr>
          <a:xfrm>
            <a:off x="3208320" y="480060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8"/>
          <p:cNvSpPr/>
          <p:nvPr/>
        </p:nvSpPr>
        <p:spPr>
          <a:xfrm>
            <a:off x="2055960" y="4008600"/>
            <a:ext cx="64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25"/>
          <p:cNvGrpSpPr/>
          <p:nvPr/>
        </p:nvGrpSpPr>
        <p:grpSpPr>
          <a:xfrm>
            <a:off x="2847960" y="3936960"/>
            <a:ext cx="1224000" cy="647640"/>
            <a:chOff x="2847960" y="3936960"/>
            <a:chExt cx="1224000" cy="647640"/>
          </a:xfrm>
        </p:grpSpPr>
        <p:sp>
          <p:nvSpPr>
            <p:cNvPr id="658" name="Line 22"/>
            <p:cNvSpPr/>
            <p:nvPr/>
          </p:nvSpPr>
          <p:spPr>
            <a:xfrm>
              <a:off x="2847960" y="3936960"/>
              <a:ext cx="0" cy="647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3"/>
            <p:cNvSpPr/>
            <p:nvPr/>
          </p:nvSpPr>
          <p:spPr>
            <a:xfrm>
              <a:off x="2847960" y="4584600"/>
              <a:ext cx="1224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84"/>
          <p:cNvGrpSpPr/>
          <p:nvPr/>
        </p:nvGrpSpPr>
        <p:grpSpPr>
          <a:xfrm>
            <a:off x="3876840" y="3903840"/>
            <a:ext cx="4909680" cy="520560"/>
            <a:chOff x="3876840" y="3903840"/>
            <a:chExt cx="4909680" cy="520560"/>
          </a:xfrm>
        </p:grpSpPr>
        <p:sp>
          <p:nvSpPr>
            <p:cNvPr id="661" name="Text Box 75"/>
            <p:cNvSpPr/>
            <p:nvPr/>
          </p:nvSpPr>
          <p:spPr>
            <a:xfrm>
              <a:off x="4729320" y="3903840"/>
              <a:ext cx="4057200" cy="520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倍数，用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去除，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素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76"/>
            <p:cNvSpPr/>
            <p:nvPr/>
          </p:nvSpPr>
          <p:spPr>
            <a:xfrm flipH="1">
              <a:off x="3876840" y="4375080"/>
              <a:ext cx="8524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84"/>
          <p:cNvGrpSpPr/>
          <p:nvPr/>
        </p:nvGrpSpPr>
        <p:grpSpPr>
          <a:xfrm>
            <a:off x="3952800" y="4929120"/>
            <a:ext cx="4476600" cy="520560"/>
            <a:chOff x="3952800" y="4929120"/>
            <a:chExt cx="4476600" cy="520560"/>
          </a:xfrm>
        </p:grpSpPr>
        <p:sp>
          <p:nvSpPr>
            <p:cNvPr id="664" name="Text Box 75"/>
            <p:cNvSpPr/>
            <p:nvPr/>
          </p:nvSpPr>
          <p:spPr>
            <a:xfrm>
              <a:off x="4744800" y="4929120"/>
              <a:ext cx="3684600" cy="520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素数，分解结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76"/>
            <p:cNvSpPr/>
            <p:nvPr/>
          </p:nvSpPr>
          <p:spPr>
            <a:xfrm flipH="1">
              <a:off x="3952800" y="5157720"/>
              <a:ext cx="7207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utoShape 24"/>
          <p:cNvSpPr/>
          <p:nvPr/>
        </p:nvSpPr>
        <p:spPr>
          <a:xfrm>
            <a:off x="2308320" y="2214720"/>
            <a:ext cx="5040360" cy="576000"/>
          </a:xfrm>
          <a:prstGeom prst="wedgeRoundRectCallout">
            <a:avLst>
              <a:gd name="adj1" fmla="val -50050"/>
              <a:gd name="adj2" fmla="val 181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除数和商写成相乘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8"/>
          <p:cNvSpPr/>
          <p:nvPr/>
        </p:nvSpPr>
        <p:spPr>
          <a:xfrm>
            <a:off x="2500200" y="5494320"/>
            <a:ext cx="335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3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8"/>
          <p:cNvSpPr/>
          <p:nvPr/>
        </p:nvSpPr>
        <p:spPr>
          <a:xfrm>
            <a:off x="1187280" y="1197000"/>
            <a:ext cx="7272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成几个素数相乘的形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1214280" y="1789200"/>
            <a:ext cx="4464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也可以按如下方式分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2579760" y="2428920"/>
            <a:ext cx="64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24"/>
          <p:cNvGrpSpPr/>
          <p:nvPr/>
        </p:nvGrpSpPr>
        <p:grpSpPr>
          <a:xfrm>
            <a:off x="2219400" y="2500200"/>
            <a:ext cx="1439640" cy="576000"/>
            <a:chOff x="2219400" y="2500200"/>
            <a:chExt cx="1439640" cy="576000"/>
          </a:xfrm>
        </p:grpSpPr>
        <p:sp>
          <p:nvSpPr>
            <p:cNvPr id="672" name="Line 20"/>
            <p:cNvSpPr/>
            <p:nvPr/>
          </p:nvSpPr>
          <p:spPr>
            <a:xfrm>
              <a:off x="2219400" y="2500200"/>
              <a:ext cx="0" cy="57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21"/>
            <p:cNvSpPr/>
            <p:nvPr/>
          </p:nvSpPr>
          <p:spPr>
            <a:xfrm>
              <a:off x="2219400" y="3076200"/>
              <a:ext cx="1439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Rectangle 19"/>
          <p:cNvSpPr/>
          <p:nvPr/>
        </p:nvSpPr>
        <p:spPr>
          <a:xfrm>
            <a:off x="1571760" y="243036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6"/>
          <p:cNvSpPr/>
          <p:nvPr/>
        </p:nvSpPr>
        <p:spPr>
          <a:xfrm>
            <a:off x="2793960" y="315108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2795760" y="3943440"/>
            <a:ext cx="64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8"/>
          <p:cNvSpPr/>
          <p:nvPr/>
        </p:nvSpPr>
        <p:spPr>
          <a:xfrm>
            <a:off x="1643040" y="315108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25"/>
          <p:cNvGrpSpPr/>
          <p:nvPr/>
        </p:nvGrpSpPr>
        <p:grpSpPr>
          <a:xfrm>
            <a:off x="2435400" y="3079800"/>
            <a:ext cx="1223640" cy="647640"/>
            <a:chOff x="2435400" y="3079800"/>
            <a:chExt cx="1223640" cy="647640"/>
          </a:xfrm>
        </p:grpSpPr>
        <p:sp>
          <p:nvSpPr>
            <p:cNvPr id="679" name="Line 22"/>
            <p:cNvSpPr/>
            <p:nvPr/>
          </p:nvSpPr>
          <p:spPr>
            <a:xfrm>
              <a:off x="2435400" y="3079800"/>
              <a:ext cx="0" cy="647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2435400" y="3727440"/>
              <a:ext cx="1223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15"/>
          <p:cNvSpPr/>
          <p:nvPr/>
        </p:nvSpPr>
        <p:spPr>
          <a:xfrm>
            <a:off x="6108840" y="2428920"/>
            <a:ext cx="64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24"/>
          <p:cNvGrpSpPr/>
          <p:nvPr/>
        </p:nvGrpSpPr>
        <p:grpSpPr>
          <a:xfrm>
            <a:off x="5748480" y="2500200"/>
            <a:ext cx="1439640" cy="576000"/>
            <a:chOff x="5748480" y="2500200"/>
            <a:chExt cx="1439640" cy="576000"/>
          </a:xfrm>
        </p:grpSpPr>
        <p:sp>
          <p:nvSpPr>
            <p:cNvPr id="683" name="Line 20"/>
            <p:cNvSpPr/>
            <p:nvPr/>
          </p:nvSpPr>
          <p:spPr>
            <a:xfrm>
              <a:off x="5748480" y="2500200"/>
              <a:ext cx="0" cy="57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1"/>
            <p:cNvSpPr/>
            <p:nvPr/>
          </p:nvSpPr>
          <p:spPr>
            <a:xfrm>
              <a:off x="5748480" y="3076200"/>
              <a:ext cx="1439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19"/>
          <p:cNvSpPr/>
          <p:nvPr/>
        </p:nvSpPr>
        <p:spPr>
          <a:xfrm>
            <a:off x="5099040" y="243036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6108840" y="315108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6324480" y="3943440"/>
            <a:ext cx="64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5172120" y="315108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25"/>
          <p:cNvGrpSpPr/>
          <p:nvPr/>
        </p:nvGrpSpPr>
        <p:grpSpPr>
          <a:xfrm>
            <a:off x="5964120" y="3079800"/>
            <a:ext cx="1224000" cy="647640"/>
            <a:chOff x="5964120" y="3079800"/>
            <a:chExt cx="1224000" cy="647640"/>
          </a:xfrm>
        </p:grpSpPr>
        <p:sp>
          <p:nvSpPr>
            <p:cNvPr id="690" name="Line 22"/>
            <p:cNvSpPr/>
            <p:nvPr/>
          </p:nvSpPr>
          <p:spPr>
            <a:xfrm>
              <a:off x="5964120" y="3079800"/>
              <a:ext cx="0" cy="647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3"/>
            <p:cNvSpPr/>
            <p:nvPr/>
          </p:nvSpPr>
          <p:spPr>
            <a:xfrm>
              <a:off x="5964120" y="3727440"/>
              <a:ext cx="1224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Rectangle 28"/>
          <p:cNvSpPr/>
          <p:nvPr/>
        </p:nvSpPr>
        <p:spPr>
          <a:xfrm>
            <a:off x="1643040" y="4735440"/>
            <a:ext cx="335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×3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8"/>
          <p:cNvSpPr/>
          <p:nvPr/>
        </p:nvSpPr>
        <p:spPr>
          <a:xfrm>
            <a:off x="5143680" y="4708440"/>
            <a:ext cx="3357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×3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3"/>
          <p:cNvSpPr/>
          <p:nvPr/>
        </p:nvSpPr>
        <p:spPr>
          <a:xfrm>
            <a:off x="1835280" y="1503360"/>
            <a:ext cx="64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428840" y="234144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2357280" y="234144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2000160" y="3341520"/>
            <a:ext cx="3780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2921040" y="3335400"/>
            <a:ext cx="436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26"/>
          <p:cNvGrpSpPr/>
          <p:nvPr/>
        </p:nvGrpSpPr>
        <p:grpSpPr>
          <a:xfrm>
            <a:off x="1643040" y="2127240"/>
            <a:ext cx="882360" cy="285840"/>
            <a:chOff x="1643040" y="2127240"/>
            <a:chExt cx="882360" cy="285840"/>
          </a:xfrm>
        </p:grpSpPr>
        <p:sp>
          <p:nvSpPr>
            <p:cNvPr id="700" name="Line 9"/>
            <p:cNvSpPr/>
            <p:nvPr/>
          </p:nvSpPr>
          <p:spPr>
            <a:xfrm flipH="1">
              <a:off x="1643040" y="2127240"/>
              <a:ext cx="371520" cy="285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1"/>
            <p:cNvSpPr/>
            <p:nvPr/>
          </p:nvSpPr>
          <p:spPr>
            <a:xfrm>
              <a:off x="2201040" y="2127240"/>
              <a:ext cx="324360" cy="285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7"/>
          <p:cNvGrpSpPr/>
          <p:nvPr/>
        </p:nvGrpSpPr>
        <p:grpSpPr>
          <a:xfrm>
            <a:off x="2197080" y="2984400"/>
            <a:ext cx="874440" cy="376200"/>
            <a:chOff x="2197080" y="2984400"/>
            <a:chExt cx="874440" cy="376200"/>
          </a:xfrm>
        </p:grpSpPr>
        <p:sp>
          <p:nvSpPr>
            <p:cNvPr id="703" name="Line 10"/>
            <p:cNvSpPr/>
            <p:nvPr/>
          </p:nvSpPr>
          <p:spPr>
            <a:xfrm>
              <a:off x="2749680" y="2984400"/>
              <a:ext cx="32184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"/>
            <p:cNvSpPr/>
            <p:nvPr/>
          </p:nvSpPr>
          <p:spPr>
            <a:xfrm flipH="1">
              <a:off x="2197080" y="2984400"/>
              <a:ext cx="276480" cy="376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Rectangle 15"/>
          <p:cNvSpPr/>
          <p:nvPr/>
        </p:nvSpPr>
        <p:spPr>
          <a:xfrm>
            <a:off x="5794200" y="169848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6"/>
          <p:cNvSpPr/>
          <p:nvPr/>
        </p:nvSpPr>
        <p:spPr>
          <a:xfrm>
            <a:off x="5794200" y="241776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7"/>
          <p:cNvSpPr/>
          <p:nvPr/>
        </p:nvSpPr>
        <p:spPr>
          <a:xfrm>
            <a:off x="6010200" y="3016080"/>
            <a:ext cx="6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8"/>
          <p:cNvSpPr/>
          <p:nvPr/>
        </p:nvSpPr>
        <p:spPr>
          <a:xfrm>
            <a:off x="4857840" y="241776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9"/>
          <p:cNvSpPr/>
          <p:nvPr/>
        </p:nvSpPr>
        <p:spPr>
          <a:xfrm>
            <a:off x="4857840" y="1698480"/>
            <a:ext cx="64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24"/>
          <p:cNvGrpSpPr/>
          <p:nvPr/>
        </p:nvGrpSpPr>
        <p:grpSpPr>
          <a:xfrm>
            <a:off x="5433840" y="1770120"/>
            <a:ext cx="1440000" cy="576000"/>
            <a:chOff x="5433840" y="1770120"/>
            <a:chExt cx="1440000" cy="576000"/>
          </a:xfrm>
        </p:grpSpPr>
        <p:sp>
          <p:nvSpPr>
            <p:cNvPr id="711" name="Line 20"/>
            <p:cNvSpPr/>
            <p:nvPr/>
          </p:nvSpPr>
          <p:spPr>
            <a:xfrm>
              <a:off x="5433840" y="1770120"/>
              <a:ext cx="0" cy="57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>
              <a:off x="5433840" y="2346120"/>
              <a:ext cx="1440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5"/>
          <p:cNvGrpSpPr/>
          <p:nvPr/>
        </p:nvGrpSpPr>
        <p:grpSpPr>
          <a:xfrm>
            <a:off x="5649840" y="2346480"/>
            <a:ext cx="1224000" cy="647640"/>
            <a:chOff x="5649840" y="2346480"/>
            <a:chExt cx="1224000" cy="647640"/>
          </a:xfrm>
        </p:grpSpPr>
        <p:sp>
          <p:nvSpPr>
            <p:cNvPr id="714" name="Line 22"/>
            <p:cNvSpPr/>
            <p:nvPr/>
          </p:nvSpPr>
          <p:spPr>
            <a:xfrm>
              <a:off x="5649840" y="2346480"/>
              <a:ext cx="0" cy="647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3"/>
            <p:cNvSpPr/>
            <p:nvPr/>
          </p:nvSpPr>
          <p:spPr>
            <a:xfrm>
              <a:off x="5649840" y="2994120"/>
              <a:ext cx="1224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28"/>
          <p:cNvSpPr/>
          <p:nvPr/>
        </p:nvSpPr>
        <p:spPr>
          <a:xfrm>
            <a:off x="4788000" y="3591000"/>
            <a:ext cx="3357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×3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650880" y="4272120"/>
            <a:ext cx="7921800" cy="187164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写成素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乘的形式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素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一个合数写成用素因数相乘的形式表示出来，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解素因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8"/>
          <p:cNvSpPr/>
          <p:nvPr/>
        </p:nvSpPr>
        <p:spPr>
          <a:xfrm>
            <a:off x="1187280" y="928800"/>
            <a:ext cx="7272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成几个素数相乘的形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14"/>
          <p:cNvSpPr/>
          <p:nvPr/>
        </p:nvSpPr>
        <p:spPr>
          <a:xfrm>
            <a:off x="1285920" y="1071720"/>
            <a:ext cx="592920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把下面各数分解素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  35  45  77  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1785960" y="1727280"/>
            <a:ext cx="3929040" cy="4024080"/>
          </a:xfrm>
          <a:custGeom>
            <a:avLst/>
            <a:gdLst>
              <a:gd name="textAreaLeft" fmla="*/ 365760 w 3929040"/>
              <a:gd name="textAreaRight" fmla="*/ 3563280 w 3929040"/>
              <a:gd name="textAreaTop" fmla="*/ 365760 h 4024080"/>
              <a:gd name="textAreaBottom" fmla="*/ 3658320 h 4024080"/>
            </a:gdLst>
            <a:ahLst/>
            <a:rect l="textAreaLeft" t="textAreaTop" r="textAreaRight" b="textAreaBottom"/>
            <a:pathLst>
              <a:path w="21600" h="22122">
                <a:moveTo>
                  <a:pt x="6866" y="0"/>
                </a:moveTo>
                <a:arcTo wR="6866" hR="6866" stAng="16200000" swAng="-5400000"/>
                <a:lnTo>
                  <a:pt x="0" y="15256"/>
                </a:lnTo>
                <a:arcTo wR="6866" hR="6866" stAng="10800000" swAng="-5400000"/>
                <a:lnTo>
                  <a:pt x="14734" y="22122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2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3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×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3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14"/>
          <p:cNvSpPr/>
          <p:nvPr/>
        </p:nvSpPr>
        <p:spPr>
          <a:xfrm>
            <a:off x="428760" y="1143000"/>
            <a:ext cx="792936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三个数分解素因数，并指出这三个数有哪些公有的素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8"/>
          <p:cNvSpPr/>
          <p:nvPr/>
        </p:nvSpPr>
        <p:spPr>
          <a:xfrm>
            <a:off x="2786040" y="2190600"/>
            <a:ext cx="3857760" cy="221220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3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2×2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2×3×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有的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2:17Z</dcterms:modified>
  <cp:revision>1</cp:revision>
  <dc:subject/>
  <dc:title/>
</cp:coreProperties>
</file>