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30.wmf" ContentType="image/x-wmf"/>
  <Override PartName="/ppt/media/image33.jpeg" ContentType="image/jpeg"/>
  <Override PartName="/ppt/media/image28.wmf" ContentType="image/x-wmf"/>
  <Override PartName="/ppt/media/image8.wmf" ContentType="image/x-wmf"/>
  <Override PartName="/ppt/media/image13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D3ED-199C-4482-9CF1-F4038B657A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756F-B513-4542-A0F8-1F2715FA92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0A1-36C8-4717-B134-01098BBA6DD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D3F7-E987-4837-A968-44FEABF30B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CD1-7335-4462-83C5-7CE6BE46AC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25F-4C8F-4F6B-BD43-75CA8BA7758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FD42-3018-4DFA-80A9-8248797747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7CB-F338-42BB-A2BE-B731F19190E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7FBB-8C52-4F88-B6E1-7F75F6EA15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36F5-CC47-4009-B4BE-4AD7AE10FD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6229-E141-4803-B71C-834C6B08A50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1CC-B2E3-47C3-97D9-BCAF126E0D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DEA4-86D6-4F99-B85F-50E49F65DC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CD05-6BB4-4F62-91F2-20E5AB6658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BFDD-E332-4499-80A3-1A5DDDDE60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502-8D14-4A68-8D3B-07F88442DD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C80-F5C9-4CD9-83B9-ABDB9AEA56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9AC5-507A-4EF1-B05D-3115508D8DE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F315-3894-4581-839D-C4A11E07658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5D6D-D26F-41A8-B505-F20D2BA010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0C5-93D5-4C87-886C-005178DC422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AE44-3DD8-451B-BBA8-EFE79C6993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80E1-9B10-4890-8CE6-A85D3DDA10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B5D-216D-49E8-AE20-CB97909A3E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29B-B6A0-4FE8-A030-1995CDBC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B6A-222B-45C0-BDD6-81D9FF8C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837-CAC7-40FF-B298-D27BEF0F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607C-E933-4772-824D-4C6777B2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1D31-2AF5-444D-AE26-AF8DC033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356-2DBA-435B-AC1A-254A5EB4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8D8-11C8-4E8D-8C72-636DD438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599-383F-41D5-93F3-113C4884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DAD5-5C30-4671-8C12-9C54C3A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0DD-2D9A-41C8-BDA0-646B0919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083-9AB7-424E-B8DD-80D90F0C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9B6-A267-4640-A35C-0CD4BBAA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5CDC-A88B-43E9-8837-3EF6B17472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1484280" y="2692440"/>
            <a:ext cx="7607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分数与除法的关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300320" y="609480"/>
            <a:ext cx="730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分数与除法之间有什么关系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11"/>
          <p:cNvGrpSpPr/>
          <p:nvPr/>
        </p:nvGrpSpPr>
        <p:grpSpPr>
          <a:xfrm>
            <a:off x="1093680" y="5484960"/>
            <a:ext cx="6942240" cy="838080"/>
            <a:chOff x="1093680" y="5484960"/>
            <a:chExt cx="6942240" cy="838080"/>
          </a:xfrm>
        </p:grpSpPr>
        <p:sp>
          <p:nvSpPr>
            <p:cNvPr id="134" name="TextBox 2"/>
            <p:cNvSpPr/>
            <p:nvPr/>
          </p:nvSpPr>
          <p:spPr>
            <a:xfrm>
              <a:off x="1093680" y="5584680"/>
              <a:ext cx="694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用字母表示：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   0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35" name="对象 9"/>
            <p:cNvGraphicFramePr/>
            <p:nvPr/>
          </p:nvGraphicFramePr>
          <p:xfrm>
            <a:off x="5055120" y="5484960"/>
            <a:ext cx="226800" cy="83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对象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55120" y="5484960"/>
                      <a:ext cx="2268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对象 10"/>
            <p:cNvGraphicFramePr/>
            <p:nvPr/>
          </p:nvGraphicFramePr>
          <p:xfrm>
            <a:off x="5963040" y="5725080"/>
            <a:ext cx="278280" cy="30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对象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63040" y="5725080"/>
                      <a:ext cx="278280" cy="30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9" name="对象 1"/>
          <p:cNvGraphicFramePr/>
          <p:nvPr/>
        </p:nvGraphicFramePr>
        <p:xfrm>
          <a:off x="6505560" y="2208240"/>
          <a:ext cx="2025720" cy="189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对象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5560" y="2208240"/>
                    <a:ext cx="202572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Box 8"/>
          <p:cNvSpPr/>
          <p:nvPr/>
        </p:nvSpPr>
        <p:spPr>
          <a:xfrm>
            <a:off x="1765440" y="2706840"/>
            <a:ext cx="372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除数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÷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被除数＝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584800" y="3397320"/>
            <a:ext cx="281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en-US" sz="8000" spc="-1" strike="noStrike">
                <a:solidFill>
                  <a:srgbClr val="0000ff"/>
                </a:solidFill>
                <a:latin typeface="宋体"/>
                <a:ea typeface="Times New Roman"/>
              </a:rPr>
              <a:t>÷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4767840" y="3124080"/>
            <a:ext cx="2312640" cy="1846800"/>
            <a:chOff x="4767840" y="3124080"/>
            <a:chExt cx="2312640" cy="1846800"/>
          </a:xfrm>
        </p:grpSpPr>
        <p:sp>
          <p:nvSpPr>
            <p:cNvPr id="145" name="Text Box 5"/>
            <p:cNvSpPr/>
            <p:nvPr/>
          </p:nvSpPr>
          <p:spPr>
            <a:xfrm>
              <a:off x="4952160" y="3962520"/>
              <a:ext cx="212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 flipV="1">
              <a:off x="5015160" y="4037760"/>
              <a:ext cx="154764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 Box 7"/>
            <p:cNvSpPr/>
            <p:nvPr/>
          </p:nvSpPr>
          <p:spPr>
            <a:xfrm>
              <a:off x="4767840" y="3124080"/>
              <a:ext cx="216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 Box 8"/>
          <p:cNvSpPr/>
          <p:nvPr/>
        </p:nvSpPr>
        <p:spPr>
          <a:xfrm>
            <a:off x="5618880" y="2971800"/>
            <a:ext cx="59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2699640" y="3402000"/>
            <a:ext cx="307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8000" spc="-1" strike="noStrike">
                <a:solidFill>
                  <a:srgbClr val="0000ff"/>
                </a:solidFill>
                <a:latin typeface="宋体"/>
                <a:ea typeface="Times New Roman"/>
              </a:rPr>
              <a:t>÷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5039280" y="3137040"/>
            <a:ext cx="2313720" cy="1846800"/>
            <a:chOff x="5039280" y="3137040"/>
            <a:chExt cx="2313720" cy="1846800"/>
          </a:xfrm>
        </p:grpSpPr>
        <p:sp>
          <p:nvSpPr>
            <p:cNvPr id="152" name="Text Box 5"/>
            <p:cNvSpPr/>
            <p:nvPr/>
          </p:nvSpPr>
          <p:spPr>
            <a:xfrm>
              <a:off x="5224680" y="3975480"/>
              <a:ext cx="212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Line 6"/>
            <p:cNvSpPr/>
            <p:nvPr/>
          </p:nvSpPr>
          <p:spPr>
            <a:xfrm flipV="1">
              <a:off x="5286600" y="4050720"/>
              <a:ext cx="154872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7"/>
            <p:cNvSpPr/>
            <p:nvPr/>
          </p:nvSpPr>
          <p:spPr>
            <a:xfrm>
              <a:off x="5039280" y="3137040"/>
              <a:ext cx="2168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8"/>
          <p:cNvSpPr/>
          <p:nvPr/>
        </p:nvSpPr>
        <p:spPr>
          <a:xfrm>
            <a:off x="5782320" y="3002040"/>
            <a:ext cx="59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368800" y="3376440"/>
            <a:ext cx="30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÷9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4767840" y="3124080"/>
            <a:ext cx="2312640" cy="1846800"/>
            <a:chOff x="4767840" y="3124080"/>
            <a:chExt cx="2312640" cy="1846800"/>
          </a:xfrm>
        </p:grpSpPr>
        <p:sp>
          <p:nvSpPr>
            <p:cNvPr id="159" name="Text Box 5"/>
            <p:cNvSpPr/>
            <p:nvPr/>
          </p:nvSpPr>
          <p:spPr>
            <a:xfrm>
              <a:off x="4952160" y="3962520"/>
              <a:ext cx="212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Line 6"/>
            <p:cNvSpPr/>
            <p:nvPr/>
          </p:nvSpPr>
          <p:spPr>
            <a:xfrm flipV="1">
              <a:off x="5015160" y="4037760"/>
              <a:ext cx="154764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 Box 7"/>
            <p:cNvSpPr/>
            <p:nvPr/>
          </p:nvSpPr>
          <p:spPr>
            <a:xfrm>
              <a:off x="4767840" y="3124080"/>
              <a:ext cx="2166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Text Box 8"/>
          <p:cNvSpPr/>
          <p:nvPr/>
        </p:nvSpPr>
        <p:spPr>
          <a:xfrm>
            <a:off x="5478480" y="3002040"/>
            <a:ext cx="59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330640" y="3402000"/>
            <a:ext cx="30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÷7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4767840" y="3124080"/>
            <a:ext cx="2167200" cy="1846800"/>
            <a:chOff x="4767840" y="3124080"/>
            <a:chExt cx="2167200" cy="1846800"/>
          </a:xfrm>
        </p:grpSpPr>
        <p:sp>
          <p:nvSpPr>
            <p:cNvPr id="166" name="Text Box 5"/>
            <p:cNvSpPr/>
            <p:nvPr/>
          </p:nvSpPr>
          <p:spPr>
            <a:xfrm>
              <a:off x="5037840" y="3962520"/>
              <a:ext cx="1887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Calibri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 flipV="1">
              <a:off x="5015160" y="4037760"/>
              <a:ext cx="154836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 Box 7"/>
            <p:cNvSpPr/>
            <p:nvPr/>
          </p:nvSpPr>
          <p:spPr>
            <a:xfrm>
              <a:off x="4767840" y="3124080"/>
              <a:ext cx="2167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Calibri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 Box 8"/>
          <p:cNvSpPr/>
          <p:nvPr/>
        </p:nvSpPr>
        <p:spPr>
          <a:xfrm>
            <a:off x="5514480" y="3002040"/>
            <a:ext cx="60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15320" y="3124080"/>
            <a:ext cx="5775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（   ）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  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813204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78080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对象 2"/>
          <p:cNvGraphicFramePr/>
          <p:nvPr/>
        </p:nvGraphicFramePr>
        <p:xfrm>
          <a:off x="1776240" y="2521080"/>
          <a:ext cx="1001880" cy="21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2521080"/>
                    <a:ext cx="1001880" cy="2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49320" y="3124080"/>
            <a:ext cx="518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÷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903440" y="30942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797360" y="309420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对象 1"/>
          <p:cNvGraphicFramePr/>
          <p:nvPr/>
        </p:nvGraphicFramePr>
        <p:xfrm>
          <a:off x="2122560" y="2604960"/>
          <a:ext cx="89676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2560" y="2604960"/>
                    <a:ext cx="896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649320" y="3124080"/>
            <a:ext cx="518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÷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91604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76172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6" name="对象 1"/>
          <p:cNvGraphicFramePr/>
          <p:nvPr/>
        </p:nvGraphicFramePr>
        <p:xfrm>
          <a:off x="2225520" y="2811600"/>
          <a:ext cx="722520" cy="15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2811600"/>
                    <a:ext cx="722520" cy="15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49320" y="3124080"/>
            <a:ext cx="518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 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÷</a:t>
            </a:r>
            <a:r>
              <a:rPr b="1" lang="zh-CN" sz="6600" spc="-1" strike="noStrike">
                <a:solidFill>
                  <a:srgbClr val="ff0000"/>
                </a:solidFill>
                <a:latin typeface="Calibri"/>
              </a:rPr>
              <a:t>（   ）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790040" y="31240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866480" y="304812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2" name="对象 1"/>
          <p:cNvGraphicFramePr/>
          <p:nvPr/>
        </p:nvGraphicFramePr>
        <p:xfrm>
          <a:off x="2260440" y="2795760"/>
          <a:ext cx="67644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2795760"/>
                    <a:ext cx="6764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599480" y="3429000"/>
            <a:ext cx="538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   ）</a:t>
            </a: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9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7101720" y="3208320"/>
            <a:ext cx="2313360" cy="1846800"/>
            <a:chOff x="7101720" y="3208320"/>
            <a:chExt cx="2313360" cy="1846800"/>
          </a:xfrm>
        </p:grpSpPr>
        <p:sp>
          <p:nvSpPr>
            <p:cNvPr id="197" name="Text Box 5"/>
            <p:cNvSpPr/>
            <p:nvPr/>
          </p:nvSpPr>
          <p:spPr>
            <a:xfrm>
              <a:off x="7286760" y="4046760"/>
              <a:ext cx="212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V="1">
              <a:off x="7349040" y="4122000"/>
              <a:ext cx="154872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01720" y="3208320"/>
              <a:ext cx="216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 Box 8"/>
          <p:cNvSpPr/>
          <p:nvPr/>
        </p:nvSpPr>
        <p:spPr>
          <a:xfrm>
            <a:off x="8009640" y="40006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505960" y="3581280"/>
            <a:ext cx="59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rcRect l="9792" t="15844" r="48361" b="64449"/>
          <a:stretch/>
        </p:blipFill>
        <p:spPr>
          <a:xfrm>
            <a:off x="754200" y="357120"/>
            <a:ext cx="7546680" cy="61945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8764560" y="755640"/>
            <a:ext cx="62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有那些礼物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76200" y="3571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情境导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5365800" y="60948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在括号里填上合适的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239480" y="3436920"/>
            <a:ext cx="564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÷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   ） 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7092000" y="3184560"/>
            <a:ext cx="2167560" cy="1846800"/>
            <a:chOff x="7092000" y="3184560"/>
            <a:chExt cx="2167560" cy="1846800"/>
          </a:xfrm>
        </p:grpSpPr>
        <p:sp>
          <p:nvSpPr>
            <p:cNvPr id="205" name="Text Box 5"/>
            <p:cNvSpPr/>
            <p:nvPr/>
          </p:nvSpPr>
          <p:spPr>
            <a:xfrm>
              <a:off x="7102080" y="4023000"/>
              <a:ext cx="1631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Calibri"/>
                </a:rPr>
                <a:t>    </a:t>
              </a:r>
              <a:r>
                <a:rPr b="1" lang="en-US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0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 flipV="1">
              <a:off x="7339320" y="4098240"/>
              <a:ext cx="1548360" cy="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7092000" y="3184560"/>
              <a:ext cx="2167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Calibri"/>
                </a:rPr>
                <a:t>（    ）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Text Box 8"/>
          <p:cNvSpPr/>
          <p:nvPr/>
        </p:nvSpPr>
        <p:spPr>
          <a:xfrm>
            <a:off x="7777440" y="297180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895920" y="352584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72"/>
          <p:cNvPicPr/>
          <p:nvPr/>
        </p:nvPicPr>
        <p:blipFill>
          <a:blip r:embed="rId1"/>
          <a:srcRect l="60070" t="9146" r="3864" b="71926"/>
          <a:stretch/>
        </p:blipFill>
        <p:spPr>
          <a:xfrm>
            <a:off x="1238400" y="0"/>
            <a:ext cx="3165480" cy="3278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P72"/>
          <p:cNvPicPr/>
          <p:nvPr/>
        </p:nvPicPr>
        <p:blipFill>
          <a:blip r:embed="rId2"/>
          <a:srcRect l="85817" t="32702" r="1723" b="58391"/>
          <a:stretch/>
        </p:blipFill>
        <p:spPr>
          <a:xfrm>
            <a:off x="8167680" y="865080"/>
            <a:ext cx="1301760" cy="18338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4"/>
          <p:cNvSpPr/>
          <p:nvPr/>
        </p:nvSpPr>
        <p:spPr>
          <a:xfrm>
            <a:off x="4154400" y="558720"/>
            <a:ext cx="381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用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长的塑料板做了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书签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97040" y="3733920"/>
            <a:ext cx="846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均每个每个书签用多少米塑料板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4"/>
          <p:cNvGrpSpPr/>
          <p:nvPr/>
        </p:nvGrpSpPr>
        <p:grpSpPr>
          <a:xfrm>
            <a:off x="2044800" y="5514840"/>
            <a:ext cx="4087800" cy="838800"/>
            <a:chOff x="2044800" y="5514840"/>
            <a:chExt cx="4087800" cy="838800"/>
          </a:xfrm>
        </p:grpSpPr>
        <p:sp>
          <p:nvSpPr>
            <p:cNvPr id="215" name="TextBox 2"/>
            <p:cNvSpPr/>
            <p:nvPr/>
          </p:nvSpPr>
          <p:spPr>
            <a:xfrm>
              <a:off x="2044800" y="5641560"/>
              <a:ext cx="408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9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米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216" name="对象 3"/>
            <p:cNvGraphicFramePr/>
            <p:nvPr/>
          </p:nvGraphicFramePr>
          <p:xfrm>
            <a:off x="3698640" y="5514840"/>
            <a:ext cx="306720" cy="83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对象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98640" y="5514840"/>
                      <a:ext cx="306720" cy="83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944640" y="1494000"/>
            <a:ext cx="764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长得彩带平均分成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段，每段占全长的（         ），每段长（         ）米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92600" y="4303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0" name="对象 2"/>
          <p:cNvGraphicFramePr/>
          <p:nvPr/>
        </p:nvGraphicFramePr>
        <p:xfrm>
          <a:off x="3763800" y="2968560"/>
          <a:ext cx="544680" cy="16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3800" y="2968560"/>
                    <a:ext cx="54468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对象 5"/>
          <p:cNvGraphicFramePr/>
          <p:nvPr/>
        </p:nvGraphicFramePr>
        <p:xfrm>
          <a:off x="3005280" y="3940200"/>
          <a:ext cx="49500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对象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3940200"/>
                    <a:ext cx="4950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"/>
          <p:cNvSpPr/>
          <p:nvPr/>
        </p:nvSpPr>
        <p:spPr>
          <a:xfrm>
            <a:off x="1046160" y="1184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说说本节课你学会了什么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"/>
          <p:cNvPicPr/>
          <p:nvPr/>
        </p:nvPicPr>
        <p:blipFill>
          <a:blip r:embed="rId1"/>
          <a:srcRect l="63710" t="15281" r="8150" b="72759"/>
          <a:stretch/>
        </p:blipFill>
        <p:spPr>
          <a:xfrm>
            <a:off x="504720" y="1239840"/>
            <a:ext cx="3135240" cy="23223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5"/>
          <p:cNvSpPr/>
          <p:nvPr/>
        </p:nvSpPr>
        <p:spPr>
          <a:xfrm>
            <a:off x="1797120" y="544680"/>
            <a:ext cx="60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把不同质量的瓜子平均分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176720" y="1477800"/>
          <a:ext cx="4781520" cy="1159200"/>
        </p:xfrm>
        <a:graphic>
          <a:graphicData uri="http://schemas.openxmlformats.org/drawingml/2006/table">
            <a:tbl>
              <a:tblPr/>
              <a:tblGrid>
                <a:gridCol w="2403360"/>
                <a:gridCol w="774720"/>
                <a:gridCol w="785880"/>
                <a:gridCol w="817560"/>
              </a:tblGrid>
              <a:tr h="579600"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质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k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每份质量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k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1528920" y="4129200"/>
            <a:ext cx="689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瓜子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份，每份有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组合 4"/>
          <p:cNvGrpSpPr/>
          <p:nvPr/>
        </p:nvGrpSpPr>
        <p:grpSpPr>
          <a:xfrm>
            <a:off x="2452680" y="4871880"/>
            <a:ext cx="3421080" cy="838440"/>
            <a:chOff x="2452680" y="4871880"/>
            <a:chExt cx="3421080" cy="838440"/>
          </a:xfrm>
        </p:grpSpPr>
        <p:sp>
          <p:nvSpPr>
            <p:cNvPr id="57" name="TextBox 2"/>
            <p:cNvSpPr/>
            <p:nvPr/>
          </p:nvSpPr>
          <p:spPr>
            <a:xfrm>
              <a:off x="2452680" y="5028840"/>
              <a:ext cx="34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58" name="对象 3"/>
            <p:cNvGraphicFramePr/>
            <p:nvPr/>
          </p:nvGraphicFramePr>
          <p:xfrm>
            <a:off x="3853800" y="4871880"/>
            <a:ext cx="216720" cy="838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9" name="对象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53800" y="4871880"/>
                      <a:ext cx="216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文本框 7"/>
          <p:cNvSpPr/>
          <p:nvPr/>
        </p:nvSpPr>
        <p:spPr>
          <a:xfrm>
            <a:off x="341280" y="1746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1347840" y="1233360"/>
            <a:ext cx="68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瓜子平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份，每份有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组合 8"/>
          <p:cNvGrpSpPr/>
          <p:nvPr/>
        </p:nvGrpSpPr>
        <p:grpSpPr>
          <a:xfrm>
            <a:off x="2185920" y="2606760"/>
            <a:ext cx="3233880" cy="838440"/>
            <a:chOff x="2185920" y="2606760"/>
            <a:chExt cx="3233880" cy="838440"/>
          </a:xfrm>
        </p:grpSpPr>
        <p:sp>
          <p:nvSpPr>
            <p:cNvPr id="63" name="TextBox 2"/>
            <p:cNvSpPr/>
            <p:nvPr/>
          </p:nvSpPr>
          <p:spPr>
            <a:xfrm>
              <a:off x="2185920" y="2763720"/>
              <a:ext cx="323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千克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4" name="对象 4"/>
            <p:cNvGraphicFramePr/>
            <p:nvPr/>
          </p:nvGraphicFramePr>
          <p:xfrm>
            <a:off x="3405240" y="2606760"/>
            <a:ext cx="300240" cy="83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对象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05240" y="2606760"/>
                      <a:ext cx="30024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6" name="组合 9"/>
          <p:cNvGrpSpPr/>
          <p:nvPr/>
        </p:nvGrpSpPr>
        <p:grpSpPr>
          <a:xfrm>
            <a:off x="782640" y="3941640"/>
            <a:ext cx="8345520" cy="1397160"/>
            <a:chOff x="782640" y="3941640"/>
            <a:chExt cx="8345520" cy="1397160"/>
          </a:xfrm>
        </p:grpSpPr>
        <p:sp>
          <p:nvSpPr>
            <p:cNvPr id="67" name="TextBox 3"/>
            <p:cNvSpPr/>
            <p:nvPr/>
          </p:nvSpPr>
          <p:spPr>
            <a:xfrm>
              <a:off x="782640" y="3941640"/>
              <a:ext cx="83455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把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平均分成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份，每份是    ，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里面有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，所以每份有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   ，即   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68" name="对象 5"/>
            <p:cNvGraphicFramePr/>
            <p:nvPr/>
          </p:nvGraphicFramePr>
          <p:xfrm>
            <a:off x="3118680" y="4488120"/>
            <a:ext cx="216360" cy="83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对象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18680" y="4488120"/>
                      <a:ext cx="216360" cy="83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对象 6"/>
            <p:cNvGraphicFramePr/>
            <p:nvPr/>
          </p:nvGraphicFramePr>
          <p:xfrm>
            <a:off x="4930200" y="3941640"/>
            <a:ext cx="216720" cy="838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" name="对象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0200" y="3941640"/>
                      <a:ext cx="216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对象 7"/>
            <p:cNvGraphicFramePr/>
            <p:nvPr/>
          </p:nvGraphicFramePr>
          <p:xfrm>
            <a:off x="2192760" y="4500360"/>
            <a:ext cx="216720" cy="838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3" name="对象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92760" y="4500360"/>
                      <a:ext cx="216720" cy="83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92240" y="153684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瓜子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份，每份有多少千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组合 7"/>
          <p:cNvGrpSpPr/>
          <p:nvPr/>
        </p:nvGrpSpPr>
        <p:grpSpPr>
          <a:xfrm>
            <a:off x="963720" y="3382920"/>
            <a:ext cx="7348320" cy="838080"/>
            <a:chOff x="963720" y="3382920"/>
            <a:chExt cx="7348320" cy="838080"/>
          </a:xfrm>
        </p:grpSpPr>
        <p:sp>
          <p:nvSpPr>
            <p:cNvPr id="76" name="TextBox 2"/>
            <p:cNvSpPr/>
            <p:nvPr/>
          </p:nvSpPr>
          <p:spPr>
            <a:xfrm>
              <a:off x="963720" y="3539880"/>
              <a:ext cx="734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千克），每份有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   ，    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×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77" name="对象 3"/>
            <p:cNvGraphicFramePr/>
            <p:nvPr/>
          </p:nvGraphicFramePr>
          <p:xfrm>
            <a:off x="5964840" y="3382920"/>
            <a:ext cx="216360" cy="83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对象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4840" y="3382920"/>
                      <a:ext cx="2163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对象 4"/>
            <p:cNvGraphicFramePr/>
            <p:nvPr/>
          </p:nvGraphicFramePr>
          <p:xfrm>
            <a:off x="6709320" y="3382920"/>
            <a:ext cx="216360" cy="83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" name="对象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09320" y="3382920"/>
                      <a:ext cx="2163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" name="对象 5"/>
            <p:cNvGraphicFramePr/>
            <p:nvPr/>
          </p:nvGraphicFramePr>
          <p:xfrm>
            <a:off x="2343960" y="3382920"/>
            <a:ext cx="216360" cy="83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" name="对象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43960" y="3382920"/>
                      <a:ext cx="2163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对象 6"/>
            <p:cNvGraphicFramePr/>
            <p:nvPr/>
          </p:nvGraphicFramePr>
          <p:xfrm>
            <a:off x="7893360" y="3382920"/>
            <a:ext cx="216360" cy="83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对象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893360" y="3382920"/>
                      <a:ext cx="21636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4"/>
          <p:cNvSpPr/>
          <p:nvPr/>
        </p:nvSpPr>
        <p:spPr>
          <a:xfrm>
            <a:off x="647640" y="1865160"/>
            <a:ext cx="8994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一堆煤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，平均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次运完，每次运（       ）吨，每次运这堆煤的（         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长的铁丝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段，每段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（         ），每段长（        ）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7792920" y="1596960"/>
          <a:ext cx="525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2920" y="1596960"/>
                    <a:ext cx="525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8"/>
          <p:cNvGraphicFramePr/>
          <p:nvPr/>
        </p:nvGraphicFramePr>
        <p:xfrm>
          <a:off x="3738600" y="2174760"/>
          <a:ext cx="52704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8600" y="2174760"/>
                    <a:ext cx="5270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9"/>
          <p:cNvGraphicFramePr/>
          <p:nvPr/>
        </p:nvGraphicFramePr>
        <p:xfrm>
          <a:off x="8416800" y="3535200"/>
          <a:ext cx="48276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16800" y="3535200"/>
                    <a:ext cx="4827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0"/>
          <p:cNvGraphicFramePr/>
          <p:nvPr/>
        </p:nvGraphicFramePr>
        <p:xfrm>
          <a:off x="2670120" y="4206960"/>
          <a:ext cx="527040" cy="11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70120" y="4206960"/>
                    <a:ext cx="5270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rcRect l="9502" t="12206" r="50664" b="69726"/>
          <a:stretch/>
        </p:blipFill>
        <p:spPr>
          <a:xfrm>
            <a:off x="93600" y="282600"/>
            <a:ext cx="4934160" cy="55260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2"/>
          <p:cNvSpPr/>
          <p:nvPr/>
        </p:nvSpPr>
        <p:spPr>
          <a:xfrm>
            <a:off x="5603760" y="28260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人分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饼，平均每人可分到多少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6" descr=""/>
          <p:cNvPicPr/>
          <p:nvPr/>
        </p:nvPicPr>
        <p:blipFill>
          <a:blip r:embed="rId2"/>
          <a:srcRect l="15603" t="43945" r="65529" b="43853"/>
          <a:stretch/>
        </p:blipFill>
        <p:spPr>
          <a:xfrm>
            <a:off x="428760" y="549360"/>
            <a:ext cx="4481280" cy="504972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7"/>
          <p:cNvGrpSpPr/>
          <p:nvPr/>
        </p:nvGrpSpPr>
        <p:grpSpPr>
          <a:xfrm>
            <a:off x="5303880" y="2676600"/>
            <a:ext cx="4086360" cy="3028680"/>
            <a:chOff x="5303880" y="2676600"/>
            <a:chExt cx="4086360" cy="3028680"/>
          </a:xfrm>
        </p:grpSpPr>
        <p:sp>
          <p:nvSpPr>
            <p:cNvPr id="98" name="TextBox 1"/>
            <p:cNvSpPr/>
            <p:nvPr/>
          </p:nvSpPr>
          <p:spPr>
            <a:xfrm>
              <a:off x="5303880" y="2676600"/>
              <a:ext cx="408636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人分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月饼，就是把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月饼平均分成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份，每份是这个月饼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99" name="对象 2"/>
            <p:cNvGraphicFramePr/>
            <p:nvPr/>
          </p:nvGraphicFramePr>
          <p:xfrm>
            <a:off x="5905080" y="4879800"/>
            <a:ext cx="216360" cy="825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对象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5080" y="4879800"/>
                      <a:ext cx="2163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1" name="组合 8"/>
          <p:cNvGrpSpPr/>
          <p:nvPr/>
        </p:nvGrpSpPr>
        <p:grpSpPr>
          <a:xfrm>
            <a:off x="5603760" y="5518080"/>
            <a:ext cx="2487600" cy="825480"/>
            <a:chOff x="5603760" y="5518080"/>
            <a:chExt cx="2487600" cy="825480"/>
          </a:xfrm>
        </p:grpSpPr>
        <p:sp>
          <p:nvSpPr>
            <p:cNvPr id="102" name="TextBox 3"/>
            <p:cNvSpPr/>
            <p:nvPr/>
          </p:nvSpPr>
          <p:spPr>
            <a:xfrm>
              <a:off x="5603760" y="5691600"/>
              <a:ext cx="248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03" name="对象 4"/>
            <p:cNvGraphicFramePr/>
            <p:nvPr/>
          </p:nvGraphicFramePr>
          <p:xfrm>
            <a:off x="7142040" y="5518080"/>
            <a:ext cx="216360" cy="82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4" name="对象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142040" y="5518080"/>
                      <a:ext cx="21636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/>
          <a:srcRect l="50216" t="12206" r="7122" b="69726"/>
          <a:stretch/>
        </p:blipFill>
        <p:spPr>
          <a:xfrm>
            <a:off x="93600" y="682560"/>
            <a:ext cx="5383440" cy="562788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2"/>
          <p:cNvSpPr/>
          <p:nvPr/>
        </p:nvSpPr>
        <p:spPr>
          <a:xfrm>
            <a:off x="5376960" y="682560"/>
            <a:ext cx="431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人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饼，平均每人可分到多少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4" descr=""/>
          <p:cNvPicPr/>
          <p:nvPr/>
        </p:nvPicPr>
        <p:blipFill>
          <a:blip r:embed="rId2"/>
          <a:srcRect l="13022" t="56781" r="65145" b="23983"/>
          <a:stretch/>
        </p:blipFill>
        <p:spPr>
          <a:xfrm>
            <a:off x="403200" y="392040"/>
            <a:ext cx="4818240" cy="5112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" descr=""/>
          <p:cNvPicPr/>
          <p:nvPr/>
        </p:nvPicPr>
        <p:blipFill>
          <a:blip r:embed="rId3"/>
          <a:srcRect l="57716" t="70460" r="13589" b="21255"/>
          <a:stretch/>
        </p:blipFill>
        <p:spPr>
          <a:xfrm>
            <a:off x="127080" y="1878120"/>
            <a:ext cx="5349960" cy="2692440"/>
          </a:xfrm>
          <a:prstGeom prst="rect">
            <a:avLst/>
          </a:prstGeom>
          <a:ln w="0">
            <a:noFill/>
          </a:ln>
        </p:spPr>
      </p:pic>
      <p:grpSp>
        <p:nvGrpSpPr>
          <p:cNvPr id="109" name="组合 7"/>
          <p:cNvGrpSpPr/>
          <p:nvPr/>
        </p:nvGrpSpPr>
        <p:grpSpPr>
          <a:xfrm>
            <a:off x="5489640" y="2581200"/>
            <a:ext cx="4087800" cy="2966400"/>
            <a:chOff x="5489640" y="2581200"/>
            <a:chExt cx="4087800" cy="2966400"/>
          </a:xfrm>
        </p:grpSpPr>
        <p:sp>
          <p:nvSpPr>
            <p:cNvPr id="110" name="TextBox 8"/>
            <p:cNvSpPr/>
            <p:nvPr/>
          </p:nvSpPr>
          <p:spPr>
            <a:xfrm>
              <a:off x="5489640" y="2581200"/>
              <a:ext cx="408780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人分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月饼，就是把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个月饼平均分成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份，每份是这个月饼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11" name="对象 9"/>
            <p:cNvGraphicFramePr/>
            <p:nvPr/>
          </p:nvGraphicFramePr>
          <p:xfrm>
            <a:off x="6235920" y="4722480"/>
            <a:ext cx="216720" cy="825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2" name="对象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235920" y="4722480"/>
                      <a:ext cx="216720" cy="82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3" name="组合 10"/>
          <p:cNvGrpSpPr/>
          <p:nvPr/>
        </p:nvGrpSpPr>
        <p:grpSpPr>
          <a:xfrm>
            <a:off x="5878440" y="5423040"/>
            <a:ext cx="2224080" cy="825480"/>
            <a:chOff x="5878440" y="5423040"/>
            <a:chExt cx="2224080" cy="825480"/>
          </a:xfrm>
        </p:grpSpPr>
        <p:sp>
          <p:nvSpPr>
            <p:cNvPr id="114" name="TextBox 11"/>
            <p:cNvSpPr/>
            <p:nvPr/>
          </p:nvSpPr>
          <p:spPr>
            <a:xfrm>
              <a:off x="5878440" y="559656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÷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15" name="对象 12"/>
            <p:cNvGraphicFramePr/>
            <p:nvPr/>
          </p:nvGraphicFramePr>
          <p:xfrm>
            <a:off x="7214040" y="5423040"/>
            <a:ext cx="216720" cy="825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6" name="对象 1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214040" y="5423040"/>
                      <a:ext cx="216720" cy="82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1120680" y="1795320"/>
            <a:ext cx="867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既可以看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（      ），又可以看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（       ）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的（      ）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吨的（     ）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Object 10"/>
          <p:cNvGraphicFramePr/>
          <p:nvPr/>
        </p:nvGraphicFramePr>
        <p:xfrm>
          <a:off x="5664240" y="1790640"/>
          <a:ext cx="525600" cy="117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4240" y="1790640"/>
                    <a:ext cx="525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1"/>
          <p:cNvGraphicFramePr/>
          <p:nvPr/>
        </p:nvGraphicFramePr>
        <p:xfrm>
          <a:off x="1641600" y="2525760"/>
          <a:ext cx="52524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1600" y="2525760"/>
                    <a:ext cx="5252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2"/>
          <p:cNvGraphicFramePr/>
          <p:nvPr/>
        </p:nvGraphicFramePr>
        <p:xfrm>
          <a:off x="4992840" y="3440160"/>
          <a:ext cx="525240" cy="117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440160"/>
                    <a:ext cx="5252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3"/>
          <p:cNvGraphicFramePr/>
          <p:nvPr/>
        </p:nvGraphicFramePr>
        <p:xfrm>
          <a:off x="8915400" y="3481560"/>
          <a:ext cx="525600" cy="116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915400" y="3481560"/>
                    <a:ext cx="525600" cy="11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0"/>
          <p:cNvGraphicFramePr/>
          <p:nvPr/>
        </p:nvGraphicFramePr>
        <p:xfrm>
          <a:off x="6146640" y="3427560"/>
          <a:ext cx="525600" cy="117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46640" y="3427560"/>
                    <a:ext cx="525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0"/>
          <p:cNvGraphicFramePr/>
          <p:nvPr/>
        </p:nvGraphicFramePr>
        <p:xfrm>
          <a:off x="1427040" y="3424320"/>
          <a:ext cx="525600" cy="11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9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27040" y="3424320"/>
                    <a:ext cx="52560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1"/>
          <p:cNvGraphicFramePr/>
          <p:nvPr/>
        </p:nvGraphicFramePr>
        <p:xfrm>
          <a:off x="1498680" y="1739880"/>
          <a:ext cx="525240" cy="117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1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98680" y="1739880"/>
                    <a:ext cx="52524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4:25:34Z</dcterms:created>
  <dc:creator/>
  <dc:description/>
  <cp:keywords/>
  <dc:language>en-US</dc:language>
  <cp:lastModifiedBy/>
  <dcterms:modified xsi:type="dcterms:W3CDTF">2017-12-23T03:45:10Z</dcterms:modified>
  <cp:revision>1</cp:revision>
  <dc:subject/>
  <dc:title/>
</cp:coreProperties>
</file>