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coin.wav" ContentType="audio/x-wav"/>
  <Override PartName="/ppt/media/image4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9CFF-2D02-4CDA-9D6B-28175D67EE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6261-1902-4AD0-8C22-FA3475DD2B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9494-540D-4925-9869-D15CAC4065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B993-AA42-47BF-AD75-602F164E98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28B9-3C35-48E9-8DB3-1D824CE864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F321-1328-4717-8467-3EB1586612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C2C9-E156-4A65-99C0-888DA13A40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789B-D2FB-4846-A12F-BDE6A1A46E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810C-68D6-4708-AE08-4B0C57FB71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7633-DFE3-41FE-A80E-3357DA4906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0C19-5FCD-49E4-8987-465D9FE063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3E09-00A7-4013-AFA3-97B08CEC5D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EB77-CA5D-401B-A46C-C4938B7D70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5E8-9794-436A-A477-104C0520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B13-F909-44E8-8153-FD3625F0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1FA-71B2-4AA2-B46A-71BE9908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4E4-7AA6-46F8-ABD7-F91B666D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406-972C-4613-A30F-00AF73AD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E72-D4FF-43AA-828A-93413D2A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E01-2D33-4A6D-B40B-CAC831A0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513-8612-4C8B-BEE1-2E0B7AA5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54B-5E85-450C-A8AD-EE57DD5A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F1A-3712-420B-8A18-5EBECF9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1C7-E902-4676-99DF-0894DF7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705-A506-4978-B813-0B311D5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DBA-EB21-40B9-A291-6473EAE5F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 rot="10800000">
            <a:off x="6156360" y="5229360"/>
            <a:ext cx="2448000" cy="5745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4427640" y="2924280"/>
            <a:ext cx="1439640" cy="576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"/>
          <p:cNvSpPr/>
          <p:nvPr/>
        </p:nvSpPr>
        <p:spPr>
          <a:xfrm rot="10800000">
            <a:off x="4643280" y="4221000"/>
            <a:ext cx="865440" cy="93672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/>
          <p:cNvSpPr/>
          <p:nvPr/>
        </p:nvSpPr>
        <p:spPr>
          <a:xfrm rot="10800000">
            <a:off x="3276360" y="4292280"/>
            <a:ext cx="863640" cy="93492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995640" y="4292640"/>
            <a:ext cx="863640" cy="865080"/>
          </a:xfrm>
          <a:prstGeom prst="triangle">
            <a:avLst>
              <a:gd name="adj" fmla="val 500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7"/>
          <p:cNvSpPr/>
          <p:nvPr/>
        </p:nvSpPr>
        <p:spPr>
          <a:xfrm rot="16200000">
            <a:off x="3348000" y="3141360"/>
            <a:ext cx="576360" cy="1439640"/>
          </a:xfrm>
          <a:prstGeom prst="rtTriangl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4572000" y="3573360"/>
            <a:ext cx="1368360" cy="57636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9"/>
          <p:cNvSpPr/>
          <p:nvPr/>
        </p:nvSpPr>
        <p:spPr>
          <a:xfrm rot="19648800">
            <a:off x="5219280" y="4149720"/>
            <a:ext cx="1440000" cy="8618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"/>
          <p:cNvSpPr/>
          <p:nvPr/>
        </p:nvSpPr>
        <p:spPr>
          <a:xfrm rot="1494600">
            <a:off x="2268360" y="4149720"/>
            <a:ext cx="1474920" cy="863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1"/>
          <p:cNvSpPr/>
          <p:nvPr/>
        </p:nvSpPr>
        <p:spPr>
          <a:xfrm rot="10800000">
            <a:off x="1979640" y="5373720"/>
            <a:ext cx="2016000" cy="503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3276720" y="5300640"/>
            <a:ext cx="2736720" cy="57636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3"/>
          <p:cNvSpPr/>
          <p:nvPr/>
        </p:nvSpPr>
        <p:spPr>
          <a:xfrm rot="12361800">
            <a:off x="468000" y="5300280"/>
            <a:ext cx="2303280" cy="57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4"/>
          <p:cNvSpPr/>
          <p:nvPr/>
        </p:nvSpPr>
        <p:spPr>
          <a:xfrm rot="11804400">
            <a:off x="5024160" y="5519160"/>
            <a:ext cx="2303280" cy="3603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WordArt 15" descr=""/>
          <p:cNvPicPr/>
          <p:nvPr/>
        </p:nvPicPr>
        <p:blipFill>
          <a:blip r:embed="rId1"/>
          <a:stretch/>
        </p:blipFill>
        <p:spPr>
          <a:xfrm>
            <a:off x="1036800" y="360360"/>
            <a:ext cx="5918040" cy="3144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3419640" y="6165720"/>
            <a:ext cx="37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  <p:sndAc>
      <p:stSnd>
        <p:snd r:embed="rId2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1214280" y="187164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小明拿的三角形没有钝角，它可能是什么三角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14200" y="214200"/>
            <a:ext cx="350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609560" y="3659040"/>
            <a:ext cx="23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角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673440" y="364320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或者是锐角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1619280" y="765000"/>
            <a:ext cx="487692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课小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403280" y="3357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通过本节课的学习，说一说你收获到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5"/>
          <p:cNvSpPr/>
          <p:nvPr/>
        </p:nvSpPr>
        <p:spPr>
          <a:xfrm>
            <a:off x="900000" y="907920"/>
            <a:ext cx="0" cy="15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1643040" y="836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1623960" y="25653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623960" y="836640"/>
            <a:ext cx="259092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641600" y="24210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85724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-36360" y="10152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900000" y="3789360"/>
            <a:ext cx="57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已经知道，像这样的有一个角是直角的三角形叫做直角三角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V="1">
            <a:off x="5076720" y="907560"/>
            <a:ext cx="1366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6443640" y="907920"/>
            <a:ext cx="57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 flipV="1">
            <a:off x="5076720" y="1773000"/>
            <a:ext cx="1943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6372360" y="981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6443640" y="1052640"/>
            <a:ext cx="730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0" descr="img(74)01"/>
          <p:cNvPicPr/>
          <p:nvPr/>
        </p:nvPicPr>
        <p:blipFill>
          <a:blip r:embed="rId1"/>
          <a:stretch/>
        </p:blipFill>
        <p:spPr>
          <a:xfrm>
            <a:off x="7122960" y="2997360"/>
            <a:ext cx="1194120" cy="122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2960" y="2714400"/>
            <a:ext cx="798336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26920" y="4076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图中②和④是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755640" y="4581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在用量角器量一量其他三角形的三个角，并分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84360" y="515772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个角都是锐角的三角形有（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4360" y="573408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个角是钝角的三角形有（   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380200" y="515772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5364000" y="5718240"/>
            <a:ext cx="13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142920" y="35712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下面的三角形中，找出有直角三角形的三角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直接连接符 14"/>
          <p:cNvSpPr/>
          <p:nvPr/>
        </p:nvSpPr>
        <p:spPr>
          <a:xfrm>
            <a:off x="1071720" y="1643040"/>
            <a:ext cx="71424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直接连接符 16"/>
          <p:cNvSpPr/>
          <p:nvPr/>
        </p:nvSpPr>
        <p:spPr>
          <a:xfrm flipV="1">
            <a:off x="1785960" y="1643040"/>
            <a:ext cx="35712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直接连接符 19"/>
          <p:cNvSpPr/>
          <p:nvPr/>
        </p:nvSpPr>
        <p:spPr>
          <a:xfrm>
            <a:off x="1071720" y="1643040"/>
            <a:ext cx="10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直接连接符 23"/>
          <p:cNvSpPr/>
          <p:nvPr/>
        </p:nvSpPr>
        <p:spPr>
          <a:xfrm>
            <a:off x="3357720" y="1714680"/>
            <a:ext cx="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直接连接符 25"/>
          <p:cNvSpPr/>
          <p:nvPr/>
        </p:nvSpPr>
        <p:spPr>
          <a:xfrm>
            <a:off x="3357720" y="1714680"/>
            <a:ext cx="57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直接连接符 29"/>
          <p:cNvSpPr/>
          <p:nvPr/>
        </p:nvSpPr>
        <p:spPr>
          <a:xfrm flipH="1">
            <a:off x="3357360" y="1714680"/>
            <a:ext cx="57132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直接连接符 31"/>
          <p:cNvSpPr/>
          <p:nvPr/>
        </p:nvSpPr>
        <p:spPr>
          <a:xfrm>
            <a:off x="4857840" y="1785960"/>
            <a:ext cx="100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直接连接符 33"/>
          <p:cNvSpPr/>
          <p:nvPr/>
        </p:nvSpPr>
        <p:spPr>
          <a:xfrm>
            <a:off x="5857920" y="1785960"/>
            <a:ext cx="642960" cy="64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直接连接符 35"/>
          <p:cNvSpPr/>
          <p:nvPr/>
        </p:nvSpPr>
        <p:spPr>
          <a:xfrm>
            <a:off x="4857840" y="1785960"/>
            <a:ext cx="1643040" cy="64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直接连接符 41"/>
          <p:cNvSpPr/>
          <p:nvPr/>
        </p:nvSpPr>
        <p:spPr>
          <a:xfrm>
            <a:off x="1214280" y="3571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直接连接符 43"/>
          <p:cNvSpPr/>
          <p:nvPr/>
        </p:nvSpPr>
        <p:spPr>
          <a:xfrm flipV="1">
            <a:off x="2357280" y="285768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直接连接符 45"/>
          <p:cNvSpPr/>
          <p:nvPr/>
        </p:nvSpPr>
        <p:spPr>
          <a:xfrm flipH="1">
            <a:off x="1213920" y="2857680"/>
            <a:ext cx="114300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直接连接符 49"/>
          <p:cNvSpPr/>
          <p:nvPr/>
        </p:nvSpPr>
        <p:spPr>
          <a:xfrm>
            <a:off x="3357720" y="3571920"/>
            <a:ext cx="78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直接连接符 51"/>
          <p:cNvSpPr/>
          <p:nvPr/>
        </p:nvSpPr>
        <p:spPr>
          <a:xfrm flipV="1">
            <a:off x="4143240" y="2643120"/>
            <a:ext cx="642960" cy="9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直接连接符 53"/>
          <p:cNvSpPr/>
          <p:nvPr/>
        </p:nvSpPr>
        <p:spPr>
          <a:xfrm flipV="1">
            <a:off x="3357720" y="2643120"/>
            <a:ext cx="1428480" cy="9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等腰三角形 54"/>
          <p:cNvSpPr/>
          <p:nvPr/>
        </p:nvSpPr>
        <p:spPr>
          <a:xfrm>
            <a:off x="5715000" y="2786040"/>
            <a:ext cx="1071720" cy="9288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55"/>
          <p:cNvSpPr/>
          <p:nvPr/>
        </p:nvSpPr>
        <p:spPr>
          <a:xfrm>
            <a:off x="1428840" y="2286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3071880" y="2643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57"/>
          <p:cNvSpPr/>
          <p:nvPr/>
        </p:nvSpPr>
        <p:spPr>
          <a:xfrm>
            <a:off x="5429160" y="24289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58"/>
          <p:cNvSpPr/>
          <p:nvPr/>
        </p:nvSpPr>
        <p:spPr>
          <a:xfrm>
            <a:off x="1455120" y="35481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59"/>
          <p:cNvSpPr/>
          <p:nvPr/>
        </p:nvSpPr>
        <p:spPr>
          <a:xfrm>
            <a:off x="3143160" y="3548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60"/>
          <p:cNvSpPr/>
          <p:nvPr/>
        </p:nvSpPr>
        <p:spPr>
          <a:xfrm>
            <a:off x="5500800" y="36910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01680" y="6858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么我们就可以规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862000" y="197244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个角都是锐角的三角形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锐角三角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116000" y="2997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一个角是钝角的三角形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钝角三角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79280" y="38606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忘了还有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971640" y="472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一个角是直角的三角形叫做直角三角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2"/>
          <p:cNvSpPr/>
          <p:nvPr/>
        </p:nvSpPr>
        <p:spPr>
          <a:xfrm>
            <a:off x="1116000" y="2060640"/>
            <a:ext cx="662472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124000" y="476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角形按角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332000" y="3213000"/>
            <a:ext cx="3024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 flipV="1">
            <a:off x="4356000" y="3141360"/>
            <a:ext cx="3095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356000" y="3860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921040" y="2349360"/>
            <a:ext cx="28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锐角三角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859280" y="3645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钝角三角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403280" y="3573360"/>
            <a:ext cx="26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直角三角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071800" y="292428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个角都是锐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三角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971640" y="41497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有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个角是直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三角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140360" y="429264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有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角是钝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三角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36720" y="2471760"/>
            <a:ext cx="748008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"/>
          <p:cNvSpPr/>
          <p:nvPr/>
        </p:nvSpPr>
        <p:spPr>
          <a:xfrm flipH="1">
            <a:off x="2124000" y="4149720"/>
            <a:ext cx="1943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124000" y="5229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4067280" y="4149720"/>
            <a:ext cx="576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06728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2124000" y="3860640"/>
            <a:ext cx="1943280" cy="1368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4067280" y="3860640"/>
            <a:ext cx="576000" cy="1368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2124000" y="4365360"/>
            <a:ext cx="1943280" cy="863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4067280" y="436572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 flipV="1">
            <a:off x="2124000" y="4581360"/>
            <a:ext cx="1943280" cy="64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2124000" y="486864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4067280" y="4581360"/>
            <a:ext cx="576000" cy="64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4067280" y="486900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3851280" y="37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3564000" y="3716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619280" y="5070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645080" y="50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4140360" y="36306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4427640" y="3930480"/>
            <a:ext cx="1008000" cy="14346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067280" y="4149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219640" y="38955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4427640" y="386064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5796000" y="3429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锐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6"/>
          <p:cNvSpPr/>
          <p:nvPr/>
        </p:nvSpPr>
        <p:spPr>
          <a:xfrm>
            <a:off x="5076720" y="472428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5796000" y="4508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108000" y="836640"/>
            <a:ext cx="52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动你的大脑思考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539640" y="1773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直线上运动，可以形成哪些三角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 rot="8046000">
            <a:off x="2891880" y="2270160"/>
            <a:ext cx="3587760" cy="359388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5560" y="9360"/>
            <a:ext cx="9091440" cy="99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6846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2050920" y="2708280"/>
            <a:ext cx="5220000" cy="32385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 rot="18667800">
            <a:off x="4358160" y="1483920"/>
            <a:ext cx="3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258920" y="1341360"/>
            <a:ext cx="23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780000" y="62064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924360" y="692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它是什么三角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714240" y="428760"/>
            <a:ext cx="33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7907400" y="3251160"/>
            <a:ext cx="84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2" fill="hold">
                                          <p:stCondLst>
                                            <p:cond delay="99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t1"/>
          <p:cNvPicPr/>
          <p:nvPr/>
        </p:nvPicPr>
        <p:blipFill>
          <a:blip r:embed="rId1"/>
          <a:srcRect l="13339" t="7500" r="46677" b="12507"/>
          <a:stretch/>
        </p:blipFill>
        <p:spPr>
          <a:xfrm rot="5280000">
            <a:off x="3800160" y="-209520"/>
            <a:ext cx="2100240" cy="5865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1979640" y="2852640"/>
            <a:ext cx="5715000" cy="301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25560" y="9360"/>
            <a:ext cx="909144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27000" y="9360"/>
            <a:ext cx="990720" cy="68472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7907400" y="3251160"/>
            <a:ext cx="84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2" fill="hold">
                                          <p:stCondLst>
                                            <p:cond delay="99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0" y="5877000"/>
            <a:ext cx="9118440" cy="996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27000" y="0"/>
            <a:ext cx="990720" cy="685008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-1418040" y="-2510280"/>
            <a:ext cx="9747720" cy="9041400"/>
            <a:chOff x="-1418040" y="-2510280"/>
            <a:chExt cx="9747720" cy="9041400"/>
          </a:xfrm>
        </p:grpSpPr>
        <p:sp>
          <p:nvSpPr>
            <p:cNvPr id="169" name="AutoShape 5"/>
            <p:cNvSpPr/>
            <p:nvPr/>
          </p:nvSpPr>
          <p:spPr>
            <a:xfrm rot="2076600">
              <a:off x="-612720" y="-674640"/>
              <a:ext cx="8137440" cy="53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 flipH="1">
              <a:off x="3809880" y="468360"/>
              <a:ext cx="1528200" cy="252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>
              <a:off x="5338080" y="468360"/>
              <a:ext cx="96480" cy="511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>
              <a:off x="3810240" y="2991960"/>
              <a:ext cx="1629360" cy="258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3276720" y="2708280"/>
            <a:ext cx="5219640" cy="3238560"/>
          </a:xfrm>
          <a:prstGeom prst="rect">
            <a:avLst/>
          </a:prstGeom>
          <a:ln w="0">
            <a:noFill/>
          </a:ln>
        </p:spPr>
      </p:pic>
      <p:sp>
        <p:nvSpPr>
          <p:cNvPr id="174" name="Line 10"/>
          <p:cNvSpPr/>
          <p:nvPr/>
        </p:nvSpPr>
        <p:spPr>
          <a:xfrm>
            <a:off x="4067280" y="2637000"/>
            <a:ext cx="136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449360" y="2606760"/>
            <a:ext cx="8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2" fill="hold">
                                          <p:stCondLst>
                                            <p:cond delay="99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/>
  <dcterms:modified xsi:type="dcterms:W3CDTF">2017-12-21T14:13:25Z</dcterms:modified>
  <cp:revision>1</cp:revision>
  <dc:subject/>
  <dc:title/>
</cp:coreProperties>
</file>