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BBF-B99B-409F-AC43-50FD6205C4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C32-6DF3-4DCF-B816-4AF80C0228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E226-44A0-42E6-AB60-A5E0C30491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3EE5-7833-41B3-81B2-CF2E75CBFB2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2F06-2124-4477-BFCC-456974375B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DEFB-6B44-4F70-B8AA-90BD14AA5F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CB8-8669-4CD3-B6B4-294483C274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FC2-7B8A-46FB-9D81-0744905478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778-0191-4E24-A863-FDDA7F4F8A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079-EBB1-4044-9409-59D88A8682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0A9-B87B-40CB-8A7B-4908FD71A2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E2DF-47E0-4507-B059-16D05D193D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31B-B555-48B0-BC78-23143A4B56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AF2-C990-4EF3-907D-766CB43E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81A-17A0-4B79-819B-7FE9032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5E60E-81A9-42C8-A87C-E4D2CAD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68DF-0EDD-433C-9CF4-D7F0AA0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1379F-6FA6-49D5-8CF6-8D29163B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94BD2-D48E-4FE6-A578-1D6A8C0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8669-C46F-419D-B8CA-21E719B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826A-04F0-4911-ACCE-8587A3E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B1666-9ABD-4F7E-97BF-A7298F22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C129C-09EF-4497-A72D-7B99E775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869BC-A56B-431C-86DB-4B557219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D3656-7311-46C6-8AA5-0AF2C91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995-FF3C-4850-B738-59301AB0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F3A2C-021E-42E9-BE38-B6287CC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7F027-48FA-4733-A92D-FDDD791A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67780-A59D-4730-BC19-327B735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E852D-0948-40A3-8D7C-B5FA6DED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3068-E3BD-4FF9-B826-3ADF6F3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02483-14D9-4AFB-837D-D19221F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096F9-4A38-4741-98EA-71C508E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D2D5F-FF34-4C3D-BBA8-A3FF416C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C90C1-EBE5-41B1-B53A-A096E0A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9C0B9-5386-494B-828F-665DE984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484-BA78-4A2A-B917-106ACA4C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09974-3056-4662-BF41-649AA4D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FBB8A-C2AF-40ED-AA41-0175250A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6638D-1857-48AE-9653-4353DFA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6EEA-5869-4D46-A737-B9589AE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FA5DB-B809-441C-95B9-DEC6AD7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473D-C47D-49AB-9182-210F9A7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08905-12EC-49B3-B491-322AE230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FE00D-C6E1-48A6-9B11-47E7E55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F5EC5-D7E2-46A3-94A8-CA853EB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54426-A938-47E3-9ED8-D578ABC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3724-AE5E-4C25-A2F0-421CAEDE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8831-1F47-4FAE-BB7A-838B4C14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346C1-E493-4F77-8293-A918E952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9985C-268D-4AC8-B990-5E73E030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1B152-A73D-465A-9690-565EF367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350F0-8A9E-4EB3-8193-2314022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05A16-721E-4B05-A933-17D9305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F9B13-8370-4356-AEAC-F7CFC1C7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662FE-165C-467F-BDAF-64A64A9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AA5FE-78F7-4C45-A4B2-94A1814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8B8A-AFA3-4058-A581-DFF12AC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0B4D-6D06-4C24-B768-2CE408FF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421A7-C414-49E5-AA08-FA4ED09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AAB31-D001-4467-B131-BC6AB19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6C79F-0BD8-467E-884B-F33B0B3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E4F51-91B3-4350-B44E-D8332A26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96F18-E6A0-4260-BF75-FDFC9E4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0A7C-F4DA-48E9-AFA2-4ED69793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F459-AE48-4345-ACCB-81A2B14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E12-8926-4105-B6F6-936E729E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11FF-6964-4890-9877-77B42EB9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D94B-AE33-4EB4-A68E-A624495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50-80C6-49E6-8F01-E508D37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5BF-C9FB-4C5F-9780-0741CE1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7AA-6E10-466C-B5E6-18FB2B1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B15-744E-4A9A-AD96-5C41676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889-976F-4372-9B38-5EB85459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B93-E5D2-4D36-B0E4-AC594B1C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1489-F0F8-434F-9343-7CE38DA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DF56-3A70-41D9-B498-39F34B87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167F-80B5-4BDF-91AC-2E2268C6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7E5B-864B-44DB-95AD-24F5347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ECAD-CCEC-4826-B182-39B0D41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79E-5BE2-43E3-883C-4908627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B3E1-4A8E-4D2E-8828-3EAA605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EFC8-12BB-4D64-8D45-D614086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2797-0473-4F11-8C8D-2C6A0D3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FAA2-83EB-4AAA-BB64-4EAF4D3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2ED8-C4A4-44A9-A1CD-174597F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1A4E-0467-46B3-9379-656C7173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FF0C-2044-4CCF-A2B2-863CA960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F322-46E2-43ED-871B-DE601C4D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5EC8-7B23-45C6-BB89-07E5997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11AF-CCE2-43DB-B539-17AA4DE4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A49-7414-4E1F-831F-F4F26F3E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3CB6-81A3-49B2-9351-A20F023B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B6F0-D0C4-4793-ACD2-9447E16A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F533-FD26-4A71-8214-FE4F14E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4B18-F19C-405F-8302-B905A00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BD23-1BC5-4E45-91AF-0849CDB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50F2-5979-43C6-821A-0B7F080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7BAC-C7F0-4C17-83A1-06DF681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69D6-6C7F-4064-8809-00377D8E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21A0-417A-49F1-B4A2-CDB7DCC9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2498-48AD-4A6D-A6D9-2F05847B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CDD-0BFE-47C5-A803-0542303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C4C3-A07A-4C4F-B823-F8DB4EDD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8574-34D2-43A9-8D3A-C81B406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9418-FA2A-455B-8520-847FB11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4A49-6145-4DB4-8D44-82559B00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C15C3-D54F-415D-A79D-02F0791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CC5E-F557-4DAC-9875-5E7FCF2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21303-90D3-4F70-BDC6-A59E69E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EB95B-FF0B-4ED5-9D3A-C267052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FB85-7180-4415-A66C-BC9B8FDF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28A8-9E90-4E16-B09B-9643307A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E1B-B577-4414-A04D-576ABE2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4D37-4B69-4382-9B7C-6B3FD12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CE09-5122-401F-8F9A-A8063D1E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F2F0-E133-40DA-814A-3C9A3CEF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CE8A-F433-42AA-917C-3AD4A19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661EA-F376-402F-B3B2-C971C13C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162E-6C03-4C6D-984D-D88E889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82F5-FFE6-4812-A2AA-86DF948C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BF80-C0F0-40A8-844F-2AC08A3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0F0E-B712-4E5F-9BDF-7878726F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B30F-1A07-4DF7-A12B-EF08C2F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607-3AE3-4B9A-8CD9-CCF19BA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608DB-6409-41DF-B1B1-23144D5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8759-24D6-4614-85AA-C3D5E76C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27CE-A64E-4A3C-8DA3-57549D09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14BBD-D3A3-4E2A-AB62-C2DFB22E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1354-072B-43F7-8BD6-4C441244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EDE9-C1BE-402A-818F-1A0BBBFF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035A-A84C-4B2E-AF6A-F83779A2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25942-0F53-4AAF-9A1E-BAFA076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35CB-C55B-409A-B256-7B248C0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1B08-858A-4C05-9786-A048B296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D5B-2BB5-4961-BAD2-6A32439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0B9B0-B07A-4421-AC1E-7261895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D240-5987-4B23-9219-F629158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7BD7-8D3F-41FE-80FE-F4A43E5B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E5E8-B328-4473-9630-CC9B78E2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C7B0-6068-43FD-81CB-CC4302AD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EB9F-F5C5-49B2-A0D9-88CD99A9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E472E-C93C-44B0-AF80-EA8F173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C935-64DC-4F29-8B9E-19A37158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C104-25EA-4B58-A11E-FC554305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D2C19-AA3F-493E-B697-901AA897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340-72DA-4EF8-BA50-A00FD86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5386-1443-4DC0-8DB3-56E5444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5DE9-2372-4998-982E-6CB0FA5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5316-1C57-42C7-98B4-95A034C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CE79A-0058-46C4-90C4-BF8C2C7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B8FB5-0CDA-47DF-83C9-61C1F9A1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8FD7-2AF0-4D5C-8B82-2ECFCB37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1489-1395-4448-82BE-0AF531A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43F7-B096-445A-880A-57F56DD3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B5CC5-8A28-4BCD-8326-8AB602F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9880A-E3F6-4B15-BC6C-3E5F6AE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4C7D-D4EA-4A3B-97E5-9CB04F86B4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5FC-E17F-4DCF-AAED-3A3721602E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1BE7-CDD7-4FB5-8EC4-40CCE580FE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BC0-972E-4265-857D-522B359207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CF50-CB57-41D7-B8E1-26BD4BB0955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D9A-FE17-4E3D-9DAC-9AA9C9E125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E6B-8F98-4B01-B6CD-011E039A5B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2EE-849D-465B-8C09-D87E47BB62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719-80E7-445E-B58F-73D2C0557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A73-3A4D-47DC-8457-992C181E6D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630B-05C2-42EB-9C19-A644E653B8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66B-6894-4908-BDCC-10B62CEC9D8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245-E79C-4B54-8358-3067601F26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54BD-E01D-4955-BCE9-DC2D616241F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398E-EFE3-4EC4-951C-0EF2DA8395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94B-445C-4EA1-87D0-8394B2BE72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F8C3-51E9-4D49-85FE-9ABD3DCEE1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38CA-EEEC-46D4-8AB0-668AA18F3F2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B6F-CAC5-4F4B-BF5D-0AFEDFE80E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CD6-8B7F-46C4-8D61-FF1B428393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FB5-C114-4174-9F9B-FFC337178A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A7D-213E-4438-88A3-F122147EF6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2B6-5DF6-4153-B4DF-5C41517883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1619280" y="1916280"/>
            <a:ext cx="5616720" cy="18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平行四边形的边与角</a:t>
            </a:r>
            <a:endParaRPr b="1" lang="en-US" sz="54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3" descr="73"/>
          <p:cNvPicPr/>
          <p:nvPr/>
        </p:nvPicPr>
        <p:blipFill>
          <a:blip r:embed="rId1"/>
          <a:stretch/>
        </p:blipFill>
        <p:spPr>
          <a:xfrm>
            <a:off x="1042920" y="3284640"/>
            <a:ext cx="7007400" cy="219060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6"/>
          <p:cNvSpPr/>
          <p:nvPr/>
        </p:nvSpPr>
        <p:spPr>
          <a:xfrm>
            <a:off x="1125360" y="3726000"/>
            <a:ext cx="1812960" cy="1326960"/>
          </a:xfrm>
          <a:prstGeom prst="parallelogram">
            <a:avLst>
              <a:gd name="adj" fmla="val 3415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3848040" y="3409920"/>
            <a:ext cx="1371600" cy="1650960"/>
          </a:xfrm>
          <a:prstGeom prst="parallelogram">
            <a:avLst>
              <a:gd name="adj" fmla="val 3421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900000" y="1268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把点与点连接起来，画出两个面积不等的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3"/>
          <p:cNvSpPr/>
          <p:nvPr/>
        </p:nvSpPr>
        <p:spPr>
          <a:xfrm>
            <a:off x="1000080" y="7142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面每组两个图形的大小有什么关系？剪一剪，拼一拼，想一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3"/>
          <p:cNvSpPr/>
          <p:nvPr/>
        </p:nvSpPr>
        <p:spPr>
          <a:xfrm>
            <a:off x="468360" y="2349360"/>
            <a:ext cx="1582560" cy="1079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流程图: 数据 5"/>
          <p:cNvSpPr/>
          <p:nvPr/>
        </p:nvSpPr>
        <p:spPr>
          <a:xfrm>
            <a:off x="2700360" y="2421000"/>
            <a:ext cx="1727280" cy="792000"/>
          </a:xfrm>
          <a:prstGeom prst="flowChartInputOutpu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流程图: 数据 6"/>
          <p:cNvSpPr/>
          <p:nvPr/>
        </p:nvSpPr>
        <p:spPr>
          <a:xfrm>
            <a:off x="5003640" y="2349360"/>
            <a:ext cx="1729080" cy="792360"/>
          </a:xfrm>
          <a:prstGeom prst="flowChartInputOutpu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8"/>
          <p:cNvSpPr/>
          <p:nvPr/>
        </p:nvSpPr>
        <p:spPr>
          <a:xfrm flipH="1">
            <a:off x="5003280" y="2349360"/>
            <a:ext cx="1729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等腰三角形 10"/>
          <p:cNvSpPr/>
          <p:nvPr/>
        </p:nvSpPr>
        <p:spPr>
          <a:xfrm rot="12218400">
            <a:off x="7054560" y="2576160"/>
            <a:ext cx="1604880" cy="511200"/>
          </a:xfrm>
          <a:prstGeom prst="triangle">
            <a:avLst>
              <a:gd name="adj" fmla="val 5403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直接箭头连接符 14"/>
          <p:cNvCxnSpPr/>
          <p:nvPr/>
        </p:nvCxnSpPr>
        <p:spPr>
          <a:xfrm>
            <a:off x="2195640" y="278100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7" name="直接箭头连接符 15"/>
          <p:cNvCxnSpPr/>
          <p:nvPr/>
        </p:nvCxnSpPr>
        <p:spPr>
          <a:xfrm>
            <a:off x="6732720" y="278100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468360" y="501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下面图形中是平行四边形的打上“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1828800" y="1357200"/>
            <a:ext cx="1100160" cy="1005120"/>
          </a:xfrm>
          <a:prstGeom prst="parallelogram">
            <a:avLst>
              <a:gd name="adj" fmla="val 2499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4495680" y="4800600"/>
            <a:ext cx="1524240" cy="1143000"/>
          </a:xfrm>
          <a:prstGeom prst="diamond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4419720" y="3352680"/>
            <a:ext cx="1752480" cy="838440"/>
          </a:xfrm>
          <a:prstGeom prst="parallelogram">
            <a:avLst>
              <a:gd name="adj" fmla="val 52254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 rot="10682400">
            <a:off x="1598400" y="3587040"/>
            <a:ext cx="1746000" cy="811080"/>
          </a:xfrm>
          <a:prstGeom prst="pi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3962520" y="1428840"/>
            <a:ext cx="1895400" cy="933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7072200" y="1285920"/>
            <a:ext cx="1157400" cy="1076400"/>
          </a:xfrm>
          <a:prstGeom prst="rtTriangl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1905120" y="5029200"/>
            <a:ext cx="1295280" cy="1066680"/>
          </a:xfrm>
          <a:prstGeom prst="pentagon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 rot="19744200">
            <a:off x="7315200" y="3124080"/>
            <a:ext cx="914400" cy="14479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1752480" y="2743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4426200" y="2743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6934320" y="2666880"/>
            <a:ext cx="13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1946160" y="44956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4458240" y="4146480"/>
            <a:ext cx="9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6"/>
          <p:cNvSpPr/>
          <p:nvPr/>
        </p:nvSpPr>
        <p:spPr>
          <a:xfrm>
            <a:off x="7429680" y="50292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7"/>
          <p:cNvSpPr/>
          <p:nvPr/>
        </p:nvSpPr>
        <p:spPr>
          <a:xfrm>
            <a:off x="4608000" y="5975280"/>
            <a:ext cx="11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1941840" y="61722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9"/>
          <p:cNvSpPr/>
          <p:nvPr/>
        </p:nvSpPr>
        <p:spPr>
          <a:xfrm>
            <a:off x="20574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457200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1"/>
          <p:cNvSpPr/>
          <p:nvPr/>
        </p:nvSpPr>
        <p:spPr>
          <a:xfrm>
            <a:off x="7543800" y="480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2"/>
          <p:cNvSpPr/>
          <p:nvPr/>
        </p:nvSpPr>
        <p:spPr>
          <a:xfrm>
            <a:off x="4800600" y="6019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4572000" y="1600200"/>
            <a:ext cx="609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7315200" y="1905120"/>
            <a:ext cx="457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2362320" y="3886200"/>
            <a:ext cx="609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7"/>
          <p:cNvSpPr/>
          <p:nvPr/>
        </p:nvSpPr>
        <p:spPr>
          <a:xfrm>
            <a:off x="4952880" y="3581280"/>
            <a:ext cx="590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8"/>
          <p:cNvSpPr/>
          <p:nvPr/>
        </p:nvSpPr>
        <p:spPr>
          <a:xfrm>
            <a:off x="7543800" y="3581280"/>
            <a:ext cx="533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9"/>
          <p:cNvSpPr/>
          <p:nvPr/>
        </p:nvSpPr>
        <p:spPr>
          <a:xfrm>
            <a:off x="2362320" y="5442120"/>
            <a:ext cx="380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0"/>
          <p:cNvSpPr/>
          <p:nvPr/>
        </p:nvSpPr>
        <p:spPr>
          <a:xfrm>
            <a:off x="4952880" y="5181480"/>
            <a:ext cx="590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2"/>
          <p:cNvSpPr/>
          <p:nvPr/>
        </p:nvSpPr>
        <p:spPr>
          <a:xfrm>
            <a:off x="71280" y="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4"/>
          <p:cNvSpPr/>
          <p:nvPr/>
        </p:nvSpPr>
        <p:spPr>
          <a:xfrm>
            <a:off x="2000160" y="1752480"/>
            <a:ext cx="609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50920" y="2286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填空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371600" y="1143000"/>
            <a:ext cx="754380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行四边形的对边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）而且（          ），对角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243400" y="1373040"/>
            <a:ext cx="1828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895400" y="2057400"/>
            <a:ext cx="1676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824440" y="2000160"/>
            <a:ext cx="1676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课总结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554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天我们重点研究了哪种平面图形？它有什么特点？回想一下，我们通过哪些活动进行研究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2411280" y="26370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谢谢，再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出下列你认识的图形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1187280" y="1773360"/>
            <a:ext cx="187200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4427640" y="1413000"/>
            <a:ext cx="1081080" cy="1296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1474920" y="3716280"/>
            <a:ext cx="93636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427640" y="3141720"/>
            <a:ext cx="936360" cy="15127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6588000" y="1989000"/>
            <a:ext cx="1871640" cy="648000"/>
          </a:xfrm>
          <a:prstGeom prst="parallelogram">
            <a:avLst>
              <a:gd name="adj" fmla="val 722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6877080" y="3645000"/>
            <a:ext cx="1295280" cy="1008000"/>
          </a:xfrm>
          <a:prstGeom prst="parallelogram">
            <a:avLst>
              <a:gd name="adj" fmla="val 32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1619280" y="2924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427640" y="2924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6948360" y="28526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154764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442764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694836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285840" y="5661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么我们今天就来研究一下像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和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这种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71640" y="428760"/>
            <a:ext cx="7386480" cy="22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组平行线上，画出另一组与它们相交的平行线，构成四边形。这些四边形有什么特点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img(80)01"/>
          <p:cNvPicPr/>
          <p:nvPr/>
        </p:nvPicPr>
        <p:blipFill>
          <a:blip r:embed="rId1"/>
          <a:stretch/>
        </p:blipFill>
        <p:spPr>
          <a:xfrm>
            <a:off x="34920" y="46080"/>
            <a:ext cx="936720" cy="1295280"/>
          </a:xfrm>
          <a:prstGeom prst="rect">
            <a:avLst/>
          </a:prstGeom>
          <a:ln w="0">
            <a:noFill/>
          </a:ln>
        </p:spPr>
      </p:pic>
      <p:sp>
        <p:nvSpPr>
          <p:cNvPr id="516" name="Line 5"/>
          <p:cNvSpPr/>
          <p:nvPr/>
        </p:nvSpPr>
        <p:spPr>
          <a:xfrm>
            <a:off x="5580000" y="234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5580000" y="3213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"/>
          <p:cNvSpPr/>
          <p:nvPr/>
        </p:nvSpPr>
        <p:spPr>
          <a:xfrm flipH="1">
            <a:off x="5580000" y="2133720"/>
            <a:ext cx="720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 flipH="1">
            <a:off x="6804000" y="2205000"/>
            <a:ext cx="720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2"/>
          <p:cNvSpPr/>
          <p:nvPr/>
        </p:nvSpPr>
        <p:spPr>
          <a:xfrm>
            <a:off x="5786280" y="2349360"/>
            <a:ext cx="1657440" cy="863640"/>
          </a:xfrm>
          <a:prstGeom prst="parallelogram">
            <a:avLst>
              <a:gd name="adj" fmla="val 4797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971640" y="5481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这图形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13" descr="img(80)02.jpg"/>
          <p:cNvPicPr/>
          <p:nvPr/>
        </p:nvPicPr>
        <p:blipFill>
          <a:blip r:embed="rId2"/>
          <a:stretch/>
        </p:blipFill>
        <p:spPr>
          <a:xfrm>
            <a:off x="785880" y="3571920"/>
            <a:ext cx="74293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4"/>
          <p:cNvSpPr/>
          <p:nvPr/>
        </p:nvSpPr>
        <p:spPr>
          <a:xfrm>
            <a:off x="5292720" y="1197000"/>
            <a:ext cx="2376360" cy="914400"/>
          </a:xfrm>
          <a:prstGeom prst="parallelogram">
            <a:avLst>
              <a:gd name="adj" fmla="val 64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187280" y="292428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这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组对边分别平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四边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平行四边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2484360" y="981000"/>
            <a:ext cx="1440000" cy="1295640"/>
          </a:xfrm>
          <a:prstGeom prst="parallelogram">
            <a:avLst>
              <a:gd name="adj" fmla="val 277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1187280" y="1773360"/>
            <a:ext cx="187200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4427640" y="1413000"/>
            <a:ext cx="1081080" cy="1296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1474920" y="3716280"/>
            <a:ext cx="936360" cy="865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4427640" y="3141720"/>
            <a:ext cx="936360" cy="15127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6588000" y="1989000"/>
            <a:ext cx="1871640" cy="648000"/>
          </a:xfrm>
          <a:prstGeom prst="parallelogram">
            <a:avLst>
              <a:gd name="adj" fmla="val 722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6877080" y="3645000"/>
            <a:ext cx="1295280" cy="1008000"/>
          </a:xfrm>
          <a:prstGeom prst="parallelogram">
            <a:avLst>
              <a:gd name="adj" fmla="val 32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1619280" y="2924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4427640" y="2924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6948360" y="28526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154764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442764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6948360" y="49417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684360" y="566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方形和正方形的两组对边都互相平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4560" y="53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么我们再看看下列图形中哪些是平行四边形？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71280" y="428400"/>
            <a:ext cx="95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方形和正方形它们都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特殊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行四边形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1763640" y="2558880"/>
            <a:ext cx="2237040" cy="2013120"/>
          </a:xfrm>
          <a:prstGeom prst="wedgeEllipseCallout">
            <a:avLst>
              <a:gd name="adj1" fmla="val -43995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还可以用图形表示长方形、正方形和平行四边形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img(76)02"/>
          <p:cNvPicPr/>
          <p:nvPr/>
        </p:nvPicPr>
        <p:blipFill>
          <a:blip r:embed="rId1"/>
          <a:stretch/>
        </p:blipFill>
        <p:spPr>
          <a:xfrm>
            <a:off x="250920" y="3933720"/>
            <a:ext cx="1177920" cy="1332000"/>
          </a:xfrm>
          <a:prstGeom prst="rect">
            <a:avLst/>
          </a:prstGeom>
          <a:ln w="0">
            <a:noFill/>
          </a:ln>
        </p:spPr>
      </p:pic>
      <p:sp>
        <p:nvSpPr>
          <p:cNvPr id="543" name="Oval 6"/>
          <p:cNvSpPr/>
          <p:nvPr/>
        </p:nvSpPr>
        <p:spPr>
          <a:xfrm>
            <a:off x="3924360" y="2492280"/>
            <a:ext cx="4695840" cy="3121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4716360" y="3213000"/>
            <a:ext cx="3286080" cy="2401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5219640" y="3933720"/>
            <a:ext cx="2303640" cy="16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361120" y="2671920"/>
            <a:ext cx="21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08720" y="34164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610240" y="455940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0"/>
          <p:cNvSpPr/>
          <p:nvPr/>
        </p:nvSpPr>
        <p:spPr>
          <a:xfrm>
            <a:off x="250920" y="3068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1763640" y="393372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两组对边分别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428760" y="5716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右图那样，从长方形中剪下一个直角三角形，把它平移到另一侧，可以拼成一个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图片 7" descr="img(80)0003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img(81)03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199224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250920" y="333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剪一些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250920" y="321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它们的对角线分别重叠起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叠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重叠 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250920" y="432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1906560" y="51354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组对角分别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79280" y="40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9640" y="1773360"/>
          <a:ext cx="8064720" cy="45385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000"/>
                <a:gridCol w="2016360"/>
              </a:tblGrid>
              <a:tr h="7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行四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正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边平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边相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四边相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角相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四个角都是直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Text Box 44"/>
          <p:cNvSpPr/>
          <p:nvPr/>
        </p:nvSpPr>
        <p:spPr>
          <a:xfrm>
            <a:off x="179280" y="9288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根据平行四边形、长方形、正方形的特征在         里画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5"/>
          <p:cNvSpPr/>
          <p:nvPr/>
        </p:nvSpPr>
        <p:spPr>
          <a:xfrm>
            <a:off x="7709040" y="1071720"/>
            <a:ext cx="649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4859280" y="278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2843280" y="2781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7091280" y="278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4"/>
          <p:cNvSpPr/>
          <p:nvPr/>
        </p:nvSpPr>
        <p:spPr>
          <a:xfrm>
            <a:off x="714384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5"/>
          <p:cNvSpPr/>
          <p:nvPr/>
        </p:nvSpPr>
        <p:spPr>
          <a:xfrm>
            <a:off x="2771640" y="3573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6"/>
          <p:cNvSpPr/>
          <p:nvPr/>
        </p:nvSpPr>
        <p:spPr>
          <a:xfrm>
            <a:off x="493236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7"/>
          <p:cNvSpPr/>
          <p:nvPr/>
        </p:nvSpPr>
        <p:spPr>
          <a:xfrm>
            <a:off x="6877080" y="35672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6948360" y="4292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7020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0"/>
          <p:cNvSpPr/>
          <p:nvPr/>
        </p:nvSpPr>
        <p:spPr>
          <a:xfrm>
            <a:off x="2916360" y="49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1"/>
          <p:cNvSpPr/>
          <p:nvPr/>
        </p:nvSpPr>
        <p:spPr>
          <a:xfrm>
            <a:off x="5076720" y="4941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2"/>
          <p:cNvSpPr/>
          <p:nvPr/>
        </p:nvSpPr>
        <p:spPr>
          <a:xfrm>
            <a:off x="7164360" y="49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3"/>
          <p:cNvSpPr/>
          <p:nvPr/>
        </p:nvSpPr>
        <p:spPr>
          <a:xfrm>
            <a:off x="5075280" y="566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4"/>
          <p:cNvSpPr/>
          <p:nvPr/>
        </p:nvSpPr>
        <p:spPr>
          <a:xfrm>
            <a:off x="7020000" y="5661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7:31:08Z</dcterms:created>
  <dc:creator/>
  <dc:description/>
  <cp:keywords/>
  <dc:language>en-US</dc:language>
  <cp:lastModifiedBy/>
  <dcterms:modified xsi:type="dcterms:W3CDTF">2017-12-21T14:14:13Z</dcterms:modified>
  <cp:revision>1</cp:revision>
  <dc:subject/>
  <dc:title/>
</cp:coreProperties>
</file>