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B6C-1730-49FC-A709-32CD7D1F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CC3-DB26-4D17-9DBA-6F483A0C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04D-A8E1-4351-8838-B9A816B2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42D-16BF-4E0A-8486-123E2A1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42B-2DDC-42E7-BFDD-78D872F6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9AD-17DE-4952-85DC-56E9A39F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C05-A8A7-413B-B56B-79C5A87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B0F-F7D8-4620-81AC-5C4AA0A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5C2-FAC0-45D1-B517-2F784790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D43-7D4C-49F3-A223-0040C161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0111-86C3-4451-9878-704CAA40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A1F-88F4-451C-AF7D-D6116B6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D2D87C8A-B96F-4A41-AC0F-A7BBF030A5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52360" y="549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2421000"/>
            <a:ext cx="741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Lesson 12   Helen Keller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392360" cy="3435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4149720"/>
            <a:ext cx="734544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叉号_副本"/>
          <p:cNvPicPr/>
          <p:nvPr/>
        </p:nvPicPr>
        <p:blipFill>
          <a:blip r:embed="rId1"/>
          <a:stretch/>
        </p:blipFill>
        <p:spPr>
          <a:xfrm>
            <a:off x="468360" y="3718080"/>
            <a:ext cx="677880" cy="67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叉号_副本"/>
          <p:cNvPicPr/>
          <p:nvPr/>
        </p:nvPicPr>
        <p:blipFill>
          <a:blip r:embed="rId2"/>
          <a:stretch/>
        </p:blipFill>
        <p:spPr>
          <a:xfrm>
            <a:off x="468360" y="2278080"/>
            <a:ext cx="644400" cy="644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40464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MS UI Gothic"/>
              </a:rPr>
              <a:t>Read and judge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773360"/>
            <a:ext cx="943308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Anne Sullivan is a do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did not work h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became very success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6360" y="234936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573360"/>
            <a:ext cx="43927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orked very 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对勾_副本"/>
          <p:cNvPicPr/>
          <p:nvPr/>
        </p:nvPicPr>
        <p:blipFill>
          <a:blip r:embed="rId5"/>
          <a:stretch/>
        </p:blipFill>
        <p:spPr>
          <a:xfrm>
            <a:off x="395280" y="4870440"/>
            <a:ext cx="81288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17360"/>
            <a:ext cx="4537080" cy="3407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4294080"/>
            <a:ext cx="8062920" cy="22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-25560"/>
            <a:ext cx="8929800" cy="6883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2278080"/>
            <a:ext cx="4392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-27000"/>
            <a:ext cx="288468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1917720"/>
            <a:ext cx="5402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 Black"/>
              </a:rPr>
              <a:t>One of her famous books is</a:t>
            </a:r>
            <a:r>
              <a:rPr b="1" i="1" lang="zh-CN" sz="3600" spc="-1" strike="noStrike">
                <a:solidFill>
                  <a:srgbClr val="990033"/>
                </a:solidFill>
                <a:latin typeface="Arial Black"/>
              </a:rPr>
              <a:t> The Story of My Lfe.</a:t>
            </a:r>
            <a:r>
              <a:rPr b="1" lang="zh-CN" sz="3600" spc="-1" strike="noStrike">
                <a:solidFill>
                  <a:srgbClr val="990033"/>
                </a:solidFill>
                <a:latin typeface="Arial Black"/>
              </a:rPr>
              <a:t> Helen's story gives everyone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-98280"/>
            <a:ext cx="8856720" cy="6940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1080" y="46080"/>
            <a:ext cx="8928000" cy="68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838080"/>
            <a:ext cx="460872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0" lang="en-US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Cambria"/>
              </a:rPr>
              <a:t>Homework</a:t>
            </a:r>
            <a:endParaRPr b="0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892600"/>
            <a:ext cx="85694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. Please tell the story to your par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. Gather more information about He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4855" r="0" b="5013"/>
          <a:stretch/>
        </p:blipFill>
        <p:spPr>
          <a:xfrm>
            <a:off x="5651640" y="4221000"/>
            <a:ext cx="3321000" cy="245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628640"/>
            <a:ext cx="777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ow to be healt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Do you work har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87280" y="117360"/>
            <a:ext cx="4321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Free talk</a:t>
            </a:r>
            <a:endParaRPr b="1" lang="en-US" sz="1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9080" y="1917720"/>
            <a:ext cx="3219120" cy="30859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971640" y="981000"/>
            <a:ext cx="2425680" cy="1224000"/>
            <a:chOff x="971640" y="981000"/>
            <a:chExt cx="2425680" cy="1224000"/>
          </a:xfrm>
        </p:grpSpPr>
        <p:sp>
          <p:nvSpPr>
            <p:cNvPr id="49" name=""/>
            <p:cNvSpPr/>
            <p:nvPr/>
          </p:nvSpPr>
          <p:spPr>
            <a:xfrm>
              <a:off x="971640" y="981000"/>
              <a:ext cx="1873080" cy="12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87280" y="127008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188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933800" y="838080"/>
            <a:ext cx="3525840" cy="1224000"/>
            <a:chOff x="4933800" y="838080"/>
            <a:chExt cx="3525840" cy="1224000"/>
          </a:xfrm>
        </p:grpSpPr>
        <p:sp>
          <p:nvSpPr>
            <p:cNvPr id="52" name=""/>
            <p:cNvSpPr/>
            <p:nvPr/>
          </p:nvSpPr>
          <p:spPr>
            <a:xfrm>
              <a:off x="4933800" y="838080"/>
              <a:ext cx="3383280" cy="12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21440" y="1125360"/>
              <a:ext cx="32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18 years ol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12720" y="4797360"/>
            <a:ext cx="2425680" cy="1225440"/>
            <a:chOff x="612720" y="4797360"/>
            <a:chExt cx="2425680" cy="1225440"/>
          </a:xfrm>
        </p:grpSpPr>
        <p:sp>
          <p:nvSpPr>
            <p:cNvPr id="55" name=""/>
            <p:cNvSpPr/>
            <p:nvPr/>
          </p:nvSpPr>
          <p:spPr>
            <a:xfrm>
              <a:off x="612720" y="4797360"/>
              <a:ext cx="187344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8720" y="50133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dea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156360" y="4797360"/>
            <a:ext cx="2425680" cy="1225440"/>
            <a:chOff x="6156360" y="4797360"/>
            <a:chExt cx="2425680" cy="1225440"/>
          </a:xfrm>
        </p:grpSpPr>
        <p:sp>
          <p:nvSpPr>
            <p:cNvPr id="58" name=""/>
            <p:cNvSpPr/>
            <p:nvPr/>
          </p:nvSpPr>
          <p:spPr>
            <a:xfrm>
              <a:off x="6156360" y="4797360"/>
              <a:ext cx="187308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2360" y="50133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bli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735"/>
          <a:stretch/>
        </p:blipFill>
        <p:spPr>
          <a:xfrm>
            <a:off x="393840" y="1849320"/>
            <a:ext cx="242244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69080" y="189000"/>
            <a:ext cx="3078000" cy="2311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86160" y="37152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dea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45100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</a:rPr>
              <a:t>bl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909720"/>
            <a:ext cx="3647880" cy="415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530208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r parents loved her very much, but they did not know how to help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y did Helen often get ang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308592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2638440"/>
            <a:ext cx="640872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She couldn't see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She couldn't hear any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She couldn't speak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40464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MS UI Gothic"/>
              </a:rPr>
              <a:t>Read and judge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72" name=""/>
          <p:cNvSpPr/>
          <p:nvPr/>
        </p:nvSpPr>
        <p:spPr>
          <a:xfrm>
            <a:off x="-108000" y="1413000"/>
            <a:ext cx="943128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Anne Sullivan is a do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did not work h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became very success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叉号_副本"/>
          <p:cNvPicPr/>
          <p:nvPr/>
        </p:nvPicPr>
        <p:blipFill>
          <a:blip r:embed="rId3"/>
          <a:stretch/>
        </p:blipFill>
        <p:spPr>
          <a:xfrm>
            <a:off x="252360" y="20923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84720" y="198900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00360" cy="351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61080" y="333360"/>
            <a:ext cx="3759120" cy="324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4136760" cy="237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41767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9640" y="40464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MS UI Gothic"/>
              </a:rPr>
              <a:t>Read and judge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-36360" y="1701720"/>
            <a:ext cx="943272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Anne Sullivan is a doct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did not work ha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9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  Helen became very success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2133720"/>
            <a:ext cx="1584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叉号_副本"/>
          <p:cNvPicPr/>
          <p:nvPr/>
        </p:nvPicPr>
        <p:blipFill>
          <a:blip r:embed="rId3"/>
          <a:stretch/>
        </p:blipFill>
        <p:spPr>
          <a:xfrm>
            <a:off x="324000" y="3529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叉号_副本"/>
          <p:cNvPicPr/>
          <p:nvPr/>
        </p:nvPicPr>
        <p:blipFill>
          <a:blip r:embed="rId4"/>
          <a:stretch/>
        </p:blipFill>
        <p:spPr>
          <a:xfrm>
            <a:off x="324000" y="23353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60720" y="3502080"/>
            <a:ext cx="439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orked very h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08:36:00Z</dcterms:created>
  <dc:creator/>
  <dc:description/>
  <dc:language>en-US</dc:language>
  <cp:lastModifiedBy/>
  <dcterms:modified xsi:type="dcterms:W3CDTF">2017-09-20T10:51:5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4</vt:lpwstr>
  </property>
</Properties>
</file>