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CCE-C5ED-4297-BB8F-FB003E68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5D1-C483-4D7B-B3D8-17FB646A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808-53E3-4E29-9517-F82C0E9B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052-DBEB-47EA-8798-B6AF1477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4FC-2972-4A7F-B47B-2070DEF5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8F3-6FD2-4ABE-8CF7-C0577943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370-8E91-4768-A529-4FA1FD62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957-C4FE-4E2B-B0C3-CE3CFF99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8A2-76CB-44A7-B3C7-569A2969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730-6A84-428A-BC0D-696FC08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61C-925F-46CA-BF6C-19B36C9A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7A5-EA28-4D86-A590-B1A62DE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8CB9-B6F3-44D2-B0A2-468E55F8EC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24000" y="3068640"/>
            <a:ext cx="6781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sson 4 Did You Have Fun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611280" y="1052640"/>
            <a:ext cx="648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冀教版六年级下册第一单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057400" y="266688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trip to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3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705360" cy="4816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2789640" y="1484280"/>
            <a:ext cx="415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ri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My trip to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参考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trip to Beij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 this winter holiday, I went to Beijing with my family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We took a bus there. We went to Tian’anmem Square and the Great Wall. We took some pictures at Tian’anmem Square .We had a lot of fun in Beijing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 like Beijing very much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7366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8b8f2a1a5c62820b42a9ad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"/>
          <p:cNvSpPr txBox="1"/>
          <p:nvPr/>
        </p:nvSpPr>
        <p:spPr>
          <a:xfrm rot="21409200">
            <a:off x="1547280" y="333360"/>
            <a:ext cx="655164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>
                        <a:alpha val="82352"/>
                      </a:srgbClr>
                    </a:gs>
                    <a:gs pos="100000">
                      <a:srgbClr val="cc00cc"/>
                    </a:gs>
                  </a:gsLst>
                  <a:lin ang="57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Have a good time!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>
                      <a:alpha val="82352"/>
                    </a:srgbClr>
                  </a:gs>
                  <a:gs pos="100000">
                    <a:srgbClr val="cc00cc"/>
                  </a:gs>
                </a:gsLst>
                <a:lin ang="57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——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——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08000" y="3429000"/>
            <a:ext cx="849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 Ming and Jenny often/usually______/_________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orning, Li Ming and Jenny________/__________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ny always _________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ny_________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6922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564000" y="476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ug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39640" y="14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708360" y="14130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ug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11280" y="2349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419640" y="2421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ug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419 L 0.39375 0.40926 E">
                                      <p:cBhvr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5 L 0.14566 0.49352 E">
                                      <p:cBhvr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5185E-006 L 0.57882 0.28333 E">
                                      <p:cBhvr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85185E-006 L 0.31493 0.36736 E">
                                      <p:cBhvr>
                                        <p:cTn id="5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3 0.02084 L 0.18125 0.30417 E">
                                      <p:cBhvr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23611 0.39885 E">
                                      <p:cBhvr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40464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  <a:ea typeface="隶书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隶书"/>
              </a:rPr>
              <a:t>Read them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want — wanted          walk — 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help — helped            talk — 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follow— followed       shop — sh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am,is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—was     are</a:t>
            </a: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—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 were      know— knew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see — saw     do — did        go —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have — had   eat — ate        fall — f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can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—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could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hit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—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hit            hurt </a:t>
            </a: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—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9280" y="350028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usual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walk to school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esterday morning,I walked to school.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3708360" y="37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50920" y="4869000"/>
            <a:ext cx="7850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often/usually/always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day/Last Sunday, I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924360" y="5157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736640" y="1697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30040" y="2014560"/>
            <a:ext cx="89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24040" y="620640"/>
            <a:ext cx="24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rills an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15200" y="1494000"/>
            <a:ext cx="77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id you do in your winter holi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11280" y="263700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Did you go     t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Yes. I d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643280" y="2565360"/>
            <a:ext cx="4500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Did you go to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No, I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Where did you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I went t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听课文，回答问题。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ere did LiMing and Jenny go this morning?   What did they do?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ere did LiMing and Jenny go this afternoon?  What did they do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Did Danny learn to play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ject 2" descr=""/>
          <p:cNvPicPr/>
          <p:nvPr/>
        </p:nvPicPr>
        <p:blipFill>
          <a:blip r:embed="rId1"/>
          <a:stretch/>
        </p:blipFill>
        <p:spPr>
          <a:xfrm>
            <a:off x="1450800" y="1371600"/>
            <a:ext cx="6242400" cy="4114800"/>
          </a:xfrm>
          <a:prstGeom prst="rect">
            <a:avLst/>
          </a:prstGeom>
          <a:ln w="0">
            <a:noFill/>
          </a:ln>
        </p:spPr>
      </p:pic>
      <p:pic>
        <p:nvPicPr>
          <p:cNvPr id="64" name="Object 3" descr=""/>
          <p:cNvPicPr/>
          <p:nvPr/>
        </p:nvPicPr>
        <p:blipFill>
          <a:blip r:embed="rId2"/>
          <a:stretch/>
        </p:blipFill>
        <p:spPr>
          <a:xfrm>
            <a:off x="1450800" y="1371600"/>
            <a:ext cx="62424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Object 4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718812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20348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743200" y="2209680"/>
            <a:ext cx="5486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7" descr=""/>
          <p:cNvPicPr/>
          <p:nvPr/>
        </p:nvPicPr>
        <p:blipFill>
          <a:blip r:embed="rId4"/>
          <a:stretch/>
        </p:blipFill>
        <p:spPr>
          <a:xfrm>
            <a:off x="981000" y="3270240"/>
            <a:ext cx="1068480" cy="966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539640" y="1628640"/>
            <a:ext cx="346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did you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8748720" y="1628640"/>
            <a:ext cx="0" cy="485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64040" y="2349360"/>
            <a:ext cx="41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id you go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68360" y="3860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did you go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39640" y="4508640"/>
            <a:ext cx="3962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nk of the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你认为那个地方怎么样？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468360" y="1628640"/>
            <a:ext cx="830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46836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468360" y="64533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4643280" y="1628640"/>
            <a:ext cx="7308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874872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539640" y="22766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468360" y="29973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539640" y="37893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1"/>
          <p:cNvSpPr/>
          <p:nvPr/>
        </p:nvSpPr>
        <p:spPr>
          <a:xfrm>
            <a:off x="468360" y="450864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681840" y="3141720"/>
            <a:ext cx="34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did  you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304920" y="304920"/>
            <a:ext cx="714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lk about your trip, answ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ollowing ques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76080" y="693720"/>
            <a:ext cx="636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Where did you go in Chi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shanghaitv tower"/>
          <p:cNvPicPr/>
          <p:nvPr/>
        </p:nvPicPr>
        <p:blipFill>
          <a:blip r:embed="rId1"/>
          <a:stretch/>
        </p:blipFill>
        <p:spPr>
          <a:xfrm>
            <a:off x="3059280" y="2492280"/>
            <a:ext cx="3074760" cy="316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beijing summer"/>
          <p:cNvPicPr/>
          <p:nvPr/>
        </p:nvPicPr>
        <p:blipFill>
          <a:blip r:embed="rId2"/>
          <a:stretch/>
        </p:blipFill>
        <p:spPr>
          <a:xfrm>
            <a:off x="14400" y="1557360"/>
            <a:ext cx="3022560" cy="3425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ummer"/>
          <p:cNvPicPr/>
          <p:nvPr/>
        </p:nvPicPr>
        <p:blipFill>
          <a:blip r:embed="rId3"/>
          <a:stretch/>
        </p:blipFill>
        <p:spPr>
          <a:xfrm>
            <a:off x="6156360" y="3500280"/>
            <a:ext cx="297648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03040" y="841320"/>
            <a:ext cx="245268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提  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95280" y="1628640"/>
            <a:ext cx="849780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Monument to the People's Hero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ijing Workers’ Stadiu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Tian'anmen Squ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The Temple of Heaven       The Summer Palace              The Great Wall                       Beihai Park                             the Palace Museum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Forbidden City                 Suzhou Gardens                    Huangguoshu Falls                       Emei Mountain                       South Lake Park                            West Lake                              Beijing World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752480" y="1676520"/>
            <a:ext cx="251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16200" y="43275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47640" y="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ork in p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39640" y="620640"/>
            <a:ext cx="71312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Did you go to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No, I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Where did you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I went to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When did you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I went there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How did you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I went there by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Who did you go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Did you have f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0:24:15Z</dcterms:created>
  <dc:creator/>
  <dc:description/>
  <cp:keywords/>
  <dc:language>en-US</dc:language>
  <cp:lastModifiedBy>微软用户</cp:lastModifiedBy>
  <dcterms:modified xsi:type="dcterms:W3CDTF">2016-04-22T13:00:43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