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38A-4B4E-4C7E-8A34-10EBC15A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89B-EB00-4D0A-8218-4BE061D7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50C-1CBE-44C5-9C59-AE1CE7F1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040-92F6-4805-B619-6E0849D4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715-A33F-4053-99EB-0C744D2D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7BE-D58D-4986-9418-44A39121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DF3-08CE-4489-8C59-0959F423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AC3-DECD-434B-95C2-7D2FEA04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3B7-46DC-46EE-BE11-500FF98C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029-FC5A-42CD-8EEF-E809323C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6216-AEB0-442E-A38A-791957BC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900-BFB4-4AE1-953D-A590F375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F447-6101-4DA7-A169-9DA06701E2E0}" type="slidenum">
              <a:rPr b="0" lang="zh-CN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20 looking at photo</a:t>
            </a: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6" descr="SC2008040114520062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3520" y="1523880"/>
            <a:ext cx="79930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oto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)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.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照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ind  (found)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v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到，发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member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v.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住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忆起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228600" y="152280"/>
            <a:ext cx="152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S UI Gothic"/>
              </a:rPr>
              <a:t>Words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S UI Gothic"/>
              <a:ea typeface="MS UI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5029200" y="985680"/>
            <a:ext cx="3352680" cy="339732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4724280" y="3429000"/>
            <a:ext cx="1600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457200" y="41911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Comic Sans MS"/>
                <a:ea typeface="华文彩云"/>
              </a:rPr>
              <a:t>Look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Comic Sans MS"/>
                <a:ea typeface="华文彩云"/>
              </a:rPr>
              <a:t>Li Ming found some pictures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ny wanted to play basketball with a ping-pong bal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3" descr="SC20080411150140343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16000" y="1600200"/>
            <a:ext cx="5110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" descr="SC20080411150140562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685800" y="30492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  <a:ea typeface="华文彩云"/>
              </a:rPr>
              <a:t>Then, Li Ming _____ Danny to  play_________,but he ___ his ha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  <a:ea typeface="华文彩云"/>
              </a:rPr>
              <a:t>                                      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  <a:ea typeface="华文彩云"/>
              </a:rPr>
              <a:t>Poor Dann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267080" y="228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omic Sans MS"/>
                <a:ea typeface="华文彩云"/>
              </a:rPr>
              <a:t>tau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362320" y="6858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bc0d"/>
                </a:solidFill>
                <a:latin typeface="Comic Sans MS"/>
                <a:ea typeface="华文彩云"/>
              </a:rPr>
              <a:t>Ping-p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486400" y="685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omic Sans MS"/>
                <a:ea typeface="华文彩云"/>
              </a:rPr>
              <a:t>h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66680" y="1066680"/>
            <a:ext cx="72392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Step 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Give you two minutes to find out all the </a:t>
            </a: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phrases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in this lesson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523880" y="2362320"/>
            <a:ext cx="28958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备好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照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篮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343400" y="2362320"/>
            <a:ext cx="2819520" cy="38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get ready to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go h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these photo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look 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play basketb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38080" y="914400"/>
            <a:ext cx="1752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S UI Gothic"/>
              </a:rPr>
              <a:t>Phrases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S UI Gothic"/>
              <a:ea typeface="MS UI Gothic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90720" y="16002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523880" y="1828800"/>
            <a:ext cx="403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52280" y="68580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f497d"/>
                </a:solidFill>
                <a:latin typeface="Monotype Corsiva"/>
              </a:rPr>
              <a:t>Step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219320" y="1905120"/>
            <a:ext cx="76197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Give you two minutes to find out all the important 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sentences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in this lesson. Talk with your partners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457200" y="380880"/>
            <a:ext cx="822960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你正在干什么？我在准备下周回家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What are you doing? I’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 get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ting 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ready to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 go home next wee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后来我教他打乒乓球，但是他打到了手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Then I </a:t>
            </a:r>
            <a:r>
              <a:rPr b="1" lang="en-US" sz="2400" spc="-1" strike="noStrike">
                <a:solidFill>
                  <a:srgbClr val="c0504d"/>
                </a:solidFill>
                <a:latin typeface="Monotype Corsiva"/>
              </a:rPr>
              <a:t>taught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 him </a:t>
            </a:r>
            <a:r>
              <a:rPr b="1" lang="en-US" sz="2400" spc="-1" strike="noStrike">
                <a:solidFill>
                  <a:srgbClr val="c0504d"/>
                </a:solidFill>
                <a:latin typeface="Monotype Corsiva"/>
              </a:rPr>
              <a:t>to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 play ping-pong ,but he 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hit 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his h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Monotype Corsiva"/>
              </a:rPr>
              <a:t>你还记得这张照片吗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Do you remember this pho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未知用户</cp:lastModifiedBy>
  <dcterms:modified xsi:type="dcterms:W3CDTF">2015-05-18T08:42:13Z</dcterms:modified>
  <cp:revision>7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