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AC2-E84B-4DA1-AB6F-0AB1F30E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F46-323F-4F05-B716-B6F77ECF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1B0-47F0-4AEB-A843-E2EB71E1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557-5BFC-4C17-82F4-C23CA041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D5E-CEA2-4AAF-9263-04FFDE62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FB2-85C8-42C2-A819-9D266D2D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830-DB81-4B93-9A92-FABA3331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F4D-B516-4FB6-96F7-59016A44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F0F-87FD-4BF0-9C52-FED569C4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39A-88BA-4796-B868-77263DDC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941-D15F-4A5B-87EF-98B623F1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784-A34E-4644-9216-F7AD6FFB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AC4A-9D3D-43BB-A781-777D0B60D11E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ff"/>
                </a:solidFill>
                <a:latin typeface="Comic Sans MS"/>
              </a:rPr>
              <a:t>Lesson 6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66920" y="3933720"/>
            <a:ext cx="4248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Who Wo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do--did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watch--watched    </a:t>
            </a: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观看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is--was    </a:t>
            </a: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是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play--played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win--won    </a:t>
            </a: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赢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lose--lost    </a:t>
            </a: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输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have fun watch</a:t>
            </a:r>
            <a:r>
              <a:rPr b="1" lang="zh-CN" sz="3900" spc="-1" strike="noStrike">
                <a:solidFill>
                  <a:srgbClr val="ff0000"/>
                </a:solidFill>
                <a:latin typeface="Comic Sans MS"/>
              </a:rPr>
              <a:t>ing </a:t>
            </a: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yell--yelled   </a:t>
            </a: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大叫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buy--bought   </a:t>
            </a:r>
            <a:r>
              <a:rPr b="1" lang="zh-CN" sz="3900" spc="-1" strike="noStrike">
                <a:solidFill>
                  <a:srgbClr val="000000"/>
                </a:solidFill>
                <a:latin typeface="Comic Sans MS"/>
              </a:rPr>
              <a:t>买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暴风截屏201201180907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箭头 77"/>
          <p:cNvSpPr/>
          <p:nvPr/>
        </p:nvSpPr>
        <p:spPr>
          <a:xfrm flipH="1" flipV="1">
            <a:off x="3850920" y="1628280"/>
            <a:ext cx="79380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9280" y="907920"/>
            <a:ext cx="5761080" cy="72072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We </a:t>
            </a:r>
            <a:r>
              <a:rPr b="0" lang="zh-CN" sz="3600" spc="-1" strike="noStrike">
                <a:solidFill>
                  <a:srgbClr val="ff0000"/>
                </a:solidFill>
                <a:latin typeface="Monotype Corsiva"/>
              </a:rPr>
              <a:t>watched </a:t>
            </a: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Bob </a:t>
            </a:r>
            <a:r>
              <a:rPr b="0" lang="zh-CN" sz="3600" spc="-1" strike="noStrike">
                <a:solidFill>
                  <a:srgbClr val="ff0000"/>
                </a:solidFill>
                <a:latin typeface="Monotype Corsiva"/>
              </a:rPr>
              <a:t>play</a:t>
            </a: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 basketball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暴风截屏20120118092020"/>
          <p:cNvPicPr/>
          <p:nvPr/>
        </p:nvPicPr>
        <p:blipFill>
          <a:blip r:embed="rId1"/>
          <a:stretch/>
        </p:blipFill>
        <p:spPr>
          <a:xfrm>
            <a:off x="14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箭头 89"/>
          <p:cNvSpPr/>
          <p:nvPr/>
        </p:nvSpPr>
        <p:spPr>
          <a:xfrm>
            <a:off x="2340000" y="3860640"/>
            <a:ext cx="1368360" cy="172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箭头 91"/>
          <p:cNvSpPr/>
          <p:nvPr/>
        </p:nvSpPr>
        <p:spPr>
          <a:xfrm flipH="1" flipV="1">
            <a:off x="3708360" y="1557000"/>
            <a:ext cx="93672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2266920" y="5589720"/>
            <a:ext cx="4753080" cy="863640"/>
          </a:xfrm>
          <a:prstGeom prst="flowChartTermina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onotype Corsiva"/>
              </a:rPr>
              <a:t>Did 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Bob's team </a:t>
            </a:r>
            <a:r>
              <a:rPr b="1" lang="zh-CN" sz="3600" spc="-1" strike="noStrike">
                <a:solidFill>
                  <a:srgbClr val="ff0000"/>
                </a:solidFill>
                <a:latin typeface="Monotype Corsiva"/>
              </a:rPr>
              <a:t>play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 a gam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684360" y="4869000"/>
            <a:ext cx="11509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??</a:t>
            </a:r>
            <a:endParaRPr b="0" lang="en-US" sz="1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11280" y="5373720"/>
            <a:ext cx="1439640" cy="9349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He as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468360" y="620640"/>
            <a:ext cx="6264360" cy="936720"/>
          </a:xfrm>
          <a:prstGeom prst="flowChartTermina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</a:rPr>
              <a:t>Yes, his team played the orange team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324000" y="1270080"/>
            <a:ext cx="8424720" cy="46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It was a good game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Everyone played hard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暴风截屏20120118090905"/>
          <p:cNvPicPr/>
          <p:nvPr/>
        </p:nvPicPr>
        <p:blipFill>
          <a:blip r:embed="rId1"/>
          <a:stretch/>
        </p:blipFill>
        <p:spPr>
          <a:xfrm>
            <a:off x="0" y="0"/>
            <a:ext cx="5005440" cy="46544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/>
          <p:cNvSpPr/>
          <p:nvPr/>
        </p:nvSpPr>
        <p:spPr>
          <a:xfrm>
            <a:off x="5364000" y="1341360"/>
            <a:ext cx="295308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o wo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o los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omic Sans MS"/>
              </a:rPr>
              <a:t>Did they </a:t>
            </a:r>
            <a:r>
              <a:rPr b="0" lang="zh-CN" sz="3400" spc="-1" strike="noStrike">
                <a:solidFill>
                  <a:srgbClr val="0000ff"/>
                </a:solidFill>
                <a:latin typeface="Comic Sans MS"/>
              </a:rPr>
              <a:t>have fun watch</a:t>
            </a:r>
            <a:r>
              <a:rPr b="1" lang="zh-CN" sz="3400" spc="-1" strike="noStrike" u="sng">
                <a:solidFill>
                  <a:srgbClr val="0000ff"/>
                </a:solidFill>
                <a:uFillTx/>
                <a:latin typeface="Comic Sans MS"/>
              </a:rPr>
              <a:t>ing</a:t>
            </a:r>
            <a:r>
              <a:rPr b="0" lang="zh-CN" sz="3400" spc="-1" strike="noStrike">
                <a:solidFill>
                  <a:srgbClr val="000000"/>
                </a:solidFill>
                <a:latin typeface="Comic Sans MS"/>
              </a:rPr>
              <a:t> the gam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暴风截屏20120118091104"/>
          <p:cNvPicPr/>
          <p:nvPr/>
        </p:nvPicPr>
        <p:blipFill>
          <a:blip r:embed="rId1"/>
          <a:stretch/>
        </p:blipFill>
        <p:spPr>
          <a:xfrm>
            <a:off x="2328840" y="2052720"/>
            <a:ext cx="4761000" cy="31906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"/>
          <p:cNvSpPr/>
          <p:nvPr/>
        </p:nvSpPr>
        <p:spPr>
          <a:xfrm>
            <a:off x="1116000" y="5591160"/>
            <a:ext cx="6840720" cy="790560"/>
          </a:xfrm>
          <a:prstGeom prst="flowChartTermina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Yes, they yell</a:t>
            </a:r>
            <a:r>
              <a:rPr b="1" lang="zh-CN" sz="4000" spc="-1" strike="noStrike">
                <a:solidFill>
                  <a:srgbClr val="0000ff"/>
                </a:solidFill>
                <a:latin typeface="Monotype Corsiva"/>
              </a:rPr>
              <a:t>ed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 for Bob's team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We bought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Calibri"/>
              </a:rPr>
              <a:t>hot dogs and pop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暴风截屏20120118091129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4"/>
          <p:cNvSpPr/>
          <p:nvPr/>
        </p:nvSpPr>
        <p:spPr>
          <a:xfrm>
            <a:off x="3924360" y="1413000"/>
            <a:ext cx="4105080" cy="576000"/>
          </a:xfrm>
          <a:prstGeom prst="flowChartTermina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对划线部分提问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755640" y="549360"/>
            <a:ext cx="7561440" cy="792000"/>
          </a:xfrm>
          <a:prstGeom prst="flowChartTermina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hat snacks did you buy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419640" y="2494080"/>
            <a:ext cx="1944360" cy="5032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暴风截屏20120118091207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</dc:description>
  <cp:keywords/>
  <dc:language>en-US</dc:language>
  <cp:lastModifiedBy>Administrator</cp:lastModifiedBy>
  <dcterms:modified xsi:type="dcterms:W3CDTF">2015-03-09T10:06:5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