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54E-7B23-45A9-94C2-5F1A5B6F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6A3-7B9B-4195-A869-9EF02F37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CCB-393F-4682-8751-5292BCB5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F56-DE11-48B6-B085-1630EE9D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581-B766-49F1-84E5-3726E13A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557-AE6A-47DD-9743-BACAC932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321-D455-40B2-A9F9-DB0F4C67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3DB-537F-474E-A404-7961F142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E0D-CE0C-4468-8813-2507BBC8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8B4-3563-45E2-85DF-4C9AA913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D5C-718B-4209-B1F9-88094ACF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A71-DFF7-411D-9DDA-768DC2F9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435C-B505-4321-B7D2-6DFBEAF2F7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26920" y="1052640"/>
            <a:ext cx="72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sson 9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ways    Eat     Break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68360" y="189000"/>
            <a:ext cx="8280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How to be healthy and strong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I want to be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                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First,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                 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y favourite food is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    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I eat  breakfast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 (           )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imes a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et’s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                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3419640" y="1773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y and 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619280" y="2637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ways eat 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932360" y="3500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4284720" y="4437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3780000" y="42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7236000" y="4365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1908000" y="5084640"/>
            <a:ext cx="44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ways eat breakfas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24000" y="-1440"/>
            <a:ext cx="85690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 )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  eat  breakfast  _  7:30_ the 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, at    B. at, in    C. at, on     D. on,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 )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breakfast is good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     B. Eats     C. Eating    D. E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 )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 do you eat porridge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    How much          B. How m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ow about            D. How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84360" y="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1128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3964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79280" y="3195720"/>
            <a:ext cx="84981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 )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  don’t  know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  how  to  learn 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ow  do  learn 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how  learn  English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how  English  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79280" y="127944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 )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 eat   __ sup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     B. on       C. in       D.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5280" y="153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95280" y="334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08000" y="189000"/>
          <a:ext cx="8785080" cy="6192720"/>
        </p:xfrm>
        <a:graphic>
          <a:graphicData uri="http://schemas.openxmlformats.org/drawingml/2006/table">
            <a:tbl>
              <a:tblPr/>
              <a:tblGrid>
                <a:gridCol w="957240"/>
                <a:gridCol w="987480"/>
                <a:gridCol w="1071360"/>
                <a:gridCol w="1078200"/>
                <a:gridCol w="1388880"/>
                <a:gridCol w="1184400"/>
                <a:gridCol w="888840"/>
                <a:gridCol w="122868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n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s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rs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 M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√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√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√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220"/>
          <p:cNvSpPr/>
          <p:nvPr/>
        </p:nvSpPr>
        <p:spPr>
          <a:xfrm>
            <a:off x="1792080" y="44377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539640" y="952560"/>
            <a:ext cx="8460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              tw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ti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times         five  ti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 times         seven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11280" y="981000"/>
          <a:ext cx="7993080" cy="5232600"/>
        </p:xfrm>
        <a:graphic>
          <a:graphicData uri="http://schemas.openxmlformats.org/drawingml/2006/table">
            <a:tbl>
              <a:tblPr/>
              <a:tblGrid>
                <a:gridCol w="1873080"/>
                <a:gridCol w="6120000"/>
              </a:tblGrid>
              <a:tr h="825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ee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e breakfast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 Box 205"/>
          <p:cNvSpPr/>
          <p:nvPr/>
        </p:nvSpPr>
        <p:spPr>
          <a:xfrm>
            <a:off x="378000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9"/>
          <p:cNvSpPr/>
          <p:nvPr/>
        </p:nvSpPr>
        <p:spPr>
          <a:xfrm>
            <a:off x="154764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an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755640" y="549360"/>
            <a:ext cx="756144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9933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Danny  ate breakfast on Thursday at 7:30 in the morning.</a:t>
            </a:r>
            <a:r>
              <a:rPr b="0" lang="zh-CN" sz="3200" spc="-1" strike="noStrike">
                <a:solidFill>
                  <a:srgbClr val="339933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339933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Jenny ate breakfast at 7:15in the morning. </a:t>
            </a:r>
            <a:r>
              <a:rPr b="0" lang="zh-CN" sz="3200" spc="-1" strike="noStrike">
                <a:solidFill>
                  <a:srgbClr val="339933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39933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Li Ming usually eats porridge for breakfast. </a:t>
            </a:r>
            <a:r>
              <a:rPr b="0" lang="zh-CN" sz="3200" spc="-1" strike="noStrike">
                <a:solidFill>
                  <a:srgbClr val="339933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4 </a:t>
            </a:r>
            <a:r>
              <a:rPr b="0" lang="zh-CN" sz="3200" spc="-1" strike="noStrike">
                <a:solidFill>
                  <a:srgbClr val="339933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Li Ming  eats breakfast seven times a week. </a:t>
            </a:r>
            <a:r>
              <a:rPr b="0" lang="zh-CN" sz="3200" spc="-1" strike="noStrike">
                <a:solidFill>
                  <a:srgbClr val="339933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339933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Kim ate breakfast six times last week. </a:t>
            </a:r>
            <a:r>
              <a:rPr b="0" lang="zh-CN" sz="3200" spc="-1" strike="noStrike">
                <a:solidFill>
                  <a:srgbClr val="339933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788000" y="112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91636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059280" y="3573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77164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34000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images的"/>
          <p:cNvPicPr/>
          <p:nvPr/>
        </p:nvPicPr>
        <p:blipFill>
          <a:blip r:embed="rId1"/>
          <a:stretch/>
        </p:blipFill>
        <p:spPr>
          <a:xfrm>
            <a:off x="468360" y="189000"/>
            <a:ext cx="3672000" cy="324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images都是"/>
          <p:cNvPicPr/>
          <p:nvPr/>
        </p:nvPicPr>
        <p:blipFill>
          <a:blip r:embed="rId2"/>
          <a:stretch/>
        </p:blipFill>
        <p:spPr>
          <a:xfrm>
            <a:off x="5076720" y="404640"/>
            <a:ext cx="3168720" cy="3024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5280" y="429264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Strong   and  healt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508720" y="4149720"/>
            <a:ext cx="31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Weak and si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发的"/>
          <p:cNvPicPr/>
          <p:nvPr/>
        </p:nvPicPr>
        <p:blipFill>
          <a:blip r:embed="rId1"/>
          <a:stretch/>
        </p:blipFill>
        <p:spPr>
          <a:xfrm>
            <a:off x="1763640" y="3860640"/>
            <a:ext cx="3888000" cy="257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s额"/>
          <p:cNvPicPr/>
          <p:nvPr/>
        </p:nvPicPr>
        <p:blipFill>
          <a:blip r:embed="rId2"/>
          <a:stretch/>
        </p:blipFill>
        <p:spPr>
          <a:xfrm>
            <a:off x="1908000" y="476280"/>
            <a:ext cx="374364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55640" y="1268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003640" y="1268280"/>
            <a:ext cx="29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上一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71640" y="242100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800" spc="-1" strike="noStrike" u="sng">
                <a:solidFill>
                  <a:srgbClr val="ff00ff"/>
                </a:solidFill>
                <a:uFillTx/>
                <a:latin typeface="Arial"/>
              </a:rPr>
              <a:t>am going t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Beijing next wee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71640" y="4581360"/>
            <a:ext cx="68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800" spc="-1" strike="noStrike" u="sng">
                <a:solidFill>
                  <a:srgbClr val="ff00ff"/>
                </a:solidFill>
                <a:uFillTx/>
                <a:latin typeface="Arial"/>
              </a:rPr>
              <a:t>went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Shanghai last wee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1403280" y="54936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 to be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成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476360" y="170028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想成为一名老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258920" y="270828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I want to be a teac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971640" y="378936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I want to be a policem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0:31:16Z</dcterms:created>
  <dc:creator> </dc:creator>
  <dc:description> </dc:description>
  <cp:keywords/>
  <dc:language>en-US</dc:language>
  <cp:lastModifiedBy>Administrator</cp:lastModifiedBy>
  <dcterms:modified xsi:type="dcterms:W3CDTF">2015-03-09T10:07:33Z</dcterms:modified>
  <cp:revision>2</cp:revision>
  <dc:subject> </dc:subject>
  <dc:title> </dc:title>
</cp:coreProperties>
</file>