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FB25-5CD3-4840-9AD0-15CFED89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488B-69CA-4AB9-89A7-880D99F4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13D7-6F1A-492F-B9C9-B839D4CD4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DA42-259B-4A92-B3F1-A4012904C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C5B-393A-42F5-A884-9E029BA1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734-26B7-4F3D-B1F0-1340D84AD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4652-F881-4C0F-A47B-679ABE5B3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99F1-E4B5-41A5-8C94-C7BC27110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BFA9-92B5-41AB-B2EE-C830FD6BF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F36E-A006-4926-B06B-DA643282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A29-B1EA-41D9-BD53-7004B825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12A3-34B6-4448-9034-092A6851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FF9-E2D8-44B7-963D-D87D61FBE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9A3F-F36F-4C6F-963C-4299F2480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DF0-44BF-41E2-8806-470D19C4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CA6-825A-4BFD-A474-2EFFE7AD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446-9AA9-4D28-B295-0B240EA6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6A0-5DFC-4B2B-B42E-6A2BD0FD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88E-0F23-43E7-83FA-9531D029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B38-EE41-4AE0-A773-F327F7C8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841-126B-4EEA-AE5B-3506A304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66A-F371-452F-ACDA-1D07F169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0EA-C29B-4E9F-B382-D8B877E8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327-9548-4DB5-ABCB-A259DBA8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F45-FD91-4384-ACF6-030D363B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BBB-BF1F-43AB-9E44-414F93B9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DB5C-624E-4400-BA89-5828A931B698}" type="slidenum">
              <a:rPr b="0" lang="zh-CN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28480" y="2081160"/>
            <a:ext cx="4473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it2 Lesson 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045800" y="690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冀教版六年级英语下册课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312200" y="1557360"/>
            <a:ext cx="670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How many_______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</a:rPr>
              <a:t>多少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…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399320" y="3425760"/>
            <a:ext cx="714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How often do you_____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</a:rPr>
              <a:t>你多长时间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……</a:t>
            </a: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947880"/>
            <a:ext cx="91440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how many classes do you have in a da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你一天有多少节课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how often do you go to library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图书馆）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你多长时间去一次图书馆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045440" y="1268280"/>
            <a:ext cx="7046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minutes do you walk in a da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minutes do you play in a da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many minutes do you run in a da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often do you exerci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often do you watch TV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71640" y="1989000"/>
            <a:ext cx="7200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Calibri"/>
              </a:rPr>
              <a:t>教学目标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重点单词：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Exercise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ride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walk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run</a:t>
            </a: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play, minute, hou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Calibri"/>
              </a:rPr>
              <a:t>重点句型：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How often do you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How many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ide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[raid]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86920" y="5734080"/>
            <a:ext cx="446436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骑（车，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MCPE01092_0000[1]"/>
          <p:cNvPicPr/>
          <p:nvPr/>
        </p:nvPicPr>
        <p:blipFill>
          <a:blip r:embed="rId1"/>
          <a:stretch/>
        </p:blipFill>
        <p:spPr>
          <a:xfrm>
            <a:off x="900000" y="1268280"/>
            <a:ext cx="2703600" cy="4033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Cj01909970000[1]"/>
          <p:cNvPicPr/>
          <p:nvPr/>
        </p:nvPicPr>
        <p:blipFill>
          <a:blip r:embed="rId2"/>
          <a:stretch/>
        </p:blipFill>
        <p:spPr>
          <a:xfrm>
            <a:off x="4427640" y="1773360"/>
            <a:ext cx="4240080" cy="31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Walk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[wɔ:k]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5805000"/>
            <a:ext cx="187164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MCPE02313_0000[1]"/>
          <p:cNvPicPr/>
          <p:nvPr/>
        </p:nvPicPr>
        <p:blipFill>
          <a:blip r:embed="rId1"/>
          <a:stretch/>
        </p:blipFill>
        <p:spPr>
          <a:xfrm>
            <a:off x="1763640" y="1341360"/>
            <a:ext cx="6048360" cy="482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un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[rʌn]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57000" y="5038200"/>
            <a:ext cx="1819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MCj04360970000[1]"/>
          <p:cNvPicPr/>
          <p:nvPr/>
        </p:nvPicPr>
        <p:blipFill>
          <a:blip r:embed="rId1"/>
          <a:stretch/>
        </p:blipFill>
        <p:spPr>
          <a:xfrm>
            <a:off x="428760" y="1989000"/>
            <a:ext cx="871524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Play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[plei]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6021000"/>
            <a:ext cx="44640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打，玩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MCj04269950000[1]"/>
          <p:cNvPicPr/>
          <p:nvPr/>
        </p:nvPicPr>
        <p:blipFill>
          <a:blip r:embed="rId1"/>
          <a:stretch/>
        </p:blipFill>
        <p:spPr>
          <a:xfrm>
            <a:off x="324000" y="1844640"/>
            <a:ext cx="3528720" cy="2532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Cj03588470000[1]"/>
          <p:cNvPicPr/>
          <p:nvPr/>
        </p:nvPicPr>
        <p:blipFill>
          <a:blip r:embed="rId2"/>
          <a:stretch/>
        </p:blipFill>
        <p:spPr>
          <a:xfrm>
            <a:off x="4859280" y="1484280"/>
            <a:ext cx="365292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71040" y="4869000"/>
            <a:ext cx="19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680080" y="551664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y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脑游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902600" y="148428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956240" y="2708280"/>
            <a:ext cx="12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l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868760" y="3860640"/>
            <a:ext cx="101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u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949400" y="49417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348000" y="1341360"/>
            <a:ext cx="1152720" cy="4464000"/>
          </a:xfrm>
          <a:custGeom>
            <a:avLst/>
            <a:gdLst>
              <a:gd name="textAreaLeft" fmla="*/ 0 w 1152720"/>
              <a:gd name="textAreaRight" fmla="*/ 416160 w 115272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631840" y="3213000"/>
            <a:ext cx="2133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eksə,saiz]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运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14960" y="3430440"/>
            <a:ext cx="310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minute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599120" y="5086440"/>
            <a:ext cx="226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hour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668920" y="34304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华文隶书"/>
              </a:rPr>
              <a:t>分钟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5815080" y="51595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华文隶书"/>
              </a:rPr>
              <a:t>小时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663920" y="1484280"/>
            <a:ext cx="311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958000" y="1484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华文隶书"/>
              </a:rPr>
              <a:t>锻炼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803520" y="1125360"/>
            <a:ext cx="7430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 day=___ hour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An hour=___minute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 month=___day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___days=1 week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___months=1 yea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3:52:56Z</dcterms:created>
  <dc:creator> </dc:creator>
  <dc:description> </dc:description>
  <cp:keywords/>
  <dc:language>en-US</dc:language>
  <cp:lastModifiedBy>Administrator</cp:lastModifiedBy>
  <dcterms:modified xsi:type="dcterms:W3CDTF">2015-03-09T09:51:03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04000000000001024120</vt:lpwstr>
  </property>
</Properties>
</file>