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9FD1-9F3C-4790-A91D-89FD021C0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51FC-9C4C-4FC6-871B-7717AD305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BC3E-7E5A-49E3-AA6B-B04E8CF09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8A83-BB05-4849-BE05-2E016DB5C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1D2D-5C04-4248-BAD8-1C58A5A21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145C-0BFC-4066-B416-E48404A17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C58D-5BA9-4FE7-B6F0-C74BD6388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7F40-6E69-4225-81D7-689727461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CF32-90BB-415D-A8C6-49FF4BD03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0541-E67D-479B-94A1-D567330DF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6023-D7D4-4DAF-82F2-E7E759F47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DA5A-00C7-4E61-8F67-C3ABAAE70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17FA-919A-4273-A79A-E625B3982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59E4-1698-471D-B2BC-40644D207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E370-9E9A-4AE3-8AA8-0ED772D3C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659-755D-430B-A963-FB33FC30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C599-5034-4026-97CC-3CF7DC796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CB0-FD7D-4A31-B036-3C87B306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297-64C2-4BD2-B9F6-8121822F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1C7-55A0-49DE-8C25-279421C5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508-A0D0-4363-97BA-B752B56F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6AF-03D6-4E26-8AB3-FDC7E279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5E2-71FE-4C02-A35B-CFC6D6EA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73E-CEBD-44DF-8383-755C31C6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86A-717D-46F8-8A35-59452B61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059-FFF3-4487-9E13-D8CEE212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978-1DF0-4AD2-9FE4-7AD6E75F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97E-826E-4295-90B8-3D793AA4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4F3-95EF-4126-B252-700CA0B2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DB03-8B37-40BA-98DE-73829CDAE7A3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954800" y="1447920"/>
            <a:ext cx="51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冀教版）六年级英语下册课件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unit4  lesson2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438280" y="3199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sson 29 Surprise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572640" y="2819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课重点解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19560" cy="27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447920" y="2733840"/>
            <a:ext cx="640080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3870000" y="28400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题练习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2"/>
          <p:cNvSpPr/>
          <p:nvPr/>
        </p:nvSpPr>
        <p:spPr>
          <a:xfrm>
            <a:off x="1374120" y="1094760"/>
            <a:ext cx="718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、按要求写词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rememb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反义词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  2.lat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反义词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aft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反义词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  4. surprise part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汉意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happ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反义词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 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lour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音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___________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ine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反义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______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5"/>
          <p:cNvSpPr/>
          <p:nvPr/>
        </p:nvSpPr>
        <p:spPr>
          <a:xfrm>
            <a:off x="1752480" y="1981080"/>
            <a:ext cx="601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（二）、连词组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  you   did     yesterday   do   what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 many  gifts    do     how     need     you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 there  someone  at    is   door  t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 cookie   has   every   le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1359360" y="1399680"/>
            <a:ext cx="701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教学目标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学会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ke, cookies, ice cream, sugar, someon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wl, flour, oil, salt 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熟读课文，理解文意。学会守时，守约的良好习惯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通过练习掌握重点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172200" cy="2741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1"/>
          <p:cNvSpPr/>
          <p:nvPr/>
        </p:nvSpPr>
        <p:spPr>
          <a:xfrm>
            <a:off x="1828800" y="4648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gar, bowl, flour, oil, sa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3834000" y="27417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课文回答下列问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381560" cy="1868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2028960" y="378288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o will bring Liming hom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356120" y="4648320"/>
            <a:ext cx="77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are Danny and Jenny making for the party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343400" cy="1866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889640" y="3817800"/>
            <a:ext cx="46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se Liming know the party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15200" cy="2729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315200" cy="14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057720" cy="3644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586728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758520" y="2102040"/>
            <a:ext cx="7628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 they need to make cookie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at do the cookies have on it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many people are there in the party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Administrator</cp:lastModifiedBy>
  <dcterms:modified xsi:type="dcterms:W3CDTF">2015-03-09T10:02:39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