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9F8-57B3-4987-9845-204356C67BFB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4344-418B-4208-B1AB-92BB95C04A3B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5F90-6717-413B-819D-25D70300A397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EEC4-7764-429E-8B73-2ABFF8F73380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B9C9-9C6C-41B0-9A7C-9A59103B4DA5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2D7-762E-4262-AFBD-6103005706A3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9FA2-B46E-4520-A312-988A3EE131B7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818D-1C37-4E18-8636-0869AF08E41D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5D25-1B3F-4FBF-AC14-00F8D5A0FBF8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5A4B-3B27-429E-8D64-6844C358C759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6D7F-AE25-4DC7-8B55-D26FB3A77FD8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23B2-412E-4C5D-8A67-D3D98ACC695D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A7A2-BC47-4E75-B8DC-8D31C0A6289D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487C-D1C9-4977-ADF9-F7140416EB38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D040-0568-4A04-8A58-49AA7EA38807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2280-2258-46A3-964F-3F76E29FFA7F}" type="slidenum">
              <a:rPr b="1" lang="zh-CN" sz="12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2CD-4BC6-4E13-9FC8-F2588E68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41D7-012B-45D6-96E9-AEE088D5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B43-BCC1-4753-AECC-E882F45DB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4CD-FDCE-4A72-827D-9B2BE81C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EFDF-24A3-4619-9616-1B7286A5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5C37-DE63-48B8-96CC-B316D321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B39C-670F-4364-821F-CE55BD36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46EA-A9A4-4DF7-8D42-147209DB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D002-8174-48BE-8F62-C4A021C3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CA0A-4595-4FEE-99DB-47A006E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F11D-4DD3-45C0-BD07-6A260F64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16A-48D1-4DC7-A680-BFCE9D1E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429D-A508-4AE4-97C5-DCC4D9B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407F-CA6E-4973-8ED8-F55307CF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92DD-8FF6-424C-8E26-27E77B8D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2786-7659-4B56-9DE5-C547CFC7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9B88-2853-4D4B-BD94-0CCAB7A0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328B-87DD-4A2C-B3F6-F88182FE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7E6-615F-481F-814F-434434E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5A5-3F35-4952-ACB2-041E8692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64D-0665-4DE5-BCD0-AD7D7510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A5BE-34DD-4876-A5FF-F3C7466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96C-6040-429A-9777-FF476F7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D30-F9F8-463A-B2FE-D8FDF651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4BD8-A67E-41B3-B811-A9CE0FD90AD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B205-9F61-4374-B6BE-8FB710902A18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2050920" y="1773360"/>
            <a:ext cx="511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梯形的边与角</a:t>
            </a:r>
            <a:endParaRPr b="1" lang="en-US" sz="2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/>
          <p:cNvSpPr/>
          <p:nvPr/>
        </p:nvSpPr>
        <p:spPr>
          <a:xfrm flipV="1">
            <a:off x="684360" y="2707920"/>
            <a:ext cx="2735280" cy="720720"/>
          </a:xfrm>
          <a:prstGeom prst="pie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547640" y="3500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腰相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780000" y="2708280"/>
            <a:ext cx="2592360" cy="720720"/>
          </a:xfrm>
          <a:prstGeom prst="pie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500720" y="3573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腰相等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108000" y="620640"/>
            <a:ext cx="525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彩色笔画出下面梯形的腰，两腰相等吗？你是怎样发现的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H="1">
            <a:off x="684000" y="2708280"/>
            <a:ext cx="64764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2700360" y="2708280"/>
            <a:ext cx="71928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>
            <a:off x="3780000" y="2708280"/>
            <a:ext cx="64764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 flipV="1">
            <a:off x="5724360" y="2708280"/>
            <a:ext cx="648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1619280" y="458136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腰相等的梯形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叫做等腰梯形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1" descr=""/>
          <p:cNvPicPr/>
          <p:nvPr/>
        </p:nvPicPr>
        <p:blipFill>
          <a:blip r:embed="rId1"/>
          <a:stretch/>
        </p:blipFill>
        <p:spPr>
          <a:xfrm>
            <a:off x="357120" y="1214280"/>
            <a:ext cx="8143920" cy="2046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</p:pic>
      <p:sp>
        <p:nvSpPr>
          <p:cNvPr id="194" name="Text Box 5"/>
          <p:cNvSpPr/>
          <p:nvPr/>
        </p:nvSpPr>
        <p:spPr>
          <a:xfrm>
            <a:off x="36360" y="601560"/>
            <a:ext cx="86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下面梯形，它们的角有什么特别的地方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114560" y="34862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梯形②和④中有直角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Line 8"/>
          <p:cNvSpPr/>
          <p:nvPr/>
        </p:nvSpPr>
        <p:spPr>
          <a:xfrm>
            <a:off x="7740720" y="25653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7740720" y="256536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4284720" y="1773360"/>
            <a:ext cx="14292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Line 11"/>
          <p:cNvSpPr/>
          <p:nvPr/>
        </p:nvSpPr>
        <p:spPr>
          <a:xfrm flipV="1">
            <a:off x="4284720" y="1699920"/>
            <a:ext cx="14292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755640" y="43657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像这样有直角的梯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直角梯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-612720" y="-1584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5"/>
          <p:cNvSpPr/>
          <p:nvPr/>
        </p:nvSpPr>
        <p:spPr>
          <a:xfrm>
            <a:off x="36360" y="260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下面梯形，它们的角有什么特别的地方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250920" y="299736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图中哪些是等腰梯形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539640" y="357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05" name="Picture 10" descr="图片11"/>
          <p:cNvPicPr/>
          <p:nvPr/>
        </p:nvPicPr>
        <p:blipFill>
          <a:blip r:embed="rId1"/>
          <a:stretch/>
        </p:blipFill>
        <p:spPr>
          <a:xfrm>
            <a:off x="4284720" y="3860640"/>
            <a:ext cx="1981080" cy="13338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1"/>
          <p:cNvSpPr/>
          <p:nvPr/>
        </p:nvSpPr>
        <p:spPr>
          <a:xfrm>
            <a:off x="4788000" y="35002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4788000" y="530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140360" y="4221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942160" y="422100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651640" y="299736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哪些角相等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Arc 17"/>
          <p:cNvSpPr/>
          <p:nvPr/>
        </p:nvSpPr>
        <p:spPr>
          <a:xfrm flipH="1">
            <a:off x="6082560" y="5013360"/>
            <a:ext cx="73080" cy="14436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2" name="Freeform 18"/>
          <p:cNvSpPr/>
          <p:nvPr/>
        </p:nvSpPr>
        <p:spPr>
          <a:xfrm>
            <a:off x="4716360" y="3860640"/>
            <a:ext cx="166680" cy="16848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Freeform 19"/>
          <p:cNvSpPr/>
          <p:nvPr/>
        </p:nvSpPr>
        <p:spPr>
          <a:xfrm>
            <a:off x="5651640" y="3860640"/>
            <a:ext cx="144360" cy="16848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4789440" y="39337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508720" y="39466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Freeform 22"/>
          <p:cNvSpPr/>
          <p:nvPr/>
        </p:nvSpPr>
        <p:spPr>
          <a:xfrm>
            <a:off x="4356000" y="5072040"/>
            <a:ext cx="82800" cy="8568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4356000" y="486900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8" name="Text Box 24"/>
          <p:cNvSpPr/>
          <p:nvPr/>
        </p:nvSpPr>
        <p:spPr>
          <a:xfrm>
            <a:off x="5867280" y="47973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6531480" y="372276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6620400" y="4365720"/>
            <a:ext cx="15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1" name="Picture 22" descr=""/>
          <p:cNvPicPr/>
          <p:nvPr/>
        </p:nvPicPr>
        <p:blipFill>
          <a:blip r:embed="rId2"/>
          <a:stretch/>
        </p:blipFill>
        <p:spPr>
          <a:xfrm>
            <a:off x="1785960" y="1214280"/>
            <a:ext cx="5857920" cy="148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img(83)08"/>
          <p:cNvPicPr/>
          <p:nvPr/>
        </p:nvPicPr>
        <p:blipFill>
          <a:blip r:embed="rId1"/>
          <a:stretch/>
        </p:blipFill>
        <p:spPr>
          <a:xfrm>
            <a:off x="252360" y="2276640"/>
            <a:ext cx="8712360" cy="331308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539640" y="1052640"/>
            <a:ext cx="7632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点与点连接起来，画出两个形状不同的梯形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-324000" y="333360"/>
            <a:ext cx="26640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直接连接符 5"/>
          <p:cNvSpPr/>
          <p:nvPr/>
        </p:nvSpPr>
        <p:spPr>
          <a:xfrm>
            <a:off x="1835280" y="306864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直接连接符 7"/>
          <p:cNvSpPr/>
          <p:nvPr/>
        </p:nvSpPr>
        <p:spPr>
          <a:xfrm flipH="1">
            <a:off x="1042560" y="3068640"/>
            <a:ext cx="79236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直接连接符 10"/>
          <p:cNvSpPr/>
          <p:nvPr/>
        </p:nvSpPr>
        <p:spPr>
          <a:xfrm>
            <a:off x="1042920" y="4076640"/>
            <a:ext cx="194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直接连接符 12"/>
          <p:cNvSpPr/>
          <p:nvPr/>
        </p:nvSpPr>
        <p:spPr>
          <a:xfrm>
            <a:off x="2627280" y="3068640"/>
            <a:ext cx="360360" cy="10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直接连接符 14"/>
          <p:cNvSpPr/>
          <p:nvPr/>
        </p:nvSpPr>
        <p:spPr>
          <a:xfrm>
            <a:off x="5364000" y="306864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直接连接符 16"/>
          <p:cNvSpPr/>
          <p:nvPr/>
        </p:nvSpPr>
        <p:spPr>
          <a:xfrm>
            <a:off x="5364000" y="3068640"/>
            <a:ext cx="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直接连接符 18"/>
          <p:cNvSpPr/>
          <p:nvPr/>
        </p:nvSpPr>
        <p:spPr>
          <a:xfrm>
            <a:off x="5364000" y="400536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直接连接符 21"/>
          <p:cNvSpPr/>
          <p:nvPr/>
        </p:nvSpPr>
        <p:spPr>
          <a:xfrm>
            <a:off x="6156360" y="3068640"/>
            <a:ext cx="79200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5"/>
          <p:cNvGrpSpPr/>
          <p:nvPr/>
        </p:nvGrpSpPr>
        <p:grpSpPr>
          <a:xfrm>
            <a:off x="2916360" y="2492280"/>
            <a:ext cx="1726920" cy="1152720"/>
            <a:chOff x="2916360" y="2492280"/>
            <a:chExt cx="1726920" cy="1152720"/>
          </a:xfrm>
        </p:grpSpPr>
        <p:sp>
          <p:nvSpPr>
            <p:cNvPr id="234" name="AutoShape 6"/>
            <p:cNvSpPr/>
            <p:nvPr/>
          </p:nvSpPr>
          <p:spPr>
            <a:xfrm>
              <a:off x="2916360" y="2492280"/>
              <a:ext cx="1726920" cy="1150920"/>
            </a:xfrm>
            <a:prstGeom prst="pie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35" name="Freeform 7"/>
            <p:cNvSpPr/>
            <p:nvPr/>
          </p:nvSpPr>
          <p:spPr>
            <a:xfrm>
              <a:off x="3924360" y="2492280"/>
              <a:ext cx="286920" cy="1152720"/>
            </a:xfrm>
            <a:prstGeom prst="pie">
              <a:avLst/>
            </a:prstGeom>
            <a:noFill/>
            <a:ln cap="rnd" w="0">
              <a:solidFill>
                <a:srgbClr val="ffff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36" name="Group 8"/>
          <p:cNvGrpSpPr/>
          <p:nvPr/>
        </p:nvGrpSpPr>
        <p:grpSpPr>
          <a:xfrm>
            <a:off x="5508720" y="2492280"/>
            <a:ext cx="1368360" cy="1224000"/>
            <a:chOff x="5508720" y="2492280"/>
            <a:chExt cx="1368360" cy="1224000"/>
          </a:xfrm>
        </p:grpSpPr>
        <p:grpSp>
          <p:nvGrpSpPr>
            <p:cNvPr id="237" name="Group 9"/>
            <p:cNvGrpSpPr/>
            <p:nvPr/>
          </p:nvGrpSpPr>
          <p:grpSpPr>
            <a:xfrm>
              <a:off x="5508720" y="2492280"/>
              <a:ext cx="1368360" cy="1224000"/>
              <a:chOff x="5508720" y="2492280"/>
              <a:chExt cx="1368360" cy="1224000"/>
            </a:xfrm>
          </p:grpSpPr>
          <p:sp>
            <p:nvSpPr>
              <p:cNvPr id="238" name="Freeform 10"/>
              <p:cNvSpPr/>
              <p:nvPr/>
            </p:nvSpPr>
            <p:spPr>
              <a:xfrm>
                <a:off x="5508720" y="2492280"/>
                <a:ext cx="1368360" cy="1224000"/>
              </a:xfrm>
              <a:prstGeom prst="pie">
                <a:avLst/>
              </a:prstGeom>
              <a:noFill/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239" name="Freeform 11"/>
              <p:cNvSpPr/>
              <p:nvPr/>
            </p:nvSpPr>
            <p:spPr>
              <a:xfrm>
                <a:off x="5508720" y="3573360"/>
                <a:ext cx="144360" cy="142920"/>
              </a:xfrm>
              <a:prstGeom prst="pie">
                <a:avLst/>
              </a:prstGeom>
              <a:noFill/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240" name="Freeform 12"/>
            <p:cNvSpPr/>
            <p:nvPr/>
          </p:nvSpPr>
          <p:spPr>
            <a:xfrm>
              <a:off x="5508720" y="3068640"/>
              <a:ext cx="936360" cy="144360"/>
            </a:xfrm>
            <a:prstGeom prst="pie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241" name="Group 13"/>
          <p:cNvGrpSpPr/>
          <p:nvPr/>
        </p:nvGrpSpPr>
        <p:grpSpPr>
          <a:xfrm>
            <a:off x="7812000" y="2349360"/>
            <a:ext cx="720720" cy="1800000"/>
            <a:chOff x="7812000" y="2349360"/>
            <a:chExt cx="720720" cy="1800000"/>
          </a:xfrm>
        </p:grpSpPr>
        <p:sp>
          <p:nvSpPr>
            <p:cNvPr id="242" name="Freeform 14"/>
            <p:cNvSpPr/>
            <p:nvPr/>
          </p:nvSpPr>
          <p:spPr>
            <a:xfrm>
              <a:off x="7812000" y="2349360"/>
              <a:ext cx="720720" cy="1800000"/>
            </a:xfrm>
            <a:prstGeom prst="pie">
              <a:avLst/>
            </a:prstGeom>
            <a:noFill/>
            <a:ln w="0">
              <a:solidFill>
                <a:srgbClr val="007a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243" name="Freeform 15"/>
            <p:cNvSpPr/>
            <p:nvPr/>
          </p:nvSpPr>
          <p:spPr>
            <a:xfrm>
              <a:off x="7812000" y="2638080"/>
              <a:ext cx="720720" cy="142920"/>
            </a:xfrm>
            <a:prstGeom prst="pie">
              <a:avLst/>
            </a:prstGeom>
            <a:noFill/>
            <a:ln cap="rnd" w="0">
              <a:solidFill>
                <a:srgbClr val="ffffff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244" name="Text Box 16"/>
          <p:cNvSpPr/>
          <p:nvPr/>
        </p:nvSpPr>
        <p:spPr>
          <a:xfrm>
            <a:off x="684360" y="83664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找出下图中的梯形，并指出梯形的上底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下底和高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539640" y="4221000"/>
            <a:ext cx="21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平行四边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348000" y="429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梯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5581800" y="429264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梯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667640" y="436572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梯形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3203640" y="1989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Text Box 22"/>
          <p:cNvSpPr/>
          <p:nvPr/>
        </p:nvSpPr>
        <p:spPr>
          <a:xfrm>
            <a:off x="3274920" y="35575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5291280" y="2060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Text Box 25"/>
          <p:cNvSpPr/>
          <p:nvPr/>
        </p:nvSpPr>
        <p:spPr>
          <a:xfrm>
            <a:off x="5580000" y="36306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6948360" y="2781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8317080" y="292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5" name="AutoShape 30"/>
          <p:cNvSpPr/>
          <p:nvPr/>
        </p:nvSpPr>
        <p:spPr>
          <a:xfrm>
            <a:off x="1042920" y="2421000"/>
            <a:ext cx="1081080" cy="1584360"/>
          </a:xfrm>
          <a:prstGeom prst="parallelogram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-108000" y="189000"/>
            <a:ext cx="26640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拓展练习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4"/>
          <p:cNvSpPr/>
          <p:nvPr/>
        </p:nvSpPr>
        <p:spPr>
          <a:xfrm>
            <a:off x="971640" y="1052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小结：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2268360" y="1989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什么样的图形叫梯形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268360" y="278136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梯形的各部分组成，梯形的种类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116000" y="76500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我们学过哪些图形呢？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900000" y="1989000"/>
            <a:ext cx="1871640" cy="1673280"/>
            <a:chOff x="900000" y="1989000"/>
            <a:chExt cx="1871640" cy="1673280"/>
          </a:xfrm>
        </p:grpSpPr>
        <p:sp>
          <p:nvSpPr>
            <p:cNvPr id="92" name="Rectangle 5"/>
            <p:cNvSpPr/>
            <p:nvPr/>
          </p:nvSpPr>
          <p:spPr>
            <a:xfrm>
              <a:off x="900000" y="1989000"/>
              <a:ext cx="1871640" cy="100656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116000" y="314172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长方形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4" name="Group 14"/>
          <p:cNvGrpSpPr/>
          <p:nvPr/>
        </p:nvGrpSpPr>
        <p:grpSpPr>
          <a:xfrm>
            <a:off x="3348000" y="1989000"/>
            <a:ext cx="1441440" cy="1673280"/>
            <a:chOff x="3348000" y="1989000"/>
            <a:chExt cx="1441440" cy="1673280"/>
          </a:xfrm>
        </p:grpSpPr>
        <p:sp>
          <p:nvSpPr>
            <p:cNvPr id="95" name="Rectangle 6"/>
            <p:cNvSpPr/>
            <p:nvPr/>
          </p:nvSpPr>
          <p:spPr>
            <a:xfrm>
              <a:off x="3419640" y="1989000"/>
              <a:ext cx="1223640" cy="107964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6" name="Text Box 10"/>
            <p:cNvSpPr/>
            <p:nvPr/>
          </p:nvSpPr>
          <p:spPr>
            <a:xfrm>
              <a:off x="3348000" y="3141720"/>
              <a:ext cx="14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正方形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97" name="Group 15"/>
          <p:cNvGrpSpPr/>
          <p:nvPr/>
        </p:nvGrpSpPr>
        <p:grpSpPr>
          <a:xfrm>
            <a:off x="4932360" y="1916280"/>
            <a:ext cx="2160720" cy="1744200"/>
            <a:chOff x="4932360" y="1916280"/>
            <a:chExt cx="2160720" cy="1744200"/>
          </a:xfrm>
        </p:grpSpPr>
        <p:sp>
          <p:nvSpPr>
            <p:cNvPr id="98" name="AutoShape 7"/>
            <p:cNvSpPr/>
            <p:nvPr/>
          </p:nvSpPr>
          <p:spPr>
            <a:xfrm>
              <a:off x="5292720" y="1916280"/>
              <a:ext cx="1511280" cy="1007640"/>
            </a:xfrm>
            <a:prstGeom prst="parallelogram">
              <a:avLst>
                <a:gd name="adj" fmla="val 37496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4932360" y="3139920"/>
              <a:ext cx="21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平行四边形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0" name="Group 16"/>
          <p:cNvGrpSpPr/>
          <p:nvPr/>
        </p:nvGrpSpPr>
        <p:grpSpPr>
          <a:xfrm>
            <a:off x="7308720" y="1844640"/>
            <a:ext cx="1368720" cy="1888920"/>
            <a:chOff x="7308720" y="1844640"/>
            <a:chExt cx="1368720" cy="1888920"/>
          </a:xfrm>
        </p:grpSpPr>
        <p:sp>
          <p:nvSpPr>
            <p:cNvPr id="101" name="AutoShape 8"/>
            <p:cNvSpPr/>
            <p:nvPr/>
          </p:nvSpPr>
          <p:spPr>
            <a:xfrm>
              <a:off x="7380360" y="1844640"/>
              <a:ext cx="1008000" cy="1152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7308720" y="3213000"/>
              <a:ext cx="13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三角形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3203640" y="4005360"/>
            <a:ext cx="5581440" cy="1599840"/>
            <a:chOff x="3203640" y="4005360"/>
            <a:chExt cx="5581440" cy="1599840"/>
          </a:xfrm>
        </p:grpSpPr>
        <p:sp>
          <p:nvSpPr>
            <p:cNvPr id="104" name="Text Box 22"/>
            <p:cNvSpPr/>
            <p:nvPr/>
          </p:nvSpPr>
          <p:spPr>
            <a:xfrm>
              <a:off x="3203640" y="5084640"/>
              <a:ext cx="558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这个是什么图形呢？与上面的图形有什么不同吗？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05" name="Freeform 32"/>
            <p:cNvSpPr/>
            <p:nvPr/>
          </p:nvSpPr>
          <p:spPr>
            <a:xfrm>
              <a:off x="4211640" y="4005360"/>
              <a:ext cx="2592360" cy="863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06" name="Oval 18"/>
          <p:cNvSpPr/>
          <p:nvPr/>
        </p:nvSpPr>
        <p:spPr>
          <a:xfrm>
            <a:off x="1357200" y="4071960"/>
            <a:ext cx="571680" cy="571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矩形 18"/>
          <p:cNvSpPr/>
          <p:nvPr/>
        </p:nvSpPr>
        <p:spPr>
          <a:xfrm>
            <a:off x="1433160" y="4857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Arial"/>
              </a:rPr>
              <a:t>圆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45370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先画出一组平行线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5580000" y="2349360"/>
            <a:ext cx="20876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5580000" y="3213000"/>
            <a:ext cx="208764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692360" y="1484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再画出两条不平行的线与它们相交，构成一个四边形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 flipH="1">
            <a:off x="5580000" y="1844640"/>
            <a:ext cx="936720" cy="18003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7093080" y="2060640"/>
            <a:ext cx="358560" cy="1655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971640" y="414972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想一想这图形有什么特点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5" name="Picture 36" descr="C:\Users\IBM\Desktop\1.png"/>
          <p:cNvPicPr/>
          <p:nvPr/>
        </p:nvPicPr>
        <p:blipFill>
          <a:blip r:embed="rId1"/>
          <a:stretch/>
        </p:blipFill>
        <p:spPr>
          <a:xfrm>
            <a:off x="0" y="306360"/>
            <a:ext cx="1270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108000" y="189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构成的图形是哪一类四边形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40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一组对边平行的四边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梯形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8" name="Picture 5" descr="C:\Users\IBM\Desktop\6.png"/>
          <p:cNvPicPr/>
          <p:nvPr/>
        </p:nvPicPr>
        <p:blipFill>
          <a:blip r:embed="rId1"/>
          <a:stretch/>
        </p:blipFill>
        <p:spPr>
          <a:xfrm>
            <a:off x="1214280" y="1500120"/>
            <a:ext cx="612144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18728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我们把只有一组对边平行的四边形叫做梯形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780000" y="162864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上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778200" y="34862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下底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2195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508720" y="25495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腰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539640" y="4653000"/>
            <a:ext cx="85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互相平行的一组对边分别叫做梯形的上底和下底，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39640" y="51577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平行的一组对边叫做梯形的腰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" name="Freeform 22"/>
          <p:cNvSpPr/>
          <p:nvPr/>
        </p:nvSpPr>
        <p:spPr>
          <a:xfrm>
            <a:off x="2556000" y="2133720"/>
            <a:ext cx="3457440" cy="136656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8000" y="549360"/>
            <a:ext cx="89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判断下面图形哪些是梯形，是的和不是都说出理由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 flipV="1">
            <a:off x="684360" y="2205000"/>
            <a:ext cx="1439640" cy="1441440"/>
          </a:xfrm>
          <a:prstGeom prst="pie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Freeform 6"/>
          <p:cNvSpPr/>
          <p:nvPr/>
        </p:nvSpPr>
        <p:spPr>
          <a:xfrm>
            <a:off x="2771640" y="2133720"/>
            <a:ext cx="1441440" cy="143964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0" name="Freeform 8"/>
          <p:cNvSpPr/>
          <p:nvPr/>
        </p:nvSpPr>
        <p:spPr>
          <a:xfrm>
            <a:off x="4284720" y="2276640"/>
            <a:ext cx="1800000" cy="1223640"/>
          </a:xfrm>
          <a:prstGeom prst="pie">
            <a:avLst/>
          </a:pr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877080" y="2492280"/>
            <a:ext cx="1655640" cy="720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684360" y="4581360"/>
            <a:ext cx="1800000" cy="1079640"/>
          </a:xfrm>
          <a:prstGeom prst="flowChartDocumen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3635280" y="4508640"/>
            <a:ext cx="1297080" cy="865080"/>
          </a:xfrm>
          <a:prstGeom prst="flowChartPunchedCard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6156360" y="4508640"/>
            <a:ext cx="1368360" cy="792000"/>
          </a:xfrm>
          <a:prstGeom prst="flowChartPunchedTape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971640" y="386064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2843280" y="386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116000" y="549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生活中你在哪些地方见过梯形呢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826560" y="2133720"/>
            <a:ext cx="1582560" cy="2968200"/>
            <a:chOff x="826560" y="2133720"/>
            <a:chExt cx="1582560" cy="2968200"/>
          </a:xfrm>
        </p:grpSpPr>
        <p:grpSp>
          <p:nvGrpSpPr>
            <p:cNvPr id="139" name="Group 4"/>
            <p:cNvGrpSpPr/>
            <p:nvPr/>
          </p:nvGrpSpPr>
          <p:grpSpPr>
            <a:xfrm>
              <a:off x="826560" y="2133720"/>
              <a:ext cx="1582560" cy="2447640"/>
              <a:chOff x="826560" y="2133720"/>
              <a:chExt cx="1582560" cy="2447640"/>
            </a:xfrm>
          </p:grpSpPr>
          <p:sp>
            <p:nvSpPr>
              <p:cNvPr id="140" name="Line 5"/>
              <p:cNvSpPr/>
              <p:nvPr/>
            </p:nvSpPr>
            <p:spPr>
              <a:xfrm flipH="1">
                <a:off x="826560" y="2133720"/>
                <a:ext cx="502920" cy="244764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1" name="Line 6"/>
              <p:cNvSpPr/>
              <p:nvPr/>
            </p:nvSpPr>
            <p:spPr>
              <a:xfrm>
                <a:off x="2050560" y="2133720"/>
                <a:ext cx="358560" cy="244764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2" name="Line 7"/>
              <p:cNvSpPr/>
              <p:nvPr/>
            </p:nvSpPr>
            <p:spPr>
              <a:xfrm>
                <a:off x="1185480" y="2636640"/>
                <a:ext cx="936000" cy="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3" name="Line 8"/>
              <p:cNvSpPr/>
              <p:nvPr/>
            </p:nvSpPr>
            <p:spPr>
              <a:xfrm>
                <a:off x="1329840" y="2277720"/>
                <a:ext cx="720360" cy="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4" name="Line 9"/>
              <p:cNvSpPr/>
              <p:nvPr/>
            </p:nvSpPr>
            <p:spPr>
              <a:xfrm>
                <a:off x="1185480" y="2997000"/>
                <a:ext cx="1007640" cy="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5" name="Line 10"/>
              <p:cNvSpPr/>
              <p:nvPr/>
            </p:nvSpPr>
            <p:spPr>
              <a:xfrm>
                <a:off x="1042560" y="3428640"/>
                <a:ext cx="1223640" cy="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6" name="Line 11"/>
              <p:cNvSpPr/>
              <p:nvPr/>
            </p:nvSpPr>
            <p:spPr>
              <a:xfrm>
                <a:off x="969480" y="3789000"/>
                <a:ext cx="1368000" cy="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47" name="Line 12"/>
              <p:cNvSpPr/>
              <p:nvPr/>
            </p:nvSpPr>
            <p:spPr>
              <a:xfrm>
                <a:off x="897840" y="4221000"/>
                <a:ext cx="1439640" cy="0"/>
              </a:xfrm>
              <a:prstGeom prst="line">
                <a:avLst/>
              </a:prstGeom>
              <a:ln w="604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48" name="Text Box 13"/>
            <p:cNvSpPr/>
            <p:nvPr/>
          </p:nvSpPr>
          <p:spPr>
            <a:xfrm>
              <a:off x="900000" y="45813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梯子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grpSp>
        <p:nvGrpSpPr>
          <p:cNvPr id="149" name="Group 14"/>
          <p:cNvGrpSpPr/>
          <p:nvPr/>
        </p:nvGrpSpPr>
        <p:grpSpPr>
          <a:xfrm>
            <a:off x="6156360" y="2637000"/>
            <a:ext cx="2302920" cy="2176200"/>
            <a:chOff x="6156360" y="2637000"/>
            <a:chExt cx="2302920" cy="2176200"/>
          </a:xfrm>
        </p:grpSpPr>
        <p:grpSp>
          <p:nvGrpSpPr>
            <p:cNvPr id="150" name="Group 15"/>
            <p:cNvGrpSpPr/>
            <p:nvPr/>
          </p:nvGrpSpPr>
          <p:grpSpPr>
            <a:xfrm>
              <a:off x="6443280" y="2637000"/>
              <a:ext cx="2016000" cy="1150560"/>
              <a:chOff x="6443280" y="2637000"/>
              <a:chExt cx="2016000" cy="1150560"/>
            </a:xfrm>
          </p:grpSpPr>
          <p:sp>
            <p:nvSpPr>
              <p:cNvPr id="151" name="AutoShape 16"/>
              <p:cNvSpPr/>
              <p:nvPr/>
            </p:nvSpPr>
            <p:spPr>
              <a:xfrm>
                <a:off x="6658920" y="2637000"/>
                <a:ext cx="1800000" cy="792000"/>
              </a:xfrm>
              <a:prstGeom prst="pie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2" name="AutoShape 17"/>
              <p:cNvSpPr/>
              <p:nvPr/>
            </p:nvSpPr>
            <p:spPr>
              <a:xfrm>
                <a:off x="6443280" y="3068640"/>
                <a:ext cx="1584000" cy="718560"/>
              </a:xfrm>
              <a:prstGeom prst="pie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6443280" y="2637000"/>
                <a:ext cx="2016000" cy="431640"/>
              </a:xfrm>
              <a:prstGeom prst="pie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7595640" y="2637000"/>
                <a:ext cx="863280" cy="1150560"/>
              </a:xfrm>
              <a:prstGeom prst="pie">
                <a:avLst/>
              </a:prstGeom>
              <a:solidFill>
                <a:srgbClr val="ebf7ff"/>
              </a:solidFill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20"/>
            <p:cNvSpPr/>
            <p:nvPr/>
          </p:nvSpPr>
          <p:spPr>
            <a:xfrm>
              <a:off x="6156360" y="429264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沟渠横截面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sp>
        <p:nvSpPr>
          <p:cNvPr id="156" name="Freeform 21"/>
          <p:cNvSpPr/>
          <p:nvPr/>
        </p:nvSpPr>
        <p:spPr>
          <a:xfrm>
            <a:off x="6443640" y="3068640"/>
            <a:ext cx="1513080" cy="72072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7" name="Group 22"/>
          <p:cNvGrpSpPr/>
          <p:nvPr/>
        </p:nvGrpSpPr>
        <p:grpSpPr>
          <a:xfrm>
            <a:off x="3417840" y="2781360"/>
            <a:ext cx="2233800" cy="1817640"/>
            <a:chOff x="3417840" y="2781360"/>
            <a:chExt cx="2233800" cy="1817640"/>
          </a:xfrm>
        </p:grpSpPr>
        <p:sp>
          <p:nvSpPr>
            <p:cNvPr id="158" name="Text Box 23"/>
            <p:cNvSpPr/>
            <p:nvPr/>
          </p:nvSpPr>
          <p:spPr>
            <a:xfrm>
              <a:off x="3417840" y="4078440"/>
              <a:ext cx="22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堤坝横截面</a:t>
              </a:r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159" name="Group 24"/>
            <p:cNvGrpSpPr/>
            <p:nvPr/>
          </p:nvGrpSpPr>
          <p:grpSpPr>
            <a:xfrm>
              <a:off x="3564000" y="2781360"/>
              <a:ext cx="1873080" cy="1008000"/>
              <a:chOff x="3564000" y="2781360"/>
              <a:chExt cx="1873080" cy="1008000"/>
            </a:xfrm>
          </p:grpSpPr>
          <p:sp>
            <p:nvSpPr>
              <p:cNvPr id="160" name="AutoShape 25"/>
              <p:cNvSpPr/>
              <p:nvPr/>
            </p:nvSpPr>
            <p:spPr>
              <a:xfrm flipV="1">
                <a:off x="3564000" y="2925000"/>
                <a:ext cx="1512720" cy="86364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1" name="AutoShape 26"/>
              <p:cNvSpPr/>
              <p:nvPr/>
            </p:nvSpPr>
            <p:spPr>
              <a:xfrm flipV="1">
                <a:off x="3780000" y="2781360"/>
                <a:ext cx="1657080" cy="792000"/>
              </a:xfrm>
              <a:prstGeom prst="pi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>
                <a:off x="3924360" y="2781360"/>
                <a:ext cx="1079280" cy="14436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>
                <a:off x="4643280" y="2781360"/>
                <a:ext cx="792360" cy="1008000"/>
              </a:xfrm>
              <a:prstGeom prst="pie">
                <a:avLst/>
              </a:prstGeom>
              <a:solidFill>
                <a:srgbClr val="3333cc"/>
              </a:solidFill>
              <a:ln w="93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Freeform 29"/>
          <p:cNvSpPr/>
          <p:nvPr/>
        </p:nvSpPr>
        <p:spPr>
          <a:xfrm>
            <a:off x="3564000" y="2924280"/>
            <a:ext cx="1512720" cy="865080"/>
          </a:xfrm>
          <a:prstGeom prst="pi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65" name="Group 50"/>
          <p:cNvGrpSpPr/>
          <p:nvPr/>
        </p:nvGrpSpPr>
        <p:grpSpPr>
          <a:xfrm>
            <a:off x="899640" y="3789000"/>
            <a:ext cx="1441800" cy="432000"/>
            <a:chOff x="899640" y="3789000"/>
            <a:chExt cx="1441800" cy="432000"/>
          </a:xfrm>
        </p:grpSpPr>
        <p:sp>
          <p:nvSpPr>
            <p:cNvPr id="166" name="Line 46"/>
            <p:cNvSpPr/>
            <p:nvPr/>
          </p:nvSpPr>
          <p:spPr>
            <a:xfrm flipH="1">
              <a:off x="899640" y="3789360"/>
              <a:ext cx="73080" cy="431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7" name="Line 47"/>
            <p:cNvSpPr/>
            <p:nvPr/>
          </p:nvSpPr>
          <p:spPr>
            <a:xfrm>
              <a:off x="900000" y="4221000"/>
              <a:ext cx="14414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8" name="Line 48"/>
            <p:cNvSpPr/>
            <p:nvPr/>
          </p:nvSpPr>
          <p:spPr>
            <a:xfrm flipH="1" flipV="1">
              <a:off x="2268000" y="3789000"/>
              <a:ext cx="73080" cy="4316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169" name="Line 49"/>
            <p:cNvSpPr/>
            <p:nvPr/>
          </p:nvSpPr>
          <p:spPr>
            <a:xfrm flipH="1">
              <a:off x="973080" y="3789360"/>
              <a:ext cx="12952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0000"/>
                </a:solidFill>
                <a:latin typeface="Arial"/>
              </a:endParaRPr>
            </a:p>
          </p:txBody>
        </p:sp>
      </p:grpSp>
      <p:pic>
        <p:nvPicPr>
          <p:cNvPr id="170" name="Picture 36" descr="C:\Users\IBM\Desktop\1.png"/>
          <p:cNvPicPr/>
          <p:nvPr/>
        </p:nvPicPr>
        <p:blipFill>
          <a:blip r:embed="rId1"/>
          <a:stretch/>
        </p:blipFill>
        <p:spPr>
          <a:xfrm>
            <a:off x="0" y="306360"/>
            <a:ext cx="12700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01874E-006 L 0.0158 0.18876 E">
                                      <p:cBhvr>
                                        <p:cTn id="15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-0.07483 0.25209 E">
                                      <p:cBhvr>
                                        <p:cTn id="16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2106 L -0.07466 0.25185 E">
                                      <p:cBhvr>
                                        <p:cTn id="173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img(82)04"/>
          <p:cNvPicPr/>
          <p:nvPr/>
        </p:nvPicPr>
        <p:blipFill>
          <a:blip r:embed="rId1"/>
          <a:stretch/>
        </p:blipFill>
        <p:spPr>
          <a:xfrm>
            <a:off x="5357880" y="3605040"/>
            <a:ext cx="2382840" cy="2560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img(82)02"/>
          <p:cNvPicPr/>
          <p:nvPr/>
        </p:nvPicPr>
        <p:blipFill>
          <a:blip r:embed="rId2"/>
          <a:stretch/>
        </p:blipFill>
        <p:spPr>
          <a:xfrm>
            <a:off x="250920" y="1125360"/>
            <a:ext cx="8280360" cy="2233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img(82)03"/>
          <p:cNvPicPr/>
          <p:nvPr/>
        </p:nvPicPr>
        <p:blipFill>
          <a:blip r:embed="rId3"/>
          <a:stretch/>
        </p:blipFill>
        <p:spPr>
          <a:xfrm>
            <a:off x="468360" y="3645000"/>
            <a:ext cx="3708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img(83)05"/>
          <p:cNvPicPr/>
          <p:nvPr/>
        </p:nvPicPr>
        <p:blipFill>
          <a:blip r:embed="rId1"/>
          <a:stretch/>
        </p:blipFill>
        <p:spPr>
          <a:xfrm>
            <a:off x="5075280" y="692280"/>
            <a:ext cx="3529080" cy="19447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2"/>
          <p:cNvSpPr/>
          <p:nvPr/>
        </p:nvSpPr>
        <p:spPr>
          <a:xfrm>
            <a:off x="1187280" y="47628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思考一下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84360" y="2924280"/>
            <a:ext cx="4679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长方形像右图那样剪开，就得到了两个梯形。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一想，这是为什么？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直接连接符 8"/>
          <p:cNvSpPr/>
          <p:nvPr/>
        </p:nvSpPr>
        <p:spPr>
          <a:xfrm>
            <a:off x="5651640" y="1125360"/>
            <a:ext cx="0" cy="7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直接连接符 10"/>
          <p:cNvSpPr/>
          <p:nvPr/>
        </p:nvSpPr>
        <p:spPr>
          <a:xfrm>
            <a:off x="5651640" y="1125360"/>
            <a:ext cx="22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直接连接符 12"/>
          <p:cNvSpPr/>
          <p:nvPr/>
        </p:nvSpPr>
        <p:spPr>
          <a:xfrm>
            <a:off x="7885080" y="1125360"/>
            <a:ext cx="0" cy="7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直接连接符 14"/>
          <p:cNvSpPr/>
          <p:nvPr/>
        </p:nvSpPr>
        <p:spPr>
          <a:xfrm>
            <a:off x="5651640" y="1916280"/>
            <a:ext cx="2233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直接连接符 16"/>
          <p:cNvSpPr/>
          <p:nvPr/>
        </p:nvSpPr>
        <p:spPr>
          <a:xfrm>
            <a:off x="6516720" y="1125360"/>
            <a:ext cx="576360" cy="790920"/>
          </a:xfrm>
          <a:prstGeom prst="line">
            <a:avLst/>
          </a:prstGeom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2" name="Picture 36" descr="C:\Users\IBM\Desktop\1.png"/>
          <p:cNvPicPr/>
          <p:nvPr/>
        </p:nvPicPr>
        <p:blipFill>
          <a:blip r:embed="rId2"/>
          <a:stretch/>
        </p:blipFill>
        <p:spPr>
          <a:xfrm>
            <a:off x="142920" y="378000"/>
            <a:ext cx="127008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7:39:05Z</dcterms:created>
  <dc:creator/>
  <dc:description/>
  <cp:keywords/>
  <dc:language>en-US</dc:language>
  <cp:lastModifiedBy/>
  <dcterms:modified xsi:type="dcterms:W3CDTF">2017-12-21T14:14:30Z</dcterms:modified>
  <cp:revision>1</cp:revision>
  <dc:subject/>
  <dc:title/>
</cp:coreProperties>
</file>