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F37F-19BC-4537-82DD-B2ED2F8B1C6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C7BC-49CB-4F0F-A4E9-9FA3FFEA734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6784-3B09-44F0-B039-5C78F71A4A59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FD37-BF83-447D-B752-CA63A61E606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6F56-37EE-458B-A3C9-68952035FB7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40BE-DCD8-4FBB-8623-C933000AC87E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AB29-4143-4B08-938F-1DE294E9CB4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002C-E75C-4F09-999F-8885655CD8C7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10C8-CE98-4B1A-AB72-08EA17A710F2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7F63-0BB9-4C62-B68E-A6BE23F63F2E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2FAF-D890-42D4-BACB-03B518548E1E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0085-F305-4F21-8A73-D1F7AC105E8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5F51-BB15-416C-B252-DCDB9966B0D6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BFF-DBB0-4D4B-B77A-9F07B9C6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2E3-1CCC-4042-80C8-356086DF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048-B7C3-45D4-A0AA-CE0B0514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720-F672-4E76-894E-04FFE115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534-21DE-4695-AF46-CA255F25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DDE-6282-4DAD-AD19-A3C7C176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7E3-E63F-4B82-8DB7-DFBBD172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85F-CE71-4022-BABE-795C5FDF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1EA-5BC9-43B4-95ED-0311890A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72D-C83D-42E5-B439-AC7D7EBD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BFE-F161-48CC-AE50-5658A218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E97-08A4-4A0B-9948-3A2434D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8026-2008-410B-A49F-A587857D7E0C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143000" y="185724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图形的高与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116000" y="90792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判断下面的蓝色线段是平行四边形的底和高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的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哪条是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哪条是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4356000" y="2421000"/>
            <a:ext cx="2303640" cy="720720"/>
          </a:xfrm>
          <a:prstGeom prst="parallelogram">
            <a:avLst>
              <a:gd name="adj" fmla="val 799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 flipH="1" rot="5400000">
            <a:off x="2556720" y="2491560"/>
            <a:ext cx="1800000" cy="649440"/>
          </a:xfrm>
          <a:prstGeom prst="parallelogram">
            <a:avLst>
              <a:gd name="adj" fmla="val 692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6516720" y="2349360"/>
            <a:ext cx="2124000" cy="863640"/>
          </a:xfrm>
          <a:prstGeom prst="parallelogram">
            <a:avLst>
              <a:gd name="adj" fmla="val 614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24000" y="4437000"/>
            <a:ext cx="2592360" cy="1224000"/>
          </a:xfrm>
          <a:prstGeom prst="parallelogram">
            <a:avLst>
              <a:gd name="adj" fmla="val 52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3132000" y="4437000"/>
            <a:ext cx="2592360" cy="1224000"/>
          </a:xfrm>
          <a:prstGeom prst="parallelogram">
            <a:avLst>
              <a:gd name="adj" fmla="val 52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6012000" y="4437000"/>
            <a:ext cx="2592360" cy="1224000"/>
          </a:xfrm>
          <a:prstGeom prst="parallelogram">
            <a:avLst>
              <a:gd name="adj" fmla="val 52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395280" y="2421000"/>
            <a:ext cx="2305080" cy="863640"/>
          </a:xfrm>
          <a:prstGeom prst="parallelogram">
            <a:avLst>
              <a:gd name="adj" fmla="val 66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395280" y="3284640"/>
            <a:ext cx="1728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971640" y="242100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>
            <a:off x="971640" y="3141720"/>
            <a:ext cx="144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1116000" y="3141720"/>
            <a:ext cx="0" cy="142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V="1">
            <a:off x="6055920" y="2421000"/>
            <a:ext cx="631080" cy="749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5642280" y="2419560"/>
            <a:ext cx="671040" cy="423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6"/>
          <p:cNvGrpSpPr/>
          <p:nvPr/>
        </p:nvGrpSpPr>
        <p:grpSpPr>
          <a:xfrm>
            <a:off x="6178320" y="2639160"/>
            <a:ext cx="226080" cy="110880"/>
            <a:chOff x="6178320" y="2639160"/>
            <a:chExt cx="226080" cy="110880"/>
          </a:xfrm>
        </p:grpSpPr>
        <p:sp>
          <p:nvSpPr>
            <p:cNvPr id="244" name="Line 17"/>
            <p:cNvSpPr/>
            <p:nvPr/>
          </p:nvSpPr>
          <p:spPr>
            <a:xfrm flipV="1">
              <a:off x="6178320" y="2639160"/>
              <a:ext cx="113760" cy="11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8"/>
            <p:cNvSpPr/>
            <p:nvPr/>
          </p:nvSpPr>
          <p:spPr>
            <a:xfrm>
              <a:off x="6292800" y="2641680"/>
              <a:ext cx="111600" cy="88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Line 19"/>
          <p:cNvSpPr/>
          <p:nvPr/>
        </p:nvSpPr>
        <p:spPr>
          <a:xfrm flipV="1">
            <a:off x="6516720" y="2349000"/>
            <a:ext cx="208764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 flipH="1">
            <a:off x="1258560" y="4437000"/>
            <a:ext cx="576360" cy="12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7020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3492000" y="5013000"/>
            <a:ext cx="57492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"/>
          <p:cNvSpPr/>
          <p:nvPr/>
        </p:nvSpPr>
        <p:spPr>
          <a:xfrm>
            <a:off x="3132000" y="5661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6659640" y="4437000"/>
            <a:ext cx="0" cy="12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 flipV="1">
            <a:off x="7956720" y="4437000"/>
            <a:ext cx="0" cy="12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6659640" y="4437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012000" y="5661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8"/>
          <p:cNvGrpSpPr/>
          <p:nvPr/>
        </p:nvGrpSpPr>
        <p:grpSpPr>
          <a:xfrm>
            <a:off x="6659280" y="5516280"/>
            <a:ext cx="144360" cy="144360"/>
            <a:chOff x="6659280" y="5516280"/>
            <a:chExt cx="144360" cy="144360"/>
          </a:xfrm>
        </p:grpSpPr>
        <p:sp>
          <p:nvSpPr>
            <p:cNvPr id="256" name="Line 29"/>
            <p:cNvSpPr/>
            <p:nvPr/>
          </p:nvSpPr>
          <p:spPr>
            <a:xfrm flipV="1">
              <a:off x="6803640" y="5516280"/>
              <a:ext cx="0" cy="144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0"/>
            <p:cNvSpPr/>
            <p:nvPr/>
          </p:nvSpPr>
          <p:spPr>
            <a:xfrm flipH="1">
              <a:off x="6659280" y="5516280"/>
              <a:ext cx="14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31"/>
          <p:cNvSpPr/>
          <p:nvPr/>
        </p:nvSpPr>
        <p:spPr>
          <a:xfrm>
            <a:off x="3132000" y="2349360"/>
            <a:ext cx="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2"/>
          <p:cNvSpPr/>
          <p:nvPr/>
        </p:nvSpPr>
        <p:spPr>
          <a:xfrm>
            <a:off x="3132000" y="2852640"/>
            <a:ext cx="6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3"/>
          <p:cNvGrpSpPr/>
          <p:nvPr/>
        </p:nvGrpSpPr>
        <p:grpSpPr>
          <a:xfrm>
            <a:off x="3132000" y="2852640"/>
            <a:ext cx="144720" cy="144720"/>
            <a:chOff x="3132000" y="2852640"/>
            <a:chExt cx="144720" cy="144720"/>
          </a:xfrm>
        </p:grpSpPr>
        <p:sp>
          <p:nvSpPr>
            <p:cNvPr id="261" name="Line 34"/>
            <p:cNvSpPr/>
            <p:nvPr/>
          </p:nvSpPr>
          <p:spPr>
            <a:xfrm>
              <a:off x="3132000" y="2997360"/>
              <a:ext cx="14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5"/>
            <p:cNvSpPr/>
            <p:nvPr/>
          </p:nvSpPr>
          <p:spPr>
            <a:xfrm flipV="1">
              <a:off x="3276720" y="2852640"/>
              <a:ext cx="0" cy="14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6"/>
          <p:cNvGrpSpPr/>
          <p:nvPr/>
        </p:nvGrpSpPr>
        <p:grpSpPr>
          <a:xfrm>
            <a:off x="7812000" y="4437000"/>
            <a:ext cx="142920" cy="216000"/>
            <a:chOff x="7812000" y="4437000"/>
            <a:chExt cx="142920" cy="216000"/>
          </a:xfrm>
        </p:grpSpPr>
        <p:sp>
          <p:nvSpPr>
            <p:cNvPr id="264" name="Line 37"/>
            <p:cNvSpPr/>
            <p:nvPr/>
          </p:nvSpPr>
          <p:spPr>
            <a:xfrm>
              <a:off x="7812000" y="4437000"/>
              <a:ext cx="0" cy="21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8"/>
            <p:cNvSpPr/>
            <p:nvPr/>
          </p:nvSpPr>
          <p:spPr>
            <a:xfrm>
              <a:off x="7812000" y="4653000"/>
              <a:ext cx="142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39"/>
          <p:cNvSpPr/>
          <p:nvPr/>
        </p:nvSpPr>
        <p:spPr>
          <a:xfrm>
            <a:off x="482760" y="3994200"/>
            <a:ext cx="797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0" y="36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1"/>
          <p:cNvSpPr/>
          <p:nvPr/>
        </p:nvSpPr>
        <p:spPr>
          <a:xfrm>
            <a:off x="250920" y="616572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2"/>
          <p:cNvSpPr/>
          <p:nvPr/>
        </p:nvSpPr>
        <p:spPr>
          <a:xfrm>
            <a:off x="108000" y="1159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拓展练习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323640" y="2205000"/>
            <a:ext cx="2303640" cy="1582920"/>
            <a:chOff x="323640" y="2205000"/>
            <a:chExt cx="2303640" cy="1582920"/>
          </a:xfrm>
        </p:grpSpPr>
        <p:sp>
          <p:nvSpPr>
            <p:cNvPr id="271" name="Line 3"/>
            <p:cNvSpPr/>
            <p:nvPr/>
          </p:nvSpPr>
          <p:spPr>
            <a:xfrm flipH="1">
              <a:off x="323640" y="2205000"/>
              <a:ext cx="752040" cy="15829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"/>
            <p:cNvSpPr/>
            <p:nvPr/>
          </p:nvSpPr>
          <p:spPr>
            <a:xfrm>
              <a:off x="1076040" y="2205000"/>
              <a:ext cx="1551240" cy="15829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324000" y="3787920"/>
              <a:ext cx="23032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6"/>
          <p:cNvGrpSpPr/>
          <p:nvPr/>
        </p:nvGrpSpPr>
        <p:grpSpPr>
          <a:xfrm>
            <a:off x="3780000" y="2852640"/>
            <a:ext cx="2160360" cy="1295280"/>
            <a:chOff x="3780000" y="2852640"/>
            <a:chExt cx="2160360" cy="1295280"/>
          </a:xfrm>
        </p:grpSpPr>
        <p:sp>
          <p:nvSpPr>
            <p:cNvPr id="275" name="Line 7"/>
            <p:cNvSpPr/>
            <p:nvPr/>
          </p:nvSpPr>
          <p:spPr>
            <a:xfrm>
              <a:off x="3780000" y="2852640"/>
              <a:ext cx="0" cy="1295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3780000" y="2852640"/>
              <a:ext cx="2160360" cy="719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 flipV="1">
              <a:off x="3780000" y="3571920"/>
              <a:ext cx="2160360" cy="5760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10"/>
          <p:cNvSpPr/>
          <p:nvPr/>
        </p:nvSpPr>
        <p:spPr>
          <a:xfrm>
            <a:off x="3198240" y="836640"/>
            <a:ext cx="9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画出每个三角形底边上的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918720" y="37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3079080" y="328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079640" y="2205000"/>
            <a:ext cx="0" cy="158436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1079640" y="3573000"/>
            <a:ext cx="164880" cy="213120"/>
            <a:chOff x="1079640" y="3573000"/>
            <a:chExt cx="164880" cy="213120"/>
          </a:xfrm>
        </p:grpSpPr>
        <p:sp>
          <p:nvSpPr>
            <p:cNvPr id="283" name="Line 15"/>
            <p:cNvSpPr/>
            <p:nvPr/>
          </p:nvSpPr>
          <p:spPr>
            <a:xfrm>
              <a:off x="1079640" y="3573000"/>
              <a:ext cx="164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6"/>
            <p:cNvSpPr/>
            <p:nvPr/>
          </p:nvSpPr>
          <p:spPr>
            <a:xfrm>
              <a:off x="1244520" y="3573360"/>
              <a:ext cx="0" cy="21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Line 17"/>
          <p:cNvSpPr/>
          <p:nvPr/>
        </p:nvSpPr>
        <p:spPr>
          <a:xfrm flipH="1">
            <a:off x="3779640" y="357336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8"/>
          <p:cNvGrpSpPr/>
          <p:nvPr/>
        </p:nvGrpSpPr>
        <p:grpSpPr>
          <a:xfrm>
            <a:off x="3773520" y="3582360"/>
            <a:ext cx="225360" cy="164880"/>
            <a:chOff x="3773520" y="3582360"/>
            <a:chExt cx="225360" cy="164880"/>
          </a:xfrm>
        </p:grpSpPr>
        <p:sp>
          <p:nvSpPr>
            <p:cNvPr id="287" name="Line 19"/>
            <p:cNvSpPr/>
            <p:nvPr/>
          </p:nvSpPr>
          <p:spPr>
            <a:xfrm flipH="1">
              <a:off x="3985200" y="3582360"/>
              <a:ext cx="13680" cy="164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0"/>
            <p:cNvSpPr/>
            <p:nvPr/>
          </p:nvSpPr>
          <p:spPr>
            <a:xfrm flipH="1" flipV="1">
              <a:off x="3773520" y="3729600"/>
              <a:ext cx="211680" cy="1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8100720" y="3789000"/>
            <a:ext cx="213120" cy="165240"/>
            <a:chOff x="8100720" y="3789000"/>
            <a:chExt cx="213120" cy="165240"/>
          </a:xfrm>
        </p:grpSpPr>
        <p:sp>
          <p:nvSpPr>
            <p:cNvPr id="290" name="Line 22"/>
            <p:cNvSpPr/>
            <p:nvPr/>
          </p:nvSpPr>
          <p:spPr>
            <a:xfrm flipV="1">
              <a:off x="8100720" y="3789000"/>
              <a:ext cx="0" cy="16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3"/>
            <p:cNvSpPr/>
            <p:nvPr/>
          </p:nvSpPr>
          <p:spPr>
            <a:xfrm>
              <a:off x="8101080" y="3789000"/>
              <a:ext cx="21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24"/>
          <p:cNvSpPr/>
          <p:nvPr/>
        </p:nvSpPr>
        <p:spPr>
          <a:xfrm>
            <a:off x="1134360" y="263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4087080" y="299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8597160" y="32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7"/>
          <p:cNvSpPr/>
          <p:nvPr/>
        </p:nvSpPr>
        <p:spPr>
          <a:xfrm>
            <a:off x="6732720" y="3933720"/>
            <a:ext cx="1584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8317080" y="2924280"/>
            <a:ext cx="0" cy="1009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9"/>
          <p:cNvSpPr/>
          <p:nvPr/>
        </p:nvSpPr>
        <p:spPr>
          <a:xfrm flipH="1">
            <a:off x="6732360" y="2924280"/>
            <a:ext cx="1584360" cy="1009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6732720" y="3933720"/>
            <a:ext cx="1584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 flipH="1">
            <a:off x="6732360" y="2924280"/>
            <a:ext cx="1584360" cy="1009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32"/>
          <p:cNvGrpSpPr/>
          <p:nvPr/>
        </p:nvGrpSpPr>
        <p:grpSpPr>
          <a:xfrm>
            <a:off x="6732360" y="2924280"/>
            <a:ext cx="1584720" cy="1009440"/>
            <a:chOff x="6732360" y="2924280"/>
            <a:chExt cx="1584720" cy="1009440"/>
          </a:xfrm>
        </p:grpSpPr>
        <p:sp>
          <p:nvSpPr>
            <p:cNvPr id="301" name="Line 33"/>
            <p:cNvSpPr/>
            <p:nvPr/>
          </p:nvSpPr>
          <p:spPr>
            <a:xfrm>
              <a:off x="8317080" y="2924280"/>
              <a:ext cx="0" cy="1009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4"/>
            <p:cNvSpPr/>
            <p:nvPr/>
          </p:nvSpPr>
          <p:spPr>
            <a:xfrm>
              <a:off x="6732720" y="3933720"/>
              <a:ext cx="1584360" cy="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5"/>
            <p:cNvSpPr/>
            <p:nvPr/>
          </p:nvSpPr>
          <p:spPr>
            <a:xfrm flipH="1">
              <a:off x="6732360" y="2924280"/>
              <a:ext cx="1584360" cy="1009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36"/>
          <p:cNvSpPr/>
          <p:nvPr/>
        </p:nvSpPr>
        <p:spPr>
          <a:xfrm>
            <a:off x="7308720" y="39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905120" y="1752480"/>
            <a:ext cx="55623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宋体"/>
              </a:rPr>
              <a:t>再见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32000" y="2133720"/>
            <a:ext cx="2376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4932360" y="1916280"/>
            <a:ext cx="2376360" cy="1079280"/>
          </a:xfrm>
          <a:prstGeom prst="parallelogram">
            <a:avLst>
              <a:gd name="adj" fmla="val 550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403280" y="4149720"/>
            <a:ext cx="2160720" cy="12952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859280" y="3789360"/>
            <a:ext cx="2016360" cy="180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04292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下列图形的名字及特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三角形的一个顶点向它的对边作一条垂线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顶点和垂足间的线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三角形的高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H="1">
            <a:off x="826920" y="2637000"/>
            <a:ext cx="720720" cy="12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1547640" y="2637000"/>
            <a:ext cx="1656000" cy="12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826920" y="386064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1547640" y="2637000"/>
            <a:ext cx="0" cy="1223640"/>
          </a:xfrm>
          <a:prstGeom prst="line">
            <a:avLst/>
          </a:prstGeom>
          <a:ln w="93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1547640" y="3716280"/>
            <a:ext cx="142920" cy="144360"/>
            <a:chOff x="1547640" y="3716280"/>
            <a:chExt cx="142920" cy="144360"/>
          </a:xfrm>
        </p:grpSpPr>
        <p:sp>
          <p:nvSpPr>
            <p:cNvPr id="60" name="Line 8"/>
            <p:cNvSpPr/>
            <p:nvPr/>
          </p:nvSpPr>
          <p:spPr>
            <a:xfrm>
              <a:off x="1547640" y="371628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1690560" y="3716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Line 10"/>
          <p:cNvSpPr/>
          <p:nvPr/>
        </p:nvSpPr>
        <p:spPr>
          <a:xfrm>
            <a:off x="3780000" y="32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 flipH="1">
            <a:off x="1692000" y="3284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843280" y="44226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形的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826920" y="3860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3203640" y="3860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 flipH="1">
            <a:off x="89964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234000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1332000" y="13366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条对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三角形的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1692360" y="378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7308720" y="2492280"/>
            <a:ext cx="93528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0"/>
          <p:cNvSpPr/>
          <p:nvPr/>
        </p:nvSpPr>
        <p:spPr>
          <a:xfrm flipH="1">
            <a:off x="6372000" y="2492280"/>
            <a:ext cx="93636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6372360" y="386064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 flipH="1" flipV="1">
            <a:off x="6948000" y="2997360"/>
            <a:ext cx="1295640" cy="863280"/>
          </a:xfrm>
          <a:prstGeom prst="line">
            <a:avLst/>
          </a:prstGeom>
          <a:ln w="93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7020000" y="2852640"/>
            <a:ext cx="2160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4"/>
          <p:cNvSpPr/>
          <p:nvPr/>
        </p:nvSpPr>
        <p:spPr>
          <a:xfrm flipH="1">
            <a:off x="7164000" y="2997360"/>
            <a:ext cx="71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V="1">
            <a:off x="7451640" y="342864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6372360" y="4292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形的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 flipH="1" flipV="1">
            <a:off x="7020000" y="2276280"/>
            <a:ext cx="28872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8"/>
          <p:cNvSpPr/>
          <p:nvPr/>
        </p:nvSpPr>
        <p:spPr>
          <a:xfrm flipH="1" flipV="1">
            <a:off x="6084360" y="3644640"/>
            <a:ext cx="2876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9"/>
          <p:cNvSpPr/>
          <p:nvPr/>
        </p:nvSpPr>
        <p:spPr>
          <a:xfrm flipH="1">
            <a:off x="6156360" y="3213000"/>
            <a:ext cx="2872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 flipV="1">
            <a:off x="6805440" y="2421000"/>
            <a:ext cx="2876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6300720" y="2693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108000" y="189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964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平行四边形一条边上的一点向对边作一条垂线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684360" y="2205000"/>
            <a:ext cx="2735280" cy="1152720"/>
          </a:xfrm>
          <a:prstGeom prst="parallelogram">
            <a:avLst>
              <a:gd name="adj" fmla="val 5932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1332000" y="2205000"/>
            <a:ext cx="71280" cy="1152720"/>
          </a:xfrm>
          <a:prstGeom prst="line">
            <a:avLst/>
          </a:prstGeom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1332000" y="3213000"/>
            <a:ext cx="142920" cy="144720"/>
            <a:chOff x="1332000" y="3213000"/>
            <a:chExt cx="142920" cy="144720"/>
          </a:xfrm>
        </p:grpSpPr>
        <p:sp>
          <p:nvSpPr>
            <p:cNvPr id="89" name="Line 6"/>
            <p:cNvSpPr/>
            <p:nvPr/>
          </p:nvSpPr>
          <p:spPr>
            <a:xfrm>
              <a:off x="1332000" y="321300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1474920" y="32130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8"/>
          <p:cNvSpPr/>
          <p:nvPr/>
        </p:nvSpPr>
        <p:spPr>
          <a:xfrm flipH="1">
            <a:off x="1476000" y="2781360"/>
            <a:ext cx="165564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3132000" y="278136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83672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平行四边形的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908000" y="692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点和垂足间的线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平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95280" y="1125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边形的高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770200" y="112536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条对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平行四边形的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68436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270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2050920" y="3573360"/>
            <a:ext cx="505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 flipH="1">
            <a:off x="755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187280" y="3284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6516720" y="2276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 flipH="1">
            <a:off x="6659280" y="2276640"/>
            <a:ext cx="64908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H="1">
            <a:off x="5796000" y="2276640"/>
            <a:ext cx="7207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 flipH="1">
            <a:off x="5795640" y="364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7308720" y="227664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6659640" y="3645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5"/>
          <p:cNvGrpSpPr/>
          <p:nvPr/>
        </p:nvGrpSpPr>
        <p:grpSpPr>
          <a:xfrm>
            <a:off x="7308720" y="3500280"/>
            <a:ext cx="142920" cy="144720"/>
            <a:chOff x="7308720" y="3500280"/>
            <a:chExt cx="142920" cy="144720"/>
          </a:xfrm>
        </p:grpSpPr>
        <p:sp>
          <p:nvSpPr>
            <p:cNvPr id="109" name="Line 26"/>
            <p:cNvSpPr/>
            <p:nvPr/>
          </p:nvSpPr>
          <p:spPr>
            <a:xfrm>
              <a:off x="7308720" y="350028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7"/>
            <p:cNvSpPr/>
            <p:nvPr/>
          </p:nvSpPr>
          <p:spPr>
            <a:xfrm>
              <a:off x="7451640" y="350028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8"/>
          <p:cNvSpPr/>
          <p:nvPr/>
        </p:nvSpPr>
        <p:spPr>
          <a:xfrm>
            <a:off x="7236000" y="26337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5796000" y="3645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6659640" y="3645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 flipH="1">
            <a:off x="5796000" y="3860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565164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144360" y="18900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332000" y="33336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梯形上底的一点向下底作一条垂线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71640" y="1052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点和垂足间的线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梯形的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4360" y="18900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619280" y="24210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H="1">
            <a:off x="1116000" y="2421000"/>
            <a:ext cx="5032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2700360" y="2421000"/>
            <a:ext cx="7920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1115640" y="371628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H="1">
            <a:off x="1547280" y="2421000"/>
            <a:ext cx="71640" cy="1295280"/>
          </a:xfrm>
          <a:prstGeom prst="line">
            <a:avLst/>
          </a:prstGeom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1547640" y="3571920"/>
            <a:ext cx="142920" cy="144360"/>
            <a:chOff x="1547640" y="3571920"/>
            <a:chExt cx="142920" cy="144360"/>
          </a:xfrm>
        </p:grpSpPr>
        <p:sp>
          <p:nvSpPr>
            <p:cNvPr id="127" name="Line 11"/>
            <p:cNvSpPr/>
            <p:nvPr/>
          </p:nvSpPr>
          <p:spPr>
            <a:xfrm>
              <a:off x="1547640" y="357192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1690560" y="357192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13"/>
          <p:cNvSpPr/>
          <p:nvPr/>
        </p:nvSpPr>
        <p:spPr>
          <a:xfrm>
            <a:off x="755640" y="3068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755640" y="306864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322200" y="393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1"/>
          <a:stretch/>
        </p:blipFill>
        <p:spPr>
          <a:xfrm>
            <a:off x="5724360" y="1825560"/>
            <a:ext cx="1190880" cy="2467080"/>
          </a:xfrm>
          <a:prstGeom prst="rect">
            <a:avLst/>
          </a:prstGeom>
          <a:ln w="0">
            <a:noFill/>
          </a:ln>
        </p:spPr>
      </p:pic>
      <p:sp>
        <p:nvSpPr>
          <p:cNvPr id="133" name="Line 17"/>
          <p:cNvSpPr/>
          <p:nvPr/>
        </p:nvSpPr>
        <p:spPr>
          <a:xfrm>
            <a:off x="5724360" y="3645000"/>
            <a:ext cx="1152720" cy="0"/>
          </a:xfrm>
          <a:prstGeom prst="line">
            <a:avLst/>
          </a:prstGeom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 flipV="1">
            <a:off x="6659640" y="3500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6659640" y="350028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0"/>
          <p:cNvSpPr/>
          <p:nvPr/>
        </p:nvSpPr>
        <p:spPr>
          <a:xfrm flipV="1">
            <a:off x="6372360" y="371628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940360" y="4365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1116000" y="2421000"/>
            <a:ext cx="2303640" cy="1728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Group 3" descr=""/>
          <p:cNvPicPr/>
          <p:nvPr/>
        </p:nvPicPr>
        <p:blipFill>
          <a:blip r:embed="rId1"/>
          <a:stretch/>
        </p:blipFill>
        <p:spPr>
          <a:xfrm>
            <a:off x="865080" y="3413160"/>
            <a:ext cx="1427400" cy="3066840"/>
          </a:xfrm>
          <a:prstGeom prst="rect">
            <a:avLst/>
          </a:prstGeom>
          <a:ln w="0">
            <a:noFill/>
          </a:ln>
        </p:spPr>
      </p:pic>
      <p:sp>
        <p:nvSpPr>
          <p:cNvPr id="140" name="Line 6"/>
          <p:cNvSpPr/>
          <p:nvPr/>
        </p:nvSpPr>
        <p:spPr>
          <a:xfrm>
            <a:off x="2268360" y="2421000"/>
            <a:ext cx="0" cy="1728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7"/>
          <p:cNvGrpSpPr/>
          <p:nvPr/>
        </p:nvGrpSpPr>
        <p:grpSpPr>
          <a:xfrm>
            <a:off x="2268360" y="4005360"/>
            <a:ext cx="142920" cy="144360"/>
            <a:chOff x="2268360" y="4005360"/>
            <a:chExt cx="142920" cy="144360"/>
          </a:xfrm>
        </p:grpSpPr>
        <p:sp>
          <p:nvSpPr>
            <p:cNvPr id="142" name="Line 8"/>
            <p:cNvSpPr/>
            <p:nvPr/>
          </p:nvSpPr>
          <p:spPr>
            <a:xfrm>
              <a:off x="2268360" y="40053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411280" y="400536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10"/>
          <p:cNvSpPr/>
          <p:nvPr/>
        </p:nvSpPr>
        <p:spPr>
          <a:xfrm>
            <a:off x="5437080" y="2421000"/>
            <a:ext cx="2303640" cy="1728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6588000" y="2421000"/>
            <a:ext cx="0" cy="1728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6588000" y="4005360"/>
            <a:ext cx="142920" cy="144360"/>
            <a:chOff x="6588000" y="4005360"/>
            <a:chExt cx="142920" cy="144360"/>
          </a:xfrm>
        </p:grpSpPr>
        <p:sp>
          <p:nvSpPr>
            <p:cNvPr id="147" name="Line 13"/>
            <p:cNvSpPr/>
            <p:nvPr/>
          </p:nvSpPr>
          <p:spPr>
            <a:xfrm>
              <a:off x="6588000" y="40053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>
              <a:off x="6730920" y="400536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5"/>
          <p:cNvSpPr/>
          <p:nvPr/>
        </p:nvSpPr>
        <p:spPr>
          <a:xfrm>
            <a:off x="6300720" y="3213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940360" y="4149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611280" y="404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三角形的高：先把三角尺的一条直角边与三角形的某一条边重合，另一条直角边平移到三角形的顶点，从这个顶点沿着三角尺的直角边向该线画垂线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条垂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三角形这条边上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6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8000" y="1159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练一练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24000" y="981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三角形的底，用三角尺画出他们的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55640" y="2637000"/>
            <a:ext cx="2448000" cy="1081080"/>
          </a:xfrm>
          <a:prstGeom prst="triangle">
            <a:avLst>
              <a:gd name="adj" fmla="val 2736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26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1403280" y="2637000"/>
            <a:ext cx="0" cy="1079280"/>
          </a:xfrm>
          <a:prstGeom prst="line">
            <a:avLst/>
          </a:prstGeom>
          <a:ln w="284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1403280" y="3571920"/>
            <a:ext cx="142920" cy="144360"/>
            <a:chOff x="1403280" y="3571920"/>
            <a:chExt cx="142920" cy="144360"/>
          </a:xfrm>
        </p:grpSpPr>
        <p:sp>
          <p:nvSpPr>
            <p:cNvPr id="158" name="Line 8"/>
            <p:cNvSpPr/>
            <p:nvPr/>
          </p:nvSpPr>
          <p:spPr>
            <a:xfrm>
              <a:off x="1403280" y="357192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1546200" y="357192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10"/>
          <p:cNvSpPr/>
          <p:nvPr/>
        </p:nvSpPr>
        <p:spPr>
          <a:xfrm>
            <a:off x="898560" y="2981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780000" y="3213000"/>
            <a:ext cx="1008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 flipV="1">
            <a:off x="4788000" y="2637000"/>
            <a:ext cx="1224000" cy="86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V="1">
            <a:off x="3780000" y="2637000"/>
            <a:ext cx="223200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492360" y="32702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4788000" y="3500280"/>
            <a:ext cx="1008000" cy="289080"/>
          </a:xfrm>
          <a:prstGeom prst="line">
            <a:avLst/>
          </a:prstGeom>
          <a:ln w="284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5580000" y="2637000"/>
            <a:ext cx="432000" cy="1079280"/>
          </a:xfrm>
          <a:prstGeom prst="line">
            <a:avLst/>
          </a:prstGeom>
          <a:ln w="284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5651640" y="3573360"/>
            <a:ext cx="14436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H="1">
            <a:off x="5724000" y="3645000"/>
            <a:ext cx="71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5724360" y="3068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6516720" y="2852640"/>
            <a:ext cx="792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 flipV="1">
            <a:off x="7308720" y="3284640"/>
            <a:ext cx="107964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 flipH="1" flipV="1">
            <a:off x="6516360" y="2852640"/>
            <a:ext cx="1871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6804000" y="24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 flipV="1">
            <a:off x="7308720" y="3068640"/>
            <a:ext cx="142920" cy="720720"/>
          </a:xfrm>
          <a:prstGeom prst="line">
            <a:avLst/>
          </a:prstGeom>
          <a:ln w="284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7308720" y="2997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7308720" y="321300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7308720" y="3141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0494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平行四边形的底，用三角尺画出他们的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4140360" y="3068640"/>
            <a:ext cx="1152360" cy="1152360"/>
          </a:xfrm>
          <a:prstGeom prst="parallelogram">
            <a:avLst>
              <a:gd name="adj" fmla="val 48486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39640" y="3105000"/>
            <a:ext cx="2247840" cy="971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900000" y="299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 flipV="1">
            <a:off x="1187280" y="3068640"/>
            <a:ext cx="0" cy="1008000"/>
          </a:xfrm>
          <a:prstGeom prst="line">
            <a:avLst/>
          </a:prstGeom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1042920" y="3141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1042920" y="328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61128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780000" y="42051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4716360" y="4221000"/>
            <a:ext cx="863640" cy="0"/>
          </a:xfrm>
          <a:prstGeom prst="line">
            <a:avLst/>
          </a:prstGeom>
          <a:ln w="1260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5292720" y="3068640"/>
            <a:ext cx="0" cy="1152360"/>
          </a:xfrm>
          <a:prstGeom prst="line">
            <a:avLst/>
          </a:prstGeom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5292720" y="4076640"/>
            <a:ext cx="142920" cy="144360"/>
            <a:chOff x="5292720" y="4076640"/>
            <a:chExt cx="142920" cy="144360"/>
          </a:xfrm>
        </p:grpSpPr>
        <p:sp>
          <p:nvSpPr>
            <p:cNvPr id="190" name="Line 14"/>
            <p:cNvSpPr/>
            <p:nvPr/>
          </p:nvSpPr>
          <p:spPr>
            <a:xfrm>
              <a:off x="5292720" y="407664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5435640" y="40766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6"/>
          <p:cNvSpPr/>
          <p:nvPr/>
        </p:nvSpPr>
        <p:spPr>
          <a:xfrm>
            <a:off x="5219640" y="35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7" descr=""/>
          <p:cNvPicPr/>
          <p:nvPr/>
        </p:nvPicPr>
        <p:blipFill>
          <a:blip r:embed="rId2"/>
          <a:stretch/>
        </p:blipFill>
        <p:spPr>
          <a:xfrm>
            <a:off x="6718320" y="3102120"/>
            <a:ext cx="1238400" cy="11905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8"/>
          <p:cNvSpPr/>
          <p:nvPr/>
        </p:nvSpPr>
        <p:spPr>
          <a:xfrm>
            <a:off x="7236000" y="3141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V="1">
            <a:off x="7308720" y="4076640"/>
            <a:ext cx="503280" cy="216000"/>
          </a:xfrm>
          <a:prstGeom prst="line">
            <a:avLst/>
          </a:prstGeom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7596000" y="3933720"/>
            <a:ext cx="14436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7596360" y="4005360"/>
            <a:ext cx="712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7380360" y="4133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840" y="199980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468360" y="68904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出梯形的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32000" y="2924280"/>
            <a:ext cx="2087640" cy="12254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4356000" y="4292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 flipV="1">
            <a:off x="4356000" y="3212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 flipV="1">
            <a:off x="4356000" y="2637000"/>
            <a:ext cx="151128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867280" y="2637000"/>
            <a:ext cx="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4356000" y="3213000"/>
            <a:ext cx="1511280" cy="360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4356000" y="3860640"/>
            <a:ext cx="1511280" cy="4320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4356000" y="371628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4356000" y="371628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6948360" y="263700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6948360" y="2637000"/>
            <a:ext cx="43200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7740720" y="2637000"/>
            <a:ext cx="8636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7380360" y="4292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6659640" y="4292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6948360" y="2637000"/>
            <a:ext cx="0" cy="1655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6948360" y="2637000"/>
            <a:ext cx="0" cy="1655640"/>
          </a:xfrm>
          <a:prstGeom prst="line">
            <a:avLst/>
          </a:prstGeom>
          <a:ln w="284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6948360" y="2637000"/>
            <a:ext cx="863640" cy="165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0"/>
          <p:cNvSpPr/>
          <p:nvPr/>
        </p:nvSpPr>
        <p:spPr>
          <a:xfrm flipH="1">
            <a:off x="7380000" y="2637000"/>
            <a:ext cx="360360" cy="165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1"/>
          <p:cNvSpPr/>
          <p:nvPr/>
        </p:nvSpPr>
        <p:spPr>
          <a:xfrm flipV="1">
            <a:off x="1835280" y="2924280"/>
            <a:ext cx="72720" cy="12254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2"/>
          <p:cNvSpPr/>
          <p:nvPr/>
        </p:nvSpPr>
        <p:spPr>
          <a:xfrm flipV="1">
            <a:off x="1835280" y="2852280"/>
            <a:ext cx="72720" cy="1297080"/>
          </a:xfrm>
          <a:prstGeom prst="line">
            <a:avLst/>
          </a:prstGeom>
          <a:ln w="284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3"/>
          <p:cNvSpPr/>
          <p:nvPr/>
        </p:nvSpPr>
        <p:spPr>
          <a:xfrm flipV="1">
            <a:off x="1835280" y="2924280"/>
            <a:ext cx="936360" cy="1225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4"/>
          <p:cNvSpPr/>
          <p:nvPr/>
        </p:nvSpPr>
        <p:spPr>
          <a:xfrm flipH="1" flipV="1">
            <a:off x="2124000" y="2924280"/>
            <a:ext cx="719280" cy="1225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1476360" y="4149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1476360" y="234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3132000" y="34146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5435640" y="34146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7020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6516720" y="21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7:46:57Z</dcterms:created>
  <dc:creator/>
  <dc:description/>
  <cp:keywords/>
  <dc:language>en-US</dc:language>
  <cp:lastModifiedBy/>
  <dcterms:modified xsi:type="dcterms:W3CDTF">2017-12-21T14:14:39Z</dcterms:modified>
  <cp:revision>1</cp:revision>
  <dc:subject/>
  <dc:title/>
</cp:coreProperties>
</file>