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宋体"/>
              </a:rPr>
              <a:t>Click to move the slide</a:t>
            </a: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DDD-EC31-4BA9-B53A-1F45A81CC5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61E4-AFAF-45A4-932A-0FED0C0C92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2C05-C24A-4646-9E4D-A3CBC2B316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9932-5750-48FA-9389-D0A6310999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985E-DDB9-4459-8C20-9F56902D5D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FBEB-11B2-412B-95BD-AE8774CA24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AFD5-84EA-4745-BDAD-40E7FD1C77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EFF-FFAD-43DF-8214-E5F17DD506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AB5-2881-43EE-B8A5-500A92692B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A5A-4449-4A75-942E-2989090203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C15-3CD6-4444-BB8E-6A10069D52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8733-9897-4157-BDF0-582D23E65A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1EBF-D3BF-4E69-8BDA-F51D0A88DE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0524-475A-439B-806C-A18C48E575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E6A-69B5-47D4-B6F8-929ABE7CE3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B03E-B8D4-4CF6-95C8-43CA19F651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37EF-1D9C-4B7B-907A-499ACB671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F67-E562-43B4-8F4D-1B79997B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881-F1C9-4B3C-8767-110B25C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6D0-B9BF-42F5-A90C-625C90BE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E05-3DF1-4717-8DEB-EECEB2F9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5410-5DDA-4162-BCB4-46D365C6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1312-CE6F-4C25-A71D-6C620EF2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9BBB-638C-40E6-B2EB-65495431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59E-C92F-4180-8436-28DEF147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2EB-D307-432B-9444-C4DAB80C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F149-A68D-4357-A15F-3E36D82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900-D1EC-49B1-8C6C-1802462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799-1D93-488C-8568-9337A75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5239-45CF-4E37-933D-1C376A4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65C-67B2-4F64-B0A9-021A521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64DE-CB27-415D-A89A-81CE2E8F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189F-9AF6-4BD4-AFDA-9D21061F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D863-9D80-4C80-98AE-04F8CDF3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B114-4DDA-4DE3-984A-65A327D3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0476-FAE5-47F0-B232-3B21D31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539B-930E-4FFC-9752-B2FFCFA4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D61E-919F-469A-8747-B38D93F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2ABA-DE12-4A01-B6D0-1A7345B7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DCD-DA28-4FBA-A14B-9AE4C450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2054-C029-43C0-9921-A9290543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3F01-9F37-4EDF-9CEA-C3B1B9B2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8207-1219-4B10-A990-3227618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9D90-3158-4CCB-A732-C51A955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C54F-95D0-4A54-AB7C-9FD84F7A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CE2E-19FE-4492-8855-7C41F344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8821-98B1-41FC-9046-77D8B124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24804-2229-4549-ACDF-49DF1534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78029-18AD-4D60-9788-8A0FCB93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45A2-47EA-4A87-8729-EB564119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B40-5C30-48F4-97C5-A45491CB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987B-1C70-4835-94A5-C04179E2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10F6-7B39-496A-AD70-0EC86846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3F91-25A0-4909-90DD-16672E9C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88B3-A54E-4FA3-9C1F-339A6DA0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8FC4-C8E1-4BBC-BEE0-08A7469E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830E-30B5-4E49-A54E-70B8E19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B980-E082-4F39-9CAD-8F1EA0E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807B-3AE0-4585-9574-CC06B909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15E1-C3B2-4EFB-A6CD-978F615F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D17C-1913-4243-B646-8C81599E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E59-B549-48AF-9865-8B1A0201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9A79-2DE0-498D-AD5D-C8D5505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A4AA-1DD9-403D-8D84-B562266D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050D4-5C4E-426F-BFCD-0A03CFD9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43CA-B526-4805-8C66-617956A1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C134-126A-4930-9529-A36A0D67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2FF78-B934-49E1-9B96-0D0F9F18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5D57-D502-49DF-983A-258C2060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6F294-4CA5-4C96-B9BB-347E067F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67DF-8F64-4250-8C04-005CAA0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1364-6D53-43A2-88F9-1010EA4E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600" y="-11160"/>
            <a:ext cx="8310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E38-F259-469D-8B32-FB5103C4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0616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3080" y="96696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9960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0616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3080" y="3829320"/>
            <a:ext cx="26726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62B6-7E93-4C7B-ADF6-CBAD1926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EB7-5E52-4A63-BA52-C2288CC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360" y="382932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BFE-143A-4520-AB4C-991EC25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60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360" y="966960"/>
            <a:ext cx="405072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600" y="3829320"/>
            <a:ext cx="8301240" cy="26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8B1-8BF9-4B82-8822-6FA63AF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8789-61E0-4DCD-8B61-13EB1F009E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F6F4-CB40-4F23-9606-EF636D55DC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6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880" y="448920"/>
            <a:ext cx="8275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689d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d2689d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4880" y="1332000"/>
            <a:ext cx="8266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5a99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1DE-C19E-464F-8A5A-FAF913EA1B6C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5D2-1F36-4F8F-BE39-A24953636EA0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1"/>
          <p:cNvGrpSpPr/>
          <p:nvPr/>
        </p:nvGrpSpPr>
        <p:grpSpPr>
          <a:xfrm>
            <a:off x="-36360" y="-27000"/>
            <a:ext cx="9180360" cy="6977160"/>
            <a:chOff x="-36360" y="-27000"/>
            <a:chExt cx="9180360" cy="6977160"/>
          </a:xfrm>
        </p:grpSpPr>
        <p:grpSp>
          <p:nvGrpSpPr>
            <p:cNvPr id="84" name="组合 9"/>
            <p:cNvGrpSpPr/>
            <p:nvPr/>
          </p:nvGrpSpPr>
          <p:grpSpPr>
            <a:xfrm>
              <a:off x="-36360" y="-27000"/>
              <a:ext cx="9180360" cy="6977160"/>
              <a:chOff x="-36360" y="-27000"/>
              <a:chExt cx="9180360" cy="6977160"/>
            </a:xfrm>
          </p:grpSpPr>
          <p:pic>
            <p:nvPicPr>
              <p:cNvPr id="8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-36360" y="-27000"/>
                <a:ext cx="9178920" cy="697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直接连接符 7"/>
              <p:cNvSpPr/>
              <p:nvPr/>
            </p:nvSpPr>
            <p:spPr>
              <a:xfrm>
                <a:off x="-36360" y="692280"/>
                <a:ext cx="918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8"/>
              <p:cNvSpPr/>
              <p:nvPr/>
            </p:nvSpPr>
            <p:spPr>
              <a:xfrm>
                <a:off x="-36360" y="6685200"/>
                <a:ext cx="918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矩形 10"/>
            <p:cNvSpPr/>
            <p:nvPr/>
          </p:nvSpPr>
          <p:spPr>
            <a:xfrm>
              <a:off x="-36360" y="766800"/>
              <a:ext cx="9180360" cy="58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fdc9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1AFA-52FC-4E01-9E89-6A3A1D63958D}" type="datetime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4FC4-ABBA-4BC6-921D-7EE5A8940652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8" descr=""/>
          <p:cNvPicPr/>
          <p:nvPr/>
        </p:nvPicPr>
        <p:blipFill>
          <a:blip r:embed="rId2"/>
          <a:srcRect l="2329" t="0" r="0" b="0"/>
          <a:stretch/>
        </p:blipFill>
        <p:spPr>
          <a:xfrm>
            <a:off x="0" y="-201600"/>
            <a:ext cx="9136080" cy="7059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880" y="448920"/>
            <a:ext cx="82756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689d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d2689d"/>
              </a:solidFill>
              <a:latin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34880" y="1332000"/>
            <a:ext cx="82663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63b2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5a99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367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5367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BCF8-3C67-41BD-B017-7F7D874904AA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101C-F746-40DE-9CFF-EDFCAF342FBC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2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78920" cy="6977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9600" y="-11160"/>
            <a:ext cx="8310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e6c0b"/>
                </a:solidFill>
                <a:latin typeface="宋体"/>
              </a:rPr>
              <a:t>Click to edit the title text format</a:t>
            </a:r>
            <a:endParaRPr b="1" lang="en-US" sz="3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99600" y="966960"/>
            <a:ext cx="830124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6a21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fdc9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6c0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F22B-38E8-495B-AFA7-9FAD9C510924}" type="datetime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F69-46E4-40FC-87C2-AE4B9759CBFC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7800" y="2017800"/>
            <a:ext cx="823608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e6c0b"/>
                </a:solidFill>
                <a:latin typeface="宋体"/>
              </a:rPr>
              <a:t>代数式二</a:t>
            </a:r>
            <a:endParaRPr b="1" lang="en-US" sz="8000" spc="-1" strike="noStrike">
              <a:solidFill>
                <a:srgbClr val="8e6c0b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8366040" cy="20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）一辆汽车和一辆货车同时从甲乙两地相对开出。汽车的速度是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分，货车的速度是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分。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8e6c0b"/>
                </a:solidFill>
                <a:latin typeface="宋体"/>
              </a:rPr>
              <a:t>分钟后相遇。</a:t>
            </a:r>
            <a:endParaRPr b="1" lang="en-US" sz="28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568440" y="2332080"/>
            <a:ext cx="825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代数式表示相遇时汽车比货车多行的路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525600" y="3344760"/>
            <a:ext cx="825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6360" y="1196640"/>
            <a:ext cx="87123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某学校定制一批服装。服装公司用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＋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计算一件服装的成本。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表示成本，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表示做一件服装需要的小时数，计算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时的成本。（单位：元）</a:t>
            </a:r>
            <a:endParaRPr b="1" lang="en-US" sz="28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335736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把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代入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＋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得：           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c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＋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×2</a:t>
            </a:r>
            <a:endParaRPr b="0" lang="en-US" sz="2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c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4</a:t>
            </a:r>
            <a:endParaRPr b="0" lang="en-US" sz="2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492120" y="409680"/>
            <a:ext cx="35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随堂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9152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，</a:t>
            </a:r>
            <a:r>
              <a:rPr b="1" i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两地相距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500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米，甲车从</a:t>
            </a:r>
            <a:r>
              <a:rPr b="1" i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地出发已经行</a:t>
            </a:r>
            <a:r>
              <a:rPr b="1" i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米，剩下的路程如果每分钟行</a:t>
            </a:r>
            <a:r>
              <a:rPr b="1" i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米，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5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分钟可到达。</a:t>
            </a:r>
            <a:endParaRPr b="1" lang="en-US" sz="32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900000" y="3070080"/>
            <a:ext cx="7632720" cy="144720"/>
          </a:xfrm>
          <a:prstGeom prst="flowChartProcess">
            <a:avLst/>
          </a:prstGeom>
          <a:solidFill>
            <a:srgbClr val="434547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6991200" y="3502080"/>
            <a:ext cx="1513080" cy="142920"/>
          </a:xfrm>
          <a:prstGeom prst="rightArrow">
            <a:avLst>
              <a:gd name="adj1" fmla="val 50000"/>
              <a:gd name="adj2" fmla="val 264673"/>
            </a:avLst>
          </a:prstGeom>
          <a:solidFill>
            <a:srgbClr val="f84b34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687920" y="3502080"/>
            <a:ext cx="1368360" cy="142920"/>
          </a:xfrm>
          <a:prstGeom prst="leftArrow">
            <a:avLst>
              <a:gd name="adj1" fmla="val 50000"/>
              <a:gd name="adj2" fmla="val 239358"/>
            </a:avLst>
          </a:prstGeom>
          <a:solidFill>
            <a:srgbClr val="f84b34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5272200" y="2709720"/>
            <a:ext cx="3333600" cy="144720"/>
          </a:xfrm>
          <a:prstGeom prst="rightArrow">
            <a:avLst>
              <a:gd name="adj1" fmla="val 50000"/>
              <a:gd name="adj2" fmla="val 575871"/>
            </a:avLst>
          </a:prstGeom>
          <a:solidFill>
            <a:srgbClr val="f84b34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828720" y="2709720"/>
            <a:ext cx="3508200" cy="144720"/>
          </a:xfrm>
          <a:prstGeom prst="leftArrow">
            <a:avLst>
              <a:gd name="adj1" fmla="val 50000"/>
              <a:gd name="adj2" fmla="val 606032"/>
            </a:avLst>
          </a:prstGeom>
          <a:solidFill>
            <a:srgbClr val="f84b34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324000" y="2709720"/>
            <a:ext cx="4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4284720" y="24940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241128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608472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8616960" y="2751120"/>
            <a:ext cx="4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768240" y="4083120"/>
            <a:ext cx="82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写出两个表示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路程的代数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6"/>
          <p:cNvSpPr/>
          <p:nvPr/>
        </p:nvSpPr>
        <p:spPr>
          <a:xfrm>
            <a:off x="971640" y="5373720"/>
            <a:ext cx="3240000" cy="144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>
            <a:off x="4505400" y="5384880"/>
            <a:ext cx="324144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747720" y="5572080"/>
            <a:ext cx="82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写出两个表示剩下路程的代数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9"/>
          <p:cNvSpPr/>
          <p:nvPr/>
        </p:nvSpPr>
        <p:spPr>
          <a:xfrm>
            <a:off x="992160" y="6661080"/>
            <a:ext cx="324000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4527720" y="6670800"/>
            <a:ext cx="3240000" cy="144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1476360" y="4797360"/>
            <a:ext cx="25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4673520" y="4714920"/>
            <a:ext cx="34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1233360" y="600084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4959360" y="598968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3160800" y="3502080"/>
            <a:ext cx="1512720" cy="142920"/>
          </a:xfrm>
          <a:prstGeom prst="rightArrow">
            <a:avLst>
              <a:gd name="adj1" fmla="val 50000"/>
              <a:gd name="adj2" fmla="val 264610"/>
            </a:avLst>
          </a:prstGeom>
          <a:solidFill>
            <a:srgbClr val="f84b34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6"/>
          <p:cNvSpPr/>
          <p:nvPr/>
        </p:nvSpPr>
        <p:spPr>
          <a:xfrm>
            <a:off x="992160" y="3502080"/>
            <a:ext cx="1368360" cy="142920"/>
          </a:xfrm>
          <a:prstGeom prst="leftArrow">
            <a:avLst>
              <a:gd name="adj1" fmla="val 50000"/>
              <a:gd name="adj2" fmla="val 239358"/>
            </a:avLst>
          </a:prstGeom>
          <a:solidFill>
            <a:srgbClr val="f84b34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0600" y="68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5.</a:t>
            </a:r>
            <a:r>
              <a:rPr b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某工厂制作一批课桌，计划</a:t>
            </a:r>
            <a:r>
              <a:rPr b="1" i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x</a:t>
            </a:r>
            <a:r>
              <a:rPr b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天完成，实际每天制作</a:t>
            </a:r>
            <a:r>
              <a:rPr b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3</a:t>
            </a:r>
            <a:r>
              <a:rPr b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个，提前</a:t>
            </a:r>
            <a:r>
              <a:rPr b="1" i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y</a:t>
            </a:r>
            <a:r>
              <a:rPr b="1" lang="zh-CN" sz="36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天完成任务。</a:t>
            </a:r>
            <a:endParaRPr b="1" lang="en-US" sz="36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298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）写出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表示的意义。</a:t>
            </a:r>
            <a:endParaRPr b="0" lang="en-US" sz="2800" spc="-1" strike="noStrike">
              <a:solidFill>
                <a:srgbClr val="8e6c0b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401760" y="325764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）用代数式表示这批竹筐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87360" y="464976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）当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时，求各代数式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90600" y="259236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示实际完成任务用的天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90600" y="3938760"/>
            <a:ext cx="41990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90600" y="5410080"/>
            <a:ext cx="419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4591080" y="5146560"/>
            <a:ext cx="43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390600" y="-74520"/>
            <a:ext cx="29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随堂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1051200" y="1066680"/>
            <a:ext cx="6687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我国青少年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~1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岁）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平均身高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平均身高增长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我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国青少年平均身高</a:t>
            </a:r>
            <a:r>
              <a:rPr b="1" lang="zh-CN" sz="2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1199520" y="2362320"/>
            <a:ext cx="6384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人的身高可能会相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早上最高，晚上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最矮。一个人早上身高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晚上身高可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能是</a:t>
            </a:r>
            <a:r>
              <a:rPr b="1" lang="zh-CN" sz="2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1204200" y="3681360"/>
            <a:ext cx="6375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鸟的骨骼约是体重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5~0.0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，人的骨骼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约是体重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，一个人重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骨骼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约是</a:t>
            </a:r>
            <a:r>
              <a:rPr b="1" lang="zh-CN" sz="2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267200" y="4932360"/>
            <a:ext cx="6279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小英家本月的用电量是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瓦时，交电费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那么电费每千瓦时是</a:t>
            </a:r>
            <a:r>
              <a:rPr b="1" lang="zh-CN" sz="2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965040" y="1873080"/>
            <a:ext cx="109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038680" y="3170160"/>
            <a:ext cx="109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061360" y="44658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18</a:t>
            </a:r>
            <a:r>
              <a:rPr b="1" i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5118480" y="53341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÷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95320" y="235080"/>
            <a:ext cx="30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拓展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39640" y="1700280"/>
            <a:ext cx="525780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右图中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哪一部分的面积是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哪一部分的面积是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整个图形的面积怎样计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5389560" y="3422520"/>
            <a:ext cx="2422440" cy="2886120"/>
            <a:chOff x="5389560" y="3422520"/>
            <a:chExt cx="2422440" cy="2886120"/>
          </a:xfrm>
        </p:grpSpPr>
        <p:pic>
          <p:nvPicPr>
            <p:cNvPr id="389" name="Picture 4" descr="slide0005_image033"/>
            <p:cNvPicPr/>
            <p:nvPr/>
          </p:nvPicPr>
          <p:blipFill>
            <a:blip r:embed="rId2"/>
            <a:stretch/>
          </p:blipFill>
          <p:spPr>
            <a:xfrm>
              <a:off x="5389560" y="3422520"/>
              <a:ext cx="24224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 Box 5"/>
            <p:cNvSpPr/>
            <p:nvPr/>
          </p:nvSpPr>
          <p:spPr>
            <a:xfrm>
              <a:off x="5842080" y="3887640"/>
              <a:ext cx="144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003640" y="1557360"/>
            <a:ext cx="3219840" cy="1600200"/>
            <a:chOff x="5003640" y="1557360"/>
            <a:chExt cx="3219840" cy="1600200"/>
          </a:xfrm>
        </p:grpSpPr>
        <p:grpSp>
          <p:nvGrpSpPr>
            <p:cNvPr id="392" name="Group 7"/>
            <p:cNvGrpSpPr/>
            <p:nvPr/>
          </p:nvGrpSpPr>
          <p:grpSpPr>
            <a:xfrm>
              <a:off x="5003640" y="1557360"/>
              <a:ext cx="2808000" cy="1029960"/>
              <a:chOff x="5003640" y="1557360"/>
              <a:chExt cx="2808000" cy="1029960"/>
            </a:xfrm>
          </p:grpSpPr>
          <p:sp>
            <p:nvSpPr>
              <p:cNvPr id="393" name="Rectangle 8"/>
              <p:cNvSpPr/>
              <p:nvPr/>
            </p:nvSpPr>
            <p:spPr>
              <a:xfrm>
                <a:off x="5003640" y="1557360"/>
                <a:ext cx="1029240" cy="1029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4345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"/>
              <p:cNvSpPr/>
              <p:nvPr/>
            </p:nvSpPr>
            <p:spPr>
              <a:xfrm>
                <a:off x="6032880" y="1557360"/>
                <a:ext cx="1778760" cy="1029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4345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10"/>
            <p:cNvSpPr/>
            <p:nvPr/>
          </p:nvSpPr>
          <p:spPr>
            <a:xfrm>
              <a:off x="5003640" y="2781360"/>
              <a:ext cx="1008000" cy="0"/>
            </a:xfrm>
            <a:prstGeom prst="line">
              <a:avLst/>
            </a:prstGeom>
            <a:ln w="9360">
              <a:solidFill>
                <a:srgbClr val="43454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1"/>
            <p:cNvSpPr/>
            <p:nvPr/>
          </p:nvSpPr>
          <p:spPr>
            <a:xfrm>
              <a:off x="6011640" y="2781360"/>
              <a:ext cx="1800360" cy="0"/>
            </a:xfrm>
            <a:prstGeom prst="line">
              <a:avLst/>
            </a:prstGeom>
            <a:ln w="9360">
              <a:solidFill>
                <a:srgbClr val="43454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 flipV="1">
              <a:off x="7954920" y="1557360"/>
              <a:ext cx="0" cy="1008000"/>
            </a:xfrm>
            <a:prstGeom prst="line">
              <a:avLst/>
            </a:prstGeom>
            <a:ln w="9360">
              <a:solidFill>
                <a:srgbClr val="43454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>
              <a:off x="5003640" y="25653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4"/>
            <p:cNvSpPr/>
            <p:nvPr/>
          </p:nvSpPr>
          <p:spPr>
            <a:xfrm>
              <a:off x="6011640" y="25653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>
              <a:off x="7812000" y="256536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>
              <a:off x="7812000" y="2565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>
              <a:off x="7812000" y="1557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293800" y="2622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9"/>
            <p:cNvSpPr/>
            <p:nvPr/>
          </p:nvSpPr>
          <p:spPr>
            <a:xfrm>
              <a:off x="6733800" y="2637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0"/>
            <p:cNvSpPr/>
            <p:nvPr/>
          </p:nvSpPr>
          <p:spPr>
            <a:xfrm>
              <a:off x="7885800" y="17002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21"/>
          <p:cNvSpPr/>
          <p:nvPr/>
        </p:nvSpPr>
        <p:spPr>
          <a:xfrm>
            <a:off x="390600" y="-74520"/>
            <a:ext cx="29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拓展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360" y="1566360"/>
            <a:ext cx="7562880" cy="261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ff"/>
                </a:solidFill>
                <a:latin typeface="宋体"/>
              </a:rPr>
              <a:t>课堂总结：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同学们，这节课你有哪些收获？还有哪些问题？</a:t>
            </a:r>
            <a:endParaRPr b="1" lang="en-US" sz="3200" spc="-1" strike="noStrike">
              <a:solidFill>
                <a:srgbClr val="8e6c0b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43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062360" y="1295280"/>
            <a:ext cx="40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） 省略乘号，写出下面各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13520" y="205740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414345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414345"/>
                </a:solidFill>
                <a:latin typeface="宋体"/>
              </a:rPr>
              <a:t>×</a:t>
            </a:r>
            <a:r>
              <a:rPr b="1" i="1" lang="zh-CN" sz="3600" spc="-1" strike="noStrike">
                <a:solidFill>
                  <a:srgbClr val="414345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414345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414345"/>
                </a:solidFill>
                <a:latin typeface="宋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41840" y="22096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414345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414345"/>
                </a:solidFill>
                <a:latin typeface="宋体"/>
              </a:rPr>
              <a:t>×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 2 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521240" y="29415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414345"/>
                </a:solidFill>
                <a:latin typeface="Times New Roman"/>
              </a:rPr>
              <a:t>x </a:t>
            </a:r>
            <a:r>
              <a:rPr b="1" lang="zh-CN" sz="3600" spc="-1" strike="noStrike">
                <a:solidFill>
                  <a:srgbClr val="414345"/>
                </a:solidFill>
                <a:latin typeface="宋体"/>
              </a:rPr>
              <a:t>×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 3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03000" y="289548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5 </a:t>
            </a:r>
            <a:r>
              <a:rPr b="1" lang="zh-CN" sz="3600" spc="-1" strike="noStrike">
                <a:solidFill>
                  <a:srgbClr val="414345"/>
                </a:solidFill>
                <a:latin typeface="宋体"/>
              </a:rPr>
              <a:t>×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414345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414345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134440" y="2057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179400" y="213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134440" y="2895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122880" y="289548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1305720" y="3581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） 如果用</a:t>
            </a:r>
            <a:r>
              <a:rPr b="1" i="1" lang="zh-CN" sz="3200" spc="-1" strike="noStrike">
                <a:solidFill>
                  <a:srgbClr val="f84b34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表示长方形的长 ， </a:t>
            </a:r>
            <a:r>
              <a:rPr b="1" i="1" lang="zh-CN" sz="3200" spc="-1" strike="noStrike">
                <a:solidFill>
                  <a:srgbClr val="f84b34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84b34"/>
                </a:solidFill>
                <a:latin typeface="Times New Roman"/>
              </a:rPr>
              <a:t>表示宽，那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98560" y="4570560"/>
            <a:ext cx="46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这个长方形的面积 </a:t>
            </a:r>
            <a:r>
              <a:rPr b="1" i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s</a:t>
            </a:r>
            <a:r>
              <a:rPr b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762120" y="525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这个长方形的周长 </a:t>
            </a:r>
            <a:r>
              <a:rPr b="1" i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497480" y="525780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＋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105880" y="455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647640" y="442800"/>
            <a:ext cx="21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宋体"/>
              </a:rPr>
              <a:t>根据运算定律把下面的图形算式化简：</a:t>
            </a:r>
            <a:endParaRPr b="1" lang="en-US" sz="36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31920" y="1508040"/>
            <a:ext cx="65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×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×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2124000" y="1701720"/>
            <a:ext cx="471600" cy="260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66"/>
            </a:solidFill>
            <a:miter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932280" y="1614600"/>
            <a:ext cx="473040" cy="260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66"/>
            </a:solidFill>
            <a:miter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116000" y="3718080"/>
            <a:ext cx="44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156360" y="1701720"/>
            <a:ext cx="37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68360" y="2349360"/>
            <a:ext cx="423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×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3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492360" y="2565360"/>
            <a:ext cx="471600" cy="260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66"/>
            </a:solidFill>
            <a:miter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209680" y="3198960"/>
            <a:ext cx="471600" cy="260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66"/>
            </a:solidFill>
            <a:miter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50920" y="4654440"/>
            <a:ext cx="313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796000" y="2997360"/>
            <a:ext cx="358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3" descr="图片1_副本"/>
          <p:cNvPicPr/>
          <p:nvPr/>
        </p:nvPicPr>
        <p:blipFill>
          <a:blip r:embed="rId1"/>
          <a:stretch/>
        </p:blipFill>
        <p:spPr>
          <a:xfrm>
            <a:off x="108000" y="549360"/>
            <a:ext cx="533520" cy="504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4"/>
          <p:cNvSpPr/>
          <p:nvPr/>
        </p:nvSpPr>
        <p:spPr>
          <a:xfrm>
            <a:off x="3963960" y="24019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运算定律可以把图形式化简，同样也可以把代数式化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6080"/>
            <a:ext cx="8827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例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螃蟹爬行的速度是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厘米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分，第一次爬行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分钟，第二次爬行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30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分钟。第二次比第一次多爬行多少厘米？</a:t>
            </a:r>
            <a:endParaRPr b="1" lang="en-US" sz="2800" spc="-1" strike="noStrike">
              <a:solidFill>
                <a:srgbClr val="8e6c0b"/>
              </a:solidFill>
              <a:latin typeface="宋体"/>
            </a:endParaRPr>
          </a:p>
        </p:txBody>
      </p:sp>
      <p:graphicFrame>
        <p:nvGraphicFramePr>
          <p:cNvPr id="251" name="Object 3"/>
          <p:cNvGraphicFramePr/>
          <p:nvPr/>
        </p:nvGraphicFramePr>
        <p:xfrm>
          <a:off x="4560840" y="3413160"/>
          <a:ext cx="22320" cy="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0840" y="3413160"/>
                    <a:ext cx="2232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4"/>
          <p:cNvGraphicFramePr/>
          <p:nvPr/>
        </p:nvGraphicFramePr>
        <p:xfrm>
          <a:off x="4560840" y="3413160"/>
          <a:ext cx="22320" cy="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3413160"/>
                    <a:ext cx="22320" cy="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5"/>
          <p:cNvGraphicFramePr/>
          <p:nvPr/>
        </p:nvGraphicFramePr>
        <p:xfrm>
          <a:off x="4560840" y="3413160"/>
          <a:ext cx="22320" cy="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60840" y="3413160"/>
                    <a:ext cx="2232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6"/>
          <p:cNvGraphicFramePr/>
          <p:nvPr/>
        </p:nvGraphicFramePr>
        <p:xfrm>
          <a:off x="4560840" y="3413160"/>
          <a:ext cx="22320" cy="3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60840" y="3413160"/>
                    <a:ext cx="22320" cy="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7"/>
          <p:cNvGraphicFramePr/>
          <p:nvPr/>
        </p:nvGraphicFramePr>
        <p:xfrm>
          <a:off x="4560840" y="3413160"/>
          <a:ext cx="22320" cy="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60840" y="3413160"/>
                    <a:ext cx="2232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8"/>
          <p:cNvGraphicFramePr/>
          <p:nvPr/>
        </p:nvGraphicFramePr>
        <p:xfrm>
          <a:off x="4560840" y="3413160"/>
          <a:ext cx="22320" cy="3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60840" y="3413160"/>
                    <a:ext cx="22320" cy="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9"/>
          <p:cNvGraphicFramePr/>
          <p:nvPr/>
        </p:nvGraphicFramePr>
        <p:xfrm>
          <a:off x="4560840" y="3413160"/>
          <a:ext cx="22320" cy="30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60840" y="3413160"/>
                    <a:ext cx="2232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0"/>
          <p:cNvSpPr/>
          <p:nvPr/>
        </p:nvSpPr>
        <p:spPr>
          <a:xfrm>
            <a:off x="539640" y="3573360"/>
            <a:ext cx="703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1" descr="图片1_副本"/>
          <p:cNvPicPr/>
          <p:nvPr/>
        </p:nvPicPr>
        <p:blipFill>
          <a:blip r:embed="rId15"/>
          <a:stretch/>
        </p:blipFill>
        <p:spPr>
          <a:xfrm>
            <a:off x="1476360" y="1844640"/>
            <a:ext cx="10540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Line 12"/>
          <p:cNvSpPr/>
          <p:nvPr/>
        </p:nvSpPr>
        <p:spPr>
          <a:xfrm>
            <a:off x="2844720" y="2133720"/>
            <a:ext cx="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2844720" y="2276640"/>
            <a:ext cx="23036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5148360" y="2133720"/>
            <a:ext cx="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2844720" y="2925720"/>
            <a:ext cx="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2844720" y="3070080"/>
            <a:ext cx="431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164360" y="292572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5178600" y="2892600"/>
            <a:ext cx="144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 rot="5340000">
            <a:off x="3922560" y="836640"/>
            <a:ext cx="144360" cy="2303280"/>
          </a:xfrm>
          <a:custGeom>
            <a:avLst/>
            <a:gdLst>
              <a:gd name="textAreaLeft" fmla="*/ 92160 w 144360"/>
              <a:gd name="textAreaRight" fmla="*/ 144360 w 14436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348000" y="1341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1"/>
          <p:cNvSpPr/>
          <p:nvPr/>
        </p:nvSpPr>
        <p:spPr>
          <a:xfrm rot="16140000">
            <a:off x="6121080" y="2310840"/>
            <a:ext cx="142920" cy="1946160"/>
          </a:xfrm>
          <a:custGeom>
            <a:avLst/>
            <a:gdLst>
              <a:gd name="textAreaLeft" fmla="*/ 91440 w 142920"/>
              <a:gd name="textAreaRight" fmla="*/ 143280 w 142920"/>
              <a:gd name="textAreaTop" fmla="*/ 50760 h 1946160"/>
              <a:gd name="textAreaBottom" fmla="*/ 1895400 h 19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5508720" y="3429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次比第一次多爬行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3"/>
          <p:cNvSpPr/>
          <p:nvPr/>
        </p:nvSpPr>
        <p:spPr>
          <a:xfrm rot="5400000">
            <a:off x="4929840" y="532440"/>
            <a:ext cx="144360" cy="4317840"/>
          </a:xfrm>
          <a:custGeom>
            <a:avLst/>
            <a:gdLst>
              <a:gd name="textAreaLeft" fmla="*/ 92160 w 144360"/>
              <a:gd name="textAreaRight" fmla="*/ 144360 w 144360"/>
              <a:gd name="textAreaTop" fmla="*/ 112320 h 4317840"/>
              <a:gd name="textAreaBottom" fmla="*/ 4205520 h 43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4140360" y="2133720"/>
            <a:ext cx="14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5" descr="图片1_副本"/>
          <p:cNvPicPr/>
          <p:nvPr/>
        </p:nvPicPr>
        <p:blipFill>
          <a:blip r:embed="rId16"/>
          <a:stretch/>
        </p:blipFill>
        <p:spPr>
          <a:xfrm>
            <a:off x="0" y="18900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随堂练习：</a:t>
            </a:r>
            <a:br>
              <a:rPr sz="4000"/>
            </a:br>
            <a:r>
              <a:rPr b="1" lang="zh-CN" sz="40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化简下列各式。</a:t>
            </a:r>
            <a:endParaRPr b="1" lang="en-US" sz="40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41520" y="1603440"/>
            <a:ext cx="29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568440" y="363996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883040" y="1625760"/>
            <a:ext cx="35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4716360" y="3789360"/>
            <a:ext cx="29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04760" y="2374920"/>
            <a:ext cx="338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03320" y="4546440"/>
            <a:ext cx="396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357800" y="247968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219560" y="4591080"/>
            <a:ext cx="4673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" descr="图片2_副本"/>
          <p:cNvPicPr/>
          <p:nvPr/>
        </p:nvPicPr>
        <p:blipFill>
          <a:blip r:embed="rId1"/>
          <a:stretch/>
        </p:blipFill>
        <p:spPr>
          <a:xfrm>
            <a:off x="179280" y="477720"/>
            <a:ext cx="72072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36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写出下面数量关系的代数式，能化简的要化简。</a:t>
            </a:r>
            <a:endParaRPr b="1" lang="en-US" sz="28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440" y="2219040"/>
            <a:ext cx="682956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）某宾馆某月每天烧煤</a:t>
            </a:r>
            <a:r>
              <a:rPr b="1" i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千克，</a:t>
            </a: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天烧煤都是千克？该月一共烧</a:t>
            </a: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23</a:t>
            </a:r>
            <a:r>
              <a:rPr b="1" lang="zh-CN" sz="2800" spc="-1" strike="noStrike">
                <a:solidFill>
                  <a:srgbClr val="f84b34"/>
                </a:solidFill>
                <a:latin typeface="Times New Roman"/>
                <a:ea typeface="Times New Roman"/>
              </a:rPr>
              <a:t>天，还要烧煤多少千克？</a:t>
            </a:r>
            <a:endParaRPr b="0" lang="en-US" sz="2800" spc="-1" strike="noStrike">
              <a:solidFill>
                <a:srgbClr val="8e6c0b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44680" y="5162400"/>
            <a:ext cx="753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）此宾馆有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人间（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个床位）客房</a:t>
            </a:r>
            <a:r>
              <a:rPr b="1" i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间，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人间客房</a:t>
            </a:r>
            <a:r>
              <a:rPr b="1" i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间。一共有多少个床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44680" y="4645080"/>
            <a:ext cx="25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4311720" y="4645080"/>
            <a:ext cx="41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544680" y="6107040"/>
            <a:ext cx="75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）（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2</a:t>
            </a:r>
            <a:r>
              <a:rPr b="1" i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＋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3</a:t>
            </a:r>
            <a:r>
              <a:rPr b="1" i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）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561960" y="111240"/>
            <a:ext cx="60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随堂练习：：</a:t>
            </a:r>
            <a:r>
              <a:rPr b="0" lang="zh-CN" sz="4000" spc="-1" strike="noStrike">
                <a:solidFill>
                  <a:srgbClr val="43454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e6c0b"/>
                </a:solidFill>
                <a:latin typeface="宋体"/>
              </a:rPr>
              <a:t>巩固练习：化简下面各题。</a:t>
            </a:r>
            <a:endParaRPr b="1" lang="en-US" sz="36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684360" y="1530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50920" y="23432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52520" y="389412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36440" y="4938840"/>
            <a:ext cx="393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5030640" y="1521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9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4587840" y="2332080"/>
            <a:ext cx="382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4998960" y="37782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4597560" y="4527720"/>
            <a:ext cx="4405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例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8e6c0b"/>
                </a:solidFill>
                <a:latin typeface="Times New Roman"/>
                <a:ea typeface="Times New Roman"/>
              </a:rPr>
              <a:t>用代数式表示下图中大长方形的面积。（单位：厘米）</a:t>
            </a:r>
            <a:endParaRPr b="1" lang="en-US" sz="3200" spc="-1" strike="noStrike">
              <a:solidFill>
                <a:srgbClr val="8e6c0b"/>
              </a:solidFill>
              <a:latin typeface="宋体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539640" y="2060640"/>
            <a:ext cx="2880000" cy="1225440"/>
          </a:xfrm>
          <a:prstGeom prst="flowChartProcess">
            <a:avLst/>
          </a:prstGeom>
          <a:solidFill>
            <a:srgbClr val="66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3419640" y="2060640"/>
            <a:ext cx="1008000" cy="1225440"/>
          </a:xfrm>
          <a:prstGeom prst="flowChartProcess">
            <a:avLst/>
          </a:prstGeom>
          <a:solidFill>
            <a:srgbClr val="66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835280" y="3286080"/>
            <a:ext cx="38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93600" y="2414520"/>
            <a:ext cx="3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708360" y="3357720"/>
            <a:ext cx="3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5062680" y="2057400"/>
            <a:ext cx="35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   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7140600" y="2205000"/>
            <a:ext cx="503280" cy="433440"/>
          </a:xfrm>
          <a:prstGeom prst="rect">
            <a:avLst/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996240" y="206064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图片1_副本"/>
          <p:cNvPicPr/>
          <p:nvPr/>
        </p:nvPicPr>
        <p:blipFill>
          <a:blip r:embed="rId1"/>
          <a:stretch/>
        </p:blipFill>
        <p:spPr>
          <a:xfrm>
            <a:off x="34920" y="117360"/>
            <a:ext cx="533520" cy="505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2"/>
          <p:cNvSpPr/>
          <p:nvPr/>
        </p:nvSpPr>
        <p:spPr>
          <a:xfrm>
            <a:off x="898560" y="450216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长方形的面积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806400" y="5600880"/>
            <a:ext cx="381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长方形的面积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4791240" y="452772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4803840" y="5600880"/>
            <a:ext cx="38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939960" y="1476360"/>
            <a:ext cx="773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一辆汽车从甲开往乙地，速度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先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，中途休息后再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，离乙地还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棒 291"/>
          <p:cNvSpPr/>
          <p:nvPr/>
        </p:nvSpPr>
        <p:spPr>
          <a:xfrm>
            <a:off x="1332000" y="3862440"/>
            <a:ext cx="7345440" cy="142920"/>
          </a:xfrm>
          <a:prstGeom prst="roundRect">
            <a:avLst>
              <a:gd name="adj" fmla="val 50000"/>
            </a:avLst>
          </a:prstGeom>
          <a:solidFill>
            <a:srgbClr val="00b0f0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403280" y="3573360"/>
            <a:ext cx="1800360" cy="144720"/>
          </a:xfrm>
          <a:prstGeom prst="rightArrow">
            <a:avLst>
              <a:gd name="adj1" fmla="val 50000"/>
              <a:gd name="adj2" fmla="val 311007"/>
            </a:avLst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3635280" y="4221000"/>
            <a:ext cx="1513080" cy="144720"/>
          </a:xfrm>
          <a:prstGeom prst="rightArrow">
            <a:avLst>
              <a:gd name="adj1" fmla="val 50000"/>
              <a:gd name="adj2" fmla="val 261381"/>
            </a:avLst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1332000" y="4221000"/>
            <a:ext cx="1368360" cy="144720"/>
          </a:xfrm>
          <a:prstGeom prst="leftArrow">
            <a:avLst>
              <a:gd name="adj1" fmla="val 50000"/>
              <a:gd name="adj2" fmla="val 236381"/>
            </a:avLst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2413080" y="4076640"/>
            <a:ext cx="184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驶的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6445080" y="4221000"/>
            <a:ext cx="747720" cy="144720"/>
          </a:xfrm>
          <a:prstGeom prst="rightArrow">
            <a:avLst>
              <a:gd name="adj1" fmla="val 50000"/>
              <a:gd name="adj2" fmla="val 129167"/>
            </a:avLst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5003640" y="4222800"/>
            <a:ext cx="676440" cy="142920"/>
          </a:xfrm>
          <a:prstGeom prst="leftArrow">
            <a:avLst>
              <a:gd name="adj1" fmla="val 50000"/>
              <a:gd name="adj2" fmla="val 118325"/>
            </a:avLst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5003640" y="407664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驶的路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8245440" y="422100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7236000" y="4221000"/>
            <a:ext cx="409320" cy="144720"/>
          </a:xfrm>
          <a:prstGeom prst="leftArrow">
            <a:avLst>
              <a:gd name="adj1" fmla="val 50000"/>
              <a:gd name="adj2" fmla="val 70709"/>
            </a:avLst>
          </a:prstGeom>
          <a:solidFill>
            <a:srgbClr val="f1c341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752472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684360" y="3573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8616960" y="361620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1085760" y="5207040"/>
            <a:ext cx="766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代数式表示甲、乙两地的路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1063800" y="5956200"/>
            <a:ext cx="76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3203640" y="335772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9" descr="图片2_副本"/>
          <p:cNvPicPr/>
          <p:nvPr/>
        </p:nvPicPr>
        <p:blipFill>
          <a:blip r:embed="rId1"/>
          <a:stretch/>
        </p:blipFill>
        <p:spPr>
          <a:xfrm>
            <a:off x="324000" y="477720"/>
            <a:ext cx="77940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20"/>
          <p:cNvSpPr/>
          <p:nvPr/>
        </p:nvSpPr>
        <p:spPr>
          <a:xfrm>
            <a:off x="1116000" y="260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堂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19:59Z</dcterms:created>
  <dc:creator/>
  <dc:description/>
  <cp:keywords/>
  <dc:language>en-US</dc:language>
  <cp:lastModifiedBy/>
  <dcterms:modified xsi:type="dcterms:W3CDTF">2017-12-21T14:15:28Z</dcterms:modified>
  <cp:revision>1</cp:revision>
  <dc:subject/>
  <dc:title/>
</cp:coreProperties>
</file>