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88B-29DD-44A3-AB3C-987E807CA75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2BCF-255C-490B-BA13-C6C176E7002A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181B-A347-42C6-B923-A5F063B85CDF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88F3-5D6C-40F2-8DAE-3CEEF5DE28AD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0E12-BDF0-4E11-BAA7-ADF4F0651DA2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5CCC-A433-451B-85AA-119B6DC4AE47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74AA-FEA6-4720-9804-5F43219806EB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FD83-3646-4F01-A509-DEC5270D507D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2983-CCC5-400D-9555-07FE11A8FC42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687F-88C7-4A76-BAE6-ED645746C767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70F3-5B95-42D0-AC36-1C28907AE32F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1B25-95E6-475E-ADEB-E01C43186690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A60F-50DA-491F-9BCC-E1352DEB0E52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FAC9-2B3B-4C78-A0A0-388CA8283839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7658-1AC7-45D3-A524-D825C5418EBB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19B-F6AB-4142-953F-52F3364539DE}" type="slidenum">
              <a:rPr b="0" lang="zh-CN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3E1-E016-4A13-9540-670D55C3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00B-A872-429C-B810-40042D1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F1B-7557-406B-86AE-06C5214C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211-7A6E-4A77-BD4C-D3580CB1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756A-D0C8-460F-B18D-5DB3966F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4731-53E8-4965-BEC1-8C0F3768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E60A-0FE7-4038-8EFE-60C816B9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DD18-E84A-462B-983E-4AE0D1B0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83F-930F-464A-B3D6-96C51AB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BCC3-0ED7-4DE5-855A-4D288846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F14B-03B2-4709-9730-0725A315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E90-D134-4227-9403-343AC3BB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98D8-87A1-4C44-A323-F9110074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18F96-8AE8-4E48-9066-ADF4259D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EE8F-4162-44AA-91DA-05C293F9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6E0A-9CA7-4968-9A8B-78C22C5D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FD0C-4C75-4214-9490-BD81BE328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69B-A545-41F4-88E4-08BB51E1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3C8-729D-4366-B902-8424FF6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C201-2E7E-4C8F-81DC-145FFC43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06C-E177-42A8-BF51-39652C65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E77-1741-4941-89BD-E873DD82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A4D-DFFB-4E44-9465-5DA1ADD9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6A0-4D5B-42E8-9B60-257F6CC3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200"/>
              <a:ext cx="889200" cy="720360"/>
              <a:chOff x="67680" y="3922200"/>
              <a:chExt cx="889200" cy="72036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440"/>
                <a:ext cx="22824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840" y="4311000"/>
                <a:ext cx="389160" cy="2206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360" y="4155120"/>
                <a:ext cx="40572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600" cy="1004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48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920" y="3847680"/>
                <a:ext cx="6480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400" y="4054320"/>
                <a:ext cx="1834920" cy="1664640"/>
                <a:chOff x="851400" y="4054320"/>
                <a:chExt cx="18349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960" y="3943080"/>
                  <a:ext cx="477360" cy="12236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760" y="4979520"/>
                  <a:ext cx="110520" cy="5011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560" y="5568120"/>
                  <a:ext cx="200880" cy="846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8000" y="6172920"/>
              <a:ext cx="790200" cy="635400"/>
              <a:chOff x="468000" y="6172920"/>
              <a:chExt cx="79020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0880" y="6171840"/>
                <a:ext cx="19764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160" y="6512400"/>
                <a:ext cx="33732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7360" y="6410160"/>
                <a:ext cx="35136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8800" y="1747080"/>
                <a:ext cx="20736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2640" y="2154240"/>
                <a:ext cx="354600" cy="248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360" y="2205720"/>
                <a:ext cx="36936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840" cy="581400"/>
              <a:chOff x="1293840" y="0"/>
              <a:chExt cx="54684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88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3680" y="103320"/>
                <a:ext cx="297000" cy="18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3920" y="489240"/>
                <a:ext cx="30924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54C-A66A-4F0B-966A-E418F42D50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480" cy="6858000"/>
            <a:chOff x="-20160" y="0"/>
            <a:chExt cx="905148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000" y="58680"/>
              <a:ext cx="3622320" cy="6133680"/>
              <a:chOff x="5409000" y="58680"/>
              <a:chExt cx="3622320" cy="613368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240" y="343800"/>
                <a:ext cx="2116080" cy="2357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5880"/>
                <a:ext cx="906480" cy="8434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520" y="2588400"/>
                <a:ext cx="43956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560" y="6706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4560"/>
                <a:ext cx="16344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360" y="1239480"/>
                <a:ext cx="19080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9640" y="2930040"/>
                <a:ext cx="52380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33880" y="1029960"/>
              <a:ext cx="1015920" cy="1261800"/>
              <a:chOff x="4133880" y="1029960"/>
              <a:chExt cx="1015920" cy="126180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48600" y="1068120"/>
                <a:ext cx="28692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32480" y="1601280"/>
                <a:ext cx="489960" cy="316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093920" y="1958400"/>
                <a:ext cx="51048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33280" y="289080"/>
              <a:ext cx="894960" cy="820440"/>
              <a:chOff x="5633280" y="289080"/>
              <a:chExt cx="894960" cy="820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44880" y="778320"/>
                <a:ext cx="179280" cy="36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696640" y="462240"/>
                <a:ext cx="306000" cy="3020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39160" y="38880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3640" y="5276880"/>
              <a:ext cx="1058760" cy="826920"/>
              <a:chOff x="953640" y="5276880"/>
              <a:chExt cx="1058760" cy="8269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4520" y="5541480"/>
                <a:ext cx="25200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74680" y="5749200"/>
                <a:ext cx="43020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000" y="5401440"/>
                <a:ext cx="44856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2800" y="424440"/>
              <a:ext cx="1689840" cy="1145880"/>
              <a:chOff x="352800" y="424440"/>
              <a:chExt cx="1689840" cy="114588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51240" y="104148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998640" y="567360"/>
                <a:ext cx="609120" cy="44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55600" y="1082520"/>
                <a:ext cx="63504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9720"/>
              <a:ext cx="1155960" cy="1607760"/>
              <a:chOff x="7396560" y="3699720"/>
              <a:chExt cx="115596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3360"/>
                <a:ext cx="35676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1280" y="4440960"/>
                <a:ext cx="609120" cy="442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3840" y="3768480"/>
                <a:ext cx="63504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8948-2169-4500-96F7-A6EA9871A8A2}" type="slidenum">
              <a:rPr b="0" lang="zh-CN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2958120" y="20574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3300"/>
                </a:solidFill>
                <a:latin typeface="Times New Roman"/>
              </a:rPr>
              <a:t>认识方程</a:t>
            </a:r>
            <a:endParaRPr b="0" lang="en-US" sz="9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7315200" y="38098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94" name="Group 3"/>
          <p:cNvGrpSpPr/>
          <p:nvPr/>
        </p:nvGrpSpPr>
        <p:grpSpPr>
          <a:xfrm>
            <a:off x="609480" y="2209680"/>
            <a:ext cx="1218960" cy="1371600"/>
            <a:chOff x="609480" y="2209680"/>
            <a:chExt cx="1218960" cy="1371600"/>
          </a:xfrm>
        </p:grpSpPr>
        <p:pic>
          <p:nvPicPr>
            <p:cNvPr id="395" name="Picture 4" descr=""/>
            <p:cNvPicPr/>
            <p:nvPr/>
          </p:nvPicPr>
          <p:blipFill>
            <a:blip r:embed="rId1"/>
            <a:stretch/>
          </p:blipFill>
          <p:spPr>
            <a:xfrm>
              <a:off x="609480" y="2281680"/>
              <a:ext cx="1024560" cy="129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Rectangle 5"/>
            <p:cNvSpPr/>
            <p:nvPr/>
          </p:nvSpPr>
          <p:spPr>
            <a:xfrm>
              <a:off x="1137960" y="2209680"/>
              <a:ext cx="20304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>
              <a:off x="1218960" y="2281680"/>
              <a:ext cx="60948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pic>
        <p:nvPicPr>
          <p:cNvPr id="398" name="Picture 7" descr=""/>
          <p:cNvPicPr/>
          <p:nvPr/>
        </p:nvPicPr>
        <p:blipFill>
          <a:blip r:embed="rId2"/>
          <a:stretch/>
        </p:blipFill>
        <p:spPr>
          <a:xfrm>
            <a:off x="7543800" y="4572000"/>
            <a:ext cx="1109520" cy="121932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8"/>
          <p:cNvSpPr/>
          <p:nvPr/>
        </p:nvSpPr>
        <p:spPr>
          <a:xfrm>
            <a:off x="1752480" y="1523880"/>
            <a:ext cx="4884840" cy="727200"/>
          </a:xfrm>
          <a:prstGeom prst="wedgeRoundRectCallout">
            <a:avLst>
              <a:gd name="adj1" fmla="val -39337"/>
              <a:gd name="adj2" fmla="val 124671"/>
              <a:gd name="adj3" fmla="val 16667"/>
            </a:avLst>
          </a:prstGeom>
          <a:solidFill>
            <a:srgbClr val="edfad2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所有的方程都是等式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795240" y="4844880"/>
            <a:ext cx="12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小红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5670720" y="52261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小明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3105000" y="3314880"/>
            <a:ext cx="4972320" cy="799920"/>
          </a:xfrm>
          <a:prstGeom prst="wedgeRoundRectCallout">
            <a:avLst>
              <a:gd name="adj1" fmla="val 45287"/>
              <a:gd name="adj2" fmla="val 103217"/>
              <a:gd name="adj3" fmla="val 16667"/>
            </a:avLst>
          </a:prstGeom>
          <a:solidFill>
            <a:srgbClr val="edfad2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所有的等式都是方程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1066680" y="0"/>
            <a:ext cx="5181840" cy="990720"/>
          </a:xfrm>
          <a:prstGeom prst="cloudCallout">
            <a:avLst>
              <a:gd name="adj1" fmla="val -57814"/>
              <a:gd name="adj2" fmla="val 83814"/>
            </a:avLst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你来评评理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Oval 2"/>
          <p:cNvSpPr/>
          <p:nvPr/>
        </p:nvSpPr>
        <p:spPr>
          <a:xfrm>
            <a:off x="2209680" y="1905120"/>
            <a:ext cx="5639040" cy="3581280"/>
          </a:xfrm>
          <a:prstGeom prst="ellipse">
            <a:avLst/>
          </a:prstGeom>
          <a:noFill/>
          <a:ln w="316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3657600" y="2133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等    式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Oval 4"/>
          <p:cNvSpPr/>
          <p:nvPr/>
        </p:nvSpPr>
        <p:spPr>
          <a:xfrm>
            <a:off x="3276720" y="2895480"/>
            <a:ext cx="3657600" cy="2057400"/>
          </a:xfrm>
          <a:prstGeom prst="ellipse">
            <a:avLst/>
          </a:prstGeom>
          <a:noFill/>
          <a:ln w="316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657600" y="342900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方    程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8" name="Oval 6"/>
          <p:cNvSpPr/>
          <p:nvPr/>
        </p:nvSpPr>
        <p:spPr>
          <a:xfrm>
            <a:off x="762120" y="914400"/>
            <a:ext cx="8001000" cy="5257800"/>
          </a:xfrm>
          <a:prstGeom prst="ellipse">
            <a:avLst/>
          </a:prstGeom>
          <a:noFill/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3429000" y="10666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式   子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42440" y="102960"/>
            <a:ext cx="8396280" cy="21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从甲地到乙地，水母的速度是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分，章鱼的速度是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米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分，水母先游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分钟，章鱼再从甲地出发，</a:t>
            </a:r>
            <a:r>
              <a:rPr b="1" i="1" lang="zh-CN" sz="2800" spc="-1" strike="noStrike">
                <a:solidFill>
                  <a:srgbClr val="0033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3300"/>
                </a:solidFill>
                <a:latin typeface="宋体"/>
              </a:rPr>
              <a:t>分钟后同时到达乙地</a:t>
            </a:r>
            <a:r>
              <a:rPr b="0" lang="zh-CN" sz="2800" spc="-1" strike="noStrike">
                <a:solidFill>
                  <a:srgbClr val="0066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990720" y="2514600"/>
            <a:ext cx="914400" cy="1143000"/>
            <a:chOff x="990720" y="2514600"/>
            <a:chExt cx="914400" cy="1143000"/>
          </a:xfrm>
        </p:grpSpPr>
        <p:pic>
          <p:nvPicPr>
            <p:cNvPr id="412" name="Picture 4" descr=""/>
            <p:cNvPicPr/>
            <p:nvPr/>
          </p:nvPicPr>
          <p:blipFill>
            <a:blip r:embed="rId1"/>
            <a:stretch/>
          </p:blipFill>
          <p:spPr>
            <a:xfrm>
              <a:off x="990720" y="2574720"/>
              <a:ext cx="768240" cy="10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Rectangle 5"/>
            <p:cNvSpPr/>
            <p:nvPr/>
          </p:nvSpPr>
          <p:spPr>
            <a:xfrm>
              <a:off x="1387080" y="2514600"/>
              <a:ext cx="152280" cy="9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1447920" y="2574720"/>
              <a:ext cx="457200" cy="9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15" name="Text Box 7"/>
          <p:cNvSpPr/>
          <p:nvPr/>
        </p:nvSpPr>
        <p:spPr>
          <a:xfrm>
            <a:off x="2209680" y="2666880"/>
            <a:ext cx="6400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先用代数式分别表示水母、章鱼游的路程，再把两个代数式用等号连接起来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828800" y="4267080"/>
            <a:ext cx="35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水母游的路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4419720" y="4267080"/>
            <a:ext cx="35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章鱼游的路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1860480" y="5111640"/>
            <a:ext cx="35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×12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</a:rPr>
              <a:t>5</a:t>
            </a:r>
            <a:r>
              <a:rPr b="1" i="1" lang="zh-CN" sz="2800" spc="-1" strike="noStrike">
                <a:solidFill>
                  <a:srgbClr val="3399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4343400" y="5105520"/>
            <a:ext cx="35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8</a:t>
            </a:r>
            <a:r>
              <a:rPr b="1" i="1" lang="zh-CN" sz="2800" spc="-1" strike="noStrike">
                <a:solidFill>
                  <a:srgbClr val="006699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3352680" y="5029200"/>
            <a:ext cx="35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21" name="Picture 13" descr="图片2_副本"/>
          <p:cNvPicPr/>
          <p:nvPr/>
        </p:nvPicPr>
        <p:blipFill>
          <a:blip r:embed="rId2"/>
          <a:stretch/>
        </p:blipFill>
        <p:spPr>
          <a:xfrm>
            <a:off x="76320" y="609480"/>
            <a:ext cx="43812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1295280" y="1522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你会根据下面的意思列出方程吗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18288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倍加上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19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，和是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979200" y="914400"/>
            <a:ext cx="6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25" name="Group 5"/>
          <p:cNvGrpSpPr/>
          <p:nvPr/>
        </p:nvGrpSpPr>
        <p:grpSpPr>
          <a:xfrm>
            <a:off x="1100880" y="1981080"/>
            <a:ext cx="5006160" cy="1841400"/>
            <a:chOff x="1100880" y="1981080"/>
            <a:chExt cx="5006160" cy="1841400"/>
          </a:xfrm>
        </p:grpSpPr>
        <p:sp>
          <p:nvSpPr>
            <p:cNvPr id="426" name="Text Box 6"/>
            <p:cNvSpPr/>
            <p:nvPr/>
          </p:nvSpPr>
          <p:spPr>
            <a:xfrm>
              <a:off x="1100880" y="2541600"/>
              <a:ext cx="662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99"/>
                  </a:solidFill>
                  <a:latin typeface="宋体"/>
                </a:rPr>
                <a:t>(</a:t>
              </a:r>
              <a:r>
                <a:rPr b="1" lang="zh-CN" sz="3200" spc="-1" strike="noStrike">
                  <a:solidFill>
                    <a:srgbClr val="006699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6699"/>
                  </a:solidFill>
                  <a:latin typeface="宋体"/>
                </a:rPr>
                <a:t>)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7" name="Line 7"/>
            <p:cNvSpPr/>
            <p:nvPr/>
          </p:nvSpPr>
          <p:spPr>
            <a:xfrm>
              <a:off x="2498760" y="2946240"/>
              <a:ext cx="3581640" cy="0"/>
            </a:xfrm>
            <a:prstGeom prst="line">
              <a:avLst/>
            </a:prstGeom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8" name="AutoShape 8"/>
            <p:cNvSpPr/>
            <p:nvPr/>
          </p:nvSpPr>
          <p:spPr>
            <a:xfrm rot="5400000">
              <a:off x="3299040" y="1765080"/>
              <a:ext cx="380880" cy="198144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51480 h 1981440"/>
                <a:gd name="textAreaBottom" fmla="*/ 1929960 h 198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9" name="AutoShape 9"/>
            <p:cNvSpPr/>
            <p:nvPr/>
          </p:nvSpPr>
          <p:spPr>
            <a:xfrm rot="5400000">
              <a:off x="5101920" y="1942920"/>
              <a:ext cx="317520" cy="1562040"/>
            </a:xfrm>
            <a:custGeom>
              <a:avLst/>
              <a:gdLst>
                <a:gd name="textAreaLeft" fmla="*/ 203040 w 317520"/>
                <a:gd name="textAreaRight" fmla="*/ 317520 w 317520"/>
                <a:gd name="textAreaTop" fmla="*/ 40680 h 1562040"/>
                <a:gd name="textAreaBottom" fmla="*/ 1521360 h 15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0" name="AutoShape 10"/>
            <p:cNvSpPr/>
            <p:nvPr/>
          </p:nvSpPr>
          <p:spPr>
            <a:xfrm rot="16200000">
              <a:off x="4137120" y="1383840"/>
              <a:ext cx="304560" cy="358164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93240 h 3581640"/>
                <a:gd name="textAreaBottom" fmla="*/ 3488400 h 358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92"/>
                  </a:lnTo>
                  <a:cubicBezTo>
                    <a:pt x="10800" y="10292"/>
                    <a:pt x="5400" y="11192"/>
                    <a:pt x="0" y="11192"/>
                  </a:cubicBezTo>
                  <a:cubicBezTo>
                    <a:pt x="5400" y="11192"/>
                    <a:pt x="10800" y="12092"/>
                    <a:pt x="10800" y="1299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1" name="Text Box 11"/>
            <p:cNvSpPr/>
            <p:nvPr/>
          </p:nvSpPr>
          <p:spPr>
            <a:xfrm>
              <a:off x="2710440" y="198108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故事书</a:t>
              </a:r>
              <a:r>
                <a:rPr b="1" i="1" lang="zh-CN" sz="2800" spc="-1" strike="noStrike">
                  <a:solidFill>
                    <a:srgbClr val="006699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本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2" name="Text Box 12"/>
            <p:cNvSpPr/>
            <p:nvPr/>
          </p:nvSpPr>
          <p:spPr>
            <a:xfrm>
              <a:off x="4545360" y="1981080"/>
              <a:ext cx="156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科技书</a:t>
              </a: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15</a:t>
              </a: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本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33" name="Text Box 13"/>
            <p:cNvSpPr/>
            <p:nvPr/>
          </p:nvSpPr>
          <p:spPr>
            <a:xfrm>
              <a:off x="3936240" y="3301920"/>
              <a:ext cx="101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120</a:t>
              </a: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本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4" name="Text Box 14"/>
          <p:cNvSpPr/>
          <p:nvPr/>
        </p:nvSpPr>
        <p:spPr>
          <a:xfrm>
            <a:off x="1207800" y="5029200"/>
            <a:ext cx="6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6699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2971800" y="564840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436" name="Group 16"/>
          <p:cNvGrpSpPr/>
          <p:nvPr/>
        </p:nvGrpSpPr>
        <p:grpSpPr>
          <a:xfrm>
            <a:off x="2438280" y="4267080"/>
            <a:ext cx="3200400" cy="2351520"/>
            <a:chOff x="2438280" y="4267080"/>
            <a:chExt cx="3200400" cy="2351520"/>
          </a:xfrm>
        </p:grpSpPr>
        <p:pic>
          <p:nvPicPr>
            <p:cNvPr id="437" name="Picture 17" descr=""/>
            <p:cNvPicPr/>
            <p:nvPr/>
          </p:nvPicPr>
          <p:blipFill>
            <a:blip r:embed="rId1"/>
            <a:stretch/>
          </p:blipFill>
          <p:spPr>
            <a:xfrm>
              <a:off x="2438280" y="5105160"/>
              <a:ext cx="1600200" cy="102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18" descr="ca23737cff18185929388ae5"/>
            <p:cNvPicPr/>
            <p:nvPr/>
          </p:nvPicPr>
          <p:blipFill>
            <a:blip r:embed="rId2"/>
            <a:stretch/>
          </p:blipFill>
          <p:spPr>
            <a:xfrm>
              <a:off x="4267080" y="5105160"/>
              <a:ext cx="12286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9"/>
            <p:cNvSpPr/>
            <p:nvPr/>
          </p:nvSpPr>
          <p:spPr>
            <a:xfrm>
              <a:off x="3276360" y="4267080"/>
              <a:ext cx="197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99"/>
                  </a:solidFill>
                  <a:latin typeface="Times New Roman"/>
                </a:rPr>
                <a:t>共 </a:t>
              </a:r>
              <a:r>
                <a:rPr b="1" lang="zh-CN" sz="3200" spc="-1" strike="noStrike">
                  <a:solidFill>
                    <a:srgbClr val="006699"/>
                  </a:solidFill>
                  <a:latin typeface="Times New Roman"/>
                </a:rPr>
                <a:t>16 </a:t>
              </a:r>
              <a:r>
                <a:rPr b="1" lang="zh-CN" sz="3200" spc="-1" strike="noStrike">
                  <a:solidFill>
                    <a:srgbClr val="006699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0" name="Text Box 20"/>
            <p:cNvSpPr/>
            <p:nvPr/>
          </p:nvSpPr>
          <p:spPr>
            <a:xfrm>
              <a:off x="4432320" y="6037200"/>
              <a:ext cx="120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99"/>
                  </a:solidFill>
                  <a:latin typeface="Times New Roman"/>
                </a:rPr>
                <a:t>10</a:t>
              </a:r>
              <a:r>
                <a:rPr b="1" lang="zh-CN" sz="3200" spc="-1" strike="noStrike">
                  <a:solidFill>
                    <a:srgbClr val="006699"/>
                  </a:solidFill>
                  <a:latin typeface="Times New Roman"/>
                </a:rPr>
                <a:t>元</a:t>
              </a:r>
              <a:endParaRPr b="0" lang="en-US" sz="32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1" name="AutoShape 21"/>
            <p:cNvSpPr/>
            <p:nvPr/>
          </p:nvSpPr>
          <p:spPr>
            <a:xfrm rot="5400000">
              <a:off x="3790080" y="3448800"/>
              <a:ext cx="304560" cy="30081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78120 h 3008160"/>
                <a:gd name="textAreaBottom" fmla="*/ 2930040 h 30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42" name="Text Box 22"/>
          <p:cNvSpPr/>
          <p:nvPr/>
        </p:nvSpPr>
        <p:spPr>
          <a:xfrm>
            <a:off x="2819520" y="6019920"/>
            <a:ext cx="4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6699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838080" y="15238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</a:t>
            </a: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9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8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4038480" y="5486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914400" y="37339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5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20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/>
          <p:cNvSpPr/>
          <p:nvPr/>
        </p:nvSpPr>
        <p:spPr>
          <a:xfrm>
            <a:off x="1600200" y="457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宋体"/>
              </a:rPr>
              <a:t>你知道吗？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1143000" y="15238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早在三千六百多年前，埃及人就会用方程解决问题了。在我国古代，大约两千年前成书的《九章算术》中，就记载了用一组方程解决实际问题的史料。一直到三百年前，法国的数学家迪卡儿第一个提倡用</a:t>
            </a:r>
            <a:r>
              <a:rPr b="1" i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x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、</a:t>
            </a:r>
            <a:r>
              <a:rPr b="1" i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y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、</a:t>
            </a:r>
            <a:r>
              <a:rPr b="1" i="1" lang="en-US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z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等字母代表未知数，才形成了现在的方程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Times New Roman"/>
              </a:rPr>
              <a:t>课堂小结：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通过今天的学习，你有哪些收获？对于方程，你还有哪些疑惑？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362320" y="48769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一只空杯子</a:t>
            </a:r>
            <a:r>
              <a:rPr b="1" lang="zh-CN" sz="4800" spc="-1" strike="noStrike">
                <a:solidFill>
                  <a:srgbClr val="ff0066"/>
                </a:solidFill>
                <a:latin typeface="宋体"/>
              </a:rPr>
              <a:t>＝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100g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76" name="Group 3"/>
          <p:cNvGrpSpPr/>
          <p:nvPr/>
        </p:nvGrpSpPr>
        <p:grpSpPr>
          <a:xfrm>
            <a:off x="2260440" y="1219320"/>
            <a:ext cx="5638320" cy="1143000"/>
            <a:chOff x="2260440" y="1219320"/>
            <a:chExt cx="5638320" cy="1143000"/>
          </a:xfrm>
        </p:grpSpPr>
        <p:pic>
          <p:nvPicPr>
            <p:cNvPr id="177" name="Picture 4" descr=""/>
            <p:cNvPicPr/>
            <p:nvPr/>
          </p:nvPicPr>
          <p:blipFill>
            <a:blip r:embed="rId1"/>
            <a:stretch/>
          </p:blipFill>
          <p:spPr>
            <a:xfrm>
              <a:off x="2260440" y="1447920"/>
              <a:ext cx="72540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8" name="Group 5"/>
            <p:cNvGrpSpPr/>
            <p:nvPr/>
          </p:nvGrpSpPr>
          <p:grpSpPr>
            <a:xfrm>
              <a:off x="6451560" y="1219320"/>
              <a:ext cx="1447200" cy="1142640"/>
              <a:chOff x="6451560" y="1219320"/>
              <a:chExt cx="1447200" cy="1142640"/>
            </a:xfrm>
          </p:grpSpPr>
          <p:pic>
            <p:nvPicPr>
              <p:cNvPr id="17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451560" y="1219320"/>
                <a:ext cx="837360" cy="11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 Box 7"/>
              <p:cNvSpPr/>
              <p:nvPr/>
            </p:nvSpPr>
            <p:spPr>
              <a:xfrm>
                <a:off x="6453720" y="1775520"/>
                <a:ext cx="144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6699"/>
                    </a:solidFill>
                    <a:latin typeface="Times New Roman"/>
                  </a:rPr>
                  <a:t>100</a:t>
                </a:r>
                <a:r>
                  <a:rPr b="1" lang="zh-CN" sz="2800" spc="-1" strike="noStrike">
                    <a:solidFill>
                      <a:srgbClr val="006699"/>
                    </a:solidFill>
                    <a:latin typeface="Times New Roman"/>
                  </a:rPr>
                  <a:t>克</a:t>
                </a:r>
                <a:endParaRPr b="0" lang="en-US" sz="2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</p:grpSp>
      <p:sp>
        <p:nvSpPr>
          <p:cNvPr id="181" name="Rectangle 8"/>
          <p:cNvSpPr/>
          <p:nvPr/>
        </p:nvSpPr>
        <p:spPr>
          <a:xfrm>
            <a:off x="2489040" y="2743200"/>
            <a:ext cx="4519800" cy="219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32440" y="2438280"/>
            <a:ext cx="18108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3467160" y="2781360"/>
            <a:ext cx="2743200" cy="1065960"/>
            <a:chOff x="3467160" y="2781360"/>
            <a:chExt cx="2743200" cy="1065960"/>
          </a:xfrm>
        </p:grpSpPr>
        <p:grpSp>
          <p:nvGrpSpPr>
            <p:cNvPr id="184" name="Group 11"/>
            <p:cNvGrpSpPr/>
            <p:nvPr/>
          </p:nvGrpSpPr>
          <p:grpSpPr>
            <a:xfrm>
              <a:off x="3467160" y="3260880"/>
              <a:ext cx="2743200" cy="586440"/>
              <a:chOff x="3467160" y="3260880"/>
              <a:chExt cx="2743200" cy="586440"/>
            </a:xfrm>
          </p:grpSpPr>
          <p:sp>
            <p:nvSpPr>
              <p:cNvPr id="185" name="AutoShape 12"/>
              <p:cNvSpPr/>
              <p:nvPr/>
            </p:nvSpPr>
            <p:spPr>
              <a:xfrm flipV="1">
                <a:off x="3467160" y="3260520"/>
                <a:ext cx="2743200" cy="586440"/>
              </a:xfrm>
              <a:prstGeom prst="pie">
                <a:avLst/>
              </a:prstGeom>
              <a:solidFill>
                <a:srgbClr val="66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AutoShape 13"/>
              <p:cNvSpPr/>
              <p:nvPr/>
            </p:nvSpPr>
            <p:spPr>
              <a:xfrm flipV="1">
                <a:off x="3741480" y="3474360"/>
                <a:ext cx="2194560" cy="372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87" name="AutoShape 14"/>
            <p:cNvSpPr/>
            <p:nvPr/>
          </p:nvSpPr>
          <p:spPr>
            <a:xfrm>
              <a:off x="4763160" y="2781360"/>
              <a:ext cx="153000" cy="4798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88" name="AutoShape 15"/>
          <p:cNvSpPr/>
          <p:nvPr/>
        </p:nvSpPr>
        <p:spPr>
          <a:xfrm flipV="1">
            <a:off x="4394160" y="2057400"/>
            <a:ext cx="870120" cy="457200"/>
          </a:xfrm>
          <a:prstGeom prst="flowChartOffpageConnector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1752480" y="2311560"/>
            <a:ext cx="1600200" cy="129960"/>
          </a:xfrm>
          <a:prstGeom prst="pie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4803840" y="2247840"/>
            <a:ext cx="75960" cy="7621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489040" y="2438280"/>
            <a:ext cx="15732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6108840" y="2336760"/>
            <a:ext cx="1600200" cy="130320"/>
          </a:xfrm>
          <a:prstGeom prst="pie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11480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天平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965160" y="304920"/>
            <a:ext cx="269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99"/>
                </a:solidFill>
                <a:latin typeface="宋体"/>
              </a:rPr>
              <a:t>复习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2398680" y="2133720"/>
            <a:ext cx="725400" cy="914400"/>
            <a:chOff x="2398680" y="2133720"/>
            <a:chExt cx="725400" cy="914400"/>
          </a:xfrm>
        </p:grpSpPr>
        <p:pic>
          <p:nvPicPr>
            <p:cNvPr id="196" name="Picture 3" descr=""/>
            <p:cNvPicPr/>
            <p:nvPr/>
          </p:nvPicPr>
          <p:blipFill>
            <a:blip r:embed="rId1"/>
            <a:stretch/>
          </p:blipFill>
          <p:spPr>
            <a:xfrm>
              <a:off x="2398680" y="2133720"/>
              <a:ext cx="725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AutoShape 4"/>
            <p:cNvSpPr/>
            <p:nvPr/>
          </p:nvSpPr>
          <p:spPr>
            <a:xfrm>
              <a:off x="2550960" y="2438640"/>
              <a:ext cx="457200" cy="3045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2525760" y="2387880"/>
              <a:ext cx="485640" cy="7596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99" name="Group 6"/>
          <p:cNvGrpSpPr/>
          <p:nvPr/>
        </p:nvGrpSpPr>
        <p:grpSpPr>
          <a:xfrm>
            <a:off x="6553080" y="1219320"/>
            <a:ext cx="1447560" cy="1142640"/>
            <a:chOff x="6553080" y="1219320"/>
            <a:chExt cx="1447560" cy="1142640"/>
          </a:xfrm>
        </p:grpSpPr>
        <p:pic>
          <p:nvPicPr>
            <p:cNvPr id="200" name="Picture 7" descr=""/>
            <p:cNvPicPr/>
            <p:nvPr/>
          </p:nvPicPr>
          <p:blipFill>
            <a:blip r:embed="rId2"/>
            <a:stretch/>
          </p:blipFill>
          <p:spPr>
            <a:xfrm>
              <a:off x="6553080" y="1219320"/>
              <a:ext cx="83772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8"/>
            <p:cNvSpPr/>
            <p:nvPr/>
          </p:nvSpPr>
          <p:spPr>
            <a:xfrm>
              <a:off x="6555240" y="1775520"/>
              <a:ext cx="144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100</a:t>
              </a:r>
              <a:r>
                <a:rPr b="1" lang="zh-CN" sz="2800" spc="-1" strike="noStrike">
                  <a:solidFill>
                    <a:srgbClr val="006699"/>
                  </a:solidFill>
                  <a:latin typeface="Times New Roman"/>
                </a:rPr>
                <a:t>克</a:t>
              </a:r>
              <a:endParaRPr b="0" lang="en-US" sz="2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02" name="Oval 9"/>
          <p:cNvSpPr/>
          <p:nvPr/>
        </p:nvSpPr>
        <p:spPr>
          <a:xfrm>
            <a:off x="4905360" y="3290760"/>
            <a:ext cx="76320" cy="76320"/>
          </a:xfrm>
          <a:prstGeom prst="ellipse">
            <a:avLst/>
          </a:prstGeom>
          <a:solidFill>
            <a:srgbClr val="0066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700360" y="3124080"/>
            <a:ext cx="15732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7010280" y="2438280"/>
            <a:ext cx="152640" cy="5335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Rectangle 12"/>
          <p:cNvSpPr/>
          <p:nvPr/>
        </p:nvSpPr>
        <p:spPr>
          <a:xfrm rot="21028200">
            <a:off x="2666880" y="3276360"/>
            <a:ext cx="4519800" cy="14292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06" name="Group 13"/>
          <p:cNvGrpSpPr/>
          <p:nvPr/>
        </p:nvGrpSpPr>
        <p:grpSpPr>
          <a:xfrm>
            <a:off x="3581280" y="3124080"/>
            <a:ext cx="2743200" cy="1142640"/>
            <a:chOff x="3581280" y="3124080"/>
            <a:chExt cx="2743200" cy="1142640"/>
          </a:xfrm>
        </p:grpSpPr>
        <p:grpSp>
          <p:nvGrpSpPr>
            <p:cNvPr id="207" name="Group 14"/>
            <p:cNvGrpSpPr/>
            <p:nvPr/>
          </p:nvGrpSpPr>
          <p:grpSpPr>
            <a:xfrm>
              <a:off x="3581280" y="3638160"/>
              <a:ext cx="2743200" cy="628560"/>
              <a:chOff x="3581280" y="3638160"/>
              <a:chExt cx="2743200" cy="628560"/>
            </a:xfrm>
          </p:grpSpPr>
          <p:sp>
            <p:nvSpPr>
              <p:cNvPr id="208" name="AutoShape 15"/>
              <p:cNvSpPr/>
              <p:nvPr/>
            </p:nvSpPr>
            <p:spPr>
              <a:xfrm flipV="1">
                <a:off x="3581280" y="3638160"/>
                <a:ext cx="2743200" cy="628560"/>
              </a:xfrm>
              <a:prstGeom prst="pie">
                <a:avLst/>
              </a:prstGeom>
              <a:solidFill>
                <a:srgbClr val="666699"/>
              </a:solidFill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9" name="AutoShape 16"/>
              <p:cNvSpPr/>
              <p:nvPr/>
            </p:nvSpPr>
            <p:spPr>
              <a:xfrm flipV="1">
                <a:off x="3855600" y="3866760"/>
                <a:ext cx="2194560" cy="3996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10" name="AutoShape 17"/>
            <p:cNvSpPr/>
            <p:nvPr/>
          </p:nvSpPr>
          <p:spPr>
            <a:xfrm>
              <a:off x="4877280" y="3124080"/>
              <a:ext cx="153000" cy="51408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1" name="AutoShape 18"/>
          <p:cNvSpPr/>
          <p:nvPr/>
        </p:nvSpPr>
        <p:spPr>
          <a:xfrm flipV="1">
            <a:off x="4430880" y="2629080"/>
            <a:ext cx="971280" cy="457200"/>
          </a:xfrm>
          <a:prstGeom prst="flowChartOffpageConnector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AutoShape 19"/>
          <p:cNvSpPr/>
          <p:nvPr/>
        </p:nvSpPr>
        <p:spPr>
          <a:xfrm>
            <a:off x="1892160" y="2971800"/>
            <a:ext cx="1752840" cy="157320"/>
          </a:xfrm>
          <a:prstGeom prst="pie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6146640" y="2286000"/>
            <a:ext cx="1702080" cy="152280"/>
          </a:xfrm>
          <a:prstGeom prst="pie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AutoShape 21"/>
          <p:cNvSpPr/>
          <p:nvPr/>
        </p:nvSpPr>
        <p:spPr>
          <a:xfrm rot="21228000">
            <a:off x="4884480" y="2703600"/>
            <a:ext cx="74520" cy="689040"/>
          </a:xfrm>
          <a:prstGeom prst="triangle">
            <a:avLst>
              <a:gd name="adj" fmla="val 0"/>
            </a:avLst>
          </a:prstGeom>
          <a:solidFill>
            <a:srgbClr val="0000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22"/>
          <p:cNvSpPr/>
          <p:nvPr/>
        </p:nvSpPr>
        <p:spPr>
          <a:xfrm>
            <a:off x="1143000" y="45720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一只杯子＋一些水 ﹥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100g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23"/>
          <p:cNvSpPr/>
          <p:nvPr/>
        </p:nvSpPr>
        <p:spPr>
          <a:xfrm>
            <a:off x="2133720" y="571500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100 </a:t>
            </a:r>
            <a:r>
              <a:rPr b="1" lang="zh-CN" sz="4800" spc="-1" strike="noStrike">
                <a:solidFill>
                  <a:srgbClr val="ff0066"/>
                </a:solidFill>
                <a:latin typeface="宋体"/>
              </a:rPr>
              <a:t>＋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zh-CN" sz="4800" spc="-1" strike="noStrike">
                <a:solidFill>
                  <a:srgbClr val="ff0066"/>
                </a:solidFill>
                <a:latin typeface="Times New Roman"/>
              </a:rPr>
              <a:t>x 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</a:rPr>
              <a:t>﹥100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62120" y="22096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×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09480" y="4267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﹤8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09480" y="609588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⑤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×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139720" y="2209680"/>
            <a:ext cx="26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﹥3×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029200" y="40910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＝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181480" y="6095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⑥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4092840" y="2286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根据天平的平行情况，列出式子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57200" y="11430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3048120" y="11430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2590920" y="11430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4800600" y="1295280"/>
            <a:ext cx="38088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5338800" y="12780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879480" y="11430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36480" y="752400"/>
            <a:ext cx="38124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6858000" y="1143000"/>
            <a:ext cx="380880" cy="477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Rectangle 17"/>
          <p:cNvSpPr/>
          <p:nvPr/>
        </p:nvSpPr>
        <p:spPr>
          <a:xfrm>
            <a:off x="7315200" y="1143000"/>
            <a:ext cx="380880" cy="477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Rectangle 18"/>
          <p:cNvSpPr/>
          <p:nvPr/>
        </p:nvSpPr>
        <p:spPr>
          <a:xfrm>
            <a:off x="7061040" y="743040"/>
            <a:ext cx="381240" cy="4777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838080" y="3352680"/>
            <a:ext cx="38124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6699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380880" y="3352680"/>
            <a:ext cx="38124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99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3048120" y="3352680"/>
            <a:ext cx="457200" cy="5335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2362320" y="3352680"/>
            <a:ext cx="457200" cy="53352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Rectangle 23"/>
          <p:cNvSpPr/>
          <p:nvPr/>
        </p:nvSpPr>
        <p:spPr>
          <a:xfrm>
            <a:off x="5410080" y="3048120"/>
            <a:ext cx="38124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6699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Rectangle 24"/>
          <p:cNvSpPr/>
          <p:nvPr/>
        </p:nvSpPr>
        <p:spPr>
          <a:xfrm>
            <a:off x="4952880" y="3048120"/>
            <a:ext cx="38124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99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Rectangle 25"/>
          <p:cNvSpPr/>
          <p:nvPr/>
        </p:nvSpPr>
        <p:spPr>
          <a:xfrm>
            <a:off x="7162920" y="3124080"/>
            <a:ext cx="38088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3048120" y="50292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2590920" y="50292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441360" y="5038560"/>
            <a:ext cx="38088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852480" y="5038560"/>
            <a:ext cx="38088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Rectangle 30"/>
          <p:cNvSpPr/>
          <p:nvPr/>
        </p:nvSpPr>
        <p:spPr>
          <a:xfrm>
            <a:off x="609480" y="4648320"/>
            <a:ext cx="38124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31"/>
          <p:cNvSpPr/>
          <p:nvPr/>
        </p:nvSpPr>
        <p:spPr>
          <a:xfrm>
            <a:off x="5410080" y="4952880"/>
            <a:ext cx="38124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Rectangle 32"/>
          <p:cNvSpPr/>
          <p:nvPr/>
        </p:nvSpPr>
        <p:spPr>
          <a:xfrm>
            <a:off x="4965840" y="4941720"/>
            <a:ext cx="380880" cy="38124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99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7086600" y="50292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7543800" y="5029200"/>
            <a:ext cx="380880" cy="380880"/>
          </a:xfrm>
          <a:prstGeom prst="rect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AutoShape 35"/>
          <p:cNvSpPr/>
          <p:nvPr/>
        </p:nvSpPr>
        <p:spPr>
          <a:xfrm>
            <a:off x="1676520" y="18288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Line 36"/>
          <p:cNvSpPr/>
          <p:nvPr/>
        </p:nvSpPr>
        <p:spPr>
          <a:xfrm>
            <a:off x="762120" y="1828800"/>
            <a:ext cx="2286000" cy="14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Line 37"/>
          <p:cNvSpPr/>
          <p:nvPr/>
        </p:nvSpPr>
        <p:spPr>
          <a:xfrm flipV="1">
            <a:off x="762120" y="152568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Line 38"/>
          <p:cNvSpPr/>
          <p:nvPr/>
        </p:nvSpPr>
        <p:spPr>
          <a:xfrm>
            <a:off x="2411280" y="154296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4" name="Line 39"/>
          <p:cNvSpPr/>
          <p:nvPr/>
        </p:nvSpPr>
        <p:spPr>
          <a:xfrm flipV="1">
            <a:off x="3554280" y="123840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Line 40"/>
          <p:cNvSpPr/>
          <p:nvPr/>
        </p:nvSpPr>
        <p:spPr>
          <a:xfrm flipV="1">
            <a:off x="2411280" y="123840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Line 41"/>
          <p:cNvSpPr/>
          <p:nvPr/>
        </p:nvSpPr>
        <p:spPr>
          <a:xfrm flipV="1">
            <a:off x="3048120" y="1523520"/>
            <a:ext cx="0" cy="3063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Line 42"/>
          <p:cNvSpPr/>
          <p:nvPr/>
        </p:nvSpPr>
        <p:spPr>
          <a:xfrm>
            <a:off x="252360" y="150804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Line 43"/>
          <p:cNvSpPr/>
          <p:nvPr/>
        </p:nvSpPr>
        <p:spPr>
          <a:xfrm flipV="1">
            <a:off x="1395360" y="120348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Line 44"/>
          <p:cNvSpPr/>
          <p:nvPr/>
        </p:nvSpPr>
        <p:spPr>
          <a:xfrm flipV="1">
            <a:off x="252360" y="120348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1711440" y="400536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Line 46"/>
          <p:cNvSpPr/>
          <p:nvPr/>
        </p:nvSpPr>
        <p:spPr>
          <a:xfrm>
            <a:off x="762120" y="3962520"/>
            <a:ext cx="2327040" cy="1872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Line 47"/>
          <p:cNvSpPr/>
          <p:nvPr/>
        </p:nvSpPr>
        <p:spPr>
          <a:xfrm flipV="1">
            <a:off x="797040" y="3701520"/>
            <a:ext cx="144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Line 48"/>
          <p:cNvSpPr/>
          <p:nvPr/>
        </p:nvSpPr>
        <p:spPr>
          <a:xfrm>
            <a:off x="2209680" y="3886200"/>
            <a:ext cx="1371600" cy="14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Line 49"/>
          <p:cNvSpPr/>
          <p:nvPr/>
        </p:nvSpPr>
        <p:spPr>
          <a:xfrm flipV="1">
            <a:off x="3581280" y="3505320"/>
            <a:ext cx="0" cy="428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Line 50"/>
          <p:cNvSpPr/>
          <p:nvPr/>
        </p:nvSpPr>
        <p:spPr>
          <a:xfrm flipV="1">
            <a:off x="2209680" y="3505320"/>
            <a:ext cx="0" cy="4284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Line 51"/>
          <p:cNvSpPr/>
          <p:nvPr/>
        </p:nvSpPr>
        <p:spPr>
          <a:xfrm flipV="1">
            <a:off x="3084480" y="3700440"/>
            <a:ext cx="0" cy="4269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Line 52"/>
          <p:cNvSpPr/>
          <p:nvPr/>
        </p:nvSpPr>
        <p:spPr>
          <a:xfrm>
            <a:off x="304920" y="3733920"/>
            <a:ext cx="1143000" cy="14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Line 53"/>
          <p:cNvSpPr/>
          <p:nvPr/>
        </p:nvSpPr>
        <p:spPr>
          <a:xfrm flipV="1">
            <a:off x="1447920" y="3428640"/>
            <a:ext cx="0" cy="3063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Line 54"/>
          <p:cNvSpPr/>
          <p:nvPr/>
        </p:nvSpPr>
        <p:spPr>
          <a:xfrm flipV="1">
            <a:off x="304920" y="3428640"/>
            <a:ext cx="0" cy="3063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55"/>
          <p:cNvSpPr/>
          <p:nvPr/>
        </p:nvSpPr>
        <p:spPr>
          <a:xfrm>
            <a:off x="6019920" y="1981080"/>
            <a:ext cx="38088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1" name="Line 56"/>
          <p:cNvSpPr/>
          <p:nvPr/>
        </p:nvSpPr>
        <p:spPr>
          <a:xfrm flipV="1">
            <a:off x="5105520" y="1828440"/>
            <a:ext cx="2287440" cy="22860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Line 57"/>
          <p:cNvSpPr/>
          <p:nvPr/>
        </p:nvSpPr>
        <p:spPr>
          <a:xfrm flipV="1">
            <a:off x="5137200" y="173052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Line 58"/>
          <p:cNvSpPr/>
          <p:nvPr/>
        </p:nvSpPr>
        <p:spPr>
          <a:xfrm>
            <a:off x="6781680" y="161280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Line 59"/>
          <p:cNvSpPr/>
          <p:nvPr/>
        </p:nvSpPr>
        <p:spPr>
          <a:xfrm flipV="1">
            <a:off x="7924680" y="130824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" name="Line 60"/>
          <p:cNvSpPr/>
          <p:nvPr/>
        </p:nvSpPr>
        <p:spPr>
          <a:xfrm flipV="1">
            <a:off x="6781680" y="130824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Line 61"/>
          <p:cNvSpPr/>
          <p:nvPr/>
        </p:nvSpPr>
        <p:spPr>
          <a:xfrm flipV="1">
            <a:off x="7418520" y="1595520"/>
            <a:ext cx="144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" name="Line 62"/>
          <p:cNvSpPr/>
          <p:nvPr/>
        </p:nvSpPr>
        <p:spPr>
          <a:xfrm>
            <a:off x="4627440" y="171288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Line 63"/>
          <p:cNvSpPr/>
          <p:nvPr/>
        </p:nvSpPr>
        <p:spPr>
          <a:xfrm flipV="1">
            <a:off x="5770440" y="1407600"/>
            <a:ext cx="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Line 64"/>
          <p:cNvSpPr/>
          <p:nvPr/>
        </p:nvSpPr>
        <p:spPr>
          <a:xfrm flipV="1">
            <a:off x="4627440" y="1407600"/>
            <a:ext cx="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AutoShape 65"/>
          <p:cNvSpPr/>
          <p:nvPr/>
        </p:nvSpPr>
        <p:spPr>
          <a:xfrm>
            <a:off x="6083280" y="377820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Line 66"/>
          <p:cNvSpPr/>
          <p:nvPr/>
        </p:nvSpPr>
        <p:spPr>
          <a:xfrm>
            <a:off x="5168880" y="3778200"/>
            <a:ext cx="2286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Line 67"/>
          <p:cNvSpPr/>
          <p:nvPr/>
        </p:nvSpPr>
        <p:spPr>
          <a:xfrm flipV="1">
            <a:off x="5168880" y="3472920"/>
            <a:ext cx="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Line 68"/>
          <p:cNvSpPr/>
          <p:nvPr/>
        </p:nvSpPr>
        <p:spPr>
          <a:xfrm>
            <a:off x="6816600" y="349092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Line 69"/>
          <p:cNvSpPr/>
          <p:nvPr/>
        </p:nvSpPr>
        <p:spPr>
          <a:xfrm flipV="1">
            <a:off x="7959600" y="3185640"/>
            <a:ext cx="180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Line 70"/>
          <p:cNvSpPr/>
          <p:nvPr/>
        </p:nvSpPr>
        <p:spPr>
          <a:xfrm flipV="1">
            <a:off x="6816600" y="3185640"/>
            <a:ext cx="180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Line 71"/>
          <p:cNvSpPr/>
          <p:nvPr/>
        </p:nvSpPr>
        <p:spPr>
          <a:xfrm flipV="1">
            <a:off x="7454880" y="3472920"/>
            <a:ext cx="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Line 72"/>
          <p:cNvSpPr/>
          <p:nvPr/>
        </p:nvSpPr>
        <p:spPr>
          <a:xfrm>
            <a:off x="4657680" y="345600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Line 73"/>
          <p:cNvSpPr/>
          <p:nvPr/>
        </p:nvSpPr>
        <p:spPr>
          <a:xfrm flipV="1">
            <a:off x="5800680" y="3150720"/>
            <a:ext cx="180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Line 74"/>
          <p:cNvSpPr/>
          <p:nvPr/>
        </p:nvSpPr>
        <p:spPr>
          <a:xfrm flipV="1">
            <a:off x="4657680" y="3150720"/>
            <a:ext cx="180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AutoShape 75"/>
          <p:cNvSpPr/>
          <p:nvPr/>
        </p:nvSpPr>
        <p:spPr>
          <a:xfrm>
            <a:off x="6188040" y="5708520"/>
            <a:ext cx="380880" cy="381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Line 76"/>
          <p:cNvSpPr/>
          <p:nvPr/>
        </p:nvSpPr>
        <p:spPr>
          <a:xfrm>
            <a:off x="5273640" y="5708520"/>
            <a:ext cx="2286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2" name="Line 77"/>
          <p:cNvSpPr/>
          <p:nvPr/>
        </p:nvSpPr>
        <p:spPr>
          <a:xfrm flipV="1">
            <a:off x="5273640" y="540396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Line 78"/>
          <p:cNvSpPr/>
          <p:nvPr/>
        </p:nvSpPr>
        <p:spPr>
          <a:xfrm>
            <a:off x="6921360" y="542124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Line 79"/>
          <p:cNvSpPr/>
          <p:nvPr/>
        </p:nvSpPr>
        <p:spPr>
          <a:xfrm flipV="1">
            <a:off x="8064360" y="5116680"/>
            <a:ext cx="180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Line 80"/>
          <p:cNvSpPr/>
          <p:nvPr/>
        </p:nvSpPr>
        <p:spPr>
          <a:xfrm flipV="1">
            <a:off x="6921360" y="5116680"/>
            <a:ext cx="180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Line 81"/>
          <p:cNvSpPr/>
          <p:nvPr/>
        </p:nvSpPr>
        <p:spPr>
          <a:xfrm flipV="1">
            <a:off x="7559640" y="5403960"/>
            <a:ext cx="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Line 82"/>
          <p:cNvSpPr/>
          <p:nvPr/>
        </p:nvSpPr>
        <p:spPr>
          <a:xfrm>
            <a:off x="4762440" y="538632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Line 83"/>
          <p:cNvSpPr/>
          <p:nvPr/>
        </p:nvSpPr>
        <p:spPr>
          <a:xfrm flipV="1">
            <a:off x="5905440" y="5081760"/>
            <a:ext cx="180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Line 84"/>
          <p:cNvSpPr/>
          <p:nvPr/>
        </p:nvSpPr>
        <p:spPr>
          <a:xfrm flipV="1">
            <a:off x="4762440" y="5081760"/>
            <a:ext cx="1800" cy="3045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85"/>
          <p:cNvSpPr/>
          <p:nvPr/>
        </p:nvSpPr>
        <p:spPr>
          <a:xfrm>
            <a:off x="1695600" y="5726160"/>
            <a:ext cx="380880" cy="3808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Line 86"/>
          <p:cNvSpPr/>
          <p:nvPr/>
        </p:nvSpPr>
        <p:spPr>
          <a:xfrm>
            <a:off x="781200" y="5726160"/>
            <a:ext cx="2286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Line 87"/>
          <p:cNvSpPr/>
          <p:nvPr/>
        </p:nvSpPr>
        <p:spPr>
          <a:xfrm flipV="1">
            <a:off x="781200" y="5420880"/>
            <a:ext cx="0" cy="30636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Line 88"/>
          <p:cNvSpPr/>
          <p:nvPr/>
        </p:nvSpPr>
        <p:spPr>
          <a:xfrm>
            <a:off x="2428920" y="543888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Line 89"/>
          <p:cNvSpPr/>
          <p:nvPr/>
        </p:nvSpPr>
        <p:spPr>
          <a:xfrm flipV="1">
            <a:off x="3571920" y="5133600"/>
            <a:ext cx="144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Line 90"/>
          <p:cNvSpPr/>
          <p:nvPr/>
        </p:nvSpPr>
        <p:spPr>
          <a:xfrm flipV="1">
            <a:off x="2428920" y="5133600"/>
            <a:ext cx="144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Line 91"/>
          <p:cNvSpPr/>
          <p:nvPr/>
        </p:nvSpPr>
        <p:spPr>
          <a:xfrm flipV="1">
            <a:off x="3067200" y="5420880"/>
            <a:ext cx="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Line 92"/>
          <p:cNvSpPr/>
          <p:nvPr/>
        </p:nvSpPr>
        <p:spPr>
          <a:xfrm>
            <a:off x="270000" y="5403960"/>
            <a:ext cx="1143000" cy="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Line 93"/>
          <p:cNvSpPr/>
          <p:nvPr/>
        </p:nvSpPr>
        <p:spPr>
          <a:xfrm flipV="1">
            <a:off x="1413000" y="5098680"/>
            <a:ext cx="144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Line 94"/>
          <p:cNvSpPr/>
          <p:nvPr/>
        </p:nvSpPr>
        <p:spPr>
          <a:xfrm flipV="1">
            <a:off x="270000" y="5098680"/>
            <a:ext cx="1440" cy="30492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0" name="Picture 95" descr="图片1_副本"/>
          <p:cNvPicPr/>
          <p:nvPr/>
        </p:nvPicPr>
        <p:blipFill>
          <a:blip r:embed="rId1"/>
          <a:stretch/>
        </p:blipFill>
        <p:spPr>
          <a:xfrm>
            <a:off x="457200" y="228600"/>
            <a:ext cx="5428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53352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宋体"/>
              </a:rPr>
              <a:t>把下面的式子分成两类，可以怎样分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5194800" y="1295280"/>
            <a:ext cx="26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Wingdings"/>
                <a:ea typeface="Wingdings"/>
              </a:rPr>
              <a:t>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﹥3×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5105520" y="1905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533520" y="1295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Wingdings"/>
                <a:ea typeface="Wingdings"/>
              </a:rPr>
              <a:t>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×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533520" y="18288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Wingdings"/>
                <a:ea typeface="Wingdings"/>
              </a:rPr>
              <a:t>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50﹤8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5105520" y="24382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⑥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17" name="Object 8"/>
          <p:cNvGraphicFramePr/>
          <p:nvPr/>
        </p:nvGraphicFramePr>
        <p:xfrm>
          <a:off x="152280" y="685800"/>
          <a:ext cx="4590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459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9"/>
          <p:cNvGraphicFramePr/>
          <p:nvPr/>
        </p:nvGraphicFramePr>
        <p:xfrm>
          <a:off x="762120" y="3124080"/>
          <a:ext cx="72396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124080"/>
                    <a:ext cx="7239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10"/>
          <p:cNvGraphicFramePr/>
          <p:nvPr/>
        </p:nvGraphicFramePr>
        <p:xfrm>
          <a:off x="7391520" y="2895480"/>
          <a:ext cx="10303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2895480"/>
                    <a:ext cx="10303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11"/>
          <p:cNvSpPr/>
          <p:nvPr/>
        </p:nvSpPr>
        <p:spPr>
          <a:xfrm>
            <a:off x="1676520" y="3276720"/>
            <a:ext cx="27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分成相等与不相等两类。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4829040" y="3233880"/>
            <a:ext cx="270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914400" y="4421160"/>
            <a:ext cx="716292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Line 14"/>
          <p:cNvSpPr/>
          <p:nvPr/>
        </p:nvSpPr>
        <p:spPr>
          <a:xfrm>
            <a:off x="914400" y="6300720"/>
            <a:ext cx="7162920" cy="18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Line 15"/>
          <p:cNvSpPr/>
          <p:nvPr/>
        </p:nvSpPr>
        <p:spPr>
          <a:xfrm>
            <a:off x="914400" y="5105520"/>
            <a:ext cx="7162920" cy="144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Line 16"/>
          <p:cNvSpPr/>
          <p:nvPr/>
        </p:nvSpPr>
        <p:spPr>
          <a:xfrm>
            <a:off x="914400" y="5746680"/>
            <a:ext cx="7162920" cy="180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Line 18"/>
          <p:cNvSpPr/>
          <p:nvPr/>
        </p:nvSpPr>
        <p:spPr>
          <a:xfrm flipH="1">
            <a:off x="914400" y="4419720"/>
            <a:ext cx="1440" cy="1904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Line 20"/>
          <p:cNvSpPr/>
          <p:nvPr/>
        </p:nvSpPr>
        <p:spPr>
          <a:xfrm flipH="1">
            <a:off x="2895120" y="4419720"/>
            <a:ext cx="1800" cy="1904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Line 22"/>
          <p:cNvSpPr/>
          <p:nvPr/>
        </p:nvSpPr>
        <p:spPr>
          <a:xfrm flipH="1">
            <a:off x="5562720" y="4419720"/>
            <a:ext cx="1440" cy="1904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Line 24"/>
          <p:cNvSpPr/>
          <p:nvPr/>
        </p:nvSpPr>
        <p:spPr>
          <a:xfrm>
            <a:off x="8077320" y="4419720"/>
            <a:ext cx="0" cy="1904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1219320" y="5181480"/>
            <a:ext cx="14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相等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Text Box 26"/>
          <p:cNvSpPr/>
          <p:nvPr/>
        </p:nvSpPr>
        <p:spPr>
          <a:xfrm>
            <a:off x="1187280" y="5811840"/>
            <a:ext cx="14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不相等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3200400" y="4495680"/>
            <a:ext cx="21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含有未知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5562720" y="4572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不含未知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3048120" y="530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④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89280" y="530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⑤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4471920" y="530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⑥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330960" y="527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①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Text Box 33"/>
          <p:cNvSpPr/>
          <p:nvPr/>
        </p:nvSpPr>
        <p:spPr>
          <a:xfrm>
            <a:off x="6400800" y="57913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Wingdings"/>
                <a:ea typeface="Wingdings"/>
              </a:rPr>
              <a:t>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533520" y="24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×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Text Box 35"/>
          <p:cNvSpPr/>
          <p:nvPr/>
        </p:nvSpPr>
        <p:spPr>
          <a:xfrm>
            <a:off x="3657600" y="5791320"/>
            <a:ext cx="6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4" name="Picture 36" descr="图片1_副本"/>
          <p:cNvPicPr/>
          <p:nvPr/>
        </p:nvPicPr>
        <p:blipFill>
          <a:blip r:embed="rId7"/>
          <a:stretch/>
        </p:blipFill>
        <p:spPr>
          <a:xfrm>
            <a:off x="228600" y="3276720"/>
            <a:ext cx="5335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>
            <a:hlinkClick r:id="rId1" action="ppaction://hlinksldjump"/>
          </p:cNvPr>
          <p:cNvSpPr/>
          <p:nvPr/>
        </p:nvSpPr>
        <p:spPr>
          <a:xfrm>
            <a:off x="10666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等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09480" y="22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609480" y="1523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Wingdings"/>
                <a:ea typeface="Wingdings"/>
              </a:rPr>
              <a:t>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×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094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⑥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609480" y="2895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×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0" name="Text Box 7">
            <a:hlinkClick r:id="rId2" action="ppaction://hlinksldjump"/>
          </p:cNvPr>
          <p:cNvSpPr/>
          <p:nvPr/>
        </p:nvSpPr>
        <p:spPr>
          <a:xfrm>
            <a:off x="4191120" y="5335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含有未知数的等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4952880" y="14479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4952880" y="2743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⑥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133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×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54" name="Object 11"/>
          <p:cNvGraphicFramePr/>
          <p:nvPr/>
        </p:nvGraphicFramePr>
        <p:xfrm>
          <a:off x="990720" y="4419720"/>
          <a:ext cx="72396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419720"/>
                    <a:ext cx="7239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Text Box 12"/>
          <p:cNvSpPr/>
          <p:nvPr/>
        </p:nvSpPr>
        <p:spPr>
          <a:xfrm>
            <a:off x="1905120" y="4495680"/>
            <a:ext cx="5943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像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＝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×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＝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，</a:t>
            </a:r>
            <a:r>
              <a:rPr b="1" i="1" lang="zh-CN" sz="2800" spc="-1" strike="noStrike">
                <a:solidFill>
                  <a:srgbClr val="ff0066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＋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这样含有未知数的等式叫方程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>
            <a:hlinkClick r:id="rId1" action="ppaction://hlinksldjump"/>
          </p:cNvPr>
          <p:cNvSpPr/>
          <p:nvPr/>
        </p:nvSpPr>
        <p:spPr>
          <a:xfrm>
            <a:off x="1066680" y="533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等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5562720" y="4572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方程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609480" y="2209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x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609480" y="1523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Wingdings"/>
                <a:ea typeface="Wingdings"/>
              </a:rPr>
              <a:t>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3×4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×2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6094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⑥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609480" y="2895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99"/>
                </a:solidFill>
                <a:latin typeface="Times New Roman"/>
              </a:rPr>
              <a:t>⑤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7×2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＝</a:t>
            </a:r>
            <a:r>
              <a:rPr b="1" i="1" lang="zh-CN" sz="2800" spc="-1" strike="noStrike">
                <a:solidFill>
                  <a:srgbClr val="ff33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＋</a:t>
            </a: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363" name="Object 8"/>
          <p:cNvGraphicFramePr/>
          <p:nvPr/>
        </p:nvGraphicFramePr>
        <p:xfrm>
          <a:off x="762120" y="4495680"/>
          <a:ext cx="72396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495680"/>
                    <a:ext cx="72396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Text Box 9"/>
          <p:cNvSpPr/>
          <p:nvPr/>
        </p:nvSpPr>
        <p:spPr>
          <a:xfrm>
            <a:off x="1676520" y="4648320"/>
            <a:ext cx="29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方程和等式之间的关系可以用右图表示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4952880" y="4267080"/>
            <a:ext cx="2819520" cy="17528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7" name="Oval 11"/>
          <p:cNvSpPr/>
          <p:nvPr/>
        </p:nvSpPr>
        <p:spPr>
          <a:xfrm>
            <a:off x="5486400" y="4876920"/>
            <a:ext cx="1676520" cy="114300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5867280" y="43434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等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Text Box 13"/>
          <p:cNvSpPr/>
          <p:nvPr/>
        </p:nvSpPr>
        <p:spPr>
          <a:xfrm>
            <a:off x="5943600" y="5181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</a:rPr>
              <a:t>方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25 0 E">
                                      <p:cBhvr>
                                        <p:cTn id="303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25 0 E">
                                      <p:cBhvr>
                                        <p:cTn id="305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25 0 E">
                                      <p:cBhvr>
                                        <p:cTn id="307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52280" y="533520"/>
            <a:ext cx="868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下列式子哪些是方程？哪些不是程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80880" y="53341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⑥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－</a:t>
            </a:r>
            <a:r>
              <a:rPr b="1" i="1" lang="zh-CN" sz="3200" spc="-1" strike="noStrike">
                <a:solidFill>
                  <a:srgbClr val="3399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（       ）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380880" y="15238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①</a:t>
            </a:r>
            <a:r>
              <a:rPr b="0" lang="zh-CN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－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＝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(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380880" y="2286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16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＋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25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(     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80880" y="46483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⑤</a:t>
            </a:r>
            <a:r>
              <a:rPr b="0" lang="zh-CN" sz="3600" spc="-1" strike="noStrike">
                <a:solidFill>
                  <a:srgbClr val="0066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15÷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 (      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380880" y="30481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9m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－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(      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80880" y="38862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12</a:t>
            </a:r>
            <a:r>
              <a:rPr b="1" i="1" lang="zh-CN" sz="3600" spc="-1" strike="noStrike">
                <a:solidFill>
                  <a:srgbClr val="3399ff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＝</a:t>
            </a: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84 </a:t>
            </a:r>
            <a:r>
              <a:rPr b="1" lang="zh-CN" sz="3600" spc="-1" strike="noStrike">
                <a:solidFill>
                  <a:srgbClr val="3399ff"/>
                </a:solidFill>
                <a:latin typeface="宋体"/>
              </a:rPr>
              <a:t>(     )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124080" y="2286000"/>
            <a:ext cx="161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不是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2743200" y="39625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666880" y="15238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3429000" y="4648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是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2286000" y="3048120"/>
            <a:ext cx="161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不是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15"/>
          <p:cNvSpPr/>
          <p:nvPr/>
        </p:nvSpPr>
        <p:spPr>
          <a:xfrm>
            <a:off x="304920" y="609480"/>
            <a:ext cx="86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这几个式子为什么不是方程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3" name="Picture 16" descr="图片2_副本"/>
          <p:cNvPicPr/>
          <p:nvPr/>
        </p:nvPicPr>
        <p:blipFill>
          <a:blip r:embed="rId1"/>
          <a:stretch/>
        </p:blipFill>
        <p:spPr>
          <a:xfrm>
            <a:off x="179280" y="189000"/>
            <a:ext cx="438120" cy="485640"/>
          </a:xfrm>
          <a:prstGeom prst="rect">
            <a:avLst/>
          </a:prstGeom>
          <a:ln w="0">
            <a:noFill/>
          </a:ln>
        </p:spPr>
      </p:pic>
      <p:sp>
        <p:nvSpPr>
          <p:cNvPr id="384" name="矩形 18"/>
          <p:cNvSpPr/>
          <p:nvPr/>
        </p:nvSpPr>
        <p:spPr>
          <a:xfrm>
            <a:off x="2857680" y="5410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是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7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457200" y="14479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</a:rPr>
              <a:t>下面这两个式子有一部分被遮住了，你能猜出它原来是方程吗？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2057400" y="4419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②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30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＋          ＝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78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387" name="Group 4"/>
          <p:cNvGrpSpPr/>
          <p:nvPr/>
        </p:nvGrpSpPr>
        <p:grpSpPr>
          <a:xfrm>
            <a:off x="1371600" y="380880"/>
            <a:ext cx="2743200" cy="990720"/>
            <a:chOff x="1371600" y="380880"/>
            <a:chExt cx="2743200" cy="990720"/>
          </a:xfrm>
        </p:grpSpPr>
        <p:sp>
          <p:nvSpPr>
            <p:cNvPr id="388" name="Text Box 5"/>
            <p:cNvSpPr/>
            <p:nvPr/>
          </p:nvSpPr>
          <p:spPr>
            <a:xfrm>
              <a:off x="1447920" y="431640"/>
              <a:ext cx="2666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3399ff"/>
                  </a:solidFill>
                  <a:latin typeface="Times New Roman"/>
                </a:rPr>
                <a:t>猜一猜</a:t>
              </a:r>
              <a:endParaRPr b="0" lang="en-US" sz="4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9" name="AutoShape 6"/>
            <p:cNvSpPr/>
            <p:nvPr/>
          </p:nvSpPr>
          <p:spPr>
            <a:xfrm>
              <a:off x="1371600" y="380880"/>
              <a:ext cx="2438280" cy="990720"/>
            </a:xfrm>
            <a:custGeom>
              <a:avLst/>
              <a:gdLst>
                <a:gd name="textAreaLeft" fmla="*/ 294120 w 2438280"/>
                <a:gd name="textAreaRight" fmla="*/ 2732760 w 2438280"/>
                <a:gd name="textAreaTop" fmla="*/ 184680 h 990720"/>
                <a:gd name="textAreaBottom" fmla="*/ 8060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606" y="2014"/>
                  </a:moveTo>
                  <a:cubicBezTo>
                    <a:pt x="8503" y="-5121"/>
                    <a:pt x="15703" y="9149"/>
                    <a:pt x="21600" y="2014"/>
                  </a:cubicBezTo>
                  <a:lnTo>
                    <a:pt x="18994" y="19586"/>
                  </a:lnTo>
                  <a:cubicBezTo>
                    <a:pt x="13097" y="26721"/>
                    <a:pt x="5897" y="12451"/>
                    <a:pt x="0" y="19586"/>
                  </a:cubicBezTo>
                  <a:close/>
                </a:path>
              </a:pathLst>
            </a:custGeom>
            <a:noFill/>
            <a:ln w="349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90" name="Text Box 7"/>
          <p:cNvSpPr/>
          <p:nvPr/>
        </p:nvSpPr>
        <p:spPr>
          <a:xfrm>
            <a:off x="2057400" y="31240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①  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12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－           ＝ </a:t>
            </a:r>
            <a:r>
              <a:rPr b="1" lang="zh-CN" sz="3600" spc="-1" strike="noStrike">
                <a:solidFill>
                  <a:srgbClr val="006699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1" name="AutoShape 8"/>
          <p:cNvSpPr/>
          <p:nvPr/>
        </p:nvSpPr>
        <p:spPr>
          <a:xfrm>
            <a:off x="4191120" y="304812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9"/>
          <p:cNvSpPr/>
          <p:nvPr/>
        </p:nvSpPr>
        <p:spPr>
          <a:xfrm>
            <a:off x="3809880" y="44197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6T08:30:25Z</dcterms:created>
  <dc:creator/>
  <dc:description/>
  <cp:keywords/>
  <dc:language>en-US</dc:language>
  <cp:lastModifiedBy/>
  <dcterms:modified xsi:type="dcterms:W3CDTF">2017-12-21T14:15:34Z</dcterms:modified>
  <cp:revision>1</cp:revision>
  <dc:subject/>
  <dc:title/>
</cp:coreProperties>
</file>