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media/push.wav" ContentType="audio/x-wav"/>
  <Override PartName="/ppt/media/breeze.wav" ContentType="audio/x-wav"/>
  <Override PartName="/ppt/media/wind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EEF7-6626-499E-8F07-C207C5A9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DE9-3A13-408A-99AE-B846D8F7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D034-47E8-43E1-BCC9-CD7DDBA2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A659-5016-4096-994D-5E41C773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7161-9E34-4EE7-B3DE-40A7FB25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7B81-C807-4228-892C-B688A60B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CA17-2414-486C-A217-C0CA5657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E43D-A06E-460C-BF84-7166F170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5194-2BD3-4482-B120-E90E3B12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177E-7FAD-4423-89F5-7CB72A89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3535-B278-4C5A-8925-B835064B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E64-F6A5-405B-BCAA-A936C13E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28B1-5F6F-437F-9F6B-36A5DE3C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7AB8-6E39-4079-96FE-C1D226AB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84BA-E4AE-4CF7-81EA-BD978F97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B13F-6F75-4200-8E6D-D4749E72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B24E-768D-4677-A29E-3930CEF1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C74-F66C-4291-A5E3-E2BD3454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BEF6-E33C-4567-A275-FB10C82D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C95E-E75F-4936-A700-7FF687A2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C7E4-C228-4875-96D2-A19B8473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79F-6334-4652-89E2-7E70F2B1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FB80-C0D6-4B33-8863-D7ECB83B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5E90-76F2-43AC-8042-347CED70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ED23-3629-4178-A45E-7A939D1B5B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8CAB-B382-4AE6-A22B-325D43332E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push.wav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push.wav"/><Relationship Id="rId3" Type="http://schemas.openxmlformats.org/officeDocument/2006/relationships/audio" Target="../media/push.wav"/><Relationship Id="rId4" Type="http://schemas.openxmlformats.org/officeDocument/2006/relationships/audio" Target="../media/push.wav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audio" Target="../media/breeze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197080" y="1701360"/>
            <a:ext cx="4392720" cy="863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北师大版五年级下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89080" y="406440"/>
            <a:ext cx="68025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长方体和正方体的表面积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708360" y="566100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前、后面：长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高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×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900000" y="1125360"/>
            <a:ext cx="4174200" cy="2391840"/>
            <a:chOff x="900000" y="1125360"/>
            <a:chExt cx="4174200" cy="2391840"/>
          </a:xfrm>
        </p:grpSpPr>
        <p:sp>
          <p:nvSpPr>
            <p:cNvPr id="349" name=""/>
            <p:cNvSpPr/>
            <p:nvPr/>
          </p:nvSpPr>
          <p:spPr>
            <a:xfrm>
              <a:off x="900000" y="1125360"/>
              <a:ext cx="3817080" cy="2016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后     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900000" y="1125360"/>
              <a:ext cx="4174200" cy="2391840"/>
              <a:chOff x="900000" y="1125360"/>
              <a:chExt cx="4174200" cy="2391840"/>
            </a:xfrm>
          </p:grpSpPr>
          <p:grpSp>
            <p:nvGrpSpPr>
              <p:cNvPr id="351" name=""/>
              <p:cNvGrpSpPr/>
              <p:nvPr/>
            </p:nvGrpSpPr>
            <p:grpSpPr>
              <a:xfrm>
                <a:off x="900000" y="1125360"/>
                <a:ext cx="3817440" cy="2015280"/>
                <a:chOff x="900000" y="1125360"/>
                <a:chExt cx="3817440" cy="201528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900000" y="3139920"/>
                  <a:ext cx="3816360" cy="36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717080" y="1125360"/>
                  <a:ext cx="360" cy="201528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4680000" y="190620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高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484000" y="2996640"/>
                <a:ext cx="99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长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6" name=""/>
          <p:cNvSpPr/>
          <p:nvPr/>
        </p:nvSpPr>
        <p:spPr>
          <a:xfrm>
            <a:off x="252360" y="1125360"/>
            <a:ext cx="4464000" cy="26654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252360" y="1773360"/>
            <a:ext cx="4173120" cy="2391480"/>
            <a:chOff x="252360" y="1773360"/>
            <a:chExt cx="4173120" cy="2391480"/>
          </a:xfrm>
        </p:grpSpPr>
        <p:sp>
          <p:nvSpPr>
            <p:cNvPr id="358" name=""/>
            <p:cNvSpPr/>
            <p:nvPr/>
          </p:nvSpPr>
          <p:spPr>
            <a:xfrm>
              <a:off x="252360" y="1773360"/>
              <a:ext cx="3815280" cy="2016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前     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252360" y="1773360"/>
              <a:ext cx="4173120" cy="2391480"/>
              <a:chOff x="252360" y="1773360"/>
              <a:chExt cx="4173120" cy="239148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252360" y="1773360"/>
                <a:ext cx="3816720" cy="2014920"/>
                <a:chOff x="252360" y="1773360"/>
                <a:chExt cx="3816720" cy="20149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52360" y="3787560"/>
                  <a:ext cx="3815640" cy="36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068720" y="1773360"/>
                  <a:ext cx="360" cy="201492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4031280" y="255420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高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835640" y="3644280"/>
                <a:ext cx="99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长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5" name=""/>
          <p:cNvGrpSpPr/>
          <p:nvPr/>
        </p:nvGrpSpPr>
        <p:grpSpPr>
          <a:xfrm>
            <a:off x="252360" y="836280"/>
            <a:ext cx="4464000" cy="1188720"/>
            <a:chOff x="252360" y="836280"/>
            <a:chExt cx="4464000" cy="1188720"/>
          </a:xfrm>
        </p:grpSpPr>
        <p:sp>
          <p:nvSpPr>
            <p:cNvPr id="366" name=""/>
            <p:cNvSpPr/>
            <p:nvPr/>
          </p:nvSpPr>
          <p:spPr>
            <a:xfrm>
              <a:off x="252360" y="1124280"/>
              <a:ext cx="4464000" cy="685440"/>
            </a:xfrm>
            <a:prstGeom prst="parallelogram">
              <a:avLst>
                <a:gd name="adj" fmla="val 98202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 rot="1380000">
              <a:off x="1836000" y="1052640"/>
              <a:ext cx="1261440" cy="75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6582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宋体"/>
                </a:rPr>
                <a:t>上  面</a:t>
              </a:r>
              <a:endPara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368" name=""/>
          <p:cNvSpPr/>
          <p:nvPr/>
        </p:nvSpPr>
        <p:spPr>
          <a:xfrm flipV="1">
            <a:off x="4068720" y="3141360"/>
            <a:ext cx="647640" cy="647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66800" y="3141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5960" y="1890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长方体前、后两面的面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animMotion origin="layout" path="M 0.059236 0.014815 L 0.437292 -0.121667 E">
                                      <p:cBhvr>
                                        <p:cTn id="702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animMotion origin="layout" path="M 0.122291 0.046481 L 0.508125 0.151481 E">
                                      <p:cBhvr>
                                        <p:cTn id="706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252360" y="3213000"/>
            <a:ext cx="4251240" cy="1734120"/>
            <a:chOff x="252360" y="3213000"/>
            <a:chExt cx="4251240" cy="1734120"/>
          </a:xfrm>
        </p:grpSpPr>
        <p:sp>
          <p:nvSpPr>
            <p:cNvPr id="372" name=""/>
            <p:cNvSpPr/>
            <p:nvPr/>
          </p:nvSpPr>
          <p:spPr>
            <a:xfrm>
              <a:off x="252360" y="3213000"/>
              <a:ext cx="3816360" cy="12240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下   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990440" y="43657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Times New Roman"/>
                </a:rPr>
                <a:t>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079160" y="3573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Times New Roman"/>
                </a:rPr>
                <a:t>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96720" y="2925720"/>
            <a:ext cx="4200480" cy="1734120"/>
            <a:chOff x="396720" y="2925720"/>
            <a:chExt cx="4200480" cy="1734120"/>
          </a:xfrm>
        </p:grpSpPr>
        <p:sp>
          <p:nvSpPr>
            <p:cNvPr id="376" name=""/>
            <p:cNvSpPr/>
            <p:nvPr/>
          </p:nvSpPr>
          <p:spPr>
            <a:xfrm>
              <a:off x="396720" y="2925720"/>
              <a:ext cx="3816360" cy="12236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上   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40760" y="40784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Times New Roman"/>
                </a:rPr>
                <a:t>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72760" y="32857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Times New Roman"/>
                </a:rPr>
                <a:t>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252360" y="2349360"/>
            <a:ext cx="4464000" cy="26654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52360" y="2060280"/>
            <a:ext cx="4538520" cy="1374120"/>
            <a:chOff x="252360" y="2060280"/>
            <a:chExt cx="4538520" cy="1374120"/>
          </a:xfrm>
        </p:grpSpPr>
        <p:grpSp>
          <p:nvGrpSpPr>
            <p:cNvPr id="381" name=""/>
            <p:cNvGrpSpPr/>
            <p:nvPr/>
          </p:nvGrpSpPr>
          <p:grpSpPr>
            <a:xfrm>
              <a:off x="252360" y="2060280"/>
              <a:ext cx="4463640" cy="1188720"/>
              <a:chOff x="252360" y="2060280"/>
              <a:chExt cx="4463640" cy="118872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252360" y="2060280"/>
                <a:ext cx="4463280" cy="1188720"/>
                <a:chOff x="252360" y="2060280"/>
                <a:chExt cx="4463280" cy="11887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252360" y="2348280"/>
                  <a:ext cx="4463280" cy="685440"/>
                </a:xfrm>
                <a:prstGeom prst="parallelogram">
                  <a:avLst>
                    <a:gd name="adj" fmla="val 98186"/>
                  </a:avLst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 txBox="1"/>
                <p:nvPr/>
              </p:nvSpPr>
              <p:spPr>
                <a:xfrm rot="1380000">
                  <a:off x="1835640" y="2276640"/>
                  <a:ext cx="1261440" cy="756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SlantUp">
                    <a:avLst>
                      <a:gd name="adj" fmla="val 65829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00ff"/>
                      </a:solidFill>
                      <a:latin typeface="宋体"/>
                    </a:rPr>
                    <a:t>上  面</a:t>
                  </a:r>
                  <a:endParaRPr b="0" lang="en-US" sz="32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ff"/>
                    </a:solidFill>
                    <a:latin typeface="宋体"/>
                    <a:ea typeface="宋体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252360" y="2996280"/>
                <a:ext cx="3815640" cy="36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4068000" y="2348280"/>
                <a:ext cx="648000" cy="64800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4366440" y="24926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Times New Roman"/>
                </a:rPr>
                <a:t>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62800" y="2853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Times New Roman"/>
                </a:rPr>
                <a:t>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52360" y="4294080"/>
            <a:ext cx="4464000" cy="1229400"/>
            <a:chOff x="252360" y="4294080"/>
            <a:chExt cx="4464000" cy="1229400"/>
          </a:xfrm>
        </p:grpSpPr>
        <p:grpSp>
          <p:nvGrpSpPr>
            <p:cNvPr id="390" name=""/>
            <p:cNvGrpSpPr/>
            <p:nvPr/>
          </p:nvGrpSpPr>
          <p:grpSpPr>
            <a:xfrm>
              <a:off x="252360" y="4294080"/>
              <a:ext cx="4464000" cy="648000"/>
              <a:chOff x="252360" y="4294080"/>
              <a:chExt cx="4464000" cy="648000"/>
            </a:xfrm>
          </p:grpSpPr>
          <p:sp>
            <p:nvSpPr>
              <p:cNvPr id="391" name=""/>
              <p:cNvSpPr/>
              <p:nvPr/>
            </p:nvSpPr>
            <p:spPr>
              <a:xfrm>
                <a:off x="252360" y="4941720"/>
                <a:ext cx="3816000" cy="36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4068000" y="4294080"/>
                <a:ext cx="648360" cy="64800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4223880" y="44373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Times New Roman"/>
                </a:rPr>
                <a:t>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91160" y="49420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Times New Roman"/>
                </a:rPr>
                <a:t>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3708360" y="53020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上、下面：长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宽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×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30800" y="357336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前     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679640" y="404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长方体上、下两面的面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718" dur="1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animMotion origin="layout" path="M -0.002822 -0.09179 C -0.002822 -0.093731 -0.002822 -0.099553 -0.002822 -0.103435 C -0.002822 -0.107318 -0.002822 -0.111198 -0.002822 -0.11508 C -0.002822 -0.118961 -0.003072 -0.122826 -0.002822 -0.126726 C -0.002572 -0.130625 -0.001823 -0.134583 -0.001324 -0.138482 C -0.000823 -0.142382 -7.2E-005 -0.146247 0.000177 -0.150128 C 0.000427 -0.15401 0.000177 -0.157891 0.000177 -0.161773 C 0.000177 -0.165655 0.000177 -0.169518 0.000177 -0.173419 C 0.000177 -0.177318 0.000177 -0.181275 0.000177 -0.185175 C 0.000177 -0.189076 0.000177 -0.192938 0.000177 -0.19682 C 0.000177 -0.200703 -6.1E-005 -0.204585 0.000177 -0.208465 C 0.000415 -0.212346 0.001117 -0.216212 0.001605 -0.22011 C 0.002093 -0.22401 0.002855 -0.227968 0.003105 -0.231867 C 0.003354 -0.235769 0.003105 -0.239632 0.003105 -0.243514 C 0.003105 -0.247395 0.003105 -0.251276 0.003105 -0.255159 C 0.003105 -0.259041 0.001617 -0.263687 0.003105 -0.266803 C 0.004593 -0.269919 0.008806 -0.272682 0.012029 -0.273858 C 0.015256 -0.275033 0.019231 -0.273858 0.022456 -0.273858 C 0.025681 -0.273858 0.028645 -0.273858 0.031382 -0.273858 C 0.034119 -0.273858 0.036394 -0.273858 0.03888 -0.273858 C 0.041368 -0.273858 0.04383 -0.273858 0.046307 -0.273858 C 0.048782 -0.273858 0.051257 -0.273858 0.053732 -0.273858 C 0.056208 -0.273858 0.058671 -0.273858 0.061159 -0.273858 C 0.063646 -0.273858 0.066169 -0.273858 0.068657 -0.273858 C 0.071144 -0.273858 0.073358 -0.273858 0.076082 -0.273858 C 0.078809 -0.273858 0.082284 -0.273858 0.08501 -0.273858 C 0.087734 -0.273858 0.08971 -0.273858 0.092435 -0.273858 C 0.095161 -0.273858 0.098386 -0.273858 0.101361 -0.273858 C 0.104338 -0.273858 0.107551 -0.273858 0.110287 -0.273858 C 0.113024 -0.273858 0.115298 -0.273858 0.117785 -0.273858 C 0.120273 -0.273858 0.122486 -0.273858 0.125212 -0.273858 C 0.127937 -0.273858 0.131412 -0.273858 0.134137 -0.273858 C 0.136862 -0.273858 0.139077 -0.273858 0.141564 -0.273858 C 0.144051 -0.273858 0.146574 -0.273858 0.149061 -0.273858 C 0.151548 -0.273858 0.153763 -0.273858 0.156488 -0.273858 C 0.159213 -0.273858 0.16269 -0.273858 0.165414 -0.273858 C 0.16814 -0.273858 0.170365 -0.273858 0.17284 -0.273858 C 0.175317 -0.273858 0.177542 -0.274251 0.180267 -0.273858 C 0.182993 -0.273465 0.186455 -0.271898 0.189193 -0.271507 C 0.19193 -0.271114 0.194204 -0.271507 0.196691 -0.271507 C 0.199178 -0.271507 0.201642 -0.271507 0.204117 -0.271507 C 0.206592 -0.271507 0.209068 -0.271507 0.211543 -0.271507 C 0.21402 -0.271507 0.216482 -0.271507 0.218969 -0.271507 C 0.221457 -0.271507 0.22373 -0.271507 0.226467 -0.271507 C 0.229205 -0.271507 0.232668 -0.271507 0.235394 -0.271507 C 0.238118 -0.271507 0.240343 -0.271507 0.24282 -0.271507 C 0.245295 -0.271507 0.247759 -0.271507 0.250246 -0.271507 C 0.252733 -0.271507 0.255257 -0.271507 0.257744 -0.271507 C 0.260232 -0.271507 0.262696 -0.271507 0.26517 -0.271507 C 0.267645 -0.271507 0.270122 -0.271507 0.272597 -0.271507 C 0.275073 -0.271507 0.277536 -0.271507 0.280023 -0.271507 C 0.28251 -0.271507 0.285033 -0.271507 0.287522 -0.271507 C 0.290008 -0.271507 0.292472 -0.271898 0.294947 -0.271507 C 0.297424 -0.271114 0.299648 -0.26994 0.302375 -0.269155 C 0.305099 -0.268372 0.308575 -0.267195 0.3113 -0.266803 C 0.314025 -0.266412 0.316239 -0.266803 0.318726 -0.266803 C 0.321213 -0.266803 0.323486 -0.266803 0.326225 -0.266803 C 0.328961 -0.266803 0.332425 -0.267195 0.33515 -0.266803 C 0.337875 -0.266412 0.3401 -0.264845 0.342577 -0.264452 C 0.345051 -0.264061 0.347528 -0.264452 0.350003 -0.264452 C 0.352478 -0.264452 0.354691 -0.265218 0.357429 -0.264452 C 0.360167 -0.263687 0.363688 -0.260626 0.366426 -0.259861 C 0.369164 -0.259097 0.371128 -0.260254 0.373852 -0.259861 C 0.376578 -0.259469 0.379553 -0.257901 0.382779 -0.25751 C 0.386004 -0.257118 0.389979 -0.25751 0.393204 -0.25751 C 0.396429 -0.25751 0.399155 -0.25751 0.40213 -0.25751 C 0.405105 -0.25751 0.408332 -0.25751 0.411056 -0.25751 C 0.41378 -0.25751 0.415995 -0.25751 0.418483 -0.25751 C 0.420969 -0.25751 0.423493 -0.25751 0.425981 -0.25751 C 0.428467 -0.25751 0.430682 -0.25751 0.433406 -0.25751 C 0.436133 -0.25751 0.439607 -0.25751 0.442334 -0.25751 C 0.445058 -0.25751 0.447283 -0.25751 0.449759 -0.25751 C 0.452235 -0.25751 0.454698 -0.25751 0.457186 -0.25751 C 0.459672 -0.25751 0.462196 -0.25751 0.464684 -0.25751 C 0.46717 -0.25751 0.469635 -0.25751 0.472109 -0.25751 C 0.474585 -0.25751 0.477061 -0.25751 0.479537 -0.25751 C 0.482012 -0.25751 0.485725 -0.25751 0.486962 -0.25751 E">
                                      <p:cBhvr>
                                        <p:cTn id="724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2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animMotion origin="layout" path="M 1.1E-005 -1.3E-005 C 0.000258 0.001619 0.000752 0.006533 0.001494 0.009782 C 0.002238 0.013034 0.003971 0.016252 0.004466 0.019486 C 0.004959 0.022721 0.004466 0.025955 0.004466 0.029189 C 0.004466 0.032424 0.004466 0.035643 0.004466 0.038893 C 0.004466 0.042143 0.004466 0.04544 0.004466 0.04869 C 0.004466 0.051941 0.002993 0.05645 0.004466 0.058393 C 0.005939 0.060338 0.010109 0.060026 0.013304 0.060353 C 0.016495 0.060679 0.020184 0.060353 0.023624 0.060353 C 0.027065 0.060353 0.030754 0.060353 0.033947 0.060353 C 0.037141 0.060353 0.038861 0.060353 0.042785 0.060353 C 0.046708 0.060353 0.053814 0.060353 0.05749 0.060353 C 0.061166 0.060353 0.062381 0.060353 0.064844 0.060353 C 0.067306 0.060353 0.069804 0.060353 0.072267 0.060353 C 0.07473 0.060353 0.077169 0.060353 0.079619 0.060353 C 0.082071 0.060353 0.084273 0.060353 0.086973 0.060353 C 0.089672 0.060353 0.092865 0.060353 0.09581 0.060353 C 0.098756 0.060353 0.101701 0.060353 0.104648 0.060353 C 0.107593 0.060353 0.110775 0.060353 0.113486 0.060353 C 0.116195 0.060353 0.118198 0.060353 0.120909 0.060353 C 0.123619 0.060353 0.1268 0.060353 0.129746 0.060353 C 0.132694 0.060353 0.135391 0.060353 0.138585 0.060353 C 0.141778 0.060353 0.14596 0.060353 0.148906 0.060353 C 0.151852 0.060353 0.153809 0.060353 0.156259 0.060353 C 0.15871 0.060353 0.16115 0.060353 0.163612 0.060353 C 0.166075 0.060353 0.168573 0.060353 0.171036 0.060353 C 0.173498 0.060353 0.175939 0.060353 0.178389 0.060353 C 0.18084 0.060353 0.183291 0.060353 0.185743 0.060353 C 0.188193 0.060353 0.190632 0.060353 0.193095 0.060353 C 0.195558 0.060353 0.197808 0.060353 0.200518 0.060353 C 0.203228 0.060353 0.206409 0.060353 0.209356 0.060353 C 0.212301 0.060353 0.215495 0.060353 0.218193 0.060353 C 0.220892 0.060353 0.222848 0.060353 0.225546 0.060353 C 0.228244 0.060353 0.231438 0.060353 0.234384 0.060353 C 0.23733 0.060353 0.240523 0.060353 0.243222 0.060353 C 0.245919 0.060353 0.248111 0.060353 0.250575 0.060353 C 0.253036 0.060353 0.255288 0.060353 0.257999 0.060353 C 0.260708 0.060353 0.264137 0.060353 0.266836 0.060353 C 0.269534 0.060353 0.271737 0.060353 0.274189 0.060353 C 0.276639 0.060353 0.279078 0.060353 0.281542 0.060353 C 0.284004 0.060353 0.286502 0.060353 0.288965 0.060353 C 0.291427 0.060353 0.29362 0.060353 0.296318 0.060353 C 0.299016 0.060353 0.30221 0.060353 0.305155 0.060353 C 0.308101 0.060353 0.311294 0.060353 0.313994 0.060353 C 0.316691 0.060353 0.318896 0.060353 0.321346 0.060353 C 0.323797 0.060353 0.326236 0.060353 0.328699 0.060353 C 0.331162 0.060353 0.33366 0.060353 0.336123 0.060353 C 0.338585 0.060353 0.341025 0.060353 0.343475 0.060353 C 0.345925 0.060353 0.348129 0.060353 0.350828 0.060353 C 0.353527 0.060353 0.356956 0.060353 0.359666 0.060353 C 0.362376 0.060353 0.364379 0.060353 0.36709 0.060353 C 0.3698 0.060353 0.373229 0.060353 0.375927 0.060353 C 0.378625 0.060353 0.380829 0.060353 0.38328 0.060353 C 0.385732 0.060353 0.388182 0.060353 0.390633 0.060353 C 0.393084 0.060353 0.395523 0.060353 0.397986 0.060353 C 0.400448 0.060353 0.402946 0.060353 0.405409 0.060353 C 0.407872 0.060353 0.410311 0.060353 0.412762 0.060353 C 0.415213 0.060353 0.417664 0.060353 0.420115 0.060353 C 0.422566 0.060353 0.425004 0.060353 0.427467 0.060353 C 0.429931 0.060353 0.432429 0.060353 0.434891 0.060353 C 0.437355 0.060353 0.439795 0.060353 0.442244 0.060353 C 0.444695 0.060353 0.447147 0.060353 0.449596 0.060353 C 0.452048 0.060353 0.454251 0.060353 0.456949 0.060353 C 0.459648 0.060353 0.463078 0.060353 0.465788 0.060353 C 0.468497 0.060353 0.470749 0.060353 0.473212 0.060353 C 0.475675 0.060353 0.477866 0.060353 0.480563 0.060353 C 0.483262 0.060353 0.486704 0.060353 0.489402 0.060353 C 0.4921 0.060353 0.494292 0.060353 0.496755 0.060353 C 0.499218 0.060353 0.501715 0.060353 0.504178 0.060353 C 0.506641 0.060353 0.511532 0.060353 0.511532 0.060353 C 0.511532 0.060353 0.505404 0.060353 0.504178 0.060353 E">
                                      <p:cBhvr>
                                        <p:cTn id="735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900000" y="2276640"/>
            <a:ext cx="1504800" cy="2547000"/>
            <a:chOff x="900000" y="2276640"/>
            <a:chExt cx="1504800" cy="2547000"/>
          </a:xfrm>
        </p:grpSpPr>
        <p:sp>
          <p:nvSpPr>
            <p:cNvPr id="399" name=""/>
            <p:cNvSpPr/>
            <p:nvPr/>
          </p:nvSpPr>
          <p:spPr>
            <a:xfrm>
              <a:off x="900000" y="2276640"/>
              <a:ext cx="1151640" cy="23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ff"/>
                  </a:solidFill>
                  <a:latin typeface="Times New Roman"/>
                </a:rPr>
                <a:t>左  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48120" y="4363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041200" y="321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长方体左、右两面的面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971640" y="2133720"/>
            <a:ext cx="4174200" cy="2390400"/>
            <a:chOff x="971640" y="2133720"/>
            <a:chExt cx="4174200" cy="2390400"/>
          </a:xfrm>
        </p:grpSpPr>
        <p:sp>
          <p:nvSpPr>
            <p:cNvPr id="404" name=""/>
            <p:cNvSpPr/>
            <p:nvPr/>
          </p:nvSpPr>
          <p:spPr>
            <a:xfrm>
              <a:off x="971640" y="2133720"/>
              <a:ext cx="3817080" cy="201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后     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971640" y="2133720"/>
              <a:ext cx="4174200" cy="2390400"/>
              <a:chOff x="971640" y="2133720"/>
              <a:chExt cx="4174200" cy="23904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971640" y="2133720"/>
                <a:ext cx="3817440" cy="2013840"/>
                <a:chOff x="971640" y="2133720"/>
                <a:chExt cx="3817440" cy="20138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971640" y="4146840"/>
                  <a:ext cx="3816360" cy="36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788720" y="2133720"/>
                  <a:ext cx="360" cy="201384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9" name=""/>
              <p:cNvSpPr/>
              <p:nvPr/>
            </p:nvSpPr>
            <p:spPr>
              <a:xfrm>
                <a:off x="4751640" y="29138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高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555640" y="4003560"/>
                <a:ext cx="99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长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1" name=""/>
          <p:cNvSpPr/>
          <p:nvPr/>
        </p:nvSpPr>
        <p:spPr>
          <a:xfrm>
            <a:off x="324000" y="2133720"/>
            <a:ext cx="4464000" cy="2663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140360" y="4149360"/>
            <a:ext cx="647640" cy="647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556000" y="2276640"/>
            <a:ext cx="1504440" cy="2548440"/>
            <a:chOff x="2556000" y="2276640"/>
            <a:chExt cx="1504440" cy="2548440"/>
          </a:xfrm>
        </p:grpSpPr>
        <p:sp>
          <p:nvSpPr>
            <p:cNvPr id="414" name=""/>
            <p:cNvSpPr/>
            <p:nvPr/>
          </p:nvSpPr>
          <p:spPr>
            <a:xfrm>
              <a:off x="2556000" y="2276640"/>
              <a:ext cx="1151280" cy="2306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ff"/>
                  </a:solidFill>
                  <a:latin typeface="Times New Roman"/>
                </a:rPr>
                <a:t>右 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904120" y="4365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96840" y="3211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4511160" y="4149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168720" y="2141280"/>
            <a:ext cx="2630160" cy="2629800"/>
            <a:chOff x="3168720" y="2141280"/>
            <a:chExt cx="2630160" cy="2629800"/>
          </a:xfrm>
        </p:grpSpPr>
        <p:sp>
          <p:nvSpPr>
            <p:cNvPr id="419" name=""/>
            <p:cNvSpPr/>
            <p:nvPr/>
          </p:nvSpPr>
          <p:spPr>
            <a:xfrm rot="8100000">
              <a:off x="3333600" y="2746440"/>
              <a:ext cx="2300400" cy="1419120"/>
            </a:xfrm>
            <a:prstGeom prst="parallelogram">
              <a:avLst>
                <a:gd name="adj" fmla="val 10192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 rot="60000">
              <a:off x="4212360" y="2709360"/>
              <a:ext cx="532800" cy="923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714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宋体"/>
                </a:rPr>
                <a:t>右面</a:t>
              </a:r>
              <a:endParaRPr b="0" lang="en-US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24000" y="2781360"/>
            <a:ext cx="3816360" cy="20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前     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324000" y="2781360"/>
            <a:ext cx="3886560" cy="2391480"/>
            <a:chOff x="324000" y="2781360"/>
            <a:chExt cx="3886560" cy="2391480"/>
          </a:xfrm>
        </p:grpSpPr>
        <p:grpSp>
          <p:nvGrpSpPr>
            <p:cNvPr id="423" name=""/>
            <p:cNvGrpSpPr/>
            <p:nvPr/>
          </p:nvGrpSpPr>
          <p:grpSpPr>
            <a:xfrm>
              <a:off x="324000" y="2781360"/>
              <a:ext cx="3817080" cy="2014920"/>
              <a:chOff x="324000" y="2781360"/>
              <a:chExt cx="3817080" cy="2014920"/>
            </a:xfrm>
          </p:grpSpPr>
          <p:sp>
            <p:nvSpPr>
              <p:cNvPr id="424" name=""/>
              <p:cNvSpPr/>
              <p:nvPr/>
            </p:nvSpPr>
            <p:spPr>
              <a:xfrm>
                <a:off x="324000" y="4795560"/>
                <a:ext cx="3816000" cy="36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140720" y="2781360"/>
                <a:ext cx="360" cy="201492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3816360" y="357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07640" y="46522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24000" y="1844280"/>
            <a:ext cx="4464000" cy="1190160"/>
            <a:chOff x="324000" y="1844280"/>
            <a:chExt cx="4464000" cy="1190160"/>
          </a:xfrm>
        </p:grpSpPr>
        <p:sp>
          <p:nvSpPr>
            <p:cNvPr id="429" name=""/>
            <p:cNvSpPr/>
            <p:nvPr/>
          </p:nvSpPr>
          <p:spPr>
            <a:xfrm>
              <a:off x="324000" y="2132280"/>
              <a:ext cx="4464000" cy="687240"/>
            </a:xfrm>
            <a:prstGeom prst="parallelogram">
              <a:avLst>
                <a:gd name="adj" fmla="val 97944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 rot="1380000">
              <a:off x="1907280" y="2060280"/>
              <a:ext cx="1261440" cy="75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6582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宋体"/>
                </a:rPr>
                <a:t>上  面</a:t>
              </a:r>
              <a:endParaRPr b="0" lang="en-US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4955760" y="5229360"/>
            <a:ext cx="174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左、右面：高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宽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×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reeze.wav"/>
                                        </p:tgtEl>
                                      </p:cMediaNode>
                                    </p:audio>
                                    <p:animMotion origin="layout" path="M 0.001041 0.003611 L 0.474513 0.00713 E">
                                      <p:cBhvr>
                                        <p:cTn id="747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animMotion origin="layout" path="M 0 0 L 0.473472 0.003519 E">
                                      <p:cBhvr>
                                        <p:cTn id="751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12720" y="33336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什么叫长方体的表面积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8360" y="1197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长方体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个面的总面积，叫做它的表面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-808200" y="2276640"/>
            <a:ext cx="5881320" cy="3326400"/>
            <a:chOff x="-808200" y="2276640"/>
            <a:chExt cx="5881320" cy="3326400"/>
          </a:xfrm>
        </p:grpSpPr>
        <p:grpSp>
          <p:nvGrpSpPr>
            <p:cNvPr id="435" name=""/>
            <p:cNvGrpSpPr/>
            <p:nvPr/>
          </p:nvGrpSpPr>
          <p:grpSpPr>
            <a:xfrm>
              <a:off x="-31680" y="2276640"/>
              <a:ext cx="5104800" cy="3268800"/>
              <a:chOff x="-31680" y="2276640"/>
              <a:chExt cx="5104800" cy="3268800"/>
            </a:xfrm>
          </p:grpSpPr>
          <p:sp>
            <p:nvSpPr>
              <p:cNvPr id="436" name=""/>
              <p:cNvSpPr/>
              <p:nvPr/>
            </p:nvSpPr>
            <p:spPr>
              <a:xfrm>
                <a:off x="903240" y="4581360"/>
                <a:ext cx="3953520" cy="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184320" y="4581360"/>
                <a:ext cx="718560" cy="720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85040" y="2493000"/>
                <a:ext cx="4672080" cy="2808360"/>
              </a:xfrm>
              <a:prstGeom prst="cube">
                <a:avLst>
                  <a:gd name="adj" fmla="val 25000"/>
                </a:avLst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-30960" y="2996640"/>
                <a:ext cx="43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921480" y="2996640"/>
                <a:ext cx="43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-31680" y="5085720"/>
                <a:ext cx="43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921480" y="5085720"/>
                <a:ext cx="43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640400" y="2276640"/>
                <a:ext cx="43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640400" y="4437360"/>
                <a:ext cx="43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903600" y="2494440"/>
                <a:ext cx="360" cy="208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86880" y="2276640"/>
                <a:ext cx="43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86880" y="4365360"/>
                <a:ext cx="43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-808200" y="2484720"/>
              <a:ext cx="5653800" cy="3118320"/>
              <a:chOff x="-808200" y="2484720"/>
              <a:chExt cx="5653800" cy="3118320"/>
            </a:xfrm>
          </p:grpSpPr>
          <p:grpSp>
            <p:nvGrpSpPr>
              <p:cNvPr id="449" name=""/>
              <p:cNvGrpSpPr/>
              <p:nvPr/>
            </p:nvGrpSpPr>
            <p:grpSpPr>
              <a:xfrm>
                <a:off x="173160" y="4347720"/>
                <a:ext cx="4598280" cy="1255320"/>
                <a:chOff x="173160" y="4347720"/>
                <a:chExt cx="4598280" cy="12553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173160" y="4610160"/>
                  <a:ext cx="4598280" cy="640440"/>
                </a:xfrm>
                <a:prstGeom prst="parallelogram">
                  <a:avLst>
                    <a:gd name="adj" fmla="val 107133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 txBox="1"/>
                <p:nvPr/>
              </p:nvSpPr>
              <p:spPr>
                <a:xfrm rot="1200000">
                  <a:off x="1661760" y="4579560"/>
                  <a:ext cx="1495800" cy="79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SlantUp">
                    <a:avLst>
                      <a:gd name="adj" fmla="val 71431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宋体"/>
                    </a:rPr>
                    <a:t>下 面</a:t>
                  </a:r>
                  <a:endParaRPr b="0" lang="en-US" sz="24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宋体"/>
                    <a:ea typeface="宋体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-808200" y="2484720"/>
                <a:ext cx="2778120" cy="2778120"/>
                <a:chOff x="-808200" y="2484720"/>
                <a:chExt cx="2778120" cy="2778120"/>
              </a:xfrm>
            </p:grpSpPr>
            <p:sp>
              <p:nvSpPr>
                <p:cNvPr id="453" name=""/>
                <p:cNvSpPr/>
                <p:nvPr/>
              </p:nvSpPr>
              <p:spPr>
                <a:xfrm rot="8100000">
                  <a:off x="-676440" y="3166920"/>
                  <a:ext cx="2515320" cy="1413360"/>
                </a:xfrm>
                <a:prstGeom prst="parallelogram">
                  <a:avLst>
                    <a:gd name="adj" fmla="val 96654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 txBox="1"/>
                <p:nvPr/>
              </p:nvSpPr>
              <p:spPr>
                <a:xfrm rot="21180000">
                  <a:off x="250200" y="3212640"/>
                  <a:ext cx="607320" cy="79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SlantUp">
                    <a:avLst>
                      <a:gd name="adj" fmla="val 53023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宋体"/>
                    </a:rPr>
                    <a:t>右面</a:t>
                  </a:r>
                  <a:endParaRPr b="0" lang="en-US" sz="24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宋体"/>
                    <a:ea typeface="宋体"/>
                  </a:endParaRPr>
                </a:p>
              </p:txBody>
            </p:sp>
          </p:grpSp>
          <p:sp>
            <p:nvSpPr>
              <p:cNvPr id="455" name=""/>
              <p:cNvSpPr/>
              <p:nvPr/>
            </p:nvSpPr>
            <p:spPr>
              <a:xfrm>
                <a:off x="984600" y="2491920"/>
                <a:ext cx="3861000" cy="20826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Times New Roman"/>
                  </a:rPr>
                  <a:t>后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6" name=""/>
          <p:cNvGrpSpPr/>
          <p:nvPr/>
        </p:nvGrpSpPr>
        <p:grpSpPr>
          <a:xfrm>
            <a:off x="179280" y="2196720"/>
            <a:ext cx="5649480" cy="3062520"/>
            <a:chOff x="179280" y="2196720"/>
            <a:chExt cx="5649480" cy="3062520"/>
          </a:xfrm>
        </p:grpSpPr>
        <p:grpSp>
          <p:nvGrpSpPr>
            <p:cNvPr id="457" name=""/>
            <p:cNvGrpSpPr/>
            <p:nvPr/>
          </p:nvGrpSpPr>
          <p:grpSpPr>
            <a:xfrm>
              <a:off x="179280" y="2196720"/>
              <a:ext cx="5649480" cy="3062520"/>
              <a:chOff x="179280" y="2196720"/>
              <a:chExt cx="5649480" cy="306252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179280" y="2196720"/>
                <a:ext cx="5649480" cy="3062520"/>
                <a:chOff x="179280" y="2196720"/>
                <a:chExt cx="5649480" cy="306252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179280" y="3171960"/>
                  <a:ext cx="3960720" cy="20872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600" spc="-1" strike="noStrike">
                      <a:solidFill>
                        <a:srgbClr val="000000"/>
                      </a:solidFill>
                      <a:latin typeface="Times New Roman"/>
                    </a:rPr>
                    <a:t>前   面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0" name=""/>
                <p:cNvGrpSpPr/>
                <p:nvPr/>
              </p:nvGrpSpPr>
              <p:grpSpPr>
                <a:xfrm>
                  <a:off x="3177000" y="2568240"/>
                  <a:ext cx="2651760" cy="2617560"/>
                  <a:chOff x="3177000" y="2568240"/>
                  <a:chExt cx="2651760" cy="261756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 rot="8220000">
                    <a:off x="3395880" y="3119400"/>
                    <a:ext cx="2213640" cy="1514520"/>
                  </a:xfrm>
                  <a:prstGeom prst="parallelogram">
                    <a:avLst>
                      <a:gd name="adj" fmla="val 94660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 txBox="1"/>
                  <p:nvPr/>
                </p:nvSpPr>
                <p:spPr>
                  <a:xfrm>
                    <a:off x="4283640" y="3315600"/>
                    <a:ext cx="431640" cy="8629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53023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宋体"/>
                      </a:rPr>
                      <a:t>右面</a:t>
                    </a:r>
                    <a:endParaRPr b="0" lang="en-US" sz="2400" spc="-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463" name=""/>
                <p:cNvGrpSpPr/>
                <p:nvPr/>
              </p:nvGrpSpPr>
              <p:grpSpPr>
                <a:xfrm>
                  <a:off x="322560" y="2196720"/>
                  <a:ext cx="4465800" cy="1249560"/>
                  <a:chOff x="322560" y="2196720"/>
                  <a:chExt cx="4465800" cy="124956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322560" y="2451960"/>
                    <a:ext cx="4465800" cy="648360"/>
                  </a:xfrm>
                  <a:prstGeom prst="parallelogram">
                    <a:avLst>
                      <a:gd name="adj" fmla="val 102776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 txBox="1"/>
                  <p:nvPr/>
                </p:nvSpPr>
                <p:spPr>
                  <a:xfrm rot="1200000">
                    <a:off x="1768320" y="2421000"/>
                    <a:ext cx="1452960" cy="801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71431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宋体"/>
                      </a:rPr>
                      <a:t>上 面</a:t>
                    </a:r>
                    <a:endParaRPr b="0" lang="en-US" sz="2400" spc="-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宋体"/>
                      <a:ea typeface="宋体"/>
                    </a:endParaRPr>
                  </a:p>
                </p:txBody>
              </p:sp>
            </p:grpSp>
          </p:grpSp>
          <p:sp>
            <p:nvSpPr>
              <p:cNvPr id="466" name=""/>
              <p:cNvSpPr/>
              <p:nvPr/>
            </p:nvSpPr>
            <p:spPr>
              <a:xfrm>
                <a:off x="198720" y="3141360"/>
                <a:ext cx="3889080" cy="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4139640" y="2492640"/>
              <a:ext cx="700920" cy="2734920"/>
              <a:chOff x="4139640" y="2492640"/>
              <a:chExt cx="700920" cy="2734920"/>
            </a:xfrm>
          </p:grpSpPr>
          <p:sp>
            <p:nvSpPr>
              <p:cNvPr id="468" name=""/>
              <p:cNvSpPr/>
              <p:nvPr/>
            </p:nvSpPr>
            <p:spPr>
              <a:xfrm>
                <a:off x="4212360" y="3139920"/>
                <a:ext cx="360" cy="2087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4139640" y="2492640"/>
                <a:ext cx="700920" cy="648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-0.005486 9.3E-005 L 0.506389 -0.007407 E">
                                      <p:cBhvr>
                                        <p:cTn id="774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0.441389 -0.007407 L 0.010208 0.003056 E">
                                      <p:cBhvr>
                                        <p:cTn id="778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-0.005556 0.003056 L 0.506319 -0.007407 E">
                                      <p:cBhvr>
                                        <p:cTn id="782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Motion origin="layout" path="M 0.433542 -0.007407 L 0.010208 0.003056 E">
                                      <p:cBhvr>
                                        <p:cTn id="786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181080" y="2421000"/>
            <a:ext cx="4200120" cy="1733760"/>
            <a:chOff x="181080" y="2421000"/>
            <a:chExt cx="4200120" cy="1733760"/>
          </a:xfrm>
        </p:grpSpPr>
        <p:sp>
          <p:nvSpPr>
            <p:cNvPr id="471" name=""/>
            <p:cNvSpPr/>
            <p:nvPr/>
          </p:nvSpPr>
          <p:spPr>
            <a:xfrm>
              <a:off x="181080" y="2421000"/>
              <a:ext cx="3816000" cy="12236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上   面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24760" y="35733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Times New Roman"/>
                </a:rPr>
                <a:t>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956760" y="2781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Times New Roman"/>
                </a:rPr>
                <a:t>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619280" y="18446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68720" y="2637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60360" y="29973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54160" y="2602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长方体的表面积怎样计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6720" y="472608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长方体前、上、右三面的面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长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宽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长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高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高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413080" y="2063880"/>
            <a:ext cx="1568520" cy="2329560"/>
            <a:chOff x="2413080" y="2063880"/>
            <a:chExt cx="1568520" cy="2329560"/>
          </a:xfrm>
        </p:grpSpPr>
        <p:sp>
          <p:nvSpPr>
            <p:cNvPr id="480" name=""/>
            <p:cNvSpPr/>
            <p:nvPr/>
          </p:nvSpPr>
          <p:spPr>
            <a:xfrm>
              <a:off x="2413080" y="2063880"/>
              <a:ext cx="1151640" cy="23047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ff"/>
                  </a:solidFill>
                  <a:latin typeface="Times New Roman"/>
                </a:rPr>
                <a:t>右 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99640" y="3933720"/>
              <a:ext cx="48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04720" y="2998440"/>
              <a:ext cx="77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181080" y="1773360"/>
            <a:ext cx="4494240" cy="259056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81080" y="1412280"/>
            <a:ext cx="4537080" cy="1374120"/>
            <a:chOff x="181080" y="1412280"/>
            <a:chExt cx="4537080" cy="1374120"/>
          </a:xfrm>
        </p:grpSpPr>
        <p:grpSp>
          <p:nvGrpSpPr>
            <p:cNvPr id="485" name=""/>
            <p:cNvGrpSpPr/>
            <p:nvPr/>
          </p:nvGrpSpPr>
          <p:grpSpPr>
            <a:xfrm>
              <a:off x="181080" y="1412280"/>
              <a:ext cx="4462200" cy="1188360"/>
              <a:chOff x="181080" y="1412280"/>
              <a:chExt cx="4462200" cy="1188360"/>
            </a:xfrm>
          </p:grpSpPr>
          <p:grpSp>
            <p:nvGrpSpPr>
              <p:cNvPr id="486" name=""/>
              <p:cNvGrpSpPr/>
              <p:nvPr/>
            </p:nvGrpSpPr>
            <p:grpSpPr>
              <a:xfrm>
                <a:off x="181080" y="1412280"/>
                <a:ext cx="4461480" cy="1188360"/>
                <a:chOff x="181080" y="1412280"/>
                <a:chExt cx="4461480" cy="11883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81080" y="1700280"/>
                  <a:ext cx="4461480" cy="685800"/>
                </a:xfrm>
                <a:prstGeom prst="parallelogram">
                  <a:avLst>
                    <a:gd name="adj" fmla="val 98095"/>
                  </a:avLst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 txBox="1"/>
                <p:nvPr/>
              </p:nvSpPr>
              <p:spPr>
                <a:xfrm rot="1380000">
                  <a:off x="1763280" y="1628280"/>
                  <a:ext cx="1260720" cy="756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SlantUp">
                    <a:avLst>
                      <a:gd name="adj" fmla="val 65829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00ff"/>
                      </a:solidFill>
                      <a:latin typeface="宋体"/>
                    </a:rPr>
                    <a:t>上  面</a:t>
                  </a:r>
                  <a:endParaRPr b="0" lang="en-US" sz="32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ff"/>
                    </a:solidFill>
                    <a:latin typeface="宋体"/>
                    <a:ea typeface="宋体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>
                <a:off x="181080" y="2348640"/>
                <a:ext cx="3814200" cy="36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3995280" y="1700280"/>
                <a:ext cx="648000" cy="64836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4293720" y="18446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Times New Roman"/>
                </a:rPr>
                <a:t>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990800" y="2205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ff"/>
                  </a:solidFill>
                  <a:latin typeface="Times New Roman"/>
                </a:rPr>
                <a:t>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81080" y="2421000"/>
            <a:ext cx="3849120" cy="2032920"/>
            <a:chOff x="181080" y="2421000"/>
            <a:chExt cx="3849120" cy="2032920"/>
          </a:xfrm>
        </p:grpSpPr>
        <p:sp>
          <p:nvSpPr>
            <p:cNvPr id="494" name=""/>
            <p:cNvSpPr/>
            <p:nvPr/>
          </p:nvSpPr>
          <p:spPr>
            <a:xfrm>
              <a:off x="181080" y="2421000"/>
              <a:ext cx="3814560" cy="1944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前     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2720" y="393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636000" y="31410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796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-0.002561 -0.187896 C -0.002561 -0.189669 -0.002793 -0.194965 -0.002561 -0.198526 C -0.00233 -0.202086 -0.001403 -0.205697 -0.001171 -0.209256 C -0.000939 -0.212817 -0.001171 -0.215986 -0.001171 -0.219884 C -0.001171 -0.223786 -0.001171 -0.228761 -0.001171 -0.232662 C -0.001171 -0.236564 -0.001171 -0.239747 -0.001171 -0.243291 C -0.001171 -0.246834 -0.001171 -0.25036 -0.001171 -0.25392 C -0.001171 -0.25748 -0.000939 -0.261092 -0.001171 -0.264651 C -0.001403 -0.268212 -0.00233 -0.271738 -0.002561 -0.275282 C -0.002793 -0.278824 -0.002561 -0.282367 -0.002561 -0.285909 C -0.002561 -0.289453 -0.003025 -0.292979 -0.002561 -0.296539 C -0.002098 -0.300099 -0.000475 -0.30371 0.000221 -0.30727 C 0.000916 -0.31083 -9.99999999999916E-007 -0.316128 0.001611 -0.317899 C 0.003223 -0.319671 0.00713 -0.318258 0.00989 -0.317899 C 0.012649 -0.317542 0.015409 -0.315752 0.018168 -0.315752 C 0.020927 -0.315752 0.023455 -0.317542 0.026446 -0.317899 C 0.029437 -0.318258 0.033356 -0.317899 0.036115 -0.317899 C 0.038874 -0.317899 0.040706 -0.317899 0.043003 -0.317899 C 0.045298 -0.317899 0.047583 -0.317899 0.04989 -0.317899 C 0.052197 -0.317899 0.054537 -0.317899 0.056844 -0.317899 C 0.059151 -0.317899 0.061435 -0.317899 0.063732 -0.317899 C 0.066027 -0.317899 0.068092 -0.317899 0.070619 -0.317899 C 0.073147 -0.317899 0.07637 -0.317899 0.078898 -0.317899 C 0.081425 -0.317899 0.083478 -0.317899 0.085785 -0.317899 C 0.088092 -0.317899 0.090201 -0.318258 0.092739 -0.317899 C 0.095278 -0.317542 0.098026 -0.316111 0.101017 -0.315752 C 0.104009 -0.315395 0.107926 -0.315752 0.110686 -0.315752 C 0.113446 -0.315752 0.115046 -0.315752 0.117573 -0.315752 C 0.120102 -0.315752 0.123092 -0.315752 0.125852 -0.315752 C 0.128611 -0.315752 0.131603 -0.315752 0.13413 -0.315752 C 0.136658 -0.315752 0.138711 -0.315752 0.141018 -0.315752 C 0.143325 -0.315752 0.145433 -0.315752 0.147971 -0.315752 C 0.15051 -0.315752 0.15349 -0.315752 0.15625 -0.315752 C 0.159009 -0.315752 0.162001 -0.315752 0.164528 -0.315752 C 0.167056 -0.315752 0.16912 -0.315752 0.171416 -0.315752 C 0.173712 -0.315752 0.175544 -0.315752 0.178304 -0.315752 C 0.181063 -0.315752 0.185213 -0.315752 0.187973 -0.315752 C 0.190732 -0.315752 0.192322 -0.315752 0.19486 -0.315752 C 0.197399 -0.315752 0.200434 -0.315752 0.203205 -0.315752 C 0.205975 -0.315752 0.208724 -0.315752 0.211483 -0.315752 C 0.214242 -0.315752 0.217001 -0.315752 0.219761 -0.315752 C 0.222521 -0.315752 0.225048 -0.315752 0.22804 -0.315752 C 0.231031 -0.315752 0.234718 -0.315752 0.237708 -0.315752 C 0.2407 -0.315752 0.24346 -0.315752 0.245987 -0.315752 C 0.248514 -0.315752 0.250579 -0.315752 0.252874 -0.315752 C 0.255171 -0.315752 0.257455 -0.315752 0.259762 -0.315752 C 0.262069 -0.315752 0.264409 -0.315752 0.266716 -0.315752 C 0.269023 -0.315752 0.271308 -0.315752 0.273603 -0.315752 C 0.2759 -0.315752 0.277963 -0.315752 0.280491 -0.315752 C 0.283019 -0.315752 0.28601 -0.315752 0.288769 -0.315752 C 0.291529 -0.315752 0.294509 -0.315752 0.297048 -0.315752 C 0.299587 -0.315752 0.301694 -0.315752 0.304001 -0.315752 C 0.306308 -0.315752 0.308361 -0.315752 0.310889 -0.315752 C 0.313417 -0.315752 0.31664 -0.315752 0.319167 -0.315752 C 0.321695 -0.315752 0.323527 -0.316111 0.326055 -0.315752 C 0.328583 -0.315395 0.331573 -0.313965 0.334333 -0.313608 C 0.337092 -0.313251 0.340072 -0.313608 0.342611 -0.313608 C 0.34515 -0.313608 0.347258 -0.313608 0.349565 -0.313608 C 0.351872 -0.313608 0.353925 -0.313608 0.356453 -0.313608 C 0.358981 -0.313608 0.362203 -0.313608 0.364731 -0.313608 C 0.367259 -0.313608 0.369323 -0.313608 0.371619 -0.313608 C 0.373914 -0.313608 0.376199 -0.313608 0.378506 -0.313608 C 0.380813 -0.313608 0.383152 -0.313608 0.38546 -0.313608 C 0.387767 -0.313608 0.390052 -0.313608 0.392347 -0.313608 C 0.394644 -0.313608 0.396939 -0.313608 0.399235 -0.313608 C 0.401531 -0.313608 0.403816 -0.313608 0.406123 -0.313608 C 0.40843 -0.313608 0.410769 -0.313608 0.413076 -0.313608 C 0.415383 -0.313608 0.417668 -0.313608 0.419965 -0.313608 C 0.42226 -0.313608 0.424555 -0.313608 0.426852 -0.313608 C 0.429147 -0.313608 0.431201 -0.313608 0.433739 -0.313608 C 0.436277 -0.313608 0.439313 -0.313608 0.442084 -0.313608 C 0.444854 -0.313608 0.447834 -0.313608 0.450362 -0.313608 C 0.45289 -0.313608 0.454952 -0.313608 0.45725 -0.313608 C 0.459545 -0.313608 0.46161 -0.313608 0.464137 -0.313608 C 0.466664 -0.313608 0.469888 -0.313608 0.472416 -0.313608 C 0.474943 -0.313608 0.476996 -0.313608 0.479303 -0.313608 C 0.48161 -0.313608 0.483718 -0.313608 0.486256 -0.313608 C 0.488794 -0.313608 0.492008 -0.313608 0.494535 -0.313608 C 0.497062 -0.313608 0.500274 -0.313608 0.501422 -0.313608 E">
                                      <p:cBhvr>
                                        <p:cTn id="802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-0.007083 -0.073334 L 0.552014 -0.075278 E">
                                      <p:cBhvr>
                                        <p:cTn id="806" dur="2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-0.009722 0.21963 L 0.502153 0.230092 E">
                                      <p:cBhvr>
                                        <p:cTn id="810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4777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长方体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个面的总面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-736560" y="1844640"/>
            <a:ext cx="5880960" cy="3326760"/>
            <a:chOff x="-736560" y="1844640"/>
            <a:chExt cx="5880960" cy="3326760"/>
          </a:xfrm>
        </p:grpSpPr>
        <p:grpSp>
          <p:nvGrpSpPr>
            <p:cNvPr id="499" name=""/>
            <p:cNvGrpSpPr/>
            <p:nvPr/>
          </p:nvGrpSpPr>
          <p:grpSpPr>
            <a:xfrm>
              <a:off x="39600" y="1844640"/>
              <a:ext cx="5104800" cy="3269160"/>
              <a:chOff x="39600" y="1844640"/>
              <a:chExt cx="5104800" cy="3269160"/>
            </a:xfrm>
          </p:grpSpPr>
          <p:sp>
            <p:nvSpPr>
              <p:cNvPr id="500" name=""/>
              <p:cNvSpPr/>
              <p:nvPr/>
            </p:nvSpPr>
            <p:spPr>
              <a:xfrm>
                <a:off x="974520" y="4149720"/>
                <a:ext cx="3953520" cy="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255600" y="4149360"/>
                <a:ext cx="718560" cy="720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56320" y="2061000"/>
                <a:ext cx="4672080" cy="2808720"/>
              </a:xfrm>
              <a:prstGeom prst="cube">
                <a:avLst>
                  <a:gd name="adj" fmla="val 25000"/>
                </a:avLst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9960" y="2565000"/>
                <a:ext cx="43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992760" y="2565000"/>
                <a:ext cx="43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9600" y="4654080"/>
                <a:ext cx="43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992760" y="4654080"/>
                <a:ext cx="43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711680" y="1844640"/>
                <a:ext cx="43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711680" y="4005360"/>
                <a:ext cx="43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974880" y="2062440"/>
                <a:ext cx="360" cy="2087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58160" y="1844640"/>
                <a:ext cx="43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58160" y="3933720"/>
                <a:ext cx="43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Marlett"/>
                    <a:ea typeface="Marlett"/>
                  </a:rPr>
                  <a:t>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-736560" y="2052720"/>
              <a:ext cx="5653800" cy="3118680"/>
              <a:chOff x="-736560" y="2052720"/>
              <a:chExt cx="5653800" cy="311868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244800" y="3916080"/>
                <a:ext cx="4598280" cy="1255320"/>
                <a:chOff x="244800" y="3916080"/>
                <a:chExt cx="4598280" cy="125532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244800" y="4178520"/>
                  <a:ext cx="4598280" cy="640440"/>
                </a:xfrm>
                <a:prstGeom prst="parallelogram">
                  <a:avLst>
                    <a:gd name="adj" fmla="val 107133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 txBox="1"/>
                <p:nvPr/>
              </p:nvSpPr>
              <p:spPr>
                <a:xfrm rot="1200000">
                  <a:off x="1733400" y="4147920"/>
                  <a:ext cx="1495800" cy="7912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SlantUp">
                    <a:avLst>
                      <a:gd name="adj" fmla="val 71431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宋体"/>
                    </a:rPr>
                    <a:t>下 面</a:t>
                  </a:r>
                  <a:endParaRPr b="0" lang="en-US" sz="24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宋体"/>
                    <a:ea typeface="宋体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-736560" y="2052720"/>
                <a:ext cx="2778120" cy="2778120"/>
                <a:chOff x="-736560" y="2052720"/>
                <a:chExt cx="2778120" cy="2778120"/>
              </a:xfrm>
            </p:grpSpPr>
            <p:sp>
              <p:nvSpPr>
                <p:cNvPr id="517" name=""/>
                <p:cNvSpPr/>
                <p:nvPr/>
              </p:nvSpPr>
              <p:spPr>
                <a:xfrm rot="8100000">
                  <a:off x="-604800" y="2734920"/>
                  <a:ext cx="2515320" cy="1413360"/>
                </a:xfrm>
                <a:prstGeom prst="parallelogram">
                  <a:avLst>
                    <a:gd name="adj" fmla="val 96654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 txBox="1"/>
                <p:nvPr/>
              </p:nvSpPr>
              <p:spPr>
                <a:xfrm rot="21180000">
                  <a:off x="321840" y="2780640"/>
                  <a:ext cx="607320" cy="790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SlantUp">
                    <a:avLst>
                      <a:gd name="adj" fmla="val 53023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宋体"/>
                    </a:rPr>
                    <a:t>右面</a:t>
                  </a:r>
                  <a:endParaRPr b="0" lang="en-US" sz="2400" spc="-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宋体"/>
                    <a:ea typeface="宋体"/>
                  </a:endParaRPr>
                </a:p>
              </p:txBody>
            </p:sp>
          </p:grpSp>
          <p:sp>
            <p:nvSpPr>
              <p:cNvPr id="519" name=""/>
              <p:cNvSpPr/>
              <p:nvPr/>
            </p:nvSpPr>
            <p:spPr>
              <a:xfrm>
                <a:off x="1056240" y="2059920"/>
                <a:ext cx="3861000" cy="20829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Times New Roman"/>
                  </a:rPr>
                  <a:t>后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0" name=""/>
          <p:cNvGrpSpPr/>
          <p:nvPr/>
        </p:nvGrpSpPr>
        <p:grpSpPr>
          <a:xfrm>
            <a:off x="4284720" y="1764720"/>
            <a:ext cx="5649840" cy="3062880"/>
            <a:chOff x="4284720" y="1764720"/>
            <a:chExt cx="5649840" cy="3062880"/>
          </a:xfrm>
        </p:grpSpPr>
        <p:grpSp>
          <p:nvGrpSpPr>
            <p:cNvPr id="521" name=""/>
            <p:cNvGrpSpPr/>
            <p:nvPr/>
          </p:nvGrpSpPr>
          <p:grpSpPr>
            <a:xfrm>
              <a:off x="4284720" y="1764720"/>
              <a:ext cx="5649840" cy="3062880"/>
              <a:chOff x="4284720" y="1764720"/>
              <a:chExt cx="5649840" cy="3062880"/>
            </a:xfrm>
          </p:grpSpPr>
          <p:grpSp>
            <p:nvGrpSpPr>
              <p:cNvPr id="522" name=""/>
              <p:cNvGrpSpPr/>
              <p:nvPr/>
            </p:nvGrpSpPr>
            <p:grpSpPr>
              <a:xfrm>
                <a:off x="4284720" y="1764720"/>
                <a:ext cx="5649840" cy="3062880"/>
                <a:chOff x="4284720" y="1764720"/>
                <a:chExt cx="5649840" cy="306288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4284720" y="2739960"/>
                  <a:ext cx="3960720" cy="20876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600" spc="-1" strike="noStrike">
                      <a:solidFill>
                        <a:srgbClr val="000000"/>
                      </a:solidFill>
                      <a:latin typeface="Times New Roman"/>
                    </a:rPr>
                    <a:t>前   面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4" name=""/>
                <p:cNvGrpSpPr/>
                <p:nvPr/>
              </p:nvGrpSpPr>
              <p:grpSpPr>
                <a:xfrm>
                  <a:off x="7282440" y="2136240"/>
                  <a:ext cx="2652120" cy="2617920"/>
                  <a:chOff x="7282440" y="2136240"/>
                  <a:chExt cx="2652120" cy="261792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 rot="8220000">
                    <a:off x="7501680" y="2687760"/>
                    <a:ext cx="2213640" cy="1514880"/>
                  </a:xfrm>
                  <a:prstGeom prst="parallelogram">
                    <a:avLst>
                      <a:gd name="adj" fmla="val 94637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 txBox="1"/>
                  <p:nvPr/>
                </p:nvSpPr>
                <p:spPr>
                  <a:xfrm>
                    <a:off x="8389080" y="2883600"/>
                    <a:ext cx="431640" cy="8629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53023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宋体"/>
                      </a:rPr>
                      <a:t>右面</a:t>
                    </a:r>
                    <a:endParaRPr b="0" lang="en-US" sz="2400" spc="-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宋体"/>
                      <a:ea typeface="宋体"/>
                    </a:endParaRPr>
                  </a:p>
                </p:txBody>
              </p:sp>
            </p:grpSp>
            <p:grpSp>
              <p:nvGrpSpPr>
                <p:cNvPr id="527" name=""/>
                <p:cNvGrpSpPr/>
                <p:nvPr/>
              </p:nvGrpSpPr>
              <p:grpSpPr>
                <a:xfrm>
                  <a:off x="4428000" y="1764720"/>
                  <a:ext cx="4465800" cy="1249560"/>
                  <a:chOff x="4428000" y="1764720"/>
                  <a:chExt cx="4465800" cy="124956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4428000" y="2019960"/>
                    <a:ext cx="4465800" cy="648360"/>
                  </a:xfrm>
                  <a:prstGeom prst="parallelogram">
                    <a:avLst>
                      <a:gd name="adj" fmla="val 102776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 txBox="1"/>
                  <p:nvPr/>
                </p:nvSpPr>
                <p:spPr>
                  <a:xfrm rot="1200000">
                    <a:off x="5873760" y="1989000"/>
                    <a:ext cx="1452960" cy="801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71431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宋体"/>
                      </a:rPr>
                      <a:t>上 面</a:t>
                    </a:r>
                    <a:endParaRPr b="0" lang="en-US" sz="2400" spc="-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宋体"/>
                      <a:ea typeface="宋体"/>
                    </a:endParaRPr>
                  </a:p>
                </p:txBody>
              </p:sp>
            </p:grpSp>
          </p:grpSp>
          <p:sp>
            <p:nvSpPr>
              <p:cNvPr id="530" name=""/>
              <p:cNvSpPr/>
              <p:nvPr/>
            </p:nvSpPr>
            <p:spPr>
              <a:xfrm>
                <a:off x="4304160" y="2709360"/>
                <a:ext cx="3889080" cy="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8245080" y="2060640"/>
              <a:ext cx="700920" cy="2735640"/>
              <a:chOff x="8245080" y="2060640"/>
              <a:chExt cx="700920" cy="2735640"/>
            </a:xfrm>
          </p:grpSpPr>
          <p:sp>
            <p:nvSpPr>
              <p:cNvPr id="532" name=""/>
              <p:cNvSpPr/>
              <p:nvPr/>
            </p:nvSpPr>
            <p:spPr>
              <a:xfrm>
                <a:off x="8317800" y="2708280"/>
                <a:ext cx="360" cy="2088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8245080" y="2060640"/>
                <a:ext cx="700920" cy="648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4" name=""/>
          <p:cNvSpPr/>
          <p:nvPr/>
        </p:nvSpPr>
        <p:spPr>
          <a:xfrm>
            <a:off x="1692360" y="5157720"/>
            <a:ext cx="6121440" cy="1201320"/>
          </a:xfrm>
          <a:prstGeom prst="rect">
            <a:avLst/>
          </a:prstGeom>
          <a:solidFill>
            <a:srgbClr val="3333cc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长方体的表面积（六个面的总面积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长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宽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长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高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高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宽）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926280" y="54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方法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Motion origin="layout" path="M 0 0 L 0.228542 -0.000463 E">
                                      <p:cBhvr>
                                        <p:cTn id="822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Motion origin="layout" path="M 0 0 L -0.210347 0.003056 E">
                                      <p:cBhvr>
                                        <p:cTn id="826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0 0 L 0.228542 -0.000463 E">
                                      <p:cBhvr>
                                        <p:cTn id="830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0 0 L -0.210347 0.003056 E">
                                      <p:cBhvr>
                                        <p:cTn id="834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539640" y="5157720"/>
            <a:ext cx="4824360" cy="1108440"/>
          </a:xfrm>
          <a:prstGeom prst="rect">
            <a:avLst/>
          </a:prstGeom>
          <a:solidFill>
            <a:srgbClr val="3399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      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长方体的表面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长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宽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×2 +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长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高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×2 +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高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宽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5796000" y="3213000"/>
            <a:ext cx="2303280" cy="2544480"/>
            <a:chOff x="5796000" y="3213000"/>
            <a:chExt cx="2303280" cy="2544480"/>
          </a:xfrm>
        </p:grpSpPr>
        <p:grpSp>
          <p:nvGrpSpPr>
            <p:cNvPr id="538" name=""/>
            <p:cNvGrpSpPr/>
            <p:nvPr/>
          </p:nvGrpSpPr>
          <p:grpSpPr>
            <a:xfrm>
              <a:off x="5796000" y="3213000"/>
              <a:ext cx="1504440" cy="2544480"/>
              <a:chOff x="5796000" y="3213000"/>
              <a:chExt cx="1504440" cy="2544480"/>
            </a:xfrm>
          </p:grpSpPr>
          <p:sp>
            <p:nvSpPr>
              <p:cNvPr id="539" name=""/>
              <p:cNvSpPr/>
              <p:nvPr/>
            </p:nvSpPr>
            <p:spPr>
              <a:xfrm>
                <a:off x="5796000" y="3213000"/>
                <a:ext cx="1151280" cy="2305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ff"/>
                    </a:solidFill>
                    <a:latin typeface="Times New Roman"/>
                  </a:rPr>
                  <a:t>左 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82200" y="5300280"/>
                <a:ext cx="487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936840" y="41475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高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6948360" y="3213000"/>
              <a:ext cx="1150920" cy="2304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ff"/>
                  </a:solidFill>
                  <a:latin typeface="Times New Roman"/>
                </a:rPr>
                <a:t>右 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7297560" y="530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089920" y="4146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4788000" y="189000"/>
            <a:ext cx="4231800" cy="2813760"/>
            <a:chOff x="4788000" y="189000"/>
            <a:chExt cx="4231800" cy="2813760"/>
          </a:xfrm>
        </p:grpSpPr>
        <p:grpSp>
          <p:nvGrpSpPr>
            <p:cNvPr id="546" name=""/>
            <p:cNvGrpSpPr/>
            <p:nvPr/>
          </p:nvGrpSpPr>
          <p:grpSpPr>
            <a:xfrm>
              <a:off x="4788000" y="189000"/>
              <a:ext cx="4231800" cy="1733760"/>
              <a:chOff x="4788000" y="189000"/>
              <a:chExt cx="4231800" cy="1733760"/>
            </a:xfrm>
          </p:grpSpPr>
          <p:sp>
            <p:nvSpPr>
              <p:cNvPr id="547" name=""/>
              <p:cNvSpPr/>
              <p:nvPr/>
            </p:nvSpPr>
            <p:spPr>
              <a:xfrm>
                <a:off x="4788000" y="189000"/>
                <a:ext cx="3816000" cy="12236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Times New Roman"/>
                  </a:rPr>
                  <a:t>上   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331680" y="134136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ff"/>
                    </a:solidFill>
                    <a:latin typeface="Times New Roman"/>
                  </a:rPr>
                  <a:t>长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532360" y="549000"/>
                <a:ext cx="487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4788000" y="1393920"/>
              <a:ext cx="4231800" cy="1608840"/>
              <a:chOff x="4788000" y="1393920"/>
              <a:chExt cx="4231800" cy="1608840"/>
            </a:xfrm>
          </p:grpSpPr>
          <p:sp>
            <p:nvSpPr>
              <p:cNvPr id="551" name=""/>
              <p:cNvSpPr/>
              <p:nvPr/>
            </p:nvSpPr>
            <p:spPr>
              <a:xfrm>
                <a:off x="4788000" y="1393920"/>
                <a:ext cx="3816000" cy="12232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Times New Roman"/>
                  </a:rPr>
                  <a:t>下   面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300360" y="2545920"/>
                <a:ext cx="4874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532360" y="1753560"/>
                <a:ext cx="4874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828720" y="2278080"/>
            <a:ext cx="3865680" cy="2082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后   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28720" y="189000"/>
            <a:ext cx="3887640" cy="208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前   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54800" y="4294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50440" y="2854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084360" y="1125360"/>
            <a:ext cx="126576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×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794280" y="25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594640" y="162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300360" y="3718080"/>
            <a:ext cx="126576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高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宽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×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47640" y="1917720"/>
            <a:ext cx="237672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长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高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×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3708360" y="2276640"/>
            <a:ext cx="2735280" cy="1873080"/>
            <a:chOff x="3708360" y="2276640"/>
            <a:chExt cx="2735280" cy="1873080"/>
          </a:xfrm>
        </p:grpSpPr>
        <p:sp>
          <p:nvSpPr>
            <p:cNvPr id="564" name=""/>
            <p:cNvSpPr/>
            <p:nvPr/>
          </p:nvSpPr>
          <p:spPr>
            <a:xfrm>
              <a:off x="3708360" y="2276640"/>
              <a:ext cx="2735280" cy="1873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 txBox="1"/>
            <p:nvPr/>
          </p:nvSpPr>
          <p:spPr>
            <a:xfrm>
              <a:off x="3793680" y="2983320"/>
              <a:ext cx="2464200" cy="877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六个面的总面积</a:t>
              </a:r>
              <a:endParaRPr b="0" lang="en-US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181080" y="260280"/>
            <a:ext cx="50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二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3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3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3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3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5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80880" y="3808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一个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米，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米，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米的长方体纸盒，至少要用多少平方厘米硬纸板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638680" y="533520"/>
            <a:ext cx="2514600" cy="1523880"/>
          </a:xfrm>
          <a:prstGeom prst="cube">
            <a:avLst>
              <a:gd name="adj" fmla="val 3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172200" y="533520"/>
            <a:ext cx="0" cy="990360"/>
          </a:xfrm>
          <a:prstGeom prst="line">
            <a:avLst/>
          </a:prstGeom>
          <a:ln cap="rnd" w="93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6171840" y="1523880"/>
            <a:ext cx="1981080" cy="0"/>
          </a:xfrm>
          <a:prstGeom prst="line">
            <a:avLst/>
          </a:prstGeom>
          <a:ln cap="rnd" w="93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638680" y="1523880"/>
            <a:ext cx="533520" cy="533520"/>
          </a:xfrm>
          <a:prstGeom prst="line">
            <a:avLst/>
          </a:prstGeom>
          <a:ln cap="rnd" w="93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8520" y="2057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65800" y="990720"/>
            <a:ext cx="5461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772400" y="1676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0880" y="18288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想：长方体有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面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0720" y="24382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上下每个面，长     厘米，宽    厘米，面积是     平方厘米；前后每个面，长     厘米，宽    厘米，面积是     平方厘米；左右每个面，长     厘米，宽    厘米，面积是     平方厘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00400" y="236232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80204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35400" y="23623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0040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02040" y="2743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935400" y="27432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01840" y="3124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802040" y="3124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935400" y="31240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66680" y="36576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法一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×5×2+6×4×2+5×4×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38080" y="45720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60+48+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502920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148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平方厘米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90720" y="548640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法二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6×5+6×4+5×4) ×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943600" y="3657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30+24+20) ×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943600" y="4191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74×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4648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148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平方厘米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34120" y="5410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至少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方厘米硬纸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533520" y="457200"/>
            <a:ext cx="5257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做一做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长方体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，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，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。它的表面积是多少平方米？（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两种方法计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19920" y="762120"/>
            <a:ext cx="2209680" cy="1600200"/>
          </a:xfrm>
          <a:prstGeom prst="cube">
            <a:avLst>
              <a:gd name="adj" fmla="val 2856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477120" y="76212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477120" y="1905120"/>
            <a:ext cx="1752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6019920" y="1905120"/>
            <a:ext cx="45720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5308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92468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315200" y="12952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.5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95280" y="29257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解法一：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4×3×2+4×2.5×2+3×2.5×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95280" y="3645000"/>
            <a:ext cx="46483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=24+20+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5280" y="49417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=59(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平方米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8720" y="24922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解法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      (4×3+4×2.5+3×2.5) ×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35640" y="3429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(12+10+7.5) ×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35640" y="407664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29.5×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35640" y="458136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59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平方米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92360" y="5181480"/>
            <a:ext cx="53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：他的表面积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方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685800" y="2514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如此题改为同样尺寸的无盖塑料盒表面积如何求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3520" y="457200"/>
            <a:ext cx="5257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做一做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长方体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，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，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。它的表面积是多少平方米？（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两种方法计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19920" y="762120"/>
            <a:ext cx="2209680" cy="1600200"/>
          </a:xfrm>
          <a:prstGeom prst="cube">
            <a:avLst>
              <a:gd name="adj" fmla="val 285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477120" y="76212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6477120" y="1905120"/>
            <a:ext cx="1752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6019920" y="1905120"/>
            <a:ext cx="45720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762120"/>
            <a:ext cx="2209680" cy="457200"/>
          </a:xfrm>
          <a:prstGeom prst="parallelogram">
            <a:avLst>
              <a:gd name="adj" fmla="val 9999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rot="5424600">
            <a:off x="7201440" y="1332360"/>
            <a:ext cx="1600200" cy="458640"/>
          </a:xfrm>
          <a:prstGeom prst="parallelogram">
            <a:avLst>
              <a:gd name="adj" fmla="val 998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5424600">
            <a:off x="5448960" y="1332360"/>
            <a:ext cx="1600200" cy="458640"/>
          </a:xfrm>
          <a:prstGeom prst="parallelogram">
            <a:avLst>
              <a:gd name="adj" fmla="val 998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13440" y="1197000"/>
            <a:ext cx="1752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19920" y="762120"/>
            <a:ext cx="2209680" cy="457200"/>
          </a:xfrm>
          <a:prstGeom prst="parallelogram">
            <a:avLst>
              <a:gd name="adj" fmla="val 9999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6294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315200" y="1447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848720" y="1905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371600" y="3962520"/>
            <a:ext cx="46483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=12+20+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371600" y="52578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=47(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平方米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×3+4×2.5×2+3×2.5×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114800" y="5334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：无盖塑料盒的表面积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方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14400" y="1981080"/>
            <a:ext cx="71629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长方体和正方体的表面积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340000" y="692280"/>
            <a:ext cx="3733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a50021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九年义务教育教材第十册</a:t>
            </a:r>
            <a:endParaRPr b="1" lang="en-US" sz="2400" spc="1" strike="noStrike">
              <a:ln w="12600">
                <a:solidFill>
                  <a:srgbClr val="a50021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 rot="120000">
            <a:off x="1980720" y="1341000"/>
            <a:ext cx="525492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观看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278160" y="2781360"/>
            <a:ext cx="2232000" cy="30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再见</a:t>
            </a:r>
            <a:endParaRPr b="0" lang="en-US" sz="24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2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52388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）长方体有（          ）个面，一般都（              ）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相对的面的（         ）相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5335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口答填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32720" y="1557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长方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13080" y="20606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大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1447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28720" y="3645000"/>
            <a:ext cx="1150920" cy="792000"/>
            <a:chOff x="828720" y="3645000"/>
            <a:chExt cx="1150920" cy="792000"/>
          </a:xfrm>
        </p:grpSpPr>
        <p:sp>
          <p:nvSpPr>
            <p:cNvPr id="92" name=""/>
            <p:cNvSpPr/>
            <p:nvPr/>
          </p:nvSpPr>
          <p:spPr>
            <a:xfrm>
              <a:off x="1332360" y="4075920"/>
              <a:ext cx="647280" cy="3610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8720" y="3645000"/>
              <a:ext cx="609120" cy="764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左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355640" y="2276640"/>
            <a:ext cx="1368720" cy="1152360"/>
            <a:chOff x="4355640" y="2276640"/>
            <a:chExt cx="1368720" cy="1152360"/>
          </a:xfrm>
        </p:grpSpPr>
        <p:sp>
          <p:nvSpPr>
            <p:cNvPr id="95" name=""/>
            <p:cNvSpPr/>
            <p:nvPr/>
          </p:nvSpPr>
          <p:spPr>
            <a:xfrm flipH="1">
              <a:off x="4355640" y="2781000"/>
              <a:ext cx="719640" cy="64800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04000" y="2276640"/>
              <a:ext cx="720360" cy="764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后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997440" y="5445000"/>
            <a:ext cx="1060200" cy="1268640"/>
            <a:chOff x="3997440" y="5445000"/>
            <a:chExt cx="1060200" cy="1268640"/>
          </a:xfrm>
        </p:grpSpPr>
        <p:sp>
          <p:nvSpPr>
            <p:cNvPr id="98" name=""/>
            <p:cNvSpPr/>
            <p:nvPr/>
          </p:nvSpPr>
          <p:spPr>
            <a:xfrm flipH="1" flipV="1">
              <a:off x="3997440" y="5445000"/>
              <a:ext cx="575280" cy="7927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41760" y="5949360"/>
              <a:ext cx="515880" cy="764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下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765440" y="3141720"/>
            <a:ext cx="4495680" cy="25909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81800" y="39337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3789360"/>
            <a:ext cx="3818160" cy="194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63640" y="3141720"/>
            <a:ext cx="4465800" cy="647640"/>
          </a:xfrm>
          <a:prstGeom prst="parallelogram">
            <a:avLst>
              <a:gd name="adj" fmla="val 9778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299736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3640" y="42210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 flipV="1">
            <a:off x="6013440" y="4725720"/>
            <a:ext cx="64764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57920" y="260280"/>
            <a:ext cx="5642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）长方体有（         ）个顶点，（              ）条棱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相对的（         ）条棱都（         ）长方体从一个顶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引出的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条棱分别叫做长方体的（     ）、（    ）、（    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60720" y="189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53080" y="189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765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480" y="83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73440" y="2928960"/>
            <a:ext cx="1143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59440" y="4834080"/>
            <a:ext cx="1143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3355920"/>
            <a:ext cx="3960720" cy="1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00360" y="2637000"/>
            <a:ext cx="396072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4713120"/>
            <a:ext cx="396072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98720" y="5442120"/>
            <a:ext cx="396072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3355920"/>
            <a:ext cx="1440" cy="2087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81280" y="2706840"/>
            <a:ext cx="1440" cy="20872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0560" y="2733840"/>
            <a:ext cx="0" cy="20872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78520" y="3303720"/>
            <a:ext cx="0" cy="20858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050920" y="2637000"/>
            <a:ext cx="648000" cy="647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979640" y="4722840"/>
            <a:ext cx="719280" cy="7192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955840" y="2689200"/>
            <a:ext cx="647640" cy="647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940000" y="4795920"/>
            <a:ext cx="647640" cy="64764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4722840"/>
            <a:ext cx="3960720" cy="14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981080" y="4719600"/>
            <a:ext cx="719280" cy="7192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2637000"/>
            <a:ext cx="4680000" cy="280656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700360" y="2638440"/>
            <a:ext cx="1440" cy="20858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24000" y="3355920"/>
            <a:ext cx="3816360" cy="180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59640" y="2781360"/>
            <a:ext cx="1440" cy="194292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85000" y="3376440"/>
            <a:ext cx="0" cy="194472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74800" y="2739960"/>
            <a:ext cx="0" cy="194472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86120" y="3362400"/>
            <a:ext cx="1440" cy="194472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59040" y="2616120"/>
            <a:ext cx="3816360" cy="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79840" y="4694400"/>
            <a:ext cx="3816360" cy="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5435640"/>
            <a:ext cx="3816360" cy="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4508640"/>
            <a:ext cx="43308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arlett"/>
                <a:ea typeface="Marlett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63640" y="5157720"/>
            <a:ext cx="43344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arlett"/>
                <a:ea typeface="Marlett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4508640"/>
            <a:ext cx="43344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arlett"/>
                <a:ea typeface="Marlett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3139920"/>
            <a:ext cx="43344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arlett"/>
                <a:ea typeface="Marlett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11280" y="2421000"/>
            <a:ext cx="43344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arlett"/>
                <a:ea typeface="Marlett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88000" y="13413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84720" y="13413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08720" y="13413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03600" y="5405400"/>
            <a:ext cx="5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56360" y="50864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08720" y="4005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013440" y="2709360"/>
            <a:ext cx="574560" cy="57636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24360" y="3068640"/>
            <a:ext cx="43344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arlett"/>
                <a:ea typeface="Marlett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72360" y="2421000"/>
            <a:ext cx="43308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arlett"/>
                <a:ea typeface="Marlett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4870440"/>
            <a:ext cx="576360" cy="57456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24360" y="5156280"/>
            <a:ext cx="43344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Marlett"/>
                <a:ea typeface="Marlett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867640" y="5518080"/>
            <a:ext cx="607320" cy="880560"/>
            <a:chOff x="5867640" y="5518080"/>
            <a:chExt cx="607320" cy="880560"/>
          </a:xfrm>
        </p:grpSpPr>
        <p:sp>
          <p:nvSpPr>
            <p:cNvPr id="155" name=""/>
            <p:cNvSpPr/>
            <p:nvPr/>
          </p:nvSpPr>
          <p:spPr>
            <a:xfrm>
              <a:off x="5867640" y="5878080"/>
              <a:ext cx="607320" cy="5205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顶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6012000" y="5518080"/>
              <a:ext cx="215640" cy="360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1900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怎样计算长方体的棱长总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89080" y="1273320"/>
            <a:ext cx="1143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75080" y="3178080"/>
            <a:ext cx="1143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720" y="1700280"/>
            <a:ext cx="3959280" cy="14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17440" y="981000"/>
            <a:ext cx="395928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17440" y="3057480"/>
            <a:ext cx="395928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5800" y="3786120"/>
            <a:ext cx="395928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720" y="1700280"/>
            <a:ext cx="0" cy="2087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98720" y="1050840"/>
            <a:ext cx="0" cy="2087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57640" y="1077840"/>
            <a:ext cx="0" cy="2087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94160" y="1647720"/>
            <a:ext cx="0" cy="20862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6560" y="981000"/>
            <a:ext cx="648000" cy="647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96720" y="3067200"/>
            <a:ext cx="717840" cy="7189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371840" y="1033560"/>
            <a:ext cx="648000" cy="647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355640" y="3139920"/>
            <a:ext cx="647640" cy="6480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17440" y="3067200"/>
            <a:ext cx="3959280" cy="14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96720" y="3063600"/>
            <a:ext cx="720720" cy="7189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720" y="981000"/>
            <a:ext cx="4680000" cy="280692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17440" y="982800"/>
            <a:ext cx="0" cy="20858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1700280"/>
            <a:ext cx="3816360" cy="144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1123920"/>
            <a:ext cx="0" cy="194472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00640" y="1720800"/>
            <a:ext cx="0" cy="194328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90440" y="1084320"/>
            <a:ext cx="1800" cy="194472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200" y="1706400"/>
            <a:ext cx="0" cy="194472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74680" y="958680"/>
            <a:ext cx="3816360" cy="180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95480" y="3038400"/>
            <a:ext cx="3816360" cy="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2720" y="3789360"/>
            <a:ext cx="3816360" cy="144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88000" y="2852640"/>
            <a:ext cx="43488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arlett"/>
                <a:ea typeface="Marlett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1080" y="3502080"/>
            <a:ext cx="43164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arlett"/>
                <a:ea typeface="Marlett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8720" y="2852640"/>
            <a:ext cx="43164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arlett"/>
                <a:ea typeface="Marlett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1080" y="1484280"/>
            <a:ext cx="43164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arlett"/>
                <a:ea typeface="Marlett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8720" y="765000"/>
            <a:ext cx="43164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arlett"/>
                <a:ea typeface="Marlett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21040" y="3749760"/>
            <a:ext cx="5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3440" y="3429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25800" y="2349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429080" y="1052640"/>
            <a:ext cx="576360" cy="5760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40360" y="3500280"/>
            <a:ext cx="43308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Marlett"/>
                <a:ea typeface="Marlett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40360" y="1413000"/>
            <a:ext cx="43308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arlett"/>
                <a:ea typeface="Marlett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88000" y="765000"/>
            <a:ext cx="43488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arlett"/>
                <a:ea typeface="Marlett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32000" y="5661000"/>
            <a:ext cx="17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长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宽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4653000"/>
            <a:ext cx="3816360" cy="144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56000" y="4653000"/>
            <a:ext cx="1152720" cy="14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508720" y="4653000"/>
            <a:ext cx="1800000" cy="792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815280" y="2026080"/>
            <a:ext cx="290520" cy="6696000"/>
          </a:xfrm>
          <a:custGeom>
            <a:avLst/>
            <a:gdLst>
              <a:gd name="textAreaLeft" fmla="*/ 185760 w 290520"/>
              <a:gd name="textAreaRight" fmla="*/ 290880 w 290520"/>
              <a:gd name="textAreaTop" fmla="*/ 333720 h 6696000"/>
              <a:gd name="textAreaBottom" fmla="*/ 6362280 h 66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21"/>
                  <a:pt x="10800" y="3441"/>
                </a:cubicBezTo>
                <a:lnTo>
                  <a:pt x="10800" y="7539"/>
                </a:lnTo>
                <a:cubicBezTo>
                  <a:pt x="10800" y="9260"/>
                  <a:pt x="5400" y="10980"/>
                  <a:pt x="0" y="10980"/>
                </a:cubicBezTo>
                <a:cubicBezTo>
                  <a:pt x="5400" y="10980"/>
                  <a:pt x="10800" y="12701"/>
                  <a:pt x="10800" y="14421"/>
                </a:cubicBezTo>
                <a:lnTo>
                  <a:pt x="10800" y="18159"/>
                </a:lnTo>
                <a:cubicBezTo>
                  <a:pt x="10800" y="1988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9640" y="4941720"/>
            <a:ext cx="3816360" cy="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56000" y="4941720"/>
            <a:ext cx="115272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508720" y="4941720"/>
            <a:ext cx="1800000" cy="648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5157720"/>
            <a:ext cx="3816360" cy="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56000" y="5157720"/>
            <a:ext cx="115272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508720" y="5157720"/>
            <a:ext cx="1800000" cy="648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4292640"/>
            <a:ext cx="3816360" cy="144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4292640"/>
            <a:ext cx="1152720" cy="14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508720" y="4292640"/>
            <a:ext cx="1800000" cy="792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80360" y="4292640"/>
            <a:ext cx="360360" cy="914400"/>
          </a:xfrm>
          <a:custGeom>
            <a:avLst/>
            <a:gdLst>
              <a:gd name="textAreaLeft" fmla="*/ 0 w 360360"/>
              <a:gd name="textAreaRight" fmla="*/ 129960 w 36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9080" y="566100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长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宽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高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×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597440" y="4510080"/>
            <a:ext cx="1192320" cy="1223640"/>
            <a:chOff x="7597440" y="4510080"/>
            <a:chExt cx="1192320" cy="1223640"/>
          </a:xfrm>
        </p:grpSpPr>
        <p:sp>
          <p:nvSpPr>
            <p:cNvPr id="213" name=""/>
            <p:cNvSpPr/>
            <p:nvPr/>
          </p:nvSpPr>
          <p:spPr>
            <a:xfrm>
              <a:off x="8121240" y="4510080"/>
              <a:ext cx="668520" cy="5814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总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597440" y="5086080"/>
              <a:ext cx="863640" cy="6476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5797440" y="836640"/>
            <a:ext cx="2590920" cy="18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方法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3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204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205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0.003333 0.001574 L 0.003333 0.201019 E">
                                      <p:cBhvr>
                                        <p:cTn id="222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-0.055139 0.00463 L -0.056875 0.282223 E">
                                      <p:cBhvr>
                                        <p:cTn id="226" dur="5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0 0 L 0.003958 0.430556 E">
                                      <p:cBhvr>
                                        <p:cTn id="230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Motion origin="layout" path="M -0.073334 0.003241 L -0.067987 0.489352 E">
                                      <p:cBhvr>
                                        <p:cTn id="234" dur="5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Motion origin="layout" path="M -0.456736 -0.2625 L 0.007847 0 E">
                                      <p:cBhvr>
                                        <p:cTn id="238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Motion origin="layout" path="M -0.448889 -0.525 L 0.007847 0 E">
                                      <p:cBhvr>
                                        <p:cTn id="242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Motion origin="layout" path="M -0.023611 -0.482963 L 0 0 E">
                                      <p:cBhvr>
                                        <p:cTn id="246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Motion origin="layout" path="M -0.007847 -0.1575 L 0 0 E">
                                      <p:cBhvr>
                                        <p:cTn id="250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Motion origin="layout" path="M -0.657431 -0.367963 L 0.004028 -0.000463 E">
                                      <p:cBhvr>
                                        <p:cTn id="254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Motion origin="layout" path="M -0.578681 -0.4625 L 0.004028 -0.000463 E">
                                      <p:cBhvr>
                                        <p:cTn id="258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Motion origin="layout" path="M -0.216458 -0.357407 L 0.004028 -0.000463 E">
                                      <p:cBhvr>
                                        <p:cTn id="262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Motion origin="layout" path="M -0.145556 -0.399444 L 0.004028 -0.000463 E">
                                      <p:cBhvr>
                                        <p:cTn id="266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24000" y="1904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怎样计算长方体的棱长总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89080" y="1273320"/>
            <a:ext cx="1143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75080" y="3178080"/>
            <a:ext cx="1143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720" y="1700280"/>
            <a:ext cx="3959280" cy="14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17440" y="981000"/>
            <a:ext cx="395928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17440" y="3057480"/>
            <a:ext cx="395928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5800" y="3786120"/>
            <a:ext cx="395928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720" y="1700280"/>
            <a:ext cx="0" cy="2087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98720" y="1050840"/>
            <a:ext cx="0" cy="2087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57640" y="1077840"/>
            <a:ext cx="0" cy="2087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94160" y="1647720"/>
            <a:ext cx="0" cy="20862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66560" y="981000"/>
            <a:ext cx="648000" cy="647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96720" y="3067200"/>
            <a:ext cx="717840" cy="7189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371840" y="1033560"/>
            <a:ext cx="648000" cy="647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355640" y="3139920"/>
            <a:ext cx="647640" cy="6480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17440" y="3067200"/>
            <a:ext cx="3959280" cy="14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96720" y="3063600"/>
            <a:ext cx="720720" cy="7189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720" y="981000"/>
            <a:ext cx="4680000" cy="280692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17440" y="982800"/>
            <a:ext cx="0" cy="208584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1700280"/>
            <a:ext cx="3816360" cy="144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76720" y="1123920"/>
            <a:ext cx="0" cy="194472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00640" y="1720800"/>
            <a:ext cx="0" cy="194328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90440" y="1084320"/>
            <a:ext cx="1800" cy="194472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3200" y="1706400"/>
            <a:ext cx="0" cy="194472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74680" y="958680"/>
            <a:ext cx="3816360" cy="180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5480" y="3038400"/>
            <a:ext cx="3816360" cy="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3040" y="3778200"/>
            <a:ext cx="3816360" cy="180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88000" y="2852640"/>
            <a:ext cx="43488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arlett"/>
                <a:ea typeface="Marlett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28720" y="2852640"/>
            <a:ext cx="43164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arlett"/>
                <a:ea typeface="Marlett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8720" y="765000"/>
            <a:ext cx="43164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arlett"/>
                <a:ea typeface="Marlett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21040" y="3749760"/>
            <a:ext cx="5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3440" y="3429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25800" y="2349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429080" y="1052640"/>
            <a:ext cx="576360" cy="5760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40360" y="3500280"/>
            <a:ext cx="43308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Marlett"/>
                <a:ea typeface="Marlett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40360" y="1413000"/>
            <a:ext cx="43308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arlett"/>
                <a:ea typeface="Marlett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88000" y="765000"/>
            <a:ext cx="43488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arlett"/>
                <a:ea typeface="Marlett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33800" y="566100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=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长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×4+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宽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×4+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高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×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1080" y="4653000"/>
            <a:ext cx="3816360" cy="144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69080" y="2781360"/>
            <a:ext cx="115092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869080" y="4510080"/>
            <a:ext cx="1800000" cy="648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3815280" y="2026080"/>
            <a:ext cx="290520" cy="6696000"/>
          </a:xfrm>
          <a:custGeom>
            <a:avLst/>
            <a:gdLst>
              <a:gd name="textAreaLeft" fmla="*/ 185760 w 290520"/>
              <a:gd name="textAreaRight" fmla="*/ 290880 w 290520"/>
              <a:gd name="textAreaTop" fmla="*/ 333720 h 6696000"/>
              <a:gd name="textAreaBottom" fmla="*/ 6362280 h 66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21"/>
                  <a:pt x="10800" y="3441"/>
                </a:cubicBezTo>
                <a:lnTo>
                  <a:pt x="10800" y="7539"/>
                </a:lnTo>
                <a:cubicBezTo>
                  <a:pt x="10800" y="9260"/>
                  <a:pt x="5400" y="10980"/>
                  <a:pt x="0" y="10980"/>
                </a:cubicBezTo>
                <a:cubicBezTo>
                  <a:pt x="5400" y="10980"/>
                  <a:pt x="10800" y="12701"/>
                  <a:pt x="10800" y="14421"/>
                </a:cubicBezTo>
                <a:lnTo>
                  <a:pt x="10800" y="18159"/>
                </a:lnTo>
                <a:cubicBezTo>
                  <a:pt x="10800" y="1988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1080" y="4941720"/>
            <a:ext cx="3816360" cy="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69080" y="2997360"/>
            <a:ext cx="115092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869080" y="4797360"/>
            <a:ext cx="1800000" cy="648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1080" y="5157720"/>
            <a:ext cx="3816360" cy="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9080" y="3286080"/>
            <a:ext cx="115092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5869080" y="5086440"/>
            <a:ext cx="1800000" cy="612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1080" y="4292640"/>
            <a:ext cx="3816360" cy="144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9080" y="2492280"/>
            <a:ext cx="1150920" cy="1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869080" y="4149720"/>
            <a:ext cx="1800000" cy="648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40720" y="4149720"/>
            <a:ext cx="360360" cy="914400"/>
          </a:xfrm>
          <a:custGeom>
            <a:avLst/>
            <a:gdLst>
              <a:gd name="textAreaLeft" fmla="*/ 0 w 360360"/>
              <a:gd name="textAreaRight" fmla="*/ 129960 w 36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44520" y="5589720"/>
            <a:ext cx="668520" cy="58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总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45080" y="260280"/>
            <a:ext cx="2590920" cy="1873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方法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70520" y="4280040"/>
            <a:ext cx="360360" cy="914400"/>
          </a:xfrm>
          <a:custGeom>
            <a:avLst/>
            <a:gdLst>
              <a:gd name="textAreaLeft" fmla="*/ 0 w 360360"/>
              <a:gd name="textAreaRight" fmla="*/ 129960 w 36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51680" y="2441520"/>
            <a:ext cx="360360" cy="914400"/>
          </a:xfrm>
          <a:custGeom>
            <a:avLst/>
            <a:gdLst>
              <a:gd name="textAreaLeft" fmla="*/ 0 w 360360"/>
              <a:gd name="textAreaRight" fmla="*/ 129960 w 36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4160" y="2637000"/>
            <a:ext cx="76284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宽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×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91800" y="4365720"/>
            <a:ext cx="76284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高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×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140360" y="3357720"/>
            <a:ext cx="2736720" cy="20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91440" y="4437000"/>
            <a:ext cx="76284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长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×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539640" y="278136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）这是一个（              ），它的长（         ）厘米，宽（         ）厘米，高（         ）厘米，它们的棱长之和是（         ）厘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23240" y="2709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长方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00720" y="27097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60360" y="3070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1280" y="3141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44720" y="35020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684000" y="476280"/>
            <a:ext cx="3543120" cy="2207160"/>
            <a:chOff x="684000" y="476280"/>
            <a:chExt cx="3543120" cy="2207160"/>
          </a:xfrm>
        </p:grpSpPr>
        <p:sp>
          <p:nvSpPr>
            <p:cNvPr id="283" name=""/>
            <p:cNvSpPr/>
            <p:nvPr/>
          </p:nvSpPr>
          <p:spPr>
            <a:xfrm>
              <a:off x="684720" y="476640"/>
              <a:ext cx="2633040" cy="1693080"/>
            </a:xfrm>
            <a:prstGeom prst="cube">
              <a:avLst>
                <a:gd name="adj" fmla="val 4087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403280" y="1483200"/>
              <a:ext cx="1869840" cy="1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03280" y="476280"/>
              <a:ext cx="360" cy="100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84000" y="1485000"/>
              <a:ext cx="718920" cy="706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14280" y="2223720"/>
              <a:ext cx="12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8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86920" y="1701000"/>
              <a:ext cx="100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74560" y="90828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014840" y="407664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法一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×4+4×4+3×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19640" y="465300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32+16+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20000" y="5229360"/>
            <a:ext cx="1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48+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27720" y="573408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6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11280" y="41497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法二：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+ 4 +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×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80040" y="472608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5×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19720" y="522936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6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05760" y="5734080"/>
            <a:ext cx="33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答：它们的棱长之和是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60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141800" y="262080"/>
            <a:ext cx="4103640" cy="2014560"/>
            <a:chOff x="4141800" y="262080"/>
            <a:chExt cx="4103640" cy="2014560"/>
          </a:xfrm>
        </p:grpSpPr>
        <p:sp>
          <p:nvSpPr>
            <p:cNvPr id="299" name=""/>
            <p:cNvSpPr/>
            <p:nvPr/>
          </p:nvSpPr>
          <p:spPr>
            <a:xfrm>
              <a:off x="4967280" y="477000"/>
              <a:ext cx="2009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a50021"/>
                  </a:solidFill>
                  <a:latin typeface="Times New Roman"/>
                </a:rPr>
                <a:t>计算长方体的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a50021"/>
                  </a:solidFill>
                  <a:latin typeface="Times New Roman"/>
                </a:rPr>
                <a:t>棱长之和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1800" y="262080"/>
              <a:ext cx="4103640" cy="2014560"/>
            </a:xfrm>
            <a:prstGeom prst="ellipse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457200" y="6094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说一说长方体和正方体的相同点和不同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2209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长方体和正方体的面、棱和顶点的数目都一样；只是正方体的棱长都相等。正方体可以说是长、宽、高都相等的长方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43400" y="4267080"/>
            <a:ext cx="320040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44956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长方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952880" y="5181480"/>
            <a:ext cx="1905120" cy="7621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9fcefe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正方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1071720" y="1490760"/>
          <a:ext cx="4562280" cy="26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490760"/>
                    <a:ext cx="456228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1066680" y="3429000"/>
            <a:ext cx="4572000" cy="685800"/>
          </a:xfrm>
          <a:prstGeom prst="parallelogram">
            <a:avLst>
              <a:gd name="adj" fmla="val 10052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1447920"/>
            <a:ext cx="4572000" cy="685800"/>
          </a:xfrm>
          <a:prstGeom prst="parallelogram">
            <a:avLst>
              <a:gd name="adj" fmla="val 10052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228600"/>
            <a:ext cx="3886200" cy="1219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52480" y="3429000"/>
            <a:ext cx="3886200" cy="1219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5400000">
            <a:off x="5257440" y="1828800"/>
            <a:ext cx="1981080" cy="1219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152280" y="1828800"/>
            <a:ext cx="1981080" cy="12189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 rot="5400000">
            <a:off x="3961440" y="2438280"/>
            <a:ext cx="2666880" cy="685800"/>
          </a:xfrm>
          <a:prstGeom prst="parallelogram">
            <a:avLst>
              <a:gd name="adj" fmla="val 10276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rot="5400000">
            <a:off x="75240" y="2438280"/>
            <a:ext cx="2666880" cy="685800"/>
          </a:xfrm>
          <a:prstGeom prst="parallelogram">
            <a:avLst>
              <a:gd name="adj" fmla="val 10276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4648320"/>
            <a:ext cx="388620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63640" y="1486080"/>
            <a:ext cx="388620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29000" y="457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29000" y="3962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22860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5880" y="2209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63640" y="1413000"/>
            <a:ext cx="3886200" cy="1981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2209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743200" y="1600200"/>
            <a:ext cx="1143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1447920"/>
            <a:ext cx="4572000" cy="266688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52480" y="1447920"/>
            <a:ext cx="0" cy="1904760"/>
          </a:xfrm>
          <a:prstGeom prst="line">
            <a:avLst/>
          </a:prstGeom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752120" y="3429000"/>
            <a:ext cx="3886200" cy="0"/>
          </a:xfrm>
          <a:prstGeom prst="line">
            <a:avLst/>
          </a:prstGeom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066680" y="3505320"/>
            <a:ext cx="609840" cy="685800"/>
          </a:xfrm>
          <a:prstGeom prst="line">
            <a:avLst/>
          </a:prstGeom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63640" y="260280"/>
            <a:ext cx="3886200" cy="12193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上     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92360" y="3429000"/>
            <a:ext cx="3886200" cy="12193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下      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52480" y="228600"/>
            <a:ext cx="38862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752480" y="3429000"/>
            <a:ext cx="38862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38680" y="228600"/>
            <a:ext cx="0" cy="1219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38680" y="3429000"/>
            <a:ext cx="0" cy="1219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92360" y="4653000"/>
            <a:ext cx="3886200" cy="19810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后       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92360" y="1486080"/>
            <a:ext cx="3886200" cy="19810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前      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52480" y="4648320"/>
            <a:ext cx="38862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52480" y="1447920"/>
            <a:ext cx="38862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38680" y="4648320"/>
            <a:ext cx="0" cy="1981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38680" y="1447920"/>
            <a:ext cx="0" cy="1981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87120" y="1866960"/>
            <a:ext cx="1981080" cy="12193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右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5400000">
            <a:off x="5271840" y="1866960"/>
            <a:ext cx="1981080" cy="12193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右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52480" y="1447920"/>
            <a:ext cx="0" cy="1981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0" y="1447920"/>
            <a:ext cx="0" cy="1981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520" y="1447920"/>
            <a:ext cx="12189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38680" y="1447920"/>
            <a:ext cx="12193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50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1T10:30:12Z</dcterms:created>
  <dc:creator/>
  <dc:description/>
  <dc:language>en-US</dc:language>
  <cp:lastModifiedBy>雨林木风</cp:lastModifiedBy>
  <cp:lastPrinted>1899-12-30T00:00:00Z</cp:lastPrinted>
  <dcterms:modified xsi:type="dcterms:W3CDTF">2013-12-03T02:22:27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