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FB6-6DB3-4DB9-B2B6-ED28796C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998-5CBD-4A83-BB10-7CA7B738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A6E-F450-48DA-A424-8B68A07D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699-95DA-4FAD-8D77-E4A3179F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FD09-BC8B-4A4C-92DD-329E2BF2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7127-B80C-4996-9506-E71D497C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2F01-45C5-45BA-AF45-7D2A877A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A291-B105-4F68-B127-74EEE536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DFE4-AD09-40BE-9CE6-F041BA3B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7EAE-1758-49A5-ABBA-93FF655B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07F4-43FD-4FE3-900C-8570825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6FA-2644-4235-8175-9D168423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2D3C-8FAB-4EB8-BE83-C87892A2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0E64-7047-469E-AD7A-36D1165D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1B3E-6892-464E-91E3-BCD5959F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2FE9-C0D0-4D64-A64F-64B348BD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57CA-34D2-4891-97E5-5B757649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03F-798A-40BD-B44B-7DDE5CD4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329-D9E4-48D5-A79D-FEC29BF2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560-2868-421E-9E46-44EE5CEB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E08-00D0-4E89-8896-56547293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105-85FB-4E73-B25B-F4ED263F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2F9-39FC-494A-9907-8A3896BB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0EB-A858-4A57-B6BD-FBB74733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5AFE-2F60-4B7A-9CCC-A3E05996E4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C182-DC0B-47E5-A1D1-EE9F7963CB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40000"/>
                </a:solidFill>
                <a:latin typeface="Arial"/>
                <a:ea typeface="黑体"/>
              </a:rPr>
              <a:t>单位一练习</a:t>
            </a:r>
            <a:endParaRPr b="0" lang="en-US" sz="9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287280" y="-2426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比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多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9716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6982920" y="376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57280" y="3900600"/>
            <a:ext cx="596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+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多的分率）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83080" y="5032440"/>
            <a:ext cx="14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840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6276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735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935440" y="4724280"/>
            <a:ext cx="2010960" cy="1295640"/>
            <a:chOff x="2935440" y="4724280"/>
            <a:chExt cx="2010960" cy="129564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924360" y="4724280"/>
                  <a:ext cx="5014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2935440" y="5019840"/>
              <a:ext cx="201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（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1+   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87280" y="-2426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比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少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9716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6982920" y="376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520640" y="3900600"/>
            <a:ext cx="58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-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少的分率）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83080" y="5032440"/>
            <a:ext cx="14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840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6276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980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998800" y="4724280"/>
            <a:ext cx="1884240" cy="1295640"/>
            <a:chOff x="2998800" y="4724280"/>
            <a:chExt cx="1884240" cy="129564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3924360" y="4724280"/>
                  <a:ext cx="5014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2998800" y="5019840"/>
              <a:ext cx="188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（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1-   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87280" y="-2426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松树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杨树多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0876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54252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390320" y="3900600"/>
            <a:ext cx="58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×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+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多的分率）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74800" y="5032440"/>
            <a:ext cx="14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840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5840" y="5013360"/>
            <a:ext cx="25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1080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935440" y="4724280"/>
            <a:ext cx="2010960" cy="1295640"/>
            <a:chOff x="2935440" y="4724280"/>
            <a:chExt cx="2010960" cy="1295640"/>
          </a:xfrm>
        </p:grpSpPr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3924360" y="4724280"/>
                  <a:ext cx="5014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6" name=""/>
            <p:cNvSpPr/>
            <p:nvPr/>
          </p:nvSpPr>
          <p:spPr>
            <a:xfrm>
              <a:off x="2935440" y="5019840"/>
              <a:ext cx="201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（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1+   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87280" y="-2426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松树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杨树少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112840" y="1413000"/>
                <a:ext cx="5619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54252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53680" y="3900600"/>
            <a:ext cx="571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×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-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少的分率）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74800" y="5032440"/>
            <a:ext cx="14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840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16276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735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998800" y="4724280"/>
            <a:ext cx="1884240" cy="1295640"/>
            <a:chOff x="2998800" y="4724280"/>
            <a:chExt cx="1884240" cy="1295640"/>
          </a:xfrm>
        </p:grpSpPr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3944880" y="4724280"/>
                  <a:ext cx="46044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6" name=""/>
            <p:cNvSpPr/>
            <p:nvPr/>
          </p:nvSpPr>
          <p:spPr>
            <a:xfrm>
              <a:off x="2998800" y="5019840"/>
              <a:ext cx="188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（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1-   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8317080" y="115920"/>
          <a:ext cx="4460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7080" y="115920"/>
                    <a:ext cx="4460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6227640" y="1773360"/>
          <a:ext cx="462240" cy="11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1773360"/>
                    <a:ext cx="46224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7164360" y="3355920"/>
          <a:ext cx="461880" cy="11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4360" y="3355920"/>
                    <a:ext cx="46188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6156360" y="4911840"/>
          <a:ext cx="433440" cy="110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4911840"/>
                    <a:ext cx="43344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1398240" y="339120"/>
            <a:ext cx="65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公鸡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，母鸡的只数是公鸡的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04280" y="1029240"/>
            <a:ext cx="613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母鸡有多少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公鸡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，是母鸡的   ，母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少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67920" y="3665160"/>
            <a:ext cx="59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公鸡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，母鸡比公鸡多  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33000" y="4148640"/>
            <a:ext cx="613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母鸡有多少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公鸡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，比母鸡多   ，母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少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06320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公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802400" y="2090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母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37680" y="3659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公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43720" y="5200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母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79280" y="220680"/>
            <a:ext cx="86756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向阳村上午割水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亩，下午比上午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割   ，下午割了多少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向阳村下午割水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亩，下午比上午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割   ，上午割了多少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79280" y="3217680"/>
            <a:ext cx="8785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学校元月份用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吨，二月份比元月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约了   。二月份用水多少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学校二月份用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吨，比元月节约了 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月份用水多少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1658880" y="907920"/>
                <a:ext cx="3920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1547640" y="2421000"/>
                <a:ext cx="392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050920" y="3933720"/>
                <a:ext cx="392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8317080" y="4653000"/>
                <a:ext cx="392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7486920" y="347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上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480800" y="177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上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480800" y="3343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元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096240" y="4768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元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50920" y="205236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仓库有一批玩具，运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件，相当于这批玩具数量的   。仓库原有玩具多少万件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仓库有一批玩具，运出这批玩具数量的   后，还剩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件。仓库原有玩具多少万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140360" y="1413000"/>
                <a:ext cx="392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939960" y="3860640"/>
                <a:ext cx="3920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1253520" y="1441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这批玩具数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92280" y="3111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这批玩具数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79280" y="99720"/>
            <a:ext cx="8764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光明养鸡场今年养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4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只，比去年增加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去年养鸡多少只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1476360" y="1052640"/>
                <a:ext cx="4618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7529760" y="361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去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50920" y="3068640"/>
            <a:ext cx="88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本书，小红看了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页，比剩下的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这本书共有多少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63480" y="4005360"/>
                <a:ext cx="5050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6578640" y="3328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剩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24000" y="474120"/>
            <a:ext cx="8208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粮店运来大米和面粉共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袋，其中面粉的袋数比大米少   ，运来的大米和面粉各有多少袋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076720" y="979560"/>
                <a:ext cx="47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3583080" y="11685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大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24000" y="3572640"/>
            <a:ext cx="8353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光明小学六年级有学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，比五年级人数少   ，四年级人数比五年级多   ，四年级有多少人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556000" y="4076640"/>
                <a:ext cx="47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062000" y="5013360"/>
                <a:ext cx="4366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7472520" y="3111480"/>
            <a:ext cx="2355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五年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694560" y="4005360"/>
            <a:ext cx="2355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五年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95280" y="99720"/>
            <a:ext cx="8748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水果市场运来桔子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吨，比运来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苹果的    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吨，运来苹果多少吨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266920" y="1052640"/>
                <a:ext cx="5047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603360" y="126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苹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4000" y="3390120"/>
            <a:ext cx="8424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种服装原来的价钱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9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，现在比原来降价   ，现在的价钱是多少元？现在比原来降价多少元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2975040" y="3933720"/>
                <a:ext cx="6732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1049400" y="4121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原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08000" y="-2426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苹果树是梨树的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7734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131868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60000" y="3900600"/>
            <a:ext cx="45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÷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分率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35800" y="50324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1200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924360" y="4724280"/>
                <a:ext cx="501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4529880" y="5013360"/>
            <a:ext cx="25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1800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24000" y="834480"/>
            <a:ext cx="8351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果园里有桃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，李树的棵数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桃树的   ，又是杏树的   ，杏树有多少棵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052720" y="1341360"/>
                <a:ext cx="503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5838840" y="1341360"/>
                <a:ext cx="4618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530280" y="1547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桃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9240" y="155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杏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250920" y="4363920"/>
          <a:ext cx="4683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363920"/>
                    <a:ext cx="4683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5867280" y="4406760"/>
          <a:ext cx="327240" cy="8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406760"/>
                    <a:ext cx="3272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3966120" y="3590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淘气读一本书，第一天读了这本书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269440" y="4409280"/>
            <a:ext cx="50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第二天读了这本书的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第二天比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91400" y="5157000"/>
            <a:ext cx="48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天多读了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页，这本书一共有多少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68360" y="861120"/>
            <a:ext cx="849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红看一本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页的书，第一天看了全书的   ，第二天看了全书的   ，还剩多少页没有看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7596360" y="1413000"/>
                <a:ext cx="4618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195640" y="1413000"/>
                <a:ext cx="4618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468360" y="549360"/>
          <a:ext cx="302400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302400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468360" y="2616120"/>
          <a:ext cx="302400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616120"/>
                    <a:ext cx="302400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468360" y="4724280"/>
          <a:ext cx="3168720" cy="14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724280"/>
                    <a:ext cx="31687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187280" y="1916280"/>
          <a:ext cx="194472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194472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1187280" y="476280"/>
          <a:ext cx="183528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76280"/>
                    <a:ext cx="18352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08000" y="-2426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梨树是苹果树的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7734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83556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苹果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89520" y="3900600"/>
            <a:ext cx="428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分率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94480" y="5032440"/>
            <a:ext cx="17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1200 </a:t>
            </a:r>
            <a:r>
              <a:rPr b="1" lang="en-US" sz="4000" spc="-1" strike="noStrike">
                <a:solidFill>
                  <a:srgbClr val="e4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924360" y="4724280"/>
                <a:ext cx="501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454680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800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08000" y="-2426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梨树比苹果树多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7734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83880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苹果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90320" y="3900600"/>
            <a:ext cx="58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×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+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多的分率）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7880" y="5032440"/>
            <a:ext cx="17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1200 </a:t>
            </a:r>
            <a:r>
              <a:rPr b="1" lang="en-US" sz="4000" spc="-1" strike="noStrike">
                <a:solidFill>
                  <a:srgbClr val="e4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45840" y="5013360"/>
            <a:ext cx="25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2000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935440" y="4724280"/>
            <a:ext cx="2010960" cy="1295640"/>
            <a:chOff x="2935440" y="4724280"/>
            <a:chExt cx="2010960" cy="129564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3924360" y="4724280"/>
                  <a:ext cx="5014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"/>
            <p:cNvSpPr/>
            <p:nvPr/>
          </p:nvSpPr>
          <p:spPr>
            <a:xfrm>
              <a:off x="2935440" y="5019840"/>
              <a:ext cx="201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（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1+   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08000" y="-2426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比梨树多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04292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7732080" y="387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57280" y="3900600"/>
            <a:ext cx="596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+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多的分率）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66160" y="5032440"/>
            <a:ext cx="175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1200 </a:t>
            </a:r>
            <a:r>
              <a:rPr b="1" lang="en-US" sz="4000" spc="-1" strike="noStrike">
                <a:solidFill>
                  <a:srgbClr val="e40000"/>
                </a:solidFill>
                <a:latin typeface="Arial"/>
                <a:ea typeface="黑体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6276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720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935440" y="4724280"/>
            <a:ext cx="2010960" cy="1295640"/>
            <a:chOff x="2935440" y="4724280"/>
            <a:chExt cx="2010960" cy="1295640"/>
          </a:xfrm>
        </p:grpSpPr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3924360" y="4724280"/>
                  <a:ext cx="5014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0" name=""/>
            <p:cNvSpPr/>
            <p:nvPr/>
          </p:nvSpPr>
          <p:spPr>
            <a:xfrm>
              <a:off x="2935440" y="5019840"/>
              <a:ext cx="201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（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1+   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08000" y="-2426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梨树比苹果树少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7734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83880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苹果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53680" y="3900600"/>
            <a:ext cx="571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×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-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少的分率）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57880" y="5032440"/>
            <a:ext cx="17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1200 </a:t>
            </a:r>
            <a:r>
              <a:rPr b="1" lang="en-US" sz="4000" spc="-1" strike="noStrike">
                <a:solidFill>
                  <a:srgbClr val="e4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6276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400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998800" y="4724280"/>
            <a:ext cx="1884240" cy="1295640"/>
            <a:chOff x="2998800" y="4724280"/>
            <a:chExt cx="1884240" cy="1295640"/>
          </a:xfrm>
        </p:grpSpPr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3924360" y="4724280"/>
                  <a:ext cx="5014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0" name=""/>
            <p:cNvSpPr/>
            <p:nvPr/>
          </p:nvSpPr>
          <p:spPr>
            <a:xfrm>
              <a:off x="2998800" y="5019840"/>
              <a:ext cx="188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（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1-   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108000" y="-2426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比梨树少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04292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7662240" y="387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0640" y="3900600"/>
            <a:ext cx="58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-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少的分率）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66160" y="5032440"/>
            <a:ext cx="175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200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145840" y="5013360"/>
            <a:ext cx="25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3600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998800" y="4724280"/>
            <a:ext cx="1884240" cy="1295640"/>
            <a:chOff x="2998800" y="4724280"/>
            <a:chExt cx="1884240" cy="1295640"/>
          </a:xfrm>
        </p:grpSpPr>
        <mc:AlternateContent>
          <mc:Choice xmlns:a14="http://schemas.microsoft.com/office/drawing/2010/main" Requires="a14">
            <p:sp>
              <p:nvSpPr>
                <p:cNvPr id="559" name=""/>
                <p:cNvSpPr txBox="1"/>
                <p:nvPr/>
              </p:nvSpPr>
              <p:spPr>
                <a:xfrm>
                  <a:off x="3924360" y="4724280"/>
                  <a:ext cx="5014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60" name=""/>
            <p:cNvSpPr/>
            <p:nvPr/>
          </p:nvSpPr>
          <p:spPr>
            <a:xfrm>
              <a:off x="2998800" y="5019840"/>
              <a:ext cx="188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（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1-   </a:t>
              </a:r>
              <a:r>
                <a:rPr b="1" lang="zh-CN" sz="4000" spc="-1" strike="noStrike">
                  <a:solidFill>
                    <a:srgbClr val="e4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792000" y="-242640"/>
            <a:ext cx="889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杨树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松树的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771640" y="1413000"/>
                <a:ext cx="6130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104076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60000" y="3900600"/>
            <a:ext cx="45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÷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分率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053080" y="503244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840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708360" y="4724280"/>
                <a:ext cx="5018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4529880" y="5013360"/>
            <a:ext cx="25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3360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792000" y="-242640"/>
            <a:ext cx="889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松树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杨树的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71640" y="1413000"/>
                <a:ext cx="6130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104076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道用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57120" y="390060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量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×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对应分率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单位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11400" y="5032440"/>
            <a:ext cx="14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840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708360" y="4724280"/>
                <a:ext cx="5018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454680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=210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2:16:04Z</dcterms:created>
  <dc:creator/>
  <dc:description/>
  <dc:language>en-US</dc:language>
  <cp:lastModifiedBy>雨林木风</cp:lastModifiedBy>
  <dcterms:modified xsi:type="dcterms:W3CDTF">2013-12-02T05:11:47Z</dcterms:modified>
  <cp:revision>1</cp:revision>
  <dc:subject/>
  <dc:title>单位一练习</dc:title>
</cp:coreProperties>
</file>