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7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gif" ContentType="image/gif"/>
  <Override PartName="/ppt/media/image8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3FB6-EBE1-4350-8A93-5E56E592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A4A15-CF9A-4EBF-95B3-F3B50DFF6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25264-B8F4-459B-9EF4-B92217F0C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6A49-9426-4742-93FC-77C2C0E8F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584EC-B460-4EFA-8EDC-E379937A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9DADE-7099-4663-8D03-D5A0B9DCF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727B-975E-403D-87DD-C54EE9AA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EC08B-8DE6-4851-88E0-9EA97E7E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C88D-EA65-43B5-8604-B3F952C76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4CA70-B243-4389-9708-29AFDD837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2644-BB4B-4FB5-98F6-8A5DF6E3C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896-C7BA-44D8-9DAB-C03C3CDE4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1A3A5-C6C5-4212-BF19-B64A32BF5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C6ED0-1314-4D62-B7C4-9DAE1751C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E1D9-4A02-442F-BF8A-9E4D3A5C7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42C01-E380-4963-B718-B22F35C60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A9481-AD61-4B2E-815A-00058933C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335187-ED73-46ED-BDC1-94C907E1F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CAF76-C327-45CF-93A6-C4167C17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132F04-474B-4761-AE70-812D0B602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1D6515-30C6-4B82-9A3F-353C51228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ACA7B-EE09-4052-A625-B801DD21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0D4DE-BA84-4FC2-8739-134A8D69D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BA76E7-738D-4328-B8C3-F6308F7AA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57DC2E-EDFA-4756-A987-D9EC756F6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DE3FE3-D4E4-4DFA-82C8-995E23EA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1A5BF0-A171-45DB-B297-D0B71CC38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D2F050-0C82-450B-8279-81E9203C9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750F8A-CA4F-48BB-A8E3-ADCE62FD2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0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1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A6389-3DEF-4A5E-8E39-765FF0E35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49F384-4636-4D03-A77D-2E7EA3116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DE6219-31BD-4C8D-BBC7-DCDDE046E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2857F5-A993-4AFE-916A-13726D1CC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995D-C0D2-4DD8-AC50-8E3E9CE61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C35D0-020C-4636-B7B7-6A143A503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1FAFF-34CD-4E11-B12E-2B0DCA37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E31C4-4B14-4972-BF7B-8D0CAB495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91CCE1-BEA0-45AC-B755-BC6A49354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9ABCED-C8D3-403A-B942-C1D31F95D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A9CE98-549A-4449-9744-A1E905A3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D7A936-3482-45E5-886F-98ACEAEC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4C3699-8BCD-4E77-81DB-26C00CD23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8BD795-6109-4E57-91B6-E737EAC8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474D70-AC21-4D09-B18F-6E8A11499C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21C3-7C21-4958-B811-11CA4BA6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35993D-22E4-41E9-A13B-7C70A0151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FDAC8F-F80C-45A7-8FAE-E5F07215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0D0AAC-FEDE-4C0F-B42D-C5F3C587E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B06F71-F07E-4FEA-83CC-B8FB66D0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9130D0-9F7C-40CA-B362-07538A7AB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7C4F7B-32F8-45BC-BC3C-5C703837C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9E49C6-D044-4D97-A37B-01ACF37C0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5CE56B-C082-497E-9FE3-3A599E4CA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597721-FBAE-4C7A-A851-CF036BDCC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0A422-EBB3-48A4-A031-E734AC082F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FCB5-472A-4E6B-A8F7-3AA963BA5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4C5CDE-C956-43BF-8423-799114D0F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5574A2C-A5AB-4507-BFCF-0F7FF9DE9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CE334B5-E8A6-422A-8A2A-F86D1DBD2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78BF63-BBBF-4B6D-ADBD-A801A3193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5EA8A2-BB84-4CCD-BBED-74E36776D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3E07877-343A-4F0B-B358-92C5F28F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5C559E-C872-4C8A-B2E2-AC3508F7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AF83992-C3FF-45D4-BA1B-BF383EE31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5CED3C-9726-4D2A-8656-59DEDD0F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BD4F24E-ACF7-4A1B-8401-1D016192A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918AF-2396-4155-B9E4-A422671B2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E9B8E0-48BF-4ADA-91B5-CEFAF0CDF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E4DC8A-94A5-4600-B75A-154880642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87C729A-D2BE-496D-9BCF-5503F9C5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C8722-0D29-4E13-988A-9D1C4FFD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2C8F-0EBF-4101-AD9A-7C7765EA19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99C66-4849-4E67-ADBF-433432E6D57C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7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09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4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8A95F-80CC-4218-B6FB-06529B979C9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C395C-4209-4DB2-AB1F-E446B9558A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12CD8-4854-45BC-B453-8EBD33557D3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53949-5E1E-44BC-9E6E-EB2F935CCC0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5A929-7729-496C-8E9B-25DA8C91843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404640"/>
            <a:ext cx="9144000" cy="6120000"/>
          </a:xfrm>
          <a:prstGeom prst="rect">
            <a:avLst/>
          </a:prstGeom>
          <a:ln w="0">
            <a:noFill/>
          </a:ln>
        </p:spPr>
      </p:pic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-360" y="1484280"/>
            <a:ext cx="583236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zh-CN" sz="4400" spc="-1" strike="noStrike">
                <a:solidFill>
                  <a:srgbClr val="e5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ff0000"/>
                </a:solidFill>
                <a:latin typeface="Tahoma"/>
              </a:rPr>
              <a:t>分数混合运算（三）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1332000" y="98100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北师大版五年级数学下册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9144000" cy="554508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692360" y="3500280"/>
            <a:ext cx="6299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东湖小区今年拥有电脑的家庭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户，比去年增加了  ，东湖小区去年拥有电脑的家庭有多少户？</a:t>
            </a:r>
            <a:br>
              <a:rPr sz="2800"/>
            </a:b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835280" y="1268280"/>
            <a:ext cx="5759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0" lang="zh-CN" sz="2800" spc="-1" strike="noStrike">
                <a:solidFill>
                  <a:srgbClr val="ccecff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光明小学六年级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95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，比五年级的人数少  ，五年级有多少人？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5148360" y="3860640"/>
                <a:ext cx="35388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4165560" y="1700280"/>
                <a:ext cx="40644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4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618920" y="2421000"/>
            <a:ext cx="671508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ecff"/>
                </a:solidFill>
                <a:latin typeface="Arial"/>
                <a:ea typeface="楷体_GB2312"/>
              </a:rPr>
              <a:t>     </a:t>
            </a:r>
            <a:r>
              <a:rPr b="0" lang="zh-CN" sz="36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奇怪冰变成水之后，体积反</a:t>
            </a:r>
            <a:br>
              <a:rPr sz="3600"/>
            </a:br>
            <a:r>
              <a:rPr b="0" lang="zh-CN" sz="36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而变大了。水结成冰后，体积增</a:t>
            </a:r>
            <a:br>
              <a:rPr sz="3600"/>
            </a:br>
            <a:r>
              <a:rPr b="0" lang="zh-CN" sz="36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加  。妈妈用冰箱冻了</a:t>
            </a:r>
            <a:r>
              <a:rPr b="0" lang="zh-CN" sz="36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2</a:t>
            </a:r>
            <a:r>
              <a:rPr b="0" lang="zh-CN" sz="3600" spc="-1" strike="noStrike">
                <a:solidFill>
                  <a:srgbClr val="bf0916"/>
                </a:solidFill>
                <a:latin typeface="楷体_GB2312"/>
                <a:ea typeface="楷体_GB2312"/>
              </a:rPr>
              <a:t>立方分米的冰块，用了多少水？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455760" y="2502000"/>
            <a:ext cx="4037040" cy="2690640"/>
          </a:xfrm>
          <a:prstGeom prst="rect">
            <a:avLst/>
          </a:prstGeom>
          <a:ln w="0">
            <a:noFill/>
          </a:ln>
        </p:spPr>
      </p:pic>
      <p:sp>
        <p:nvSpPr>
          <p:cNvPr id="470" name=""/>
          <p:cNvSpPr/>
          <p:nvPr/>
        </p:nvSpPr>
        <p:spPr>
          <a:xfrm>
            <a:off x="1605600" y="129060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f0916"/>
                </a:solidFill>
                <a:latin typeface="Arial"/>
                <a:ea typeface="楷体_GB2312"/>
              </a:rPr>
              <a:t>拓展知识：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1" name=""/>
              <p:cNvSpPr txBox="1"/>
              <p:nvPr/>
            </p:nvSpPr>
            <p:spPr>
              <a:xfrm>
                <a:off x="2268360" y="3645000"/>
                <a:ext cx="40968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500"/>
                            </p:stCondLst>
                            <p:childTnLst>
                              <p:par>
                                <p:cTn id="56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9288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5760" y="847800"/>
            <a:ext cx="6060960" cy="8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Arial"/>
              </a:rPr>
              <a:t>本课小结</a:t>
            </a:r>
            <a:endParaRPr b="0" lang="en-US" sz="6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5760" y="2031480"/>
            <a:ext cx="6276960" cy="312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      </a:t>
            </a:r>
            <a:r>
              <a:rPr b="0" lang="zh-CN" sz="4000" spc="-1" strike="noStrike">
                <a:solidFill>
                  <a:srgbClr val="9900ff"/>
                </a:solidFill>
                <a:latin typeface="Arial"/>
                <a:ea typeface="黑体"/>
              </a:rPr>
              <a:t>学习整数乘以分数的计算方法，让同学们亲自经历探究整数乘以分数的计算原理，能够熟练准确的计算整数乘以分数。</a:t>
            </a: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bf0916"/>
                </a:solidFill>
                <a:latin typeface="Tahoma"/>
              </a:rPr>
              <a:t>教学目标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49080" y="1197000"/>
            <a:ext cx="8243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知识与技能：能根据解决问题的需要，探究有关的数学信息，发展初步的分数乘法的能力。 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过程与方法：学习整数乘以分数的计算方法，能够熟练准确的计算整数乘以分数。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Tahoma"/>
              </a:rPr>
              <a:t>情感、态度与价值观：感受到分数乘法与生活的密切联系，培养学习数学的良好兴趣。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zh-CN" sz="3200" spc="-1" strike="noStrike">
                <a:solidFill>
                  <a:srgbClr val="ff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e5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-360" y="333000"/>
            <a:ext cx="3529080" cy="59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cc00"/>
                </a:solidFill>
                <a:latin typeface="Tahoma"/>
                <a:ea typeface="楷体_GB2312"/>
              </a:rPr>
              <a:t>一、复习导入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0" y="1125000"/>
            <a:ext cx="914400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1.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填一填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五月份比四月份节约了   ，五月份占四月份的（  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八月份比七月份增产了   ，八月份占七月份的（  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3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五年级比六年级人数少   ，五年级人数是六年级的（  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4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今年产值比去年增加了   ，今年产值是去年的（  ）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.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说一说下列的数量关系。（等量关系）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1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参加卫生宣传的有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0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人，占全班人数的  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（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）实际投资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24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万元，占计划投资的   。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	</a:t>
            </a:r>
            <a:r>
              <a:rPr b="0" lang="zh-CN" sz="24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3995640" y="1413000"/>
            <a:ext cx="28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380360" y="1268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380360" y="1628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380360" y="1628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380360" y="242100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7956720" y="3068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7380360" y="3860640"/>
            <a:ext cx="360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380360" y="2060640"/>
            <a:ext cx="28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80360" y="242100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956720" y="3068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956720" y="2708280"/>
            <a:ext cx="21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380360" y="350028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80360" y="3860640"/>
            <a:ext cx="2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5" name=""/>
              <p:cNvSpPr txBox="1"/>
              <p:nvPr/>
            </p:nvSpPr>
            <p:spPr>
              <a:xfrm>
                <a:off x="6012000" y="4941720"/>
                <a:ext cx="47772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6" name=""/>
              <p:cNvSpPr txBox="1"/>
              <p:nvPr/>
            </p:nvSpPr>
            <p:spPr>
              <a:xfrm>
                <a:off x="5148360" y="5661000"/>
                <a:ext cx="392040" cy="827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7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3924360" y="1268280"/>
                <a:ext cx="43164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3924360" y="1989000"/>
                <a:ext cx="36036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5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99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924360" y="2708280"/>
                <a:ext cx="3603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3924360" y="3429000"/>
                <a:ext cx="39060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451640" y="4869000"/>
            <a:ext cx="1371600" cy="12668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300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3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500"/>
                            </p:stCondLst>
                            <p:childTnLst>
                              <p:par>
                                <p:cTn id="4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3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500"/>
                            </p:stCondLst>
                            <p:childTnLst>
                              <p:par>
                                <p:cTn id="7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3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5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1000"/>
                                        <p:tgtEl>
                                          <p:spTgt spid="3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3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3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38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000"/>
                            </p:stCondLst>
                            <p:childTnLst>
                              <p:par>
                                <p:cTn id="1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83236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74872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bf0916"/>
                </a:solidFill>
                <a:latin typeface="Tahoma"/>
                <a:ea typeface="楷体_GB2312"/>
              </a:rPr>
              <a:t>二、探索新知识。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186920" y="1628280"/>
            <a:ext cx="770580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提出问题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 刚 家 九 月 份 用 水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吨，比 八 月 份 节 约 了    ， 八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月 份 用 水 多 少 吨 ？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zh-CN" sz="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6" name=""/>
              <p:cNvSpPr txBox="1"/>
              <p:nvPr/>
            </p:nvSpPr>
            <p:spPr>
              <a:xfrm>
                <a:off x="6227640" y="3429000"/>
                <a:ext cx="662040" cy="105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4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4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4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4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4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/>
          </p:nvPr>
        </p:nvSpPr>
        <p:spPr>
          <a:xfrm>
            <a:off x="0" y="475920"/>
            <a:ext cx="9144000" cy="5607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cc66"/>
                </a:solidFill>
                <a:latin typeface="宋体"/>
              </a:rPr>
              <a:t>估一估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宋体"/>
              </a:rPr>
              <a:t>     </a:t>
            </a:r>
            <a:r>
              <a:rPr b="1" lang="zh-CN" sz="3200" spc="-1" strike="noStrike">
                <a:solidFill>
                  <a:srgbClr val="00cc66"/>
                </a:solidFill>
                <a:latin typeface="宋体"/>
              </a:rPr>
              <a:t>同学们想想：八月份与九月份比较，哪个月的用水量多一点？八月份用水量大约是多少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宋体"/>
              </a:rPr>
              <a:t>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cc66"/>
                </a:solidFill>
                <a:latin typeface="宋体"/>
              </a:rPr>
              <a:t>画线段图分析数量关系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4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8" dur="500"/>
                                        <p:tgtEl>
                                          <p:spTgt spid="4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3" dur="500"/>
                                        <p:tgtEl>
                                          <p:spTgt spid="4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  <p:sp>
        <p:nvSpPr>
          <p:cNvPr id="409" name=""/>
          <p:cNvSpPr/>
          <p:nvPr/>
        </p:nvSpPr>
        <p:spPr>
          <a:xfrm>
            <a:off x="2050920" y="2060640"/>
            <a:ext cx="60501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rot="5400000">
            <a:off x="4824360" y="-1289160"/>
            <a:ext cx="503280" cy="6050160"/>
          </a:xfrm>
          <a:custGeom>
            <a:avLst/>
            <a:gdLst>
              <a:gd name="textAreaLeft" fmla="*/ 360 w 503280"/>
              <a:gd name="textAreaRight" fmla="*/ 182160 w 503280"/>
              <a:gd name="textAreaTop" fmla="*/ 187200 h 6050160"/>
              <a:gd name="textAreaBottom" fmla="*/ 5862960 h 6050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70"/>
                  <a:pt x="10800" y="2139"/>
                </a:cubicBezTo>
                <a:lnTo>
                  <a:pt x="10800" y="8155"/>
                </a:lnTo>
                <a:cubicBezTo>
                  <a:pt x="10800" y="9225"/>
                  <a:pt x="16200" y="10294"/>
                  <a:pt x="21600" y="10294"/>
                </a:cubicBezTo>
                <a:cubicBezTo>
                  <a:pt x="16200" y="10294"/>
                  <a:pt x="10800" y="11364"/>
                  <a:pt x="10800" y="12433"/>
                </a:cubicBezTo>
                <a:lnTo>
                  <a:pt x="10800" y="19461"/>
                </a:lnTo>
                <a:cubicBezTo>
                  <a:pt x="10800" y="20531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050920" y="2997360"/>
            <a:ext cx="51134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164360" y="2060640"/>
            <a:ext cx="0" cy="936720"/>
          </a:xfrm>
          <a:prstGeom prst="line">
            <a:avLst/>
          </a:prstGeom>
          <a:ln w="28440">
            <a:solidFill>
              <a:srgbClr val="00cc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6200000">
            <a:off x="4391640" y="655920"/>
            <a:ext cx="431640" cy="5113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170280 h 5113440"/>
              <a:gd name="textAreaBottom" fmla="*/ 4943160 h 5113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51"/>
                  <a:pt x="10800" y="2302"/>
                </a:cubicBezTo>
                <a:lnTo>
                  <a:pt x="10800" y="8664"/>
                </a:lnTo>
                <a:cubicBezTo>
                  <a:pt x="10800" y="9815"/>
                  <a:pt x="5400" y="10966"/>
                  <a:pt x="0" y="10966"/>
                </a:cubicBezTo>
                <a:cubicBezTo>
                  <a:pt x="5400" y="10966"/>
                  <a:pt x="10800" y="12117"/>
                  <a:pt x="10800" y="13268"/>
                </a:cubicBezTo>
                <a:lnTo>
                  <a:pt x="10800" y="19298"/>
                </a:lnTo>
                <a:cubicBezTo>
                  <a:pt x="10800" y="20449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 rot="5418000">
            <a:off x="7563600" y="2381040"/>
            <a:ext cx="216000" cy="1015920"/>
          </a:xfrm>
          <a:custGeom>
            <a:avLst/>
            <a:gdLst>
              <a:gd name="textAreaLeft" fmla="*/ 360 w 216000"/>
              <a:gd name="textAreaRight" fmla="*/ 78480 w 216000"/>
              <a:gd name="textAreaTop" fmla="*/ 26280 h 1015920"/>
              <a:gd name="textAreaBottom" fmla="*/ 989640 h 1015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8896"/>
                </a:lnTo>
                <a:cubicBezTo>
                  <a:pt x="10800" y="9796"/>
                  <a:pt x="16200" y="10696"/>
                  <a:pt x="21600" y="10696"/>
                </a:cubicBezTo>
                <a:cubicBezTo>
                  <a:pt x="16200" y="10696"/>
                  <a:pt x="10800" y="11596"/>
                  <a:pt x="10800" y="12496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99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164360" y="2997360"/>
            <a:ext cx="1008000" cy="0"/>
          </a:xfrm>
          <a:prstGeom prst="line">
            <a:avLst/>
          </a:prstGeom>
          <a:ln w="28440">
            <a:solidFill>
              <a:srgbClr val="9900f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39640" y="1773360"/>
            <a:ext cx="129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_GB2312"/>
              </a:rPr>
              <a:t>八月份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27280" y="27478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九月份：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572000" y="90792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？吨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4284720" y="3645000"/>
            <a:ext cx="11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吨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236000" y="2349360"/>
            <a:ext cx="7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少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291636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370836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50072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36400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37236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16436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84328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370836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450072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43564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37236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050920" y="1916280"/>
            <a:ext cx="0" cy="1443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101080" y="1916280"/>
            <a:ext cx="0" cy="14256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05092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164360" y="2852640"/>
            <a:ext cx="0" cy="14292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443640" y="4076640"/>
            <a:ext cx="109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7" name=""/>
              <p:cNvSpPr txBox="1"/>
              <p:nvPr/>
            </p:nvSpPr>
            <p:spPr>
              <a:xfrm>
                <a:off x="7596360" y="2133720"/>
                <a:ext cx="399960" cy="71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1000"/>
                            </p:stCondLst>
                            <p:childTnLst>
                              <p:par>
                                <p:cTn id="2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000"/>
                            </p:stCondLst>
                            <p:childTnLst>
                              <p:par>
                                <p:cTn id="27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000"/>
                            </p:stCondLst>
                            <p:childTnLst>
                              <p:par>
                                <p:cTn id="27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1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0"/>
                            </p:stCondLst>
                            <p:childTnLst>
                              <p:par>
                                <p:cTn id="28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2000"/>
                            </p:stCondLst>
                            <p:childTnLst>
                              <p:par>
                                <p:cTn id="32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000"/>
                            </p:stCondLst>
                            <p:childTnLst>
                              <p:par>
                                <p:cTn id="33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3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8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500"/>
                            </p:stCondLst>
                            <p:childTnLst>
                              <p:par>
                                <p:cTn id="3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500"/>
                            </p:stCondLst>
                            <p:childTnLst>
                              <p:par>
                                <p:cTn id="3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/>
          </p:nvPr>
        </p:nvSpPr>
        <p:spPr>
          <a:xfrm>
            <a:off x="1907640" y="476280"/>
            <a:ext cx="67676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cc66"/>
                </a:solidFill>
                <a:latin typeface="Arial"/>
                <a:ea typeface="楷体_GB2312"/>
              </a:rPr>
              <a:t>教师板书：</a:t>
            </a:r>
            <a:endParaRPr b="0" lang="en-US" sz="44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八月份的     是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八月份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－   ）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=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aeaea"/>
                </a:solidFill>
                <a:latin typeface="Arial"/>
              </a:rPr>
              <a:t>           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×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－     ）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=12</a:t>
            </a:r>
            <a:r>
              <a:rPr b="1" lang="zh-CN" sz="3200" spc="-1" strike="noStrike">
                <a:solidFill>
                  <a:srgbClr val="00cc66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075280" y="2421000"/>
            <a:ext cx="0" cy="6476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075280" y="3500280"/>
            <a:ext cx="0" cy="6480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075280" y="1989000"/>
            <a:ext cx="0" cy="0"/>
          </a:xfrm>
          <a:prstGeom prst="line">
            <a:avLst/>
          </a:prstGeom>
          <a:ln w="12600">
            <a:solidFill>
              <a:srgbClr val="eaeaea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706920" y="4149720"/>
            <a:ext cx="57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66"/>
                </a:solidFill>
                <a:latin typeface="Arial"/>
              </a:rPr>
              <a:t>Ⅹ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38920" y="3284640"/>
            <a:ext cx="36036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938920" y="2781360"/>
            <a:ext cx="30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938920" y="3284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  <a:ea typeface="楷体_GB2312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435640" y="213372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  <a:ea typeface="楷体_GB2312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435640" y="162864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  <a:ea typeface="楷体_GB2312"/>
              </a:rPr>
              <a:t>6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35640" y="2133720"/>
            <a:ext cx="43164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867280" y="4437000"/>
            <a:ext cx="4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66"/>
                </a:solidFill>
                <a:latin typeface="Arial"/>
                <a:ea typeface="楷体_GB2312"/>
              </a:rPr>
              <a:t>7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5867280" y="4437000"/>
            <a:ext cx="43200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867280" y="3933720"/>
            <a:ext cx="4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4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500"/>
                            </p:stCondLst>
                            <p:childTnLst>
                              <p:par>
                                <p:cTn id="40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40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7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1000"/>
                            </p:stCondLst>
                            <p:childTnLst>
                              <p:par>
                                <p:cTn id="41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500"/>
                            </p:stCondLst>
                            <p:childTnLst>
                              <p:par>
                                <p:cTn id="4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8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2000"/>
                            </p:stCondLst>
                            <p:childTnLst>
                              <p:par>
                                <p:cTn id="43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4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2500"/>
                            </p:stCondLst>
                            <p:childTnLst>
                              <p:par>
                                <p:cTn id="4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1000"/>
                                        <p:tgtEl>
                                          <p:spTgt spid="4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000"/>
                            </p:stCondLst>
                            <p:childTnLst>
                              <p:par>
                                <p:cTn id="46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4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1500"/>
                            </p:stCondLst>
                            <p:childTnLst>
                              <p:par>
                                <p:cTn id="46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2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3" fill="hold">
                            <p:stCondLst>
                              <p:cond delay="2000"/>
                            </p:stCondLst>
                            <p:childTnLst>
                              <p:par>
                                <p:cTn id="47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8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324000" y="404640"/>
            <a:ext cx="540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4.</a:t>
            </a:r>
            <a:r>
              <a:rPr b="1" lang="zh-CN" sz="4000" spc="-1" strike="noStrike">
                <a:solidFill>
                  <a:srgbClr val="00cc00"/>
                </a:solidFill>
                <a:latin typeface="楷体_GB2312"/>
                <a:ea typeface="楷体_GB2312"/>
              </a:rPr>
              <a:t>列方程解应用题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763640" y="1413000"/>
            <a:ext cx="676908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解：设八月份用水Ⅹ吨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(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－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Ⅹ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=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=14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答：八月份用水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吨。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95280" y="1557360"/>
            <a:ext cx="576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3708360" y="2205000"/>
                <a:ext cx="347760" cy="89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3780000" y="3141720"/>
                <a:ext cx="388800" cy="9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6</m:t>
                        </m:r>
                      </m:num>
                      <m:den>
                        <m:r>
                          <m:t xml:space="preserve">7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 spd="med">
    <p:wipe dir="r"/>
  </p:transition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4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4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00"/>
                            </p:stCondLst>
                            <p:childTnLst>
                              <p:par>
                                <p:cTn id="4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500"/>
                            </p:stCondLst>
                            <p:childTnLst>
                              <p:par>
                                <p:cTn id="5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34920" y="620640"/>
            <a:ext cx="9109080" cy="5616720"/>
          </a:xfrm>
          <a:prstGeom prst="rect">
            <a:avLst/>
          </a:prstGeom>
          <a:ln w="0">
            <a:noFill/>
          </a:ln>
        </p:spPr>
      </p:pic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   </a:t>
            </a:r>
            <a:br>
              <a:rPr sz="3200"/>
            </a:br>
            <a:r>
              <a:rPr b="0" lang="zh-CN" sz="3200" spc="-1" strike="noStrike">
                <a:solidFill>
                  <a:srgbClr val="ccecff"/>
                </a:solidFill>
                <a:latin typeface="Arial"/>
              </a:rPr>
              <a:t>   </a:t>
            </a:r>
            <a:br>
              <a:rPr sz="3200"/>
            </a:br>
            <a:endParaRPr b="0" lang="en-US" sz="3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332000" y="1574640"/>
            <a:ext cx="388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5.</a:t>
            </a:r>
            <a:r>
              <a:rPr b="1" lang="zh-CN" sz="40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检验。</a:t>
            </a:r>
            <a:endParaRPr b="0" lang="en-US" sz="40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806560" y="2633760"/>
            <a:ext cx="106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）学生检验计算结果。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4010040" y="4233960"/>
            <a:ext cx="130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（</a:t>
            </a:r>
            <a:r>
              <a:rPr b="1" lang="zh-CN" sz="32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cc66"/>
                </a:solidFill>
                <a:latin typeface="楷体_GB2312"/>
                <a:ea typeface="楷体_GB2312"/>
              </a:rPr>
              <a:t>）看看自己刚估算的结果是否正确。</a:t>
            </a:r>
            <a:r>
              <a:rPr b="0" lang="zh-CN" sz="3200" spc="-1" strike="noStrike">
                <a:solidFill>
                  <a:srgbClr val="ccecff"/>
                </a:solidFill>
                <a:latin typeface="楷体_GB2312"/>
                <a:ea typeface="楷体_GB2312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pic>
        <p:nvPicPr>
          <p:cNvPr id="462" name="" descr=""/>
          <p:cNvPicPr/>
          <p:nvPr/>
        </p:nvPicPr>
        <p:blipFill>
          <a:blip r:embed="rId2"/>
          <a:stretch/>
        </p:blipFill>
        <p:spPr>
          <a:xfrm>
            <a:off x="6588000" y="476280"/>
            <a:ext cx="2305080" cy="297504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12:32:56Z</dcterms:created>
  <dc:creator/>
  <dc:description/>
  <dc:language>en-US</dc:language>
  <cp:lastModifiedBy>雨林木风</cp:lastModifiedBy>
  <dcterms:modified xsi:type="dcterms:W3CDTF">2013-12-02T05:26:38Z</dcterms:modified>
  <cp:revision>1</cp:revision>
  <dc:subject/>
  <dc:title>     分数混合运算（三）</dc:title>
</cp:coreProperties>
</file>