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gif" ContentType="image/gif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2B4-FC54-4073-B013-DF2A00D9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04E8-A393-4702-AD67-963A7046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06B5-F052-48C2-88C9-0A4C6DEC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81E-AD8F-48FE-B123-434CB1B1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1171-CC0A-4B22-A347-7A1A4B41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923C-9DB0-409A-BFB3-0F376F79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EFA8-EB3F-46B6-936A-48EEA623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7B29-18DF-4BFC-84CD-228CF344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031F-A82C-43D7-AB08-A5B4DF96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1FBD-C797-4083-9044-975EEC2F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523E-DC9E-4B95-892D-A51DE55F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4AF-E8DB-4870-B6C8-76E0C439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F578-555E-481C-982E-F6610716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6923-3BA1-4C9D-AF9E-0AEEB3B3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D0C4-2131-4325-9083-233E4154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042B-BB1B-4E9F-AAA9-10141BE6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235C-9A17-49B4-9A93-E055E3FA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E9EA9-6B0A-484C-8E4E-B9EB941D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87D39-B7DC-4243-B20A-B3D774BC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E2C4F-5A02-4296-B51D-C095B7DE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FE8E2-A1F9-4FF4-AFFC-B612929E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18F38-247C-4EB7-9546-41A50E66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660-A16B-4120-B4B6-5EE093C3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445EC-5130-4B18-BC68-1AE55B8F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70B8A-72B2-4056-9EA9-84BFF6F4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70373-68DF-48BD-9461-DE822E66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DAABC-E58B-4217-974C-9F321EB9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8A824-D50A-4AC9-873D-34996810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0A760-5570-40A7-9236-6C1C18D3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DE27A-4069-48D5-BB44-83D6DF94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957-6D37-420A-A17C-4556869C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410-0E0B-4085-9CBD-62574AE8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D64-01CE-4471-B243-7D774D6D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A393-7810-4008-9BB2-98BF3B0C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CE4F-7E7C-4284-B00E-1F10EA4B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161-6534-4977-AC3C-8E984BFB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CC62-32E5-4D39-9330-0F469D45855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2A64-0A04-48DB-995F-224FEA17645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65C2-FF3B-4924-A7E2-AAD74DE79F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608040" y="-27000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93560" y="1411200"/>
            <a:ext cx="7475760" cy="1724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天才＝</a:t>
            </a: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99%</a:t>
            </a: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的汗水＋</a:t>
            </a: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1%</a:t>
            </a: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的灵感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263680" y="3133440"/>
            <a:ext cx="827280" cy="4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75400" y="3135240"/>
            <a:ext cx="581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927520" y="204840"/>
            <a:ext cx="2692080" cy="1071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会读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3" name=""/>
          <p:cNvSpPr/>
          <p:nvPr/>
        </p:nvSpPr>
        <p:spPr>
          <a:xfrm>
            <a:off x="1017720" y="2386080"/>
            <a:ext cx="651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2%              9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8.1%               0.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50920" y="2349360"/>
            <a:ext cx="845964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分之七                  百分之二十五点六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分之零点五           百分之九十八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分之一点二五        百分之一百二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927520" y="204840"/>
            <a:ext cx="2692080" cy="1071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会写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006560" y="2246400"/>
            <a:ext cx="7078680" cy="1312920"/>
          </a:xfrm>
          <a:prstGeom prst="rect">
            <a:avLst/>
          </a:prstGeom>
          <a:solidFill>
            <a:srgbClr val="ccffcc"/>
          </a:solidFill>
          <a:ln w="63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示一个数是另一个数的百分之几的数，叫作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百分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22360" y="5122800"/>
            <a:ext cx="598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93800" y="3565440"/>
            <a:ext cx="727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百分数也叫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百分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百分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009880" y="982800"/>
            <a:ext cx="4222800" cy="1023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百分数的意义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79280" y="333360"/>
          <a:ext cx="8929800" cy="5008680"/>
        </p:xfrm>
        <a:graphic>
          <a:graphicData uri="http://schemas.openxmlformats.org/drawingml/2006/table">
            <a:tbl>
              <a:tblPr/>
              <a:tblGrid>
                <a:gridCol w="1368360"/>
                <a:gridCol w="1339920"/>
                <a:gridCol w="1422360"/>
                <a:gridCol w="4799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队员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罚球总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罚中次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３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５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７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1" name=""/>
          <p:cNvGrpSpPr/>
          <p:nvPr/>
        </p:nvGrpSpPr>
        <p:grpSpPr>
          <a:xfrm>
            <a:off x="4334040" y="1646280"/>
            <a:ext cx="931680" cy="1260720"/>
            <a:chOff x="4334040" y="1646280"/>
            <a:chExt cx="931680" cy="1260720"/>
          </a:xfrm>
        </p:grpSpPr>
        <p:sp>
          <p:nvSpPr>
            <p:cNvPr id="262" name=""/>
            <p:cNvSpPr/>
            <p:nvPr/>
          </p:nvSpPr>
          <p:spPr>
            <a:xfrm flipH="1">
              <a:off x="4405320" y="1646280"/>
              <a:ext cx="86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34040" y="2203560"/>
              <a:ext cx="86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05320" y="227664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301640" y="2940120"/>
            <a:ext cx="1513080" cy="1260720"/>
            <a:chOff x="4301640" y="2940120"/>
            <a:chExt cx="1513080" cy="1260720"/>
          </a:xfrm>
        </p:grpSpPr>
        <p:sp>
          <p:nvSpPr>
            <p:cNvPr id="266" name=""/>
            <p:cNvSpPr/>
            <p:nvPr/>
          </p:nvSpPr>
          <p:spPr>
            <a:xfrm flipH="1">
              <a:off x="4301280" y="2940120"/>
              <a:ext cx="151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73640" y="3497400"/>
              <a:ext cx="86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44920" y="357048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289400" y="4106880"/>
            <a:ext cx="1154160" cy="1225800"/>
            <a:chOff x="4289400" y="4106880"/>
            <a:chExt cx="1154160" cy="1225800"/>
          </a:xfrm>
        </p:grpSpPr>
        <p:sp>
          <p:nvSpPr>
            <p:cNvPr id="270" name=""/>
            <p:cNvSpPr/>
            <p:nvPr/>
          </p:nvSpPr>
          <p:spPr>
            <a:xfrm flipH="1">
              <a:off x="4289400" y="4106880"/>
              <a:ext cx="1154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32320" y="4629240"/>
              <a:ext cx="86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03600" y="470232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365720" y="347760"/>
            <a:ext cx="30654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罚中的次数是总次数的几分之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542360" y="35100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进球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815080" y="1674720"/>
            <a:ext cx="1366560" cy="1260720"/>
            <a:chOff x="5815080" y="1674720"/>
            <a:chExt cx="1366560" cy="1260720"/>
          </a:xfrm>
        </p:grpSpPr>
        <p:sp>
          <p:nvSpPr>
            <p:cNvPr id="276" name=""/>
            <p:cNvSpPr/>
            <p:nvPr/>
          </p:nvSpPr>
          <p:spPr>
            <a:xfrm flipH="1">
              <a:off x="5919480" y="1674720"/>
              <a:ext cx="126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15080" y="2232000"/>
              <a:ext cx="126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19480" y="230508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292720" y="19573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66080" y="19591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02680" y="1930320"/>
            <a:ext cx="134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7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92720" y="19573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66080" y="19591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264280" y="3208320"/>
            <a:ext cx="3458520" cy="764280"/>
            <a:chOff x="5264280" y="3208320"/>
            <a:chExt cx="3458520" cy="764280"/>
          </a:xfrm>
        </p:grpSpPr>
        <p:sp>
          <p:nvSpPr>
            <p:cNvPr id="285" name=""/>
            <p:cNvSpPr/>
            <p:nvPr/>
          </p:nvSpPr>
          <p:spPr>
            <a:xfrm>
              <a:off x="7373880" y="3208320"/>
              <a:ext cx="1348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4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64280" y="3235320"/>
              <a:ext cx="43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37280" y="3237120"/>
              <a:ext cx="43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816520" y="2948040"/>
            <a:ext cx="1366560" cy="1260720"/>
            <a:chOff x="5816520" y="2948040"/>
            <a:chExt cx="1366560" cy="1260720"/>
          </a:xfrm>
        </p:grpSpPr>
        <p:sp>
          <p:nvSpPr>
            <p:cNvPr id="289" name=""/>
            <p:cNvSpPr/>
            <p:nvPr/>
          </p:nvSpPr>
          <p:spPr>
            <a:xfrm flipH="1">
              <a:off x="5920920" y="2948040"/>
              <a:ext cx="126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16520" y="3505320"/>
              <a:ext cx="126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20920" y="357840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265720" y="4338720"/>
            <a:ext cx="3459240" cy="764280"/>
            <a:chOff x="5265720" y="4338720"/>
            <a:chExt cx="3459240" cy="764280"/>
          </a:xfrm>
        </p:grpSpPr>
        <p:sp>
          <p:nvSpPr>
            <p:cNvPr id="293" name=""/>
            <p:cNvSpPr/>
            <p:nvPr/>
          </p:nvSpPr>
          <p:spPr>
            <a:xfrm>
              <a:off x="7375680" y="4338720"/>
              <a:ext cx="1349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0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65720" y="436536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39080" y="436716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889600" y="4078440"/>
            <a:ext cx="1366560" cy="1260360"/>
            <a:chOff x="5889600" y="4078440"/>
            <a:chExt cx="1366560" cy="1260360"/>
          </a:xfrm>
        </p:grpSpPr>
        <p:sp>
          <p:nvSpPr>
            <p:cNvPr id="297" name=""/>
            <p:cNvSpPr/>
            <p:nvPr/>
          </p:nvSpPr>
          <p:spPr>
            <a:xfrm flipH="1">
              <a:off x="5994000" y="4078440"/>
              <a:ext cx="126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89600" y="4635360"/>
              <a:ext cx="126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94000" y="470844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科技小组做黄豆种子的发芽实验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后种子的发芽情况如下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1520" y="1558800"/>
          <a:ext cx="5319720" cy="3035520"/>
        </p:xfrm>
        <a:graphic>
          <a:graphicData uri="http://schemas.openxmlformats.org/drawingml/2006/table">
            <a:tbl>
              <a:tblPr/>
              <a:tblGrid>
                <a:gridCol w="1444680"/>
                <a:gridCol w="1930320"/>
                <a:gridCol w="1944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品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验种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芽种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592200" y="4816440"/>
            <a:ext cx="223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77800" y="4757760"/>
            <a:ext cx="6232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506600" y="4795920"/>
            <a:ext cx="5754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93720" y="4838760"/>
            <a:ext cx="7550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40920" y="5097600"/>
            <a:ext cx="43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你认为哪个品种的发芽情况最好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802480" y="2158920"/>
            <a:ext cx="1365840" cy="1260720"/>
            <a:chOff x="5802480" y="2158920"/>
            <a:chExt cx="1365840" cy="1260720"/>
          </a:xfrm>
        </p:grpSpPr>
        <p:sp>
          <p:nvSpPr>
            <p:cNvPr id="308" name=""/>
            <p:cNvSpPr/>
            <p:nvPr/>
          </p:nvSpPr>
          <p:spPr>
            <a:xfrm flipH="1">
              <a:off x="5906160" y="2158920"/>
              <a:ext cx="126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02480" y="2716200"/>
              <a:ext cx="126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06880" y="278928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776920" y="3144960"/>
            <a:ext cx="1366560" cy="1260720"/>
            <a:chOff x="5776920" y="3144960"/>
            <a:chExt cx="1366560" cy="1260720"/>
          </a:xfrm>
        </p:grpSpPr>
        <p:sp>
          <p:nvSpPr>
            <p:cNvPr id="312" name=""/>
            <p:cNvSpPr/>
            <p:nvPr/>
          </p:nvSpPr>
          <p:spPr>
            <a:xfrm flipH="1">
              <a:off x="5881320" y="3144960"/>
              <a:ext cx="126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76920" y="3702240"/>
              <a:ext cx="126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81320" y="377532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816520" y="4087800"/>
            <a:ext cx="1366560" cy="1260720"/>
            <a:chOff x="5816520" y="4087800"/>
            <a:chExt cx="1366560" cy="1260720"/>
          </a:xfrm>
        </p:grpSpPr>
        <p:sp>
          <p:nvSpPr>
            <p:cNvPr id="316" name=""/>
            <p:cNvSpPr/>
            <p:nvPr/>
          </p:nvSpPr>
          <p:spPr>
            <a:xfrm flipH="1">
              <a:off x="5920920" y="4087800"/>
              <a:ext cx="126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16520" y="4645080"/>
              <a:ext cx="126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20920" y="471816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 txBox="1"/>
          <p:nvPr/>
        </p:nvSpPr>
        <p:spPr>
          <a:xfrm>
            <a:off x="7283520" y="129708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发芽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0" name=""/>
          <p:cNvSpPr/>
          <p:nvPr/>
        </p:nvSpPr>
        <p:spPr>
          <a:xfrm>
            <a:off x="7078680" y="24289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80120" y="43592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81920" y="34178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402680" y="2387520"/>
            <a:ext cx="134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25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04120" y="3375000"/>
            <a:ext cx="134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28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434360" y="4334040"/>
            <a:ext cx="134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22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87440" y="-2890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937880" y="16844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五次全国人口普查结果表明：目前我国男性人口约占总人口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，女性人口约占总人口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84240" y="3941640"/>
            <a:ext cx="99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85760" y="3433680"/>
            <a:ext cx="1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64960" y="3436920"/>
            <a:ext cx="1825920" cy="29923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6168960" y="3506760"/>
            <a:ext cx="2162160" cy="293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2" name=""/>
          <p:cNvGraphicFramePr/>
          <p:nvPr/>
        </p:nvGraphicFramePr>
        <p:xfrm>
          <a:off x="2049480" y="1508040"/>
          <a:ext cx="4038480" cy="2905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90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99cc"/>
                      </a:solidFill>
                    </a:lnL>
                    <a:lnR w="28080">
                      <a:solidFill>
                        <a:srgbClr val="ff99cc"/>
                      </a:solidFill>
                    </a:lnR>
                    <a:lnT w="28080">
                      <a:solidFill>
                        <a:srgbClr val="ff99cc"/>
                      </a:solidFill>
                    </a:lnT>
                    <a:lnB w="28080">
                      <a:solidFill>
                        <a:srgbClr val="ff99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 txBox="1"/>
          <p:nvPr/>
        </p:nvSpPr>
        <p:spPr>
          <a:xfrm>
            <a:off x="2927520" y="204840"/>
            <a:ext cx="2692080" cy="1071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会说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"/>
          <p:cNvGraphicFramePr/>
          <p:nvPr/>
        </p:nvGraphicFramePr>
        <p:xfrm>
          <a:off x="3106800" y="1397160"/>
          <a:ext cx="3600360" cy="148104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今天全校学生的出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率为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0039"/>
                      </a:solidFill>
                    </a:lnL>
                    <a:lnR w="28080">
                      <a:solidFill>
                        <a:srgbClr val="8c0039"/>
                      </a:solidFill>
                    </a:lnR>
                    <a:lnT w="5760">
                      <a:solidFill>
                        <a:srgbClr val="8c0039"/>
                      </a:solidFill>
                    </a:lnT>
                    <a:lnB w="5760">
                      <a:solidFill>
                        <a:srgbClr val="8c003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133800" y="1422360"/>
          <a:ext cx="3584160" cy="1477440"/>
        </p:xfrm>
        <a:graphic>
          <a:graphicData uri="http://schemas.openxmlformats.org/drawingml/2006/table">
            <a:tbl>
              <a:tblPr/>
              <a:tblGrid>
                <a:gridCol w="3584160"/>
              </a:tblGrid>
              <a:tr h="14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c0039"/>
                      </a:solidFill>
                    </a:lnL>
                    <a:lnR w="28080">
                      <a:solidFill>
                        <a:srgbClr val="8c0039"/>
                      </a:solidFill>
                    </a:lnR>
                    <a:lnT w="28080">
                      <a:solidFill>
                        <a:srgbClr val="8c0039"/>
                      </a:solidFill>
                    </a:lnT>
                    <a:lnB w="28080">
                      <a:solidFill>
                        <a:srgbClr val="8c003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761160" y="2077920"/>
            <a:ext cx="1428840" cy="3495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2927520" y="204840"/>
            <a:ext cx="2692080" cy="1071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会说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-361800" y="-1684440"/>
            <a:ext cx="6987960" cy="106110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5378400" y="-1627200"/>
            <a:ext cx="5870520" cy="10379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2886120" y="11034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8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％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90800" y="2308320"/>
            <a:ext cx="14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％涤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0"/>
            <a:ext cx="2692440" cy="107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会说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771480" y="2714760"/>
            <a:ext cx="2421000" cy="37353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2998800" y="630360"/>
            <a:ext cx="6145200" cy="50878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227160" y="785880"/>
            <a:ext cx="2692080" cy="1071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会说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203040" y="1030320"/>
          <a:ext cx="8562960" cy="4425840"/>
        </p:xfrm>
        <a:graphic>
          <a:graphicData uri="http://schemas.openxmlformats.org/drawingml/2006/table">
            <a:tbl>
              <a:tblPr/>
              <a:tblGrid>
                <a:gridCol w="1393920"/>
                <a:gridCol w="3584520"/>
                <a:gridCol w="3584520"/>
              </a:tblGrid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"/>
          <p:cNvSpPr/>
          <p:nvPr/>
        </p:nvSpPr>
        <p:spPr>
          <a:xfrm>
            <a:off x="-261720" y="2641680"/>
            <a:ext cx="164268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区    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610000" y="1284120"/>
            <a:ext cx="186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分  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932440" y="1344600"/>
            <a:ext cx="237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百 分 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825560" y="253368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既可以表示两个数量之间的关系，也可以表示某个具体的数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81720" y="2519280"/>
            <a:ext cx="30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只表示两个数量之间的关系，后面不能带单位名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925640" y="5786280"/>
            <a:ext cx="5884920" cy="849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写法不同   读法不同  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ver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2504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303200" y="2449440"/>
            <a:ext cx="5708880" cy="153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百分数的认识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33240" y="56196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北师大版五年级下册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224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下面哪几个分数可以写成百分数的形式？哪几个不能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9720" y="1630080"/>
            <a:ext cx="7753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第一根绳子长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第二根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子的长度是它的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986280" y="1801800"/>
                <a:ext cx="8874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987720" y="3070080"/>
                <a:ext cx="82728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561960" y="2809800"/>
            <a:ext cx="725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7560" y="2968560"/>
            <a:ext cx="7481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3720" y="4552920"/>
            <a:ext cx="784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妈妈买了一些葡萄重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千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明吃了这些葡萄的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5330880" y="4103640"/>
                <a:ext cx="8157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429080" y="5392800"/>
                <a:ext cx="846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号入座：（请选择合适的数填空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350720" y="947880"/>
            <a:ext cx="719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85760" y="1522440"/>
            <a:ext cx="7680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老师希望理解百分数意义的同学占全班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学的（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73320" y="2786040"/>
            <a:ext cx="764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本书已经看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，还剩下（      ）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28680" y="4218120"/>
            <a:ext cx="75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开展节约活动以来，本月学校的用电量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上月减少了（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73240" y="5423040"/>
            <a:ext cx="75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某车间机器经过改良，现在每月产量是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来每月产量的（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1647720"/>
            <a:ext cx="81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321280" y="2171880"/>
            <a:ext cx="10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100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7280" y="3419640"/>
            <a:ext cx="128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86640" y="2805120"/>
            <a:ext cx="8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55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8800" y="2141640"/>
            <a:ext cx="84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02000" y="465120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1.7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35480" y="5857920"/>
            <a:ext cx="16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120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80" y="35136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80" y="35136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50920" y="6021360"/>
            <a:ext cx="792000" cy="5032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763640" y="6021360"/>
            <a:ext cx="792360" cy="503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3132000" y="6021360"/>
            <a:ext cx="792360" cy="5032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4859280" y="6021360"/>
            <a:ext cx="792360" cy="5032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5"/>
          <a:stretch/>
        </p:blipFill>
        <p:spPr>
          <a:xfrm>
            <a:off x="6156360" y="6021360"/>
            <a:ext cx="792000" cy="5032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6"/>
          <a:stretch/>
        </p:blipFill>
        <p:spPr>
          <a:xfrm>
            <a:off x="7740720" y="5950080"/>
            <a:ext cx="792000" cy="5032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611280" y="306792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分母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分数就是百分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4149720"/>
            <a:ext cx="6662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一根绳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％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00000" y="1844640"/>
            <a:ext cx="79200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这批产品的合格率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98%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26920" y="112536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判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25640" y="299520"/>
            <a:ext cx="283392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找朋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百发百中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箭双雕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百里挑一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十拿九稳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分为二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63680" y="1670040"/>
            <a:ext cx="1700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4194000" y="3830760"/>
            <a:ext cx="1654200" cy="194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208400" y="3801960"/>
            <a:ext cx="1568520" cy="8859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280040" y="2859120"/>
            <a:ext cx="1611000" cy="194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151160" y="1784520"/>
            <a:ext cx="1656000" cy="3875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222800" y="1828800"/>
            <a:ext cx="1655640" cy="10303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7280" y="2741400"/>
            <a:ext cx="813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请你在</a:t>
            </a:r>
            <a:r>
              <a:rPr b="1" lang="zh-CN" sz="4000" spc="-1" strike="noStrike">
                <a:solidFill>
                  <a:srgbClr val="ff3300"/>
                </a:solidFill>
                <a:latin typeface="方正大黑简体"/>
                <a:ea typeface="方正大黑简体"/>
              </a:rPr>
              <a:t>10</a:t>
            </a:r>
            <a:r>
              <a:rPr b="1" lang="zh-CN" sz="4000" spc="-1" strike="noStrike">
                <a:solidFill>
                  <a:srgbClr val="ff3300"/>
                </a:solidFill>
                <a:latin typeface="方正大黑简体"/>
                <a:ea typeface="方正大黑简体"/>
              </a:rPr>
              <a:t>秒</a:t>
            </a:r>
            <a:r>
              <a:rPr b="1" lang="zh-CN" sz="4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内写</a:t>
            </a:r>
            <a:r>
              <a:rPr b="1" lang="zh-CN" sz="4000" spc="-1" strike="noStrike">
                <a:solidFill>
                  <a:srgbClr val="ff3300"/>
                </a:solidFill>
                <a:latin typeface="方正大黑简体"/>
                <a:ea typeface="方正大黑简体"/>
              </a:rPr>
              <a:t>十</a:t>
            </a:r>
            <a:r>
              <a:rPr b="1" lang="zh-CN" sz="4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个不同的百分数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849240" y="1166760"/>
            <a:ext cx="2997360" cy="763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比比谁最棒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99" name=""/>
          <p:cNvSpPr/>
          <p:nvPr/>
        </p:nvSpPr>
        <p:spPr>
          <a:xfrm>
            <a:off x="493560" y="4179960"/>
            <a:ext cx="865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我完成了（     ）个，        是全部任务的（    ）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%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33336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一场足球比赛中，猛虎队获得了一次罚点球的机会，他们准备派下列三名队员中的一名去罚点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4140" r="41737" b="53275"/>
          <a:stretch/>
        </p:blipFill>
        <p:spPr>
          <a:xfrm>
            <a:off x="0" y="1930320"/>
            <a:ext cx="5307120" cy="313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57466" t="0" r="45" b="52795"/>
          <a:stretch/>
        </p:blipFill>
        <p:spPr>
          <a:xfrm>
            <a:off x="5313240" y="1944720"/>
            <a:ext cx="3541680" cy="312588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3600360" y="4387680"/>
            <a:ext cx="4572000" cy="2470320"/>
            <a:chOff x="3600360" y="4387680"/>
            <a:chExt cx="4572000" cy="2470320"/>
          </a:xfrm>
        </p:grpSpPr>
        <p:sp>
          <p:nvSpPr>
            <p:cNvPr id="137" name=""/>
            <p:cNvSpPr/>
            <p:nvPr/>
          </p:nvSpPr>
          <p:spPr>
            <a:xfrm>
              <a:off x="3600360" y="4387680"/>
              <a:ext cx="4572000" cy="2470320"/>
            </a:xfrm>
            <a:prstGeom prst="irregularSeal1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69880" y="5099040"/>
              <a:ext cx="1826640" cy="119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你认为应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派哪名队员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24000" y="260280"/>
          <a:ext cx="7127640" cy="3573360"/>
        </p:xfrm>
        <a:graphic>
          <a:graphicData uri="http://schemas.openxmlformats.org/drawingml/2006/table">
            <a:tbl>
              <a:tblPr/>
              <a:tblGrid>
                <a:gridCol w="1755720"/>
                <a:gridCol w="2989080"/>
                <a:gridCol w="2382840"/>
              </a:tblGrid>
              <a:tr h="91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队员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罚点球总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罚中次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611280" y="4005360"/>
            <a:ext cx="8532720" cy="2852640"/>
          </a:xfrm>
          <a:prstGeom prst="cloudCallout">
            <a:avLst>
              <a:gd name="adj1" fmla="val -28699"/>
              <a:gd name="adj2" fmla="val 353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请同学们讨论一下应选派哪名队员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与同学进行交流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79280" y="333360"/>
          <a:ext cx="8929800" cy="4896000"/>
        </p:xfrm>
        <a:graphic>
          <a:graphicData uri="http://schemas.openxmlformats.org/drawingml/2006/table">
            <a:tbl>
              <a:tblPr/>
              <a:tblGrid>
                <a:gridCol w="1368360"/>
                <a:gridCol w="2232360"/>
                <a:gridCol w="2232000"/>
                <a:gridCol w="3097080"/>
              </a:tblGrid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队员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罚球总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罚中次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３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５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７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zh-CN" sz="4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6732720" y="1574640"/>
            <a:ext cx="931680" cy="1260720"/>
            <a:chOff x="6732720" y="1574640"/>
            <a:chExt cx="931680" cy="1260720"/>
          </a:xfrm>
        </p:grpSpPr>
        <p:sp>
          <p:nvSpPr>
            <p:cNvPr id="143" name=""/>
            <p:cNvSpPr/>
            <p:nvPr/>
          </p:nvSpPr>
          <p:spPr>
            <a:xfrm flipH="1">
              <a:off x="6804000" y="1574640"/>
              <a:ext cx="86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32720" y="2131920"/>
              <a:ext cx="86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04000" y="220500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587640" y="2852640"/>
            <a:ext cx="1513080" cy="1260720"/>
            <a:chOff x="6587640" y="2852640"/>
            <a:chExt cx="1513080" cy="1260720"/>
          </a:xfrm>
        </p:grpSpPr>
        <p:sp>
          <p:nvSpPr>
            <p:cNvPr id="147" name=""/>
            <p:cNvSpPr/>
            <p:nvPr/>
          </p:nvSpPr>
          <p:spPr>
            <a:xfrm flipH="1">
              <a:off x="6587280" y="2852640"/>
              <a:ext cx="151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59640" y="3409920"/>
              <a:ext cx="86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30920" y="348300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516720" y="4149720"/>
            <a:ext cx="1154160" cy="1225800"/>
            <a:chOff x="6516720" y="4149720"/>
            <a:chExt cx="1154160" cy="1225800"/>
          </a:xfrm>
        </p:grpSpPr>
        <p:sp>
          <p:nvSpPr>
            <p:cNvPr id="151" name=""/>
            <p:cNvSpPr/>
            <p:nvPr/>
          </p:nvSpPr>
          <p:spPr>
            <a:xfrm flipH="1">
              <a:off x="6516720" y="4149720"/>
              <a:ext cx="1154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59640" y="4672080"/>
              <a:ext cx="86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30920" y="474516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977080" y="347760"/>
            <a:ext cx="3166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罚中的次数是总次数的几分之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19280" y="5229360"/>
            <a:ext cx="7129440" cy="1628640"/>
          </a:xfrm>
          <a:prstGeom prst="cloudCallout">
            <a:avLst>
              <a:gd name="adj1" fmla="val -24504"/>
              <a:gd name="adj2" fmla="val 24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56000" y="544500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个时候大家能不能看出谁的进球率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513560" y="69840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进球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如果我们把上面的三个分数化成分母为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的分数就很容易看出了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258920" y="1700280"/>
            <a:ext cx="931680" cy="1260720"/>
            <a:chOff x="1258920" y="1700280"/>
            <a:chExt cx="931680" cy="1260720"/>
          </a:xfrm>
        </p:grpSpPr>
        <p:sp>
          <p:nvSpPr>
            <p:cNvPr id="161" name=""/>
            <p:cNvSpPr/>
            <p:nvPr/>
          </p:nvSpPr>
          <p:spPr>
            <a:xfrm flipH="1">
              <a:off x="1330200" y="1700280"/>
              <a:ext cx="86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58920" y="2257560"/>
              <a:ext cx="86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30200" y="233064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115640" y="3068640"/>
            <a:ext cx="1513080" cy="1260720"/>
            <a:chOff x="1115640" y="3068640"/>
            <a:chExt cx="1513080" cy="1260720"/>
          </a:xfrm>
        </p:grpSpPr>
        <p:sp>
          <p:nvSpPr>
            <p:cNvPr id="165" name=""/>
            <p:cNvSpPr/>
            <p:nvPr/>
          </p:nvSpPr>
          <p:spPr>
            <a:xfrm flipH="1">
              <a:off x="1115280" y="3068640"/>
              <a:ext cx="151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87640" y="3625920"/>
              <a:ext cx="86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58920" y="369900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042920" y="4653000"/>
            <a:ext cx="1154160" cy="1225800"/>
            <a:chOff x="1042920" y="4653000"/>
            <a:chExt cx="1154160" cy="1225800"/>
          </a:xfrm>
        </p:grpSpPr>
        <p:sp>
          <p:nvSpPr>
            <p:cNvPr id="169" name=""/>
            <p:cNvSpPr/>
            <p:nvPr/>
          </p:nvSpPr>
          <p:spPr>
            <a:xfrm flipH="1">
              <a:off x="1042920" y="4653000"/>
              <a:ext cx="1154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85840" y="5175360"/>
              <a:ext cx="86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57120" y="524844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484360" y="191628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276720" y="1628640"/>
            <a:ext cx="1941840" cy="1260720"/>
            <a:chOff x="3276720" y="1628640"/>
            <a:chExt cx="1941840" cy="1260720"/>
          </a:xfrm>
        </p:grpSpPr>
        <p:sp>
          <p:nvSpPr>
            <p:cNvPr id="174" name=""/>
            <p:cNvSpPr/>
            <p:nvPr/>
          </p:nvSpPr>
          <p:spPr>
            <a:xfrm flipH="1">
              <a:off x="3427200" y="1628640"/>
              <a:ext cx="179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6720" y="2185920"/>
              <a:ext cx="179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25040" y="2259000"/>
              <a:ext cx="1499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364000" y="184464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300720" y="1700280"/>
            <a:ext cx="1366560" cy="1260720"/>
            <a:chOff x="6300720" y="1700280"/>
            <a:chExt cx="1366560" cy="1260720"/>
          </a:xfrm>
        </p:grpSpPr>
        <p:sp>
          <p:nvSpPr>
            <p:cNvPr id="179" name=""/>
            <p:cNvSpPr/>
            <p:nvPr/>
          </p:nvSpPr>
          <p:spPr>
            <a:xfrm flipH="1">
              <a:off x="6405120" y="1700280"/>
              <a:ext cx="126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00720" y="2257560"/>
              <a:ext cx="126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05120" y="233064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484360" y="3213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131640" y="3068640"/>
            <a:ext cx="2952360" cy="1260720"/>
            <a:chOff x="3131640" y="3068640"/>
            <a:chExt cx="2952360" cy="1260720"/>
          </a:xfrm>
        </p:grpSpPr>
        <p:sp>
          <p:nvSpPr>
            <p:cNvPr id="184" name=""/>
            <p:cNvSpPr/>
            <p:nvPr/>
          </p:nvSpPr>
          <p:spPr>
            <a:xfrm flipH="1">
              <a:off x="3131280" y="3068640"/>
              <a:ext cx="29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1" i="1" lang="zh-CN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1680" y="3625920"/>
              <a:ext cx="1678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10640" y="3699000"/>
              <a:ext cx="14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435640" y="321300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156000" y="3068640"/>
            <a:ext cx="1944360" cy="1260720"/>
            <a:chOff x="6156000" y="3068640"/>
            <a:chExt cx="1944360" cy="1260720"/>
          </a:xfrm>
        </p:grpSpPr>
        <p:sp>
          <p:nvSpPr>
            <p:cNvPr id="189" name=""/>
            <p:cNvSpPr/>
            <p:nvPr/>
          </p:nvSpPr>
          <p:spPr>
            <a:xfrm flipH="1">
              <a:off x="6155640" y="3068640"/>
              <a:ext cx="194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48160" y="3625920"/>
              <a:ext cx="1105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9960" y="3699000"/>
              <a:ext cx="925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411280" y="486900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985920" y="4656240"/>
            <a:ext cx="1944360" cy="1260720"/>
            <a:chOff x="3985920" y="4656240"/>
            <a:chExt cx="1944360" cy="1260720"/>
          </a:xfrm>
        </p:grpSpPr>
        <p:sp>
          <p:nvSpPr>
            <p:cNvPr id="194" name=""/>
            <p:cNvSpPr/>
            <p:nvPr/>
          </p:nvSpPr>
          <p:spPr>
            <a:xfrm flipH="1">
              <a:off x="3985560" y="4656240"/>
              <a:ext cx="194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78080" y="5213520"/>
              <a:ext cx="1105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69880" y="5286600"/>
              <a:ext cx="925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科技小组做黄豆种子的发芽实验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后种子的发芽情况如下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01520" y="1558800"/>
          <a:ext cx="5319720" cy="3035520"/>
        </p:xfrm>
        <a:graphic>
          <a:graphicData uri="http://schemas.openxmlformats.org/drawingml/2006/table">
            <a:tbl>
              <a:tblPr/>
              <a:tblGrid>
                <a:gridCol w="1444680"/>
                <a:gridCol w="1930320"/>
                <a:gridCol w="1944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品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验种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芽种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592200" y="4816440"/>
            <a:ext cx="223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77800" y="4757760"/>
            <a:ext cx="6232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06600" y="4795920"/>
            <a:ext cx="5754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93720" y="4838760"/>
            <a:ext cx="7550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40920" y="5097600"/>
            <a:ext cx="43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你认为哪个品种的发芽情况最好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370640" y="2013120"/>
            <a:ext cx="1366560" cy="1260360"/>
            <a:chOff x="7370640" y="2013120"/>
            <a:chExt cx="1366560" cy="1260360"/>
          </a:xfrm>
        </p:grpSpPr>
        <p:sp>
          <p:nvSpPr>
            <p:cNvPr id="205" name=""/>
            <p:cNvSpPr/>
            <p:nvPr/>
          </p:nvSpPr>
          <p:spPr>
            <a:xfrm flipH="1">
              <a:off x="7475040" y="2013120"/>
              <a:ext cx="126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70640" y="2570040"/>
              <a:ext cx="126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75040" y="264312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578640" y="237168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11960" y="2084400"/>
            <a:ext cx="932400" cy="1260720"/>
            <a:chOff x="5511960" y="2084400"/>
            <a:chExt cx="932400" cy="1260720"/>
          </a:xfrm>
        </p:grpSpPr>
        <p:sp>
          <p:nvSpPr>
            <p:cNvPr id="210" name=""/>
            <p:cNvSpPr/>
            <p:nvPr/>
          </p:nvSpPr>
          <p:spPr>
            <a:xfrm flipH="1">
              <a:off x="5582520" y="2084400"/>
              <a:ext cx="86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11960" y="2641680"/>
              <a:ext cx="86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83240" y="2714760"/>
              <a:ext cx="72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358040" y="3057480"/>
            <a:ext cx="1366560" cy="1260720"/>
            <a:chOff x="7358040" y="3057480"/>
            <a:chExt cx="1366560" cy="1260720"/>
          </a:xfrm>
        </p:grpSpPr>
        <p:sp>
          <p:nvSpPr>
            <p:cNvPr id="214" name=""/>
            <p:cNvSpPr/>
            <p:nvPr/>
          </p:nvSpPr>
          <p:spPr>
            <a:xfrm flipH="1">
              <a:off x="7462440" y="3057480"/>
              <a:ext cx="126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58040" y="3614760"/>
              <a:ext cx="126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62440" y="368784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402680" y="4087800"/>
            <a:ext cx="1365840" cy="1260720"/>
            <a:chOff x="7402680" y="4087800"/>
            <a:chExt cx="1365840" cy="1260720"/>
          </a:xfrm>
        </p:grpSpPr>
        <p:sp>
          <p:nvSpPr>
            <p:cNvPr id="218" name=""/>
            <p:cNvSpPr/>
            <p:nvPr/>
          </p:nvSpPr>
          <p:spPr>
            <a:xfrm flipH="1">
              <a:off x="7506360" y="4087800"/>
              <a:ext cx="126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02680" y="4645080"/>
              <a:ext cx="126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07080" y="471816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 txBox="1"/>
          <p:nvPr/>
        </p:nvSpPr>
        <p:spPr>
          <a:xfrm>
            <a:off x="7354800" y="87300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发芽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759280" y="476280"/>
            <a:ext cx="3384720" cy="2016000"/>
          </a:xfrm>
          <a:prstGeom prst="cloudCallout">
            <a:avLst>
              <a:gd name="adj1" fmla="val -33444"/>
              <a:gd name="adj2" fmla="val 85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Arial"/>
              </a:rPr>
              <a:t>注意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332000" y="3068640"/>
            <a:ext cx="1366560" cy="1260720"/>
            <a:chOff x="1332000" y="3068640"/>
            <a:chExt cx="1366560" cy="1260720"/>
          </a:xfrm>
        </p:grpSpPr>
        <p:sp>
          <p:nvSpPr>
            <p:cNvPr id="225" name=""/>
            <p:cNvSpPr/>
            <p:nvPr/>
          </p:nvSpPr>
          <p:spPr>
            <a:xfrm flipH="1">
              <a:off x="1436400" y="3068640"/>
              <a:ext cx="126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32000" y="3625920"/>
              <a:ext cx="126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36400" y="369900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627280" y="3357720"/>
            <a:ext cx="5759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可以写作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22 %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213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27640" y="105264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百分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4365720"/>
            <a:ext cx="631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读作：百分之二十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807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分数的读法：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8360" y="1557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156384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16360" y="249228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2000" y="16002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百分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050920" y="1916280"/>
            <a:ext cx="424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39600" y="38606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先写数，再写百分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43280" y="4149720"/>
            <a:ext cx="50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71560" y="245916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712960"/>
            <a:ext cx="32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作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百分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十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187280" y="2204640"/>
            <a:ext cx="0" cy="31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3860640"/>
            <a:ext cx="822960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分数的写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01000" y="4581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：百分之三十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3280" y="5516640"/>
            <a:ext cx="57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24360" y="5445000"/>
            <a:ext cx="57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84360" y="5229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87640" y="5229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87280" y="5229360"/>
            <a:ext cx="15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46360" y="765000"/>
            <a:ext cx="51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先读百分号，再读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43200" y="32130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能读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百分之二十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雨林木风</cp:lastModifiedBy>
  <dcterms:modified xsi:type="dcterms:W3CDTF">2013-12-02T05:09:08Z</dcterms:modified>
  <cp:revision>1</cp:revision>
  <dc:subject/>
  <dc:title>幻灯片 1</dc:title>
</cp:coreProperties>
</file>