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591-F220-4788-BE96-CE4C1EF8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709-2180-482B-AB91-982AEEAD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CD7-9D2B-4FF5-9C5E-D768626C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802-BBA6-48ED-99D9-17572237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5E5-EB0B-4CC9-9C6F-F22F8C47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852-64DF-4C2E-860A-27A36D02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432-04B4-4F04-85BD-BDFEF7F4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AE4-24EE-4E33-BF62-4A161095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F1F-955C-430B-AA28-3F7E9CA9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A9F-6140-4415-9108-0063315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4D7-50DD-4095-BF4D-B0958411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763-82E9-4609-AD45-AC0AE2E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09DB-98CA-472A-A2A4-5D6671BBE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冀教版六年级英语下册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057400" y="1447920"/>
            <a:ext cx="58672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Unit 1  Spor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Lesson 3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Let’s Play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676520" y="762120"/>
            <a:ext cx="5715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sketball is heavy,and the ping-pang ball is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ny wanted to learn ping-pang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1010500"/>
          <p:cNvPicPr/>
          <p:nvPr/>
        </p:nvPicPr>
        <p:blipFill>
          <a:blip r:embed="rId2"/>
          <a:stretch/>
        </p:blipFill>
        <p:spPr>
          <a:xfrm>
            <a:off x="1630440" y="2843280"/>
            <a:ext cx="2857320" cy="281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20076241434137_2"/>
          <p:cNvPicPr/>
          <p:nvPr/>
        </p:nvPicPr>
        <p:blipFill>
          <a:blip r:embed="rId3"/>
          <a:stretch/>
        </p:blipFill>
        <p:spPr>
          <a:xfrm>
            <a:off x="5715000" y="2819520"/>
            <a:ext cx="2079720" cy="2971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2133720" y="5638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01992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981080" y="914400"/>
            <a:ext cx="58676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Ming tought Danny to play ping-pa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Ming  said:You hit the ping-pang ball with this pa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hitting the ball to Je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anny hit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so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133720" y="220968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5050"/>
                </a:solidFill>
                <a:latin typeface="Arial"/>
              </a:rPr>
              <a:t>See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52480" y="838080"/>
            <a:ext cx="563904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材分析：本课是冀教版小学英语六年级下册第一单元第三课。本节以体育馆为课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实际运动和操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区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, hit, thr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个动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学生在动中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乐趣无穷。学生分析：六年级学生活泼好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各种体育运动都抱有极大兴趣。把学习融入生活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极大提高了学生的学习兴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他们对学好英语更有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c20050818111329_1143703462"/>
          <p:cNvPicPr/>
          <p:nvPr/>
        </p:nvPicPr>
        <p:blipFill>
          <a:blip r:embed="rId2"/>
          <a:stretch/>
        </p:blipFill>
        <p:spPr>
          <a:xfrm>
            <a:off x="457200" y="380880"/>
            <a:ext cx="1895400" cy="29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c20050818111326_1143702484"/>
          <p:cNvPicPr/>
          <p:nvPr/>
        </p:nvPicPr>
        <p:blipFill>
          <a:blip r:embed="rId3"/>
          <a:stretch/>
        </p:blipFill>
        <p:spPr>
          <a:xfrm>
            <a:off x="2590920" y="304920"/>
            <a:ext cx="2009520" cy="30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sc20050818111326_1143702514"/>
          <p:cNvPicPr/>
          <p:nvPr/>
        </p:nvPicPr>
        <p:blipFill>
          <a:blip r:embed="rId4"/>
          <a:stretch/>
        </p:blipFill>
        <p:spPr>
          <a:xfrm>
            <a:off x="838080" y="35812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4572000" y="152388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nny  is ready to teach Li Ming basketball,and Li Ming is ready to teach Jenny ping-pong ball.but danny wants to learn ,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99072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J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gym"/>
          <p:cNvPicPr/>
          <p:nvPr/>
        </p:nvPicPr>
        <p:blipFill>
          <a:blip r:embed="rId2"/>
          <a:stretch/>
        </p:blipFill>
        <p:spPr>
          <a:xfrm>
            <a:off x="685800" y="152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3962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Gy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1010500"/>
          <p:cNvPicPr/>
          <p:nvPr/>
        </p:nvPicPr>
        <p:blipFill>
          <a:blip r:embed="rId2"/>
          <a:stretch/>
        </p:blipFill>
        <p:spPr>
          <a:xfrm>
            <a:off x="1371600" y="1066680"/>
            <a:ext cx="3809880" cy="375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0076241434137_2"/>
          <p:cNvPicPr/>
          <p:nvPr/>
        </p:nvPicPr>
        <p:blipFill>
          <a:blip r:embed="rId3"/>
          <a:stretch/>
        </p:blipFill>
        <p:spPr>
          <a:xfrm>
            <a:off x="5715000" y="990720"/>
            <a:ext cx="2773440" cy="3962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676520" y="4952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791320" y="5105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g-pang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fd"/>
          <p:cNvPicPr/>
          <p:nvPr/>
        </p:nvPicPr>
        <p:blipFill>
          <a:blip r:embed="rId2"/>
          <a:stretch/>
        </p:blipFill>
        <p:spPr>
          <a:xfrm>
            <a:off x="1523880" y="22860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124080" y="6324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row 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t2828"/>
          <p:cNvPicPr/>
          <p:nvPr/>
        </p:nvPicPr>
        <p:blipFill>
          <a:blip r:embed="rId2"/>
          <a:stretch/>
        </p:blipFill>
        <p:spPr>
          <a:xfrm>
            <a:off x="144792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"/>
          <p:cNvPicPr/>
          <p:nvPr/>
        </p:nvPicPr>
        <p:blipFill>
          <a:blip r:embed="rId3"/>
          <a:stretch/>
        </p:blipFill>
        <p:spPr>
          <a:xfrm>
            <a:off x="1371600" y="228600"/>
            <a:ext cx="1014480" cy="82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4"/>
          <p:cNvPicPr/>
          <p:nvPr/>
        </p:nvPicPr>
        <p:blipFill>
          <a:blip r:embed="rId4"/>
          <a:stretch/>
        </p:blipFill>
        <p:spPr>
          <a:xfrm>
            <a:off x="3581280" y="228600"/>
            <a:ext cx="1014480" cy="82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4"/>
          <p:cNvPicPr/>
          <p:nvPr/>
        </p:nvPicPr>
        <p:blipFill>
          <a:blip r:embed="rId5"/>
          <a:stretch/>
        </p:blipFill>
        <p:spPr>
          <a:xfrm>
            <a:off x="2438280" y="228600"/>
            <a:ext cx="1014480" cy="82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4"/>
          <p:cNvPicPr/>
          <p:nvPr/>
        </p:nvPicPr>
        <p:blipFill>
          <a:blip r:embed="rId6"/>
          <a:stretch/>
        </p:blipFill>
        <p:spPr>
          <a:xfrm>
            <a:off x="4724280" y="228600"/>
            <a:ext cx="1014480" cy="82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4"/>
          <p:cNvPicPr/>
          <p:nvPr/>
        </p:nvPicPr>
        <p:blipFill>
          <a:blip r:embed="rId7"/>
          <a:stretch/>
        </p:blipFill>
        <p:spPr>
          <a:xfrm>
            <a:off x="5943600" y="228600"/>
            <a:ext cx="1014480" cy="824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2057400" y="57913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g-pa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1523880" y="1676520"/>
            <a:ext cx="6705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Li 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w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the basketball to da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but danny didn’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Danny thought the basketball was too he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What ‘s going to happy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752480" y="533520"/>
            <a:ext cx="5715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nny tought Danny to throw the basketball at the 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ny thought it’s too hard because the ball is too he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ball was light,Danny thought he could throw it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it r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微软用户</cp:lastModifiedBy>
  <dcterms:modified xsi:type="dcterms:W3CDTF">2016-04-21T13:59:49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